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4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15.gif" ContentType="image/gif"/>
  <Override PartName="/ppt/media/image7.jpeg" ContentType="image/jpeg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876-1EE2-48C4-9211-E07DC97B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C24-A3DA-41D2-AAE1-DC59E048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F7174-6D89-4787-A64E-42E4D04C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2EFAA-15E2-431E-A620-E98C908D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BCE60-2E6A-4F37-BEEC-FE307F34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EF6C2-BE11-49B1-A97F-8B3D0B2C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C0561-FF77-48BF-85FD-F8E4B00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A7EC7-9F77-441E-948E-CB6C42CA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13816-6561-4AE5-AEDC-8368AFB1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2EB19-9A7A-4945-9AA6-9888F6AE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658C1-42E1-4C0A-8A49-9267B2F1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E9D62-50B5-4B7B-A967-310F5F28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A77-EF62-4C91-91DF-EB053DCC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F66F1-1948-4F42-9103-23574C4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938BD-E1FF-47FD-BAB0-605558B0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D7B50-55B0-4907-B9C7-391BB331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64053-7DBE-4CD4-AD2E-860FCD85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ED669-91CF-449B-9167-BEEE6D2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D6A12-24D0-44DA-AD10-6709B18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E631F-202D-4A92-B593-D9FD3905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98960-FE13-436B-8FDD-43CD99E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0C1DB-86E5-4B7E-9518-52041086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33AFB-542C-4E8B-984F-9E1E5DCB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4D3-3DEB-4AB6-86E1-F7781FA3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71439-82C2-48CC-940D-8EBEAE62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948D-AF1C-4A6A-BC49-C65F3F87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653-4F54-45F1-8F4D-9CFBE3CF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8573-06AA-4480-AE8D-E4234F93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FD4C-0387-4F68-9F75-AFB95EBE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3974-FFA1-4674-B3C8-7AA3D91D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B6C8-25BE-4E92-8679-D03D0DEF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250D-C95F-4335-95F9-F681455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CEF-BDBA-4078-A760-FD51F075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404A-C2E0-4EA9-8598-6DD91DFE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37DB-EAB5-474E-9C6B-ED6539ED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9652-426A-4FFB-8DD8-A095DD1E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0965-198A-4ED9-81E9-78334942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BF62-03A2-411E-B80C-CE29354B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D256-810F-43EC-B112-693BD7FA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6B71-E7C3-48E6-ACE8-F15532A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6035-12CC-45D1-9FF4-42DDFAD9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D5AC-4A41-4777-BF9D-1F44F051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D30A-8851-462E-BA39-B0BF30D9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303-DA0A-4BAA-A4D2-0028A1EE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A4531-CFBF-4A66-B7BE-C5B30268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8D46-CBA8-4A83-A48D-6C3158DC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8B85-BCF6-4AAC-9FE1-34689F27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DAB1-A455-467E-A0D7-B919E41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1B47-DAC3-4D1B-86A5-447B4FD9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3FB2-190D-4ECF-AF2C-5C4C33DC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756B-AC2F-460F-90F6-70845823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ABEF-1C3A-4EF1-9968-A9D5EFA0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30A0-F9C0-460A-929A-A64100DC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A802-1BDA-4C41-A56D-C63BF2C4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EE7-8FB5-4EA4-84A8-3B899DA1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465C-B7BE-47AC-ADB7-15E919B0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51866-DFC1-4106-8F92-28653EEE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28A5-681E-4206-9569-623113DA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4BFFD-2668-4FA6-9658-609BA07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D878-A968-464C-AB71-567B3414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6F79A-0AFA-4E5D-8DD6-FEF4FD3E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6CAD9-D7CB-4241-AD1A-80E839CF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4558B-59B1-4B20-BF1F-EC2F20A7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0FE3-7FB0-49AC-A82F-AF00318B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47D3-E718-40B4-995A-179061B7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A79-CC74-4BA1-9941-43EEF55A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CF5E8-F8E1-4BB6-B8DE-7FF9EEF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E023-0892-419C-8376-EAA7E5AF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B9A3-96AF-4D0B-85E5-FAA354B0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432B-9B44-4842-80B5-FC1F7D01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52830-1D0D-47C2-A56C-9C71EF4E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4513C-9AC9-4978-A807-40B9A411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A708A-DAF3-4BC6-8818-EB24772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FB4F-B48C-4BCC-B6D4-60243DA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324D7-6DD0-4FF8-8A05-75FB82CD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773E-1D77-457F-B4D6-C5F2B85F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E92-F06C-4FBC-ABDE-7ADE6551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2410-77CC-45C4-A8E0-0B01E58D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9453C-C307-4987-85CA-22EB2CDA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4FD7E-E47E-4277-A6A1-763D5D17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11666-D312-4026-893B-BF38D7CD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0AA8F-58D8-491C-8836-CD795BA1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A7CC6-9AAC-4525-84E9-203A8E6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6F223-B608-4336-A950-1317098C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D5E2B-D6AF-40C2-9E28-7539FE0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D28F0-FC3B-43B4-AEAA-372FCA0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60D55-4D29-4602-A500-C73143E9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BBC-EF12-49BA-BB1A-B84AC8E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B037E-9698-462D-85A4-DECA71B5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A25E9-9504-4026-B66C-AA9A1E30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B7EFF-D590-4751-B34F-0F479E62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EC89-480F-412F-A32D-5E58F998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B7B37-48F1-4AD3-BE7F-D91F174F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A96EC-FD01-4E7F-8636-58DA6FFD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19527-7D69-4E5D-942C-D2652C7A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666F5-2902-46A8-B883-B6A89E00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BA5EF-C069-4EF0-82E2-0CA94274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614D0-EDBB-467D-B532-6CD30EE3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517-B232-4A52-B069-5772246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19D50-C2D5-4442-B6C6-989B3710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7060F-B7BE-4E30-B58F-47246A4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FBB5F-7381-4147-9B0F-AE2C79F8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5BA04-11BE-4A8B-95ED-25B34013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3CD04-57CB-432D-B897-F3BBC6D7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5C95C-CB77-4F7A-9451-60E0FB08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E390A-8D2E-42FD-8A5F-C64AFCAC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FCD44-0984-40C7-B6C5-9DAF87A7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01A1D-8465-4E70-AAF3-912002B4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50E40-7211-4D6B-8814-D90AE4E9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054-44B0-4BA8-BD6F-DE6E0968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E96E-1661-484A-9D3F-29C95362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CB6ED-3BE2-4066-B113-799654FB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09E35-A1DB-4FB6-B481-1932503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383A4-E022-4DEB-8333-FB559828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88BBE-FABF-49A4-94E6-04520A6F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40FEC-BFE5-408A-8E2E-05BB4616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AAB46-8076-4AFC-96E7-8967B1B8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413E9-CC4F-4C9D-883A-57CB449F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2E577-F323-4340-9C65-657B2D07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43FEC-EE49-44C2-8FB7-E7BACE9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E698-A704-4F8A-823A-011F8D59218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29F1-D7A9-45F8-B4AF-D12BE7419859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A1CE-31C4-4124-B57B-01C9B5777F8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171F-8910-498A-B462-167EB673997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7CF2-FAF6-4074-99E7-B7D26CD4537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F6C8-AF75-434B-A899-66718A7AFA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CE31-D6E4-4147-BA39-AC824BE0B7F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1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CE6E-4907-4CD2-B040-411E5A512772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7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EBE9-C6A7-4DAB-85F3-192DFE8AD623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2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77A5-26B5-4191-A827-8D63B8AD6E36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7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7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57080" y="2060280"/>
            <a:ext cx="791856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hi-IN" sz="8000" spc="-1" strike="noStrike">
                <a:solidFill>
                  <a:srgbClr val="feec94"/>
                </a:solidFill>
                <a:latin typeface="Arb Hadith"/>
                <a:cs typeface="Arb Hadith"/>
              </a:rPr>
              <a:t>تصحيح</a:t>
            </a:r>
            <a:r>
              <a:rPr b="0" lang="en-US" sz="8000" spc="-1" strike="noStrike">
                <a:solidFill>
                  <a:srgbClr val="feec94"/>
                </a:solidFill>
                <a:latin typeface="Arb Hadith"/>
                <a:ea typeface="Arb Hadith"/>
              </a:rPr>
              <a:t></a:t>
            </a:r>
            <a:r>
              <a:rPr b="0" lang="hi-IN" sz="8000" spc="-1" strike="noStrike">
                <a:solidFill>
                  <a:srgbClr val="feec94"/>
                </a:solidFill>
                <a:latin typeface="Arb Hadith"/>
                <a:cs typeface="Arb Hadith"/>
              </a:rPr>
              <a:t>التلاوة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Arb Hadith"/>
                <a:ea typeface="Arb Hadith"/>
              </a:rPr>
              <a:t></a:t>
            </a:r>
            <a:r>
              <a:rPr b="1" lang="hi-IN" sz="4800" spc="-1" strike="noStrike">
                <a:solidFill>
                  <a:srgbClr val="feec94"/>
                </a:solidFill>
                <a:latin typeface="Arb Hadith"/>
                <a:cs typeface="Arb Hadith"/>
              </a:rPr>
              <a:t>طرق</a:t>
            </a:r>
            <a:r>
              <a:rPr b="1" lang="en-US" sz="4800" spc="-1" strike="noStrike">
                <a:solidFill>
                  <a:srgbClr val="feec94"/>
                </a:solidFill>
                <a:latin typeface="Arb Hadith"/>
                <a:ea typeface="Arb Hadith"/>
              </a:rPr>
              <a:t></a:t>
            </a:r>
            <a:r>
              <a:rPr b="1" lang="hi-IN" sz="4800" spc="-1" strike="noStrike">
                <a:solidFill>
                  <a:srgbClr val="feec94"/>
                </a:solidFill>
                <a:latin typeface="Arb Hadith"/>
                <a:cs typeface="Arb Hadith"/>
              </a:rPr>
              <a:t>ومهارات</a:t>
            </a:r>
            <a:r>
              <a:rPr b="1" lang="en-US" sz="4800" spc="-1" strike="noStrike">
                <a:solidFill>
                  <a:srgbClr val="feec94"/>
                </a:solidFill>
                <a:latin typeface="Arb Hadith"/>
                <a:ea typeface="Arb Hadith"/>
              </a:rPr>
              <a:t>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3665520" y="476280"/>
            <a:ext cx="1843200" cy="11714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نشاط (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457200" y="1268280"/>
          <a:ext cx="8229600" cy="5186520"/>
        </p:xfrm>
        <a:graphic>
          <a:graphicData uri="http://schemas.openxmlformats.org/drawingml/2006/table">
            <a:tbl>
              <a:tblPr/>
              <a:tblGrid>
                <a:gridCol w="2602080"/>
                <a:gridCol w="4825800"/>
                <a:gridCol w="801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ffff00"/>
                          </a:solidFill>
                          <a:latin typeface="Times New Roman"/>
                          <a:cs typeface="AL-Mohanad"/>
                        </a:rPr>
                        <a:t>نوع اللحن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الكلمة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من يقرأ (أنعمتَ) بضم التاء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من يفخم الراء في (مصر)عند الوقف عليها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من يقف على كلمة (القدر)فيسقط حرف الراء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من يقرأ بتفخيم الغنة في (إن كنتم 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إبدال القاف من (المستقيم) بغين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"/>
          <p:cNvSpPr/>
          <p:nvPr/>
        </p:nvSpPr>
        <p:spPr>
          <a:xfrm>
            <a:off x="1239840" y="213372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جل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8920" y="3065400"/>
            <a:ext cx="11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خف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8920" y="41450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جل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58920" y="5013360"/>
            <a:ext cx="11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خف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39840" y="580248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جل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وقاية من اللحن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تلق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تكرار وكثرة التردا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سماع الشري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تقان أحكام التجويد بالأخذ عن المقرئ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  المهرة الضابطين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Arial"/>
                <a:cs typeface="AL-Mateen"/>
              </a:rPr>
              <a:t>الجلسة الثاني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Arial"/>
                <a:cs typeface="AL-Battar"/>
              </a:rPr>
              <a:t>طرق تصحيح التلاو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من طرق تصحيح التلاوة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L-Mohanad"/>
              </a:rPr>
              <a:t>كتابة الكلمة مرتين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L-Mohanad"/>
              </a:rPr>
              <a:t>المقارنة بين الكلمة المقروءة وكلمة أخرى لرفع الخطأ عن الأولى 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L-Mohanad"/>
              </a:rPr>
              <a:t>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L-Mohanad"/>
              </a:rPr>
              <a:t>الإتيان بوزن الكلمة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AL-Battar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Battar"/>
              </a:rPr>
              <a:t>. كتابة الكلمة مرتين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ohanad"/>
              </a:rPr>
              <a:t>إذا كان سبب الخطأ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ohanad"/>
              </a:rPr>
              <a:t>إطالة الحركة بحرف من جنسها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ohanad"/>
              </a:rPr>
              <a:t>كون الكلمة مبنية للمجهو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77080" y="3141720"/>
            <a:ext cx="122400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نَ لدين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43280" y="3357720"/>
            <a:ext cx="1729080" cy="215640"/>
          </a:xfrm>
          <a:prstGeom prst="leftArrow">
            <a:avLst>
              <a:gd name="adj1" fmla="val 50000"/>
              <a:gd name="adj2" fmla="val 20045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124000" y="3141720"/>
            <a:ext cx="22320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نَـــا لدين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08720" y="5013360"/>
            <a:ext cx="3166920" cy="180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وكذلك زُين لفرعون سوء عمله وصُدََََََّ عن السبيل 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490920" y="5373720"/>
            <a:ext cx="1728720" cy="216000"/>
          </a:xfrm>
          <a:prstGeom prst="leftArrow">
            <a:avLst>
              <a:gd name="adj1" fmla="val 50000"/>
              <a:gd name="adj2" fmla="val 200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79280" y="5084640"/>
            <a:ext cx="3167280" cy="180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وكذلك زَين لفرعون سوء عمله وصَدََََََّ عن السبيل 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AL-Battar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AL-Battar"/>
              </a:rPr>
              <a:t>.المقارنة بين الكلمة المقروءة وكلمة أخرى لرفع الخطأ عن الأولى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عندما يتحد الرسم ويختلف الشك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تكرر الكلمة الواحدة بإعراب مختلف في آية واحد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إذا كانت الكلمة منتهية بمد متصل منصوب منو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96000" y="1989000"/>
            <a:ext cx="2233440" cy="2043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ليتخذ بعضهم بعضا سُخريا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19280" y="1989000"/>
            <a:ext cx="2233440" cy="2043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فاتخذتموهم سِخريا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067280" y="2347920"/>
            <a:ext cx="1512720" cy="289080"/>
          </a:xfrm>
          <a:prstGeom prst="leftRightArrow">
            <a:avLst>
              <a:gd name="adj1" fmla="val 50000"/>
              <a:gd name="adj2" fmla="val 10417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5280" y="3857760"/>
            <a:ext cx="792180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منكم من   يبخلُ   ومن   يبخلْ   فإنما   يبخلُ   عن نفسه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96000" y="5530680"/>
            <a:ext cx="2233440" cy="2043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وأنزل من السماءِ ماءً 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619280" y="5530680"/>
            <a:ext cx="223344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وعلّم آدم الأسماءَ 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67280" y="5889600"/>
            <a:ext cx="1512720" cy="289080"/>
          </a:xfrm>
          <a:prstGeom prst="leftRightArrow">
            <a:avLst>
              <a:gd name="adj1" fmla="val 50000"/>
              <a:gd name="adj2" fmla="val 10417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780000" y="3860640"/>
            <a:ext cx="86328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يبخل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437080" y="3860640"/>
            <a:ext cx="86364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يبخل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79640" y="3860640"/>
            <a:ext cx="86364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يبخل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AL-Battar"/>
              </a:rPr>
              <a:t>3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Battar"/>
              </a:rPr>
              <a:t>. الإتيان بوزن الكلمة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708360" y="1600200"/>
            <a:ext cx="49672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AL-Mohanad"/>
              </a:rPr>
              <a:t>وذلك للتمرين على نطق الكلمة الصعب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97360" y="2550960"/>
            <a:ext cx="4381560" cy="4168800"/>
            <a:chOff x="297360" y="2550960"/>
            <a:chExt cx="4381560" cy="4168800"/>
          </a:xfrm>
        </p:grpSpPr>
        <p:sp>
          <p:nvSpPr>
            <p:cNvPr id="706" name="_s92169"/>
            <p:cNvSpPr/>
            <p:nvPr/>
          </p:nvSpPr>
          <p:spPr>
            <a:xfrm>
              <a:off x="1330200" y="2550960"/>
              <a:ext cx="2314800" cy="231408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314080"/>
                <a:gd name="textAreaBottom" fmla="*/ 231444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_s92175"/>
            <p:cNvSpPr/>
            <p:nvPr/>
          </p:nvSpPr>
          <p:spPr>
            <a:xfrm rot="4320000">
              <a:off x="2063880" y="3084120"/>
              <a:ext cx="2314080" cy="2314440"/>
            </a:xfrm>
            <a:custGeom>
              <a:avLst/>
              <a:gdLst>
                <a:gd name="textAreaLeft" fmla="*/ 0 w 2314080"/>
                <a:gd name="textAreaRight" fmla="*/ 2314440 w 231408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_s92177"/>
            <p:cNvSpPr/>
            <p:nvPr/>
          </p:nvSpPr>
          <p:spPr>
            <a:xfrm rot="8640000">
              <a:off x="1782000" y="3946320"/>
              <a:ext cx="2314440" cy="231408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080"/>
                <a:gd name="textAreaBottom" fmla="*/ 231444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_s92170"/>
            <p:cNvSpPr/>
            <p:nvPr/>
          </p:nvSpPr>
          <p:spPr>
            <a:xfrm rot="12960000">
              <a:off x="875880" y="3944520"/>
              <a:ext cx="2314440" cy="231408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080"/>
                <a:gd name="textAreaBottom" fmla="*/ 231444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_s92172"/>
            <p:cNvSpPr/>
            <p:nvPr/>
          </p:nvSpPr>
          <p:spPr>
            <a:xfrm rot="17280000">
              <a:off x="598320" y="3081960"/>
              <a:ext cx="2314440" cy="23148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_s92167"/>
            <p:cNvSpPr/>
            <p:nvPr/>
          </p:nvSpPr>
          <p:spPr>
            <a:xfrm>
              <a:off x="3081240" y="2649240"/>
              <a:ext cx="851040" cy="850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بُرءاؤا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AL-Mohanad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_s92168"/>
            <p:cNvSpPr/>
            <p:nvPr/>
          </p:nvSpPr>
          <p:spPr>
            <a:xfrm>
              <a:off x="411120" y="4589280"/>
              <a:ext cx="851040" cy="850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عُقلا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92171"/>
            <p:cNvSpPr/>
            <p:nvPr/>
          </p:nvSpPr>
          <p:spPr>
            <a:xfrm>
              <a:off x="1042920" y="2649240"/>
              <a:ext cx="851040" cy="85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شُعرا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_s92174"/>
            <p:cNvSpPr/>
            <p:nvPr/>
          </p:nvSpPr>
          <p:spPr>
            <a:xfrm>
              <a:off x="3713040" y="4589280"/>
              <a:ext cx="851040" cy="850680"/>
            </a:xfrm>
            <a:prstGeom prst="rect">
              <a:avLst/>
            </a:prstGeom>
            <a:solidFill>
              <a:srgbClr val="af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L-Mohanad"/>
                </a:rPr>
                <a:t>فُعلا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_s92176"/>
            <p:cNvSpPr/>
            <p:nvPr/>
          </p:nvSpPr>
          <p:spPr>
            <a:xfrm>
              <a:off x="2062080" y="5789520"/>
              <a:ext cx="851040" cy="850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L-Mohanad"/>
                </a:rPr>
                <a:t>حُكما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_s1033"/>
          <p:cNvSpPr/>
          <p:nvPr/>
        </p:nvSpPr>
        <p:spPr>
          <a:xfrm>
            <a:off x="7236000" y="3213000"/>
            <a:ext cx="850680" cy="8510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بُرءاؤ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  <a:cs typeface="Al-Hadith2"/>
              </a:rPr>
              <a:t>نشاط (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Hadith2"/>
              </a:rPr>
              <a:t>3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Hadith2"/>
              </a:rPr>
              <a:t> 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79280" y="765000"/>
          <a:ext cx="8713800" cy="6095880"/>
        </p:xfrm>
        <a:graphic>
          <a:graphicData uri="http://schemas.openxmlformats.org/drawingml/2006/table">
            <a:tbl>
              <a:tblPr/>
              <a:tblGrid>
                <a:gridCol w="2016360"/>
                <a:gridCol w="1728720"/>
                <a:gridCol w="1224000"/>
                <a:gridCol w="3311280"/>
                <a:gridCol w="4334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طريقة التصحي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سبب الوقوع في الخط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الآ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” وَإِن تُبْتُمْ فَلَكُمْ رُؤُوسُ أَمْوَالِكُمْ لاَ تَظْلِمُونَ وَلاَ تُظْلَمُونَ 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وَالَّذِينَ آمَنُوا وَاتَّبَعَتْهُمْ ذُرِّيَّتُهُم بِإِيمَانٍ أَلْحَقْنَا بِهِمْ ذُرِّيَّتَهُمْ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“ جَعَلَهُ دَكَّاء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 “مَّا هُنَّ أُمَّهَاتِهِمْ إِنْ أُمَّهَاتُهُمْ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 ” ادْعُ إِلِى سَبِيلِ رَبِّكَ “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"/>
          <p:cNvSpPr/>
          <p:nvPr/>
        </p:nvSpPr>
        <p:spPr>
          <a:xfrm>
            <a:off x="3922560" y="1814400"/>
            <a:ext cx="12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لاَ تَظْلِمُونَ وَلاَ تُظْلَمُون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68360" y="1700280"/>
            <a:ext cx="15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كلمة مبنية للمجهول والأخرى للمعلو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3760" y="1800360"/>
            <a:ext cx="18018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924360" y="285264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ذُرِّيَّتُهُ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ذُرِّيَّتَهُ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268360" y="2782800"/>
            <a:ext cx="15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تكرار الكلمة الواحدة بإعراب مختل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79360" y="2751120"/>
            <a:ext cx="1801800" cy="1618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ين الكلمة المقروءة والأخرى في الإعرا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3760" y="3789360"/>
            <a:ext cx="1801800" cy="1008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كلمة انتهت بمد متصل منو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95200" y="4809960"/>
            <a:ext cx="1801800" cy="1618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ين الكلمة المقروءة والأخرى في الإعرا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79360" y="5905440"/>
            <a:ext cx="18018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68360" y="3862440"/>
            <a:ext cx="15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نتهاء الكلمة بمد منصوب غير منو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268360" y="4799160"/>
            <a:ext cx="15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تكرار الكلمة الواحدة بإعراب مختل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268360" y="595008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زيادة حرف من جنس الكلم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922560" y="40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دكــــآء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22560" y="4911840"/>
            <a:ext cx="122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أُمهاتِهِ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أُمهاتُهُ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4360" y="61405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ادْع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  <a:cs typeface="Al-Hadith2"/>
              </a:rPr>
              <a:t>نشاط (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Hadith2"/>
              </a:rPr>
              <a:t>3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Hadith2"/>
              </a:rPr>
              <a:t> 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79280" y="1268280"/>
          <a:ext cx="8713800" cy="5500800"/>
        </p:xfrm>
        <a:graphic>
          <a:graphicData uri="http://schemas.openxmlformats.org/drawingml/2006/table">
            <a:tbl>
              <a:tblPr/>
              <a:tblGrid>
                <a:gridCol w="2016360"/>
                <a:gridCol w="1728720"/>
                <a:gridCol w="1224000"/>
                <a:gridCol w="3311280"/>
                <a:gridCol w="4334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طريقة التصحي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سبب الوقوع في الخط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الآ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 “ مَا بِصَاحِبِهِم مِّن جِنَّةٍ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” قُتِلَ الْخَرَّاصُونَ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” فَشَرِّدْ بِهِم مَّنْ خَلْفَهُمْ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” وَيُخْزِهِمْ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 “ يُضَلُّ بِهِ الَّذِينَ كَفَرُواْ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"/>
          <p:cNvSpPr/>
          <p:nvPr/>
        </p:nvSpPr>
        <p:spPr>
          <a:xfrm>
            <a:off x="3922560" y="24922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جِنَّة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24360" y="34941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قُتِل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51280" y="436572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مَّنْ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22560" y="5229360"/>
            <a:ext cx="122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وَيُخْزِهِمْ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922560" y="609300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يُضَلّ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68360" y="5950080"/>
            <a:ext cx="15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كلمة مبنية للمجهو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24000" y="2492280"/>
            <a:ext cx="173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تحاد الرسم واختلاف الش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124000" y="4221000"/>
            <a:ext cx="173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تحاد الرسم واختلاف الش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268360" y="3429000"/>
            <a:ext cx="15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كلمة مبنية للمجهو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68360" y="5084640"/>
            <a:ext cx="15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زيادة حرف من جنس الحرك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50920" y="2421000"/>
            <a:ext cx="1844640" cy="1434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ين الكلمة المقروءة والأخر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50920" y="4221000"/>
            <a:ext cx="1844640" cy="1434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ين الكلمة المقروءة والأخر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0920" y="3357720"/>
            <a:ext cx="184464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79360" y="5950080"/>
            <a:ext cx="177156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50920" y="5084640"/>
            <a:ext cx="184464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2340000" y="2130480"/>
            <a:ext cx="48243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تصحيح التلاوة ( طرق ومهارات 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وقاية من الخطأ ( إعراب القرآن الكريم ، اللحن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طرق تصحيح التلاوة  (إحدى عشرة طريقة لتصحيح التلاوة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ahoma"/>
                <a:cs typeface="Al-Hadith2"/>
              </a:rPr>
              <a:t>الجلسة الأولى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ahoma"/>
                <a:cs typeface="AL-Battar"/>
              </a:rPr>
              <a:t>طرق تصحيح التلاوة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L-Battar"/>
              </a:rPr>
              <a:t>(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L-Battar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L-Battar"/>
              </a:rPr>
              <a:t> 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2175120" cy="200808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AL-Mateen"/>
              </a:rPr>
              <a:t>اليوم الثان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autoRev="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7" autoRev="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AL-Mateen"/>
              </a:rPr>
              <a:t>طرق تصحيح التلاوة (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L-Matee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L-Mateen"/>
              </a:rPr>
              <a:t> 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تهجي الكلمة مع التشكي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سبق الطلاب بالقراءة الخاصة والمركز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التركيز في الرد على موضع الخط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توضيح النطق بالكلمة وتبيين الحرو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المناقش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913200" y="212760"/>
            <a:ext cx="5051520" cy="984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AL-Mohanad"/>
              </a:rPr>
              <a:t>تهجي الكلمة مع التشكيل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توالي حركة الضم ثم مجيء حركة الفت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الكلمة الطويلة التي تتجاوز سبعة أحر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إذا كان الخطأ بسبب جهل الطالب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بالشدة وكيفية قراءتها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إذا كان سبب الخطأ توالي حرفين متماثلين أو أكث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971640" y="15573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نّا لَنَنصُرُ رُسُلَنَ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971640" y="1557360"/>
            <a:ext cx="201600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إنّا لَنَن</a:t>
            </a:r>
            <a:r>
              <a:rPr b="1" lang="hi-IN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صُرُ رُسُ</a:t>
            </a: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لَنَ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95280" y="2708280"/>
            <a:ext cx="266400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َسَيَكفِيكَهُمُ الل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25520" y="2781360"/>
            <a:ext cx="259056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فَ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سَ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يَك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فِي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كَ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هُ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مُ الل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637080" y="451008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المُقسِّمات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9280" y="4508640"/>
            <a:ext cx="1871640" cy="718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124000" y="4581360"/>
            <a:ext cx="1368360" cy="719280"/>
          </a:xfrm>
          <a:prstGeom prst="leftArrow">
            <a:avLst>
              <a:gd name="adj1" fmla="val 50000"/>
              <a:gd name="adj2" fmla="val 4756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AL-Mohanad"/>
              </a:rPr>
              <a:t>فك التشدي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77840" y="4508640"/>
            <a:ext cx="108108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سِ</a:t>
            </a: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مات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00000" y="4508640"/>
            <a:ext cx="115092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فالمُق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سْ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11280" y="5877000"/>
            <a:ext cx="1439640" cy="718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أتَعِدانِنِ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69960" y="5864400"/>
            <a:ext cx="144000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نِنِ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39640" y="5862600"/>
            <a:ext cx="144000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أتَعِ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3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9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9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L-Mohanad"/>
              </a:rPr>
              <a:t>كون الكلمة مفردة جديدة على القار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L-Mohanad"/>
              </a:rPr>
              <a:t>      لم تطرق سمعه من قبل 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L-Mohanad"/>
              </a:rPr>
              <a:t>إذا كان في وسط الكلمة همز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2411280" y="244080"/>
            <a:ext cx="656280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Mohanad"/>
              </a:rPr>
              <a:t>سبق الطلاب بالقراءة الخاصة و المركزة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826920" y="2349360"/>
            <a:ext cx="2016360" cy="719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L-Mohanad"/>
              </a:rPr>
              <a:t>( لو تزيلوا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26920" y="4437000"/>
            <a:ext cx="2016360" cy="719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L-Mohanad"/>
              </a:rPr>
              <a:t>( أثاثاً ورءيا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إذا جاء اسم منون وبعده كلمة مبدوءة بهمزة وص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الأخطاء الشائعة على ألسن النا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title"/>
          </p:nvPr>
        </p:nvSpPr>
        <p:spPr>
          <a:xfrm>
            <a:off x="3276720" y="259920"/>
            <a:ext cx="562752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AL-Mohanad"/>
              </a:rPr>
              <a:t>التركيز في الرد على موضع الخطأ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L-Mohana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2124000" y="270972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خبيثةٍ اجتثت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617840" y="5230800"/>
            <a:ext cx="324144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ولم يكن له كفُواً أحد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16360" y="2708280"/>
            <a:ext cx="576000" cy="64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40000" y="5229360"/>
            <a:ext cx="863640" cy="64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4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ahoma"/>
                <a:cs typeface="AL-Mohanad"/>
              </a:rPr>
              <a:t>في حالة اعتماد القارئ على السمع لا البصر وذلك في الحالات التالية: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AL-Mohana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طلاب المرحلة الأو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من وصل في دراسته للمراحل العليا وهو لا يحسن القراء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من فقد بصره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L-Mohana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AL-Mohana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title"/>
          </p:nvPr>
        </p:nvSpPr>
        <p:spPr>
          <a:xfrm>
            <a:off x="2690280" y="259920"/>
            <a:ext cx="620244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Mohanad"/>
              </a:rPr>
              <a:t>توضيح النطق بالكلمة وتبيين الحرو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971640" y="4870440"/>
            <a:ext cx="252072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ومن شر النفاذات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27640" y="4869000"/>
            <a:ext cx="2521080" cy="718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ومن شر النفاثات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635280" y="4724280"/>
            <a:ext cx="2376720" cy="1079640"/>
          </a:xfrm>
          <a:prstGeom prst="leftArrow">
            <a:avLst>
              <a:gd name="adj1" fmla="val 50000"/>
              <a:gd name="adj2" fmla="val 5503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AL-Mohanad"/>
              </a:rPr>
              <a:t>قد يقرؤها بعض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301760" y="4869000"/>
            <a:ext cx="72072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1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100"/>
                            </p:stCondLst>
                            <p:childTnLst>
                              <p:par>
                                <p:cTn id="506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497200" y="259920"/>
            <a:ext cx="346716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  <a:cs typeface="AL-Mohanad"/>
              </a:rPr>
              <a:t>المناقش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L-Mohanad"/>
              </a:rPr>
              <a:t> مناقشة القارئ بعد خطئه في التلاوة  حتى يتبين له خطؤه،وذلك عند عدم مراعاة الأثر الإعرابي للكلم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L-Ma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3708360" y="3500280"/>
            <a:ext cx="475308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إن الله اشترى من المؤمنين أنف</a:t>
            </a:r>
            <a:r>
              <a:rPr b="0" lang="hi-IN" sz="28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سَ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هم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258920" y="3139920"/>
            <a:ext cx="172728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قد تُقر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بضم 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982800" y="1484280"/>
            <a:ext cx="5903640" cy="5184720"/>
            <a:chOff x="982800" y="1484280"/>
            <a:chExt cx="5903640" cy="5184720"/>
          </a:xfrm>
        </p:grpSpPr>
        <p:sp>
          <p:nvSpPr>
            <p:cNvPr id="795" name=""/>
            <p:cNvSpPr/>
            <p:nvPr/>
          </p:nvSpPr>
          <p:spPr>
            <a:xfrm>
              <a:off x="982800" y="1484280"/>
              <a:ext cx="5903640" cy="51847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1557000" y="1989000"/>
              <a:ext cx="4824000" cy="4247280"/>
              <a:chOff x="1557000" y="1989000"/>
              <a:chExt cx="4824000" cy="4247280"/>
            </a:xfrm>
          </p:grpSpPr>
          <p:sp>
            <p:nvSpPr>
              <p:cNvPr id="797" name=""/>
              <p:cNvSpPr/>
              <p:nvPr/>
            </p:nvSpPr>
            <p:spPr>
              <a:xfrm>
                <a:off x="1557000" y="1989000"/>
                <a:ext cx="4824000" cy="4247280"/>
              </a:xfrm>
              <a:prstGeom prst="ellipse">
                <a:avLst/>
              </a:prstGeom>
              <a:solidFill>
                <a:srgbClr val="ff2501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169720" y="2460600"/>
                <a:ext cx="3598560" cy="3302280"/>
              </a:xfrm>
              <a:prstGeom prst="ellipse">
                <a:avLst/>
              </a:prstGeom>
              <a:solidFill>
                <a:srgbClr val="aa8456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704680" y="3011760"/>
                <a:ext cx="2526480" cy="2279880"/>
              </a:xfrm>
              <a:prstGeom prst="ellipse">
                <a:avLst/>
              </a:prstGeom>
              <a:solidFill>
                <a:srgbClr val="eec85e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163680" y="3405240"/>
                <a:ext cx="1608480" cy="149256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24840" y="3796920"/>
                <a:ext cx="688320" cy="709200"/>
              </a:xfrm>
              <a:prstGeom prst="ellipse">
                <a:avLst/>
              </a:prstGeom>
              <a:solidFill>
                <a:srgbClr val="323c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2" name=""/>
          <p:cNvSpPr/>
          <p:nvPr/>
        </p:nvSpPr>
        <p:spPr>
          <a:xfrm>
            <a:off x="-36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093080" y="2436840"/>
            <a:ext cx="190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  <a:cs typeface="AL-Mohanad"/>
              </a:rPr>
              <a:t>كم سهما ستحتاج ليكون مجموع الإصابات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L-Mohanad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L-Mohanad"/>
              </a:rPr>
              <a:t> (يمكن إصابة نفس المنطقة أكثر من مر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7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500"/>
                            </p:stCondLst>
                            <p:childTnLst>
                              <p:par>
                                <p:cTn id="5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نشاط (</a:t>
            </a: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3354480" y="2684520"/>
            <a:ext cx="2009520" cy="160812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5299200" y="2684520"/>
            <a:ext cx="2009520" cy="160812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1409760" y="2681280"/>
            <a:ext cx="20098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79280" y="217440"/>
          <a:ext cx="8713800" cy="6512040"/>
        </p:xfrm>
        <a:graphic>
          <a:graphicData uri="http://schemas.openxmlformats.org/drawingml/2006/table">
            <a:tbl>
              <a:tblPr/>
              <a:tblGrid>
                <a:gridCol w="1440000"/>
                <a:gridCol w="3168720"/>
                <a:gridCol w="606240"/>
                <a:gridCol w="3065400"/>
                <a:gridCol w="433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الجوانب الفن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الآ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كون الكلمة مفردة جديدة على الطالب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إِنَّا بُرَءاؤا مِنكُمْ وَمِمَّا تَعْبُدُونَ 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وجود همزة في وسط الكلمة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أَتَعِدَانِنِي أَنْ أُخْرَجَ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طول الكلم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{أَلَّا يَسْجُدُوا لِلَّهِ الَّذِي يُخْرِجُ الْخَبْءَ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الاكتفاء بالحركة دون الشدة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تُؤْتِي أُكُلَهَا كُلَّ حِينٍ بِإِذْنِ رَبِّهَا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كيفية النطق إذا التقى التنوين بهمزة الوص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وَإِذِ ابْتَلَى إِبْرَاهِيمَ رَبُّهُ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توالي حرفين من جنس واحد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فَزَيَّلْنَا بَيْنَهُمْ}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تتابع الحركات من جنس واحد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وَقُدُورٍ رَّاسِيَاتٍ اعْمَلُوا آلَ دَاوُودَ شُكْراً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تأخر الفاعل وتقدم المفعول به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فَسَيَكْفِيكَهُمُ اللّهُ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خطأ شائع على ألسن النا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 وَإِنَّ اللَّهَ لَهُوَ خَيْرُ الرَّازِقِينَ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</a:tbl>
          </a:graphicData>
        </a:graphic>
      </p:graphicFrame>
      <p:sp>
        <p:nvSpPr>
          <p:cNvPr id="810" name=""/>
          <p:cNvSpPr/>
          <p:nvPr/>
        </p:nvSpPr>
        <p:spPr>
          <a:xfrm>
            <a:off x="250920" y="87156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فزيَّلنا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8080" y="1447920"/>
            <a:ext cx="13395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برءاؤا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8000" y="2039760"/>
            <a:ext cx="1582560" cy="383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سيكفيكه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50920" y="267192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ألاَّ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88000" y="87156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788000" y="151920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88000" y="260028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788000" y="202392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86200" y="3176640"/>
            <a:ext cx="5763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786200" y="3824280"/>
            <a:ext cx="5763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0920" y="3753000"/>
            <a:ext cx="133992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أتَعِدَانِنِي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0920" y="317664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راسياتٍ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788000" y="440064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788000" y="521496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88000" y="609300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50920" y="607860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لهُو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08000" y="5264280"/>
            <a:ext cx="151272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إبراهيمَ ربُه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0920" y="440064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اُكُلَها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فائد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يقول عمر بن عتبة لمعلم ولده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(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ليكن أول إصلاحك لولدي إصلاحك لنفسك ، فإن عيونهم معقودة بك فالحسن عندهم ما صنعت ، والقبيح عندهم ما تركت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5657760" y="1844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4275000" y="2060640"/>
            <a:ext cx="6573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Al-Hadith2"/>
              </a:rPr>
              <a:t>الجلسة الثاني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Garamond"/>
                <a:cs typeface="AL-Battar"/>
              </a:rPr>
              <a:t>طرق تصحيح التلاوة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  <a:ea typeface="AL-Battar"/>
              </a:rPr>
              <a:t>(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  <a:ea typeface="AL-Battar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  <a:ea typeface="AL-Battar"/>
              </a:rPr>
              <a:t> 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 rot="21361800">
            <a:off x="2627280" y="3913200"/>
            <a:ext cx="2290680" cy="26114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 rot="261000">
            <a:off x="4013280" y="4669920"/>
            <a:ext cx="16635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9efee"/>
                </a:solidFill>
                <a:latin typeface="Garamond"/>
                <a:cs typeface="AL-Mateen"/>
              </a:rPr>
              <a:t>تصحيح التلاوة ( </a:t>
            </a:r>
            <a:r>
              <a:rPr b="0" lang="en-US" sz="4400" spc="-1" strike="noStrike">
                <a:solidFill>
                  <a:srgbClr val="b9efee"/>
                </a:solidFill>
                <a:latin typeface="Garamond"/>
                <a:ea typeface="AL-Mateen"/>
              </a:rPr>
              <a:t>3</a:t>
            </a:r>
            <a:r>
              <a:rPr b="0" lang="en-US" sz="4400" spc="-1" strike="noStrike">
                <a:solidFill>
                  <a:srgbClr val="b9efee"/>
                </a:solidFill>
                <a:latin typeface="Garamond"/>
                <a:ea typeface="AL-Mateen"/>
              </a:rPr>
              <a:t> 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يان صفة الحرف أو مخرجه الصحي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يان القاعدة في القراء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يان المراد باصطلاحات الضب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AL-Mohanad"/>
              </a:rPr>
              <a:t>وذلك في الحروف المتقاربة في الصفات أو المخارج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L-Mohanad"/>
              </a:rPr>
              <a:t>           مثل:قلب التاء إلى طا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AL-Mohanad"/>
              </a:rPr>
              <a:t>اللهجة الدارجة عند القارئ،مثل: (قلب الثاء سين )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title"/>
          </p:nvPr>
        </p:nvSpPr>
        <p:spPr>
          <a:xfrm>
            <a:off x="179280" y="274320"/>
            <a:ext cx="63468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Garamond"/>
                <a:cs typeface="AL-Mohanad"/>
              </a:rPr>
              <a:t>بيان صفة الحرف أو مخرجه الصحيح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"/>
          <p:cNvSpPr/>
          <p:nvPr/>
        </p:nvSpPr>
        <p:spPr>
          <a:xfrm>
            <a:off x="4645080" y="3141720"/>
            <a:ext cx="136692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ترجي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205080" y="3141720"/>
            <a:ext cx="136692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طرجي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645080" y="5229360"/>
            <a:ext cx="201600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كذبت ثمود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56000" y="5229360"/>
            <a:ext cx="201600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كزبت سمو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000"/>
                            </p:stCondLst>
                            <p:childTnLst>
                              <p:par>
                                <p:cTn id="67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9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AL-Mohanad"/>
              </a:rPr>
              <a:t>بيان القاعدة في القراء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همزات الوصل متى تقرأ بالفتح أو بالكسر أو بالض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التفريق بين همزة الوصل وهمزة القط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التفريق بين لام الأمر ولام التعلي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التفريق بين الياء الأخيرة والألف المقصو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511308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9efee"/>
                </a:solidFill>
                <a:latin typeface="Garamond"/>
                <a:cs typeface="AL-Mohanad"/>
              </a:rPr>
              <a:t>بيان المراد باصطلاحات الضبط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وذلك عند الخطأ بسببها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  مثل الصفر المستطيل ، الصفر المستدير ، والحروف الصغي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9efee"/>
                </a:solidFill>
                <a:latin typeface="Garamond"/>
                <a:cs typeface="AL-Mateen"/>
              </a:rPr>
              <a:t>نشاط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(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5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 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0" y="6362640"/>
            <a:ext cx="914400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457200" y="184320"/>
          <a:ext cx="8229600" cy="6057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3529080"/>
                <a:gridCol w="585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كيف تُقر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الن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الآ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جَنَّتَيْنِ ذَوَاتَى أُكُلٍ خَمْط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فَانكِحُواْ مَا طَابَ لَكُم مِّنَ النِّسَا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فَلْيُصَلُّواْ مَعَك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لِيُنفِقْ ذُو سَعَةٍ مِّن سَعَتِه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وَاتَّبِعْ مَا يُوحَى إِلَيْك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وَأَنكِحُوا الْأَيَامَى مِنكُم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مِن بَعْدِ وَصِيَّةٍ يُوصَى بِهَ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وَلِيَذَّكَّرَ أُوْلُواْ الأَلْبَاب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إِن كَادَتْ لَتُبْدِي بِهِ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هَـذَا بَلاَغٌ لِّلنَّاسِ وَلِيُنذَرُواْ بِه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2771640" y="321300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ألف مقصو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697120" y="72864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يا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697120" y="22050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لام أم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01800" y="155736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همزة وص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77164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لام أم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69228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ياء ساكن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9640" y="213372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ساكن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9640" y="1486080"/>
            <a:ext cx="1844640" cy="76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تسقط في الوص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9640" y="3141720"/>
            <a:ext cx="177192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ألف مدي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9640" y="263700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مكسور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71640" y="58039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لام التعلي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768760" y="3716280"/>
            <a:ext cx="17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همزة قط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697120" y="479592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لام التعلي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773440" y="422100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ألف مقصو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771640" y="52992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يا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39640" y="3649680"/>
            <a:ext cx="1844640" cy="76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ثابتة وصلا وابتدا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39640" y="472428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مكسور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39640" y="422100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ألف مدي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9640" y="5732640"/>
            <a:ext cx="177192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مكسور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9640" y="522756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ياء ساكن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9efee"/>
                </a:solidFill>
                <a:latin typeface="Garamond"/>
                <a:cs typeface="AL-Mateen"/>
              </a:rPr>
              <a:t>نشاط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(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6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 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7596360" y="4653000"/>
            <a:ext cx="1218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9efee"/>
                </a:solidFill>
                <a:latin typeface="Garamond"/>
              </a:rPr>
              <a:t>الآيات من 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66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 إلى 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70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 سورة الأحزاب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457200" y="1600200"/>
          <a:ext cx="8229240" cy="449532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أثره في القراء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مصطلح الضب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Quran 1"/>
                        </a:rPr>
                        <a:t>الرَّسُولَ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Quran 1"/>
                        </a:rPr>
                        <a:t> السَّبِيلَ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Quran 1"/>
                        </a:rPr>
                        <a:t>آذَوْ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Quran 1"/>
                        </a:rPr>
                        <a:t>قَالُو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Quran 1"/>
                        </a:rPr>
                        <a:t> النَّار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Quran 1"/>
                        </a:rPr>
                        <a:t>الْعَذَاب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1" name=""/>
          <p:cNvSpPr/>
          <p:nvPr/>
        </p:nvSpPr>
        <p:spPr>
          <a:xfrm>
            <a:off x="3490920" y="2276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صفر المستط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39640" y="23335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الألف زائدة وصلا لا وفق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490920" y="29862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صفر المستط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39640" y="30430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الألف زائدة وصلا لا وفق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492360" y="357336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صفر المستدي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880" y="363060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حرف زائد لا ينطق وصلا ولا وقف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132000" y="49039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سكون على هيئة رأس صا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2200" y="4916520"/>
            <a:ext cx="30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تثبت الألف ابتداء وتسقط وصل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506760" y="41958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صفر المستدي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95280" y="425304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حرف زائد لا ينطق وصلا ولا وقف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54673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سكون على هيئة رأس صا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50920" y="5479920"/>
            <a:ext cx="30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تثبت الألف ابتداء وتسقط وصل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9efee"/>
                </a:solidFill>
                <a:latin typeface="Garamond"/>
                <a:cs typeface="AL-Mateen"/>
              </a:rPr>
              <a:t>قواعد وتنبيهات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ما رسم في المصحف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بالتاء المربوط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يوقف عليه بالهاء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وما رسم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بالتاء المفتوح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يوقف عليه بالتاء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كالرس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كل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امرأة أضيفت إلى زوجها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ترسم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بالتاء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أما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مالم تضف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فترسم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بالها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الحذر من إدغام اللام في النون إذا كانت اللام ساكن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الألف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تتبع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ما قبلها في التفخيم والترقيق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خلاف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الغن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فهي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تتبع ما بعدها في التفخيم والترقي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هناك عدة مفردات في القرآن الكريم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مبدوءة بهمزة على السطر ثم ألف ثم حرف متحرك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فهذه تقرأ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ea typeface="AL-Mohanad"/>
              </a:rPr>
              <a:t> بهمزة ممدودة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خلاف إذا كانت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الهمزة على الألف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تقرأ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بهمزة قطع مفتوح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"/>
          <p:cNvSpPr/>
          <p:nvPr/>
        </p:nvSpPr>
        <p:spPr>
          <a:xfrm>
            <a:off x="1332000" y="256536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403280" y="352908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332000" y="410688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332000" y="508464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0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6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4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2" dur="500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جلسة الأولى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000" y="2425680"/>
            <a:ext cx="821844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Times New Roman"/>
                <a:cs typeface="AL-Battar"/>
              </a:rPr>
              <a:t>الوقاية من الخطأ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35640" y="4076640"/>
            <a:ext cx="2376360" cy="1657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عرا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قرآن الكر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332000" y="4076640"/>
            <a:ext cx="2376360" cy="1657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لح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وسبل الوقاية من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AL-Mateen"/>
              </a:rPr>
              <a:t>إعراب القرآن الكري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773360"/>
            <a:ext cx="849780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هو إبانة حروفه ، وإجادة ترتيله ، وتحسين تلاوته ، وعدم اللحن في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على الوجه المتلقى تواتراً عن رسول الل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0920" y="4221000"/>
            <a:ext cx="8497800" cy="201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أو هو إقامة حروف القرآن الكريم ، وبيان بعضها من بعض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من غير التباس حرف بحرف ، ومن غير وقوع في اللحن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حاجة قارئ القرآن إلى اللغة والنحو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نشاط (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2295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دراسة آيات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b76a03"/>
          </a:solidFill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50720" indent="-45072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{لَّـكِنِ الرَّاسِخُونَ فِي الْعِلْمِ مِنْهُمْ وَالْمُؤْمِنُونَ يُؤْمِنُونَ</a:t>
            </a:r>
            <a:br>
              <a:rPr sz="3600"/>
            </a:br>
            <a:br>
              <a:rPr sz="10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بِمَا أُنزِلَ إِلَيكَ وَمَا أُنزِلَ مِن قَبْلِكَ  وَالْمُقِيمِينَ  الصَّلاَةَ</a:t>
            </a:r>
            <a:br>
              <a:rPr sz="3600"/>
            </a:br>
            <a:br>
              <a:rPr sz="10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وَالْمُؤْتُونَ الزَّكَاةَ وَالْمُؤْمِنُونَ بِاللّهِ وَالْيَوْمِ الآخِرِ أُوْلَـئِكَ</a:t>
            </a:r>
            <a:br>
              <a:rPr sz="3600"/>
            </a:br>
            <a:br>
              <a:rPr sz="10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سَنُؤْتِيهِمْ أَجْراً عَظِيماً }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نساء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16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r" rtl="1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أَفَمَن شَرَحَ اللَّهُ صَدْرَهُ لِلْإِسْلَامِ فَهُوَ عَلَى نُورٍ مِّن رَّبِّهِ </a:t>
            </a:r>
            <a:br>
              <a:rPr sz="3600"/>
            </a:br>
            <a:br>
              <a:rPr sz="12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َوَيْلٌ لِّلْقَاسِيَةِ قُلُوبُهُم مِّن ذِكْرِ اللَّهِ  أُوْلَئِكَ فِي ضَلَالٍ مُبِينٍ{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2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62120" y="2089080"/>
            <a:ext cx="1655640" cy="1191240"/>
          </a:xfrm>
          <a:prstGeom prst="rect">
            <a:avLst/>
          </a:prstGeom>
          <a:solidFill>
            <a:srgbClr val="b76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وَالْمُقِيمِين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146400" y="4819680"/>
            <a:ext cx="4932360" cy="1191240"/>
          </a:xfrm>
          <a:prstGeom prst="rect">
            <a:avLst/>
          </a:prstGeom>
          <a:solidFill>
            <a:srgbClr val="b76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فَوَيْلٌ لِّلْقَاسِيَةِ قُلُوبُهُم مِّن ذِكْرِ اللَّه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لحن يطلق على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9640" y="4581360"/>
            <a:ext cx="2303640" cy="136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خط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132000" y="3355920"/>
            <a:ext cx="2303640" cy="1368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فط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724360" y="2205000"/>
            <a:ext cx="2303640" cy="1368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لغ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eec94"/>
                </a:solidFill>
                <a:latin typeface="Times New Roman"/>
                <a:cs typeface="AL-Mateen"/>
              </a:rPr>
              <a:t>أقسام اللح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ateen"/>
              </a:rPr>
              <a:t>اللحن الجل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Battar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ecoType Thuluth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ateen"/>
              </a:rPr>
              <a:t>اللحن الخف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ecoType Thuluth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92360" y="1773360"/>
            <a:ext cx="61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هو خطأ ظاهر يطرأ على اللفظ ، يخل بعرف القراءة ، سواء أخل بالمعنى أم لم ي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63640" y="422100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هو خطأ غير ظاهر يطرأ على اللفظ فيخل بعرف القراءة ولا يخل بالمعنى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6:57:16Z</dcterms:created>
  <dc:creator>Customer</dc:creator>
  <dc:description/>
  <dc:language>en-US</dc:language>
  <cp:lastModifiedBy>WinXPro2</cp:lastModifiedBy>
  <dcterms:modified xsi:type="dcterms:W3CDTF">2007-01-08T07:24:33Z</dcterms:modified>
  <cp:revision>133</cp:revision>
  <dc:subject/>
  <dc:title>تصحيح التلاوة (طرق ومها</dc:title>
</cp:coreProperties>
</file>