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76E8-03AE-48CA-9E6F-C79DB0848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A1A2-20EC-4712-90CB-581261F961A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750C-B936-4E01-B457-E2AB6657B7F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BC55-1C42-4DBA-B1C2-DC9C64DC265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B473-DE61-47D2-B773-CBC5E9CA373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B952-22C1-41D4-AF9E-2A40BC71A47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51D2-7450-4F1C-86FA-A88C8DE173F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EF92-9762-4472-938C-F08AA20774C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C334-186B-4166-925C-DAC4D77E173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CD2F-CF5A-4EAC-885C-0EC93D1D786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71FC-A359-4A47-B81E-7B559288495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317A-2DE5-456B-B3CF-6EF984250E0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CA59-5CF3-4C22-8621-9546526B8DC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93FFF-04E2-4CF1-8C7C-CD006499FC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08D6-DBBD-414D-8242-61169AE759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24EB5-41DA-4787-8748-26B9E42A8A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D7DF6-B37A-4220-A97F-1E3285D402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967E5-51E1-4330-972A-5995540303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96555-7827-4443-A8B0-B5F0516F9C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C0A37-6126-4AA0-ACAE-4CB9158FB5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0288-6966-4008-96CA-CB26E046C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938A-1C98-4904-B6E8-93C1BE2BF1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8F41-F275-4873-96B0-A1EDBE6F55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7E150-5D1C-4F0E-AE90-0F531046BA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8B8AA-08F2-4DB2-9313-7E80350B53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75CA-C99A-4225-9ABC-710F4575F8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4F1A-DF22-4BE4-A749-160F6B80C2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39D-A6CF-4503-BDD8-4C1FFD5875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FAB-2FE3-4584-96FB-DE012705FB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420-A19C-466D-9B42-C0A4176887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957-9A0F-4522-B16D-485B03CEAC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F68F-D657-42B8-8C8D-C09A74E9F5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7B1-C45B-4032-85D7-044C7306A0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0DD-0451-4A87-8E15-C3227E2DBC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CFB6-3A0F-4147-B5BE-A1EE82C24A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7637-A1C1-4820-9896-DBE0CDBD64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47D9-3176-4ED6-9A5D-B50670157D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B00-A932-4F0A-A0F2-BA96123341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6687-BBDA-48C5-BB7C-9CEE597D35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1BAE-34AD-44B3-B093-E26F16F29C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DDA83-A16B-44DD-BFB2-5C87ED8A2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5FD6-8FCD-4962-B7B3-C6ED0DCF7A4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A92D8-C733-4C45-8ECC-0452997D617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B41B4-A1F4-40FB-BAA4-BDB32B6D850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1D4C7-F9A8-41D7-BB64-C29DBAFC5E6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4D208-3DC8-4EC2-A764-0E7D5780F10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7F654-5E27-4AB3-8CA1-1D989B8EB86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6E4F3-479A-4DEC-A5C8-3BE6273EEAC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8A8A1-2456-44D8-B581-2E4A309D42B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FF932-BEA5-4D66-885D-5D3238D5021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14BC7-B239-4B17-9B19-D0707396004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17922-9D3C-4BC6-8783-969F00A2E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A41A-8C77-4616-8F44-AAB2C62D0E2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4305B-3E9A-463F-9FD0-1C5CE7F7ACF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4EB3-0999-4DA4-8579-ED9108A6CEC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56BD7-1CBE-4740-A183-F2479CEEB77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88947-F0A1-41A2-88BD-D3700CB6C4E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DF8E9-CAA9-4FCE-8590-6CBE76D3DE0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C14A9-DE22-420B-8CD2-E8F55B12913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112BA-5DC2-43AD-8D53-1BF4258F963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1D956-8F86-4688-9C04-7182EE3857D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88FD0-D198-4537-8B66-AB3FEF21B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7B58-73C0-467F-991E-D4215BD56EE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CF359-5464-4C52-A7FB-0171CD5D3FC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FC7CD-D214-484E-8A19-63211473096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F875F-EB24-4E16-8A0D-55BA5525E05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9FFE9-38DA-43D0-B87A-D9634F368EA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060C0-1BF6-47B8-8903-EDAB5164B67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A05B-A4C1-4749-BEB4-4C01A68DA85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2364-ABBF-4222-99CB-DE3AD54DA36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5772-A561-4CCE-A36D-94919B8DC99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A88A-B7B3-47C9-8A15-E950B72E5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F0E9-EE15-4541-9429-F5B58D0C0A61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D8CA-F9B4-4CF2-8D2E-868384ACDF3D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65FD-E2E0-45D9-9C1C-7489713EDC9A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3"/>
          <p:cNvSpPr>
            <a:spLocks noGrp="1"/>
          </p:cNvSpPr>
          <p:nvPr>
            <p:ph type="sldNum" idx="3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A70E-B4CF-4271-8C59-B434B8B412F5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4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E1A0-C75D-4E3E-9144-9C1268FBC258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D4CA-2C42-4846-BEA6-C0AF27974F94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4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46A6-DE3C-46EC-80AC-78257899E3F8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1D40-DBE6-46DA-A3BC-9B2261135C4B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0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FD9C-95A8-4D51-B845-288DD332AF48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5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28AA-B1CA-4A75-A296-E0FB569AC73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5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A3C9-B511-46DF-BD56-FD9C0ACB9128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0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390B-41C8-43ED-A01C-3314BF7A3ABD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6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79F2-25E8-4A89-B9F6-DDEB2FCB3D1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8968-3E63-42C5-A39B-CD56D45109A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4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15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6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AC13-EA79-4170-AF33-6E1F50E5C08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cs typeface="PT Bold Heading"/>
              </a:rPr>
              <a:t>أهداف مراجعة القدرات المعرفي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أعطاء نظرة شاملة لنطاق وطبيعة وهيكل المعرفة في قسم محدد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التزود بالحالة الفعلية عن الخصائص الكيفية للمقادير المتوفرة من المعرفة داخل مستودع المعرفة المحد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التزود بالحالة الفعلية عن الخصائص الكمية للمقادير المتوفرة من المعرفة داخل مستودع المعرفة المحد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4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التزود بمعنى واضح لمدخلات البيانات الخام للخطة الإستراتيجية اللازمة لتشغيل المعرفة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9500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cs typeface="PT Bold Heading"/>
              </a:rPr>
              <a:t>يشتمل تقرير مراجعة القدرات المعرفية على النتائج الرئيسية  التي تتضم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تحديد الواضح لسبب اتباع مراجعة المعرفة بالمنظم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وصف دقيق لعملية المارجعة ذاتها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ليل دقة وحساسية النتائج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خاتمة حيث يجب أن تلخص النتائج التفصيلية لمراجعة القدرات المعرفية بشكل سهل وقابل للفه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خريطة مجمعة للمعرفة يظهر العلاقة بين مستودعات المعرفة التي تمتلكها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محتوى المعرفة بكل قسم ووسائل تسجيل المعلومات فيها ، بالإضافة لتسجيل خصائص الوصفية والكمية لكل قس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فهرس مجمع لمحتويات التقري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95000" y="1371240"/>
            <a:ext cx="8915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هناك مجموعة من التساؤلات عن مراجعة  القدرات المعرفية تشمل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مفهوم الأعمال.( 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رسالة وأهداف فريق العمل الخاص بكب وحدة تنظيمي؟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معرفة الفنية للمنظم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تعتمد على المعرفة والخبراء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توليد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وصف الطرق المختلفة التي تستخدم لتصنيف المعرفة بالمنظمة (مثل خرائط المعرفة لمن يعرف وماذ يعرف؟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هل هناك تصنيف للمعرفة المرتبطة بخبرات النجاح والفشل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آليات المتوفرة لتحويل المعرفة من الأفراد والفرق إلى الأفراد والفرق الأخرى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حاملي المعرف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هل يركزون على ما هو أفضل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و نوع المشاركة المتوفرة بين الإدارة وحاملي المعرفة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غ يستخدم التدريب لزيادة المعرفة والمهارات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تحقيق الربط بين المكافآت ومستويات المعرفة والمهار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4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معرفة التي تنقل بواسطة تكنولوجيا المعلوم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هل تستخدم تكنولوجيا المعلومات فقط في تشغيل البيانات أم تستخدم أيضا في إدارة المعرفة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كيف يمكن تطبيق مشروعات نظم المعلومات المرتبطة بإدارة المعرفة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5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) تصميم الهيكل التنظيم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هل تدفق المعلومات في الوحدة التنظيمية يشجع أم يعيق الإبتك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كيف يمكن لأي فرد داخل المنظمة أن يكون داخل شبكات الأعمال الحديثة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ea typeface="PT Bold Heading"/>
              </a:rPr>
              <a:t>(الطرق المختلفة لتحليل المعرفة)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التي تستخدم في مراجعة القدرات المعرفية منها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خرائط التدف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نماذج المدخلات والمخرجات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دراسة قوائم المعرف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خلال قائمة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إستبيان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جلسات المجموعة القائمة على المراجع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بالإدارة الوسطى للتعرف على المحاذير المختل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تحليل البيئي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لفهم المعرفة الحالية وما هو دورها في المنظمة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نظام التحليل الشفهي.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ستخدم لتحديد المعارف البسيطة جدا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95000" y="1752120"/>
            <a:ext cx="8915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تحليل المعرفة الأساسي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ستخدم لتحديد المعرفة الكلية وأيضاً المعرفة الأكثر تفصيلاً المرتبطة به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وضع خريطة للمعرف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لكل المستويات التنظيمية أو شبكات الأعما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تحليل الحرج لوظيفة المعرفة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 لتحديد المجالات الأكثر حساسية للمعر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تحليل إحتياجات وإستخدام المعرفة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 لتقييم الوضع الراهن للمعرفة وكيف يمكن تحسين المواق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وضع وتوصيف نموذج المعرفة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 لمعرفة تفاصيل المعرفة كثيفة العم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تحليل تدفق المعرف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ستخدم لتوفير نظرة شاملة لتغيرات المعرفة، مكاسب وخسائر،ومدخلات العمليات، ووظيفة الأعمال على مستوى المنظمة ككل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495000" y="15238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PT Bold Heading"/>
              </a:rPr>
              <a:t>أخيرًا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إن وضع خريطة للمعرفة يوضح تصنيف وتدفق المعرفة. </a:t>
            </a:r>
            <a:r>
              <a:rPr b="0" lang="ar-SA" sz="1600" spc="-1" strike="noStrike">
                <a:solidFill>
                  <a:srgbClr val="ff0000"/>
                </a:solidFill>
                <a:latin typeface="Calibri"/>
                <a:ea typeface="PT Bold Heading"/>
              </a:rPr>
              <a:t>( جزء هام جداً في مراجعة القدرات المعرفية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إن أفضل تمثيل لخرائط المعرفة هي القصص </a:t>
            </a:r>
            <a:r>
              <a:rPr b="0" lang="ar-SA" sz="1600" spc="-1" strike="noStrike">
                <a:solidFill>
                  <a:srgbClr val="ff0000"/>
                </a:solidFill>
                <a:latin typeface="Calibri"/>
                <a:ea typeface="PT Bold Heading"/>
              </a:rPr>
              <a:t>( فهي تغطي الأطر والقيم والرسائل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إن أكثر الأنشطة الإنتاجية في هذه المراجع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نظم المعرفة المرتبطة بالعملاء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3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حصول على ذاكرة المنظمة </a:t>
            </a:r>
            <a:r>
              <a:rPr b="0" lang="ar-SA" sz="1200" spc="-1" strike="noStrike">
                <a:solidFill>
                  <a:srgbClr val="ff0000"/>
                </a:solidFill>
                <a:latin typeface="Calibri"/>
                <a:ea typeface="PT Bold Heading"/>
              </a:rPr>
              <a:t>( في المساعدة على التعلم ومنع تكرار الأخطاء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3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تصنيف المباشر للخبراء الحقيقيين </a:t>
            </a:r>
            <a:r>
              <a:rPr b="0" lang="ar-SA" sz="1200" spc="-1" strike="noStrike">
                <a:solidFill>
                  <a:srgbClr val="ff0000"/>
                </a:solidFill>
                <a:latin typeface="Calibri"/>
                <a:ea typeface="PT Bold Heading"/>
              </a:rPr>
              <a:t>( تحديد الفائدة التي ستعود للمنظمة من هؤلاء الخبراء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مراجعة القدرات المعرفية المتعلقة بالإنتاج يتطلب التركيز على التساؤلات الاتية لحل مشكلة هام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تي نمتلك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 وماهي المعرفة التي نفتقر إلي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 ومن الذي يحتاج إلى هذه المعرفة؟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وكيف يمكن استخدام هذه المعرفة؟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06D8-201A-496B-9C5F-CA11EF50044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Group 5" descr=""/>
          <p:cNvPicPr/>
          <p:nvPr/>
        </p:nvPicPr>
        <p:blipFill>
          <a:blip r:embed="rId1"/>
          <a:stretch/>
        </p:blipFill>
        <p:spPr>
          <a:xfrm>
            <a:off x="6377040" y="1889280"/>
            <a:ext cx="2786040" cy="270648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راجعة القدرات</a:t>
            </a:r>
            <a:br>
              <a:rPr sz="4400"/>
            </a:br>
            <a:r>
              <a:rPr b="0" lang="ar-SA" sz="4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معرفيةبالمنظم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90360" y="4267080"/>
            <a:ext cx="7429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رابع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تحليل فجوة المعرفة بالمنظم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تنقسم فجوة المعرفة بالمنظمة إلى نوعين رئيسيي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أولاً: الفجوة الداخلية ( خاصة بنقاط القوة والضعف بالمنظم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نظر للفجوة الداخلية من زاويتي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ولى: فجوة الفعل والإمكانية.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أي الفرق بين ما تعمله الشركة فعلاً وما تستطيع عمله) ومن هذه الفجوة نحدد بدقة القدرات الذاتية للمعرفة في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ثانية: فجوة بين الإمكانية والهدف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 أي الفرق بين ما تستطيع الشركة فعله وما يجب أن تفعله) من هذه الفجوة نحدد بدقة إمكانات التطور الداخلية في المنظمة.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                                                                      أنظر الرسم الت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15"/>
          <p:cNvSpPr/>
          <p:nvPr/>
        </p:nvSpPr>
        <p:spPr>
          <a:xfrm>
            <a:off x="165240" y="175248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أد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5" name="Group 19"/>
          <p:cNvGrpSpPr/>
          <p:nvPr/>
        </p:nvGrpSpPr>
        <p:grpSpPr>
          <a:xfrm>
            <a:off x="495360" y="1599840"/>
            <a:ext cx="8832960" cy="4572360"/>
            <a:chOff x="495360" y="1599840"/>
            <a:chExt cx="8832960" cy="4572360"/>
          </a:xfrm>
        </p:grpSpPr>
        <p:cxnSp>
          <p:nvCxnSpPr>
            <p:cNvPr id="526" name="Straight Arrow Connector 4"/>
            <p:cNvCxnSpPr/>
            <p:nvPr/>
          </p:nvCxnSpPr>
          <p:spPr>
            <a:xfrm flipV="1">
              <a:off x="1402920" y="1599840"/>
              <a:ext cx="1080" cy="457272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cxnSp>
          <p:nvCxnSpPr>
            <p:cNvPr id="527" name="Straight Arrow Connector 6"/>
            <p:cNvCxnSpPr/>
            <p:nvPr/>
          </p:nvCxnSpPr>
          <p:spPr>
            <a:xfrm>
              <a:off x="495360" y="5638680"/>
              <a:ext cx="7925760" cy="108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sp>
          <p:nvSpPr>
            <p:cNvPr id="528" name="Straight Connector 8"/>
            <p:cNvSpPr/>
            <p:nvPr/>
          </p:nvSpPr>
          <p:spPr>
            <a:xfrm flipV="1">
              <a:off x="1403280" y="4038120"/>
              <a:ext cx="6191280" cy="16002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Straight Connector 9"/>
            <p:cNvSpPr/>
            <p:nvPr/>
          </p:nvSpPr>
          <p:spPr>
            <a:xfrm flipV="1">
              <a:off x="1407960" y="2286000"/>
              <a:ext cx="4535640" cy="33530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Arc 12"/>
            <p:cNvSpPr/>
            <p:nvPr/>
          </p:nvSpPr>
          <p:spPr>
            <a:xfrm>
              <a:off x="4705560" y="2590560"/>
              <a:ext cx="2311200" cy="2971800"/>
            </a:xfrm>
            <a:custGeom>
              <a:avLst/>
              <a:gdLst/>
              <a:ahLst/>
              <a:rect l="l" t="t" r="r" b="b"/>
              <a:pathLst>
                <a:path stroke="0" w="2133600" h="2971800">
                  <a:moveTo>
                    <a:pt x="1066800" y="0"/>
                  </a:moveTo>
                  <a:cubicBezTo>
                    <a:pt x="1655977" y="0"/>
                    <a:pt x="2133600" y="665260"/>
                    <a:pt x="2133600" y="1485900"/>
                  </a:cubicBezTo>
                  <a:lnTo>
                    <a:pt x="1066800" y="1485900"/>
                  </a:lnTo>
                  <a:lnTo>
                    <a:pt x="1066800" y="0"/>
                  </a:lnTo>
                  <a:close/>
                </a:path>
                <a:path fill="none" w="2133600" h="2971800">
                  <a:moveTo>
                    <a:pt x="1066800" y="0"/>
                  </a:moveTo>
                  <a:cubicBezTo>
                    <a:pt x="1655977" y="0"/>
                    <a:pt x="2133600" y="665260"/>
                    <a:pt x="2133600" y="1485900"/>
                  </a:cubicBezTo>
                </a:path>
              </a:pathLst>
            </a:custGeom>
            <a:noFill/>
            <a:ln w="57240">
              <a:solidFill>
                <a:srgbClr val="ccb661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14"/>
            <p:cNvSpPr/>
            <p:nvPr/>
          </p:nvSpPr>
          <p:spPr>
            <a:xfrm>
              <a:off x="8255160" y="5334120"/>
              <a:ext cx="107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زم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16"/>
            <p:cNvSpPr/>
            <p:nvPr/>
          </p:nvSpPr>
          <p:spPr>
            <a:xfrm>
              <a:off x="3880080" y="1942200"/>
              <a:ext cx="169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أداء المخط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17"/>
            <p:cNvSpPr/>
            <p:nvPr/>
          </p:nvSpPr>
          <p:spPr>
            <a:xfrm>
              <a:off x="6934320" y="4344480"/>
              <a:ext cx="173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أداء الفعل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18"/>
            <p:cNvSpPr/>
            <p:nvPr/>
          </p:nvSpPr>
          <p:spPr>
            <a:xfrm>
              <a:off x="4994280" y="3195720"/>
              <a:ext cx="18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فجوة المعرفة الداخل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أولاً: الفجوة الخارجية( خاصة بالفرص والتهديدات التي تتعرض لها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نظر للفجوة الخارجية من زاويتي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ولى: فجوة المتاح والإمكانية.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أي الفرق بين ما تتيحه البيئة فعلاً وما تستطيع فعله المنظمة) ومن هذه الفجوة نحدد مدى جاهزية المنظمة لاقتناص الفرص وتجنب التهديد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ثانية: فجوة بين الإمكانية والقدرة على صناعة الفرص وتجنب التهديدات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 أي الفرق بين أمكانيات المنظمة وما تستطيع به التأثير في قيادة بيئة المعرفة ) من هذه الفجوة نحدد بدقة إمكانات المنظمة في التأثير في البيئة الخارجية فلا تكون مستجيبة لها فقط بل يتعدى ذلك فتؤثر فيها بما يخدم مصلحتها وتقود صناعة المعرفة في هذا المجا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3"/>
          <p:cNvGrpSpPr/>
          <p:nvPr/>
        </p:nvGrpSpPr>
        <p:grpSpPr>
          <a:xfrm>
            <a:off x="495360" y="1599840"/>
            <a:ext cx="8832960" cy="4572360"/>
            <a:chOff x="495360" y="1599840"/>
            <a:chExt cx="8832960" cy="4572360"/>
          </a:xfrm>
        </p:grpSpPr>
        <p:cxnSp>
          <p:nvCxnSpPr>
            <p:cNvPr id="537" name="Straight Arrow Connector 4"/>
            <p:cNvCxnSpPr/>
            <p:nvPr/>
          </p:nvCxnSpPr>
          <p:spPr>
            <a:xfrm flipV="1">
              <a:off x="1402920" y="1599840"/>
              <a:ext cx="1080" cy="457272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cxnSp>
          <p:nvCxnSpPr>
            <p:cNvPr id="538" name="Straight Arrow Connector 5"/>
            <p:cNvCxnSpPr/>
            <p:nvPr/>
          </p:nvCxnSpPr>
          <p:spPr>
            <a:xfrm>
              <a:off x="495360" y="5638680"/>
              <a:ext cx="7925760" cy="108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sp>
          <p:nvSpPr>
            <p:cNvPr id="539" name="Straight Connector 6"/>
            <p:cNvSpPr/>
            <p:nvPr/>
          </p:nvSpPr>
          <p:spPr>
            <a:xfrm flipV="1">
              <a:off x="1403280" y="4038120"/>
              <a:ext cx="6191280" cy="16002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Straight Connector 7"/>
            <p:cNvSpPr/>
            <p:nvPr/>
          </p:nvSpPr>
          <p:spPr>
            <a:xfrm flipV="1">
              <a:off x="1407960" y="2286000"/>
              <a:ext cx="4535640" cy="33530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Arc 8"/>
            <p:cNvSpPr/>
            <p:nvPr/>
          </p:nvSpPr>
          <p:spPr>
            <a:xfrm>
              <a:off x="4705560" y="2590560"/>
              <a:ext cx="2311200" cy="2971800"/>
            </a:xfrm>
            <a:custGeom>
              <a:avLst/>
              <a:gdLst/>
              <a:ahLst/>
              <a:rect l="l" t="t" r="r" b="b"/>
              <a:pathLst>
                <a:path stroke="0" w="2133600" h="2971800">
                  <a:moveTo>
                    <a:pt x="1066800" y="0"/>
                  </a:moveTo>
                  <a:cubicBezTo>
                    <a:pt x="1655977" y="0"/>
                    <a:pt x="2133600" y="665260"/>
                    <a:pt x="2133600" y="1485900"/>
                  </a:cubicBezTo>
                  <a:lnTo>
                    <a:pt x="1066800" y="1485900"/>
                  </a:lnTo>
                  <a:lnTo>
                    <a:pt x="1066800" y="0"/>
                  </a:lnTo>
                  <a:close/>
                </a:path>
                <a:path fill="none" w="2133600" h="2971800">
                  <a:moveTo>
                    <a:pt x="1066800" y="0"/>
                  </a:moveTo>
                  <a:cubicBezTo>
                    <a:pt x="1655977" y="0"/>
                    <a:pt x="2133600" y="665260"/>
                    <a:pt x="2133600" y="1485900"/>
                  </a:cubicBezTo>
                </a:path>
              </a:pathLst>
            </a:custGeom>
            <a:noFill/>
            <a:ln w="57240">
              <a:solidFill>
                <a:srgbClr val="ccb661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TextBox 9"/>
            <p:cNvSpPr/>
            <p:nvPr/>
          </p:nvSpPr>
          <p:spPr>
            <a:xfrm>
              <a:off x="8255160" y="5334120"/>
              <a:ext cx="107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زم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TextBox 10"/>
            <p:cNvSpPr/>
            <p:nvPr/>
          </p:nvSpPr>
          <p:spPr>
            <a:xfrm>
              <a:off x="1898640" y="1942200"/>
              <a:ext cx="367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صناعة الفرص والقدرة على تجنب التهديدات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TextBox 11"/>
            <p:cNvSpPr/>
            <p:nvPr/>
          </p:nvSpPr>
          <p:spPr>
            <a:xfrm>
              <a:off x="5572440" y="4508280"/>
              <a:ext cx="338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فرص والتهديدات في البيئة الخارج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TextBox 12"/>
            <p:cNvSpPr/>
            <p:nvPr/>
          </p:nvSpPr>
          <p:spPr>
            <a:xfrm>
              <a:off x="4994280" y="3195720"/>
              <a:ext cx="18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فجوة المعرفة الخارج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6" name="TextBox 13"/>
          <p:cNvSpPr/>
          <p:nvPr/>
        </p:nvSpPr>
        <p:spPr>
          <a:xfrm>
            <a:off x="165240" y="184644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أد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ماذا نعني بمراجعة القدرات المعرف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فكما أن المنظمات الصناعية تحدد المخزون المتاح من الأصول المادية إن منظمات المعرفة يجب أن تحدد المخزون الرأسمالي من الأصول الفكرية لتحصل على إجبابات للأسئلة التالي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متاحة لديها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ما هي المعرفة التي تحتاج إليها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ما هي المعرفة التي غير  المتاحة 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كيف يمكن أن تطبقها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لذلك الإدارة الناجحة للمعرفة في المنظمة عليها ان تبدأ من هذه التساؤلات، وأن تراجع إجاباتها عليها كل فترة للتحسين والتطوير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يعتبر الجزء الحيوي في منهجية إدارة المعرفة هو مراجعة القدرات المعرفية من حيث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غزارة أو ندرة المعلومات في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تحذير من القصور في المعلومات وما شابه ذلك في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عدم القدرة على حفظ المعلومات المتصلة بموضوع معين جنباً إلى جن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قيادة الإكتشافات الهامة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إستخدام العادي للبيانات التي تقادمت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عدم معرفة وقت اللجوء للخبير فيما يتعلق بتوفير بعض البيانات لإستخدامها في مجال محدد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بدأ مراجعة القدرات المعرفية بـ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قييم مخزون المعرفة والذي يمثل الخطوة الأولى في أي استراتيجية فعالة لإدارة المعرف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حصول على المعرفة الضمنية بإستخدام تكنولوجيا المعلومات وفرق العمل وفرق النقا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المعرفة عن الأفراد الذين يعرفون محتويات التغذية العكسية عن العملاء الرئيسيين  والتي تعتبر نقطة الإنطلاق نحو الإبتكارات وتطوير المنتج وتحديث نظم الإنتاج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بحث عن الفرص وتقييم البيانات التي يتم جمعها من حيث الصلة والشكل والطبيعة والصلة الوثيقة بموضوع معين، ودرجة الإستفادة والتكلفة والوقت والدق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راجعة التوثيق لتحديد كل الذين يملكون مقداراً وفيراً من مستودعات المعرف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Ahmad Mohmmad Alholibi</cp:lastModifiedBy>
  <dcterms:modified xsi:type="dcterms:W3CDTF">2012-09-29T08:52:50Z</dcterms:modified>
  <cp:revision>153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