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292E-18D5-4143-B9D0-7E939E41A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B23D-950C-472F-B499-4208BA566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B592-CFCD-4B65-A7C9-CB7E0180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DF37-D693-472D-A113-D087354D8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84B0-02F3-4539-8ECC-2EF000580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D93A-5BA1-4E58-BFA1-7376F65C54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8298-DE96-478C-8F6F-7BEFC4AD59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F251-EBCE-4532-982E-AD7CB71717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92C0-1A49-42D6-BBFF-6E25351696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127C-71AC-4A66-B799-51CA5332F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1FAB-1EB2-4ED5-ACD8-4FB956699B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8882-122A-4B73-9CDF-0C2E3168A6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B2F1-0899-44CF-9ED1-21DDBB1C9B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CE7B-DD41-4767-8FC4-F521A0F54C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97C8-78BF-49DC-8B2B-D7E7F21F43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9E51-917A-4BA7-AE4A-7748778555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8694-BC1C-4086-9D86-B5536C058B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41F6-5F7A-4F4B-9E10-366B1240CD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9E3F-8AEE-483E-B18F-3D980C46A7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60BE-05F0-40EA-953F-57A65E771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B206-0D71-4016-ACE8-9157DA3C5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0B31-6C14-4A6F-A04E-EE52A667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6249-E183-4EBE-A49B-4FC464748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D8E3-EC2C-4721-B373-72E74DFBE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81A-0AA9-4F0B-B474-132F9A4DC2B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AE8-5CA5-4D84-83B4-8083C6B8E46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66A4-2D83-4437-AA67-1C033A63F13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8D4-FFD5-400B-B613-E3B481B186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450-779E-450D-B685-3A66566C54C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733-7414-49D8-AD56-4E554FD7F30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F336-DFE4-4C08-A0FA-25A8038E4E5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شكل يبين مصفوفة فارغ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95360" y="1905120"/>
          <a:ext cx="8915400" cy="3504960"/>
        </p:xfrm>
        <a:graphic>
          <a:graphicData uri="http://schemas.openxmlformats.org/drawingml/2006/table">
            <a:tbl>
              <a:tblPr/>
              <a:tblGrid>
                <a:gridCol w="2582640"/>
                <a:gridCol w="2652840"/>
                <a:gridCol w="367992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ات الوظيفية لحاملي ال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منظ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(وحدة تنظيمية رقم 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 المعرف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4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F90-1A0D-40B0-BBCE-6281EA3307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ثال تطبيقي على: وظيفة سك العملة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87560"/>
          <a:ext cx="9310680" cy="4703760"/>
        </p:xfrm>
        <a:graphic>
          <a:graphicData uri="http://schemas.openxmlformats.org/drawingml/2006/table">
            <a:tbl>
              <a:tblPr/>
              <a:tblGrid>
                <a:gridCol w="957240"/>
                <a:gridCol w="766800"/>
                <a:gridCol w="779400"/>
                <a:gridCol w="766800"/>
                <a:gridCol w="777960"/>
                <a:gridCol w="836640"/>
                <a:gridCol w="779400"/>
                <a:gridCol w="836640"/>
                <a:gridCol w="777960"/>
                <a:gridCol w="838080"/>
                <a:gridCol w="1193760"/>
              </a:tblGrid>
              <a:tr h="578520"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سن (م أسطوان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لي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ود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د ( م المدير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حمد ( المدي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ال الوظي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ال المعر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لم المعاد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سطوا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ر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وس 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عا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بريد الخا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وسط الفجو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</a:tbl>
          </a:graphicData>
        </a:graphic>
      </p:graphicFrame>
      <p:sp>
        <p:nvSpPr>
          <p:cNvPr id="251" name="عنوان 3"/>
          <p:cNvSpPr/>
          <p:nvPr/>
        </p:nvSpPr>
        <p:spPr>
          <a:xfrm>
            <a:off x="1219320" y="57150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متوسط العام للمستوى الفعلي = 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24.12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  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cs typeface="PT Bold Heading"/>
              </a:rPr>
              <a:t>المتوسط العام للمستوى المرغوب =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ea typeface="PT Bold Heading"/>
              </a:rPr>
              <a:t>31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 =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4.12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1.26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= 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= -0.43- 1.14 – 1.85 – 2.43 – 1.29= -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دد المجالات المعرفي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7.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 = -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9500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الحصول على أرقام المصفوفة من خل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يحدد حاملي المعرفة المستويات الحالية من المعرفة لكل مجال معرفي وذلك لكل زم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قد جلسات جماعية للمناقشة بين العاملين ليعرض كل فرد رأيه في المقادير، ويمكن استخدام طريقة الاختبار العشوائي للتأكد من المقاد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بنفس الطريقة التي تم تحديد المستويات الحالية للمعرفة يتم تحديد المستويات المرغو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وضح مصفوفة المعرفة ثلاثة عناصر يمكن قياسها بصورة كمية بالمنظمة هي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ستوى الطموح لكل مجال وظيفي لكل عامل. فيحدد كل ع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حتياجات التدريس والتعلم لكل عضو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إن يكون لكل عضو بالمنظمة برنامج لتطوير موه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مستوى الطموح ككل ، وفجوة المعرفة في المجال الوظيفي المحدد عن طريق متوسط المقادير لكل العام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فجوة المعرفة لكل مجال معرف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غطية الطموح المعرفي. وهو مؤشر للأداء يقيس إلى أي مدى تقابل الوظيفة مستوى الطموح، وهنا ثلاث احتمال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gt; المستوى المرغوب وهنا لا توجد فجوة ل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= المستوى المرغوب : وهنا الفجوة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lt; المستوى المرغوب، والفرق يمثل فجوة المعرف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عادلة تغطية الطموح المعرفي ( ت ط م 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      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فجوة ا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3d75"/>
                </a:solidFill>
                <a:latin typeface="Calibri"/>
                <a:cs typeface="PT Bold Heading"/>
              </a:rPr>
              <a:t>تغطية الطموح المعرفي =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+ ( ـــــــــــــــــــــ )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</a:rPr>
              <a:t>×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</a:t>
            </a:r>
            <a:r>
              <a:rPr b="0" lang="ar-SA" sz="20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مستوى الطمو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وهناك نميز بين اثنين من تغطية الطموح المعرفي هما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لأداء الكلي للإدارة.  ونستخدم فيه كل فجوات المعرفة ( عادةً ما تكون صفر أو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قل) ونستخدم فيه أيضاً كل مستويات المعرف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نستخدم تغطية الطموح المعرفي فقط في أحد المجالات فقط إن كان فيها فجو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قوس متوسط أيمن 5"/>
          <p:cNvSpPr/>
          <p:nvPr/>
        </p:nvSpPr>
        <p:spPr>
          <a:xfrm>
            <a:off x="5334120" y="1676520"/>
            <a:ext cx="457200" cy="1676160"/>
          </a:xfrm>
          <a:custGeom>
            <a:avLst/>
            <a:gdLst>
              <a:gd name="textAreaLeft" fmla="*/ 0 w 457200"/>
              <a:gd name="textAreaRight" fmla="*/ 320760 w 457200"/>
              <a:gd name="textAreaTop" fmla="*/ 18720 h 1676160"/>
              <a:gd name="textAreaBottom" fmla="*/ 16574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قوس متوسط أيسر 6"/>
          <p:cNvSpPr/>
          <p:nvPr/>
        </p:nvSpPr>
        <p:spPr>
          <a:xfrm>
            <a:off x="2209680" y="1676520"/>
            <a:ext cx="381240" cy="16002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840 h 1600200"/>
              <a:gd name="textAreaBottom" fmla="*/ 15843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5"/>
                  <a:pt x="0" y="429"/>
                </a:cubicBezTo>
                <a:lnTo>
                  <a:pt x="0" y="21171"/>
                </a:lnTo>
                <a:cubicBezTo>
                  <a:pt x="0" y="2138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طبيق على مثال سك الع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للمجال الأو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/0.43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90.59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ن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للمجال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/1.1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1.84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كذا بقية المجال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في الأداء الكلي للإدا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للأداء الكلي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/1.0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3.68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7C9-A029-4ADC-A32B-D7B5F624BB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BB67-9F52-4E4F-A4C5-E67D29CFBE8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صفوف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 </a:t>
            </a:r>
            <a:r>
              <a:rPr b="1" lang="ar-SA" sz="2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وهي ذات متغيرات متعددة)</a:t>
            </a:r>
            <a:r>
              <a:rPr b="1" lang="en-US" sz="1600" spc="-1" strike="noStrike">
                <a:solidFill>
                  <a:srgbClr val="af9738"/>
                </a:solidFill>
                <a:latin typeface="AYM Wadiy S_U normal."/>
                <a:ea typeface="PT Bold Heading"/>
              </a:rPr>
              <a:t>)</a:t>
            </a: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عادلة المعرفة</a:t>
            </a:r>
            <a:endParaRPr b="0" lang="en-US" sz="37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عرفة = المعلومات (الخبرة 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هارات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 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اتجاه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CBBF-D1A1-4010-8771-A96991E28D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وسيلة شرح مستطيلة مستديرة الزوايا 2"/>
          <p:cNvSpPr/>
          <p:nvPr/>
        </p:nvSpPr>
        <p:spPr>
          <a:xfrm>
            <a:off x="7696080" y="3505320"/>
            <a:ext cx="2057400" cy="2133360"/>
          </a:xfrm>
          <a:prstGeom prst="wedgeRoundRectCallout">
            <a:avLst>
              <a:gd name="adj1" fmla="val -57888"/>
              <a:gd name="adj2" fmla="val -71004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تي يمكن تدوينها بصورة فعلية بواسطة الفرد في وظيفته، والمعبر عنها بلغة مفهومة والتي تم أحرازها وفهمها فهماً كامل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وسيلة شرح مع سهم إلى الأعلى 5"/>
          <p:cNvSpPr/>
          <p:nvPr/>
        </p:nvSpPr>
        <p:spPr>
          <a:xfrm>
            <a:off x="5867280" y="2209680"/>
            <a:ext cx="1828800" cy="838440"/>
          </a:xfrm>
          <a:prstGeom prst="upArrowCallout">
            <a:avLst>
              <a:gd name="adj1" fmla="val 24985"/>
              <a:gd name="adj2" fmla="val 24993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وسيلة شرح مستطيلة مستديرة الزوايا 10"/>
          <p:cNvSpPr/>
          <p:nvPr/>
        </p:nvSpPr>
        <p:spPr>
          <a:xfrm>
            <a:off x="4952880" y="3505320"/>
            <a:ext cx="2057400" cy="2133360"/>
          </a:xfrm>
          <a:prstGeom prst="wedgeRoundRectCallout">
            <a:avLst>
              <a:gd name="adj1" fmla="val -46990"/>
              <a:gd name="adj2" fmla="val -10698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متحصل عليها من خلال الاكتشاف أو الملاحظ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وسيلة شرح مستطيلة مستديرة الزوايا 11"/>
          <p:cNvSpPr/>
          <p:nvPr/>
        </p:nvSpPr>
        <p:spPr>
          <a:xfrm>
            <a:off x="2590920" y="3505320"/>
            <a:ext cx="2057400" cy="2133360"/>
          </a:xfrm>
          <a:prstGeom prst="wedgeRoundRectCallout">
            <a:avLst>
              <a:gd name="adj1" fmla="val -31893"/>
              <a:gd name="adj2" fmla="val -109819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براعة اليدوية والعقلية، والقدرات 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وسيلة شرح مستطيلة مستديرة الزوايا 12"/>
          <p:cNvSpPr/>
          <p:nvPr/>
        </p:nvSpPr>
        <p:spPr>
          <a:xfrm>
            <a:off x="304920" y="3513240"/>
            <a:ext cx="2057400" cy="2133360"/>
          </a:xfrm>
          <a:prstGeom prst="wedgeRoundRectCallout">
            <a:avLst>
              <a:gd name="adj1" fmla="val -9671"/>
              <a:gd name="adj2" fmla="val -10860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هي التصرفات التي يتميز بها الفرد في المواقف الخاصة والتي تنشأ من الافتراضات الأساسية والعبادات والقيم التي يؤمن ب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وسيلة شرح مع سهم إلى الأعلى 9"/>
          <p:cNvSpPr/>
          <p:nvPr/>
        </p:nvSpPr>
        <p:spPr>
          <a:xfrm>
            <a:off x="838080" y="2209680"/>
            <a:ext cx="4876920" cy="83844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 ( الكامن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سلسلة القيمة للمعرفة من خصائص المنظمات كثيفة المعرفة، لأنها تعتبر جزءًا ضرورياً من عملية صناعة المعرفة          ( أنظر الشكل التالي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F136-3E1D-43AB-B6D4-0F7EC810D2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مهلة 3"/>
          <p:cNvSpPr/>
          <p:nvPr/>
        </p:nvSpPr>
        <p:spPr>
          <a:xfrm>
            <a:off x="838080" y="3200400"/>
            <a:ext cx="145440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ؤ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استراتي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خماسي 4"/>
          <p:cNvSpPr/>
          <p:nvPr/>
        </p:nvSpPr>
        <p:spPr>
          <a:xfrm>
            <a:off x="2282760" y="3200400"/>
            <a:ext cx="2822760" cy="14479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0" y="0"/>
                </a:lnTo>
                <a:lnTo>
                  <a:pt x="21600" y="10800"/>
                </a:lnTo>
                <a:lnTo>
                  <a:pt x="160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وي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وضيح المخزون المتاح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حديد الاحتياجات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خماسي 8"/>
          <p:cNvSpPr/>
          <p:nvPr/>
        </p:nvSpPr>
        <p:spPr>
          <a:xfrm>
            <a:off x="4626000" y="3200400"/>
            <a:ext cx="2155680" cy="144792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نش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PT Bold Heading"/>
              </a:rPr>
              <a:t>(انتقا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مشارك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خماسي 9"/>
          <p:cNvSpPr/>
          <p:nvPr/>
        </p:nvSpPr>
        <p:spPr>
          <a:xfrm>
            <a:off x="6324480" y="3200400"/>
            <a:ext cx="1986120" cy="144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27" y="0"/>
                </a:lnTo>
                <a:lnTo>
                  <a:pt x="21600" y="10800"/>
                </a:lnTo>
                <a:lnTo>
                  <a:pt x="137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بيق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خطط انسيابي: مهلة 10"/>
          <p:cNvSpPr/>
          <p:nvPr/>
        </p:nvSpPr>
        <p:spPr>
          <a:xfrm>
            <a:off x="7918560" y="3200400"/>
            <a:ext cx="145404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ق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رابط بشكل مرفق 6"/>
          <p:cNvCxnSpPr/>
          <p:nvPr/>
        </p:nvCxnSpPr>
        <p:spPr>
          <a:xfrm flipH="1">
            <a:off x="612000" y="3924000"/>
            <a:ext cx="8769960" cy="1486440"/>
          </a:xfrm>
          <a:prstGeom prst="bentConnector3">
            <a:avLst>
              <a:gd name="adj1" fmla="val -2602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5" name="رابط بشكل مرفق 12"/>
          <p:cNvCxnSpPr/>
          <p:nvPr/>
        </p:nvCxnSpPr>
        <p:spPr>
          <a:xfrm flipH="1" flipV="1" rot="5400000">
            <a:off x="39960" y="4609440"/>
            <a:ext cx="1372320" cy="229320"/>
          </a:xfrm>
          <a:prstGeom prst="bentConnector3">
            <a:avLst>
              <a:gd name="adj1" fmla="val 100918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ما لا شك فيه أن أي نمط من أنماط إدارة المعرفة يبحث في سلسلة القي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للمعرفة ينبغي أن يبنى على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نصرين هامين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مان أن العمالة ذات القيمة العالية للمعرفة ليس لديهم الرغبة في ترك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نظ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رورة التأكد من أن المعرفة الضمنية والمتوفرة بكثرة يمكن توضيحها من خلال العملية التجسيدية، وإمكانية الوصول إليها عن طريق المنظمة مثل المعلومات تماماً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تحديد 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مقياس لنشاط سلسلة القيمة للمعرفة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ي أي مجال تمتلك المنظمة معرفة أفضل أكثر من منافسيها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دليل/ قاعدة بيانات على الحاسب الآلي لتوضيح أين تتوافر المعرفة في منظمتن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AA1-4673-4B57-83BC-7070F88E8C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نشطة 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حاجة ل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أنواع المعرفة الضرورية لتحقيق استراتيجية الش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عمليات ذات إجراءات منت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معرفة المتاحة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المجالات لديها معرفة أفضل من المنافس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وفر دليل وقواعد بيانات على الحاسب وأين ه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طوير ا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عاملين هم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إجراءات رسمية لتطوير المعرفة مثل برامج التطوير والتدري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مكانية توفير المعرفة من الخارج في حالة الحاجة إلى ذلك بغض النظر عن التك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العمليات الوظيفية لسلسلة القيمة للمعرفة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4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93560" y="1573200"/>
            <a:ext cx="8918640" cy="46324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61F-AEC5-40AE-956D-506BC94DEA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صفوف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مصفوفة المعرفة أحد الوسائل التي تساعد المنظمة على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صنيف المعرف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إمكانية اكتشاف فجوة المعرفة ( الفرق السالب بين المستوى الفعلي والمستوى المرغوب فيه من المعرفة)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تكون مصفوفة المعرفة من عنصرين أساسيين 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معرفي. ( توصيف محدد للمعرفة في ضوء الرسالة والرؤية والأهداف والإستراتيج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وظيفي.( الربط بين مجالات المعرفة والعنصر البشري وعنصر الموهبة البش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59:17Z</dcterms:modified>
  <cp:revision>136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