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A1FF9-29E6-4C85-935C-FEFAC5DBB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D08B0-6E87-4DC3-83E5-4BF7720B4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718BD-EE02-41FD-855C-64816C65B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BDE69-B9D6-4A34-8836-CF72686AA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A69A-35AC-4FCC-90C2-547A56D86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CAE72-3BD6-4132-91F9-A38ADEB246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2B32B-C764-40C0-BAFA-0C1B097A59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0A54F-1F5D-4591-A7F7-977C82E29C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CA014-FBA2-4CBA-A395-97133CAA96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2FD04-62A6-4A15-820F-D13C834CDB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20A2-CDC1-4471-A47B-B7521D6D11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C8C03-2144-47F4-AEED-8E0670021A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EC50D-411A-42EB-8BFF-F649487210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66244-19DC-479E-B8F3-9FF4CE1063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8825F-7DB2-483E-935B-4F83BEF9C0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C6CFE-CBC0-4F6B-BB78-76C6EA9474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1E62E-63BD-4C95-9945-A56150393E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2FCC6-4079-408B-8921-97BDD6101F1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FB37-CF19-466F-AACC-22DE15B31D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50F8-905E-4F63-AD76-3195B22BD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5497E-1B06-4AEC-80F2-5333461B3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9A93-98B9-460F-BFA3-D38510E81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7BA2-2094-4047-8293-2B229A0AC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5824-7D07-4BA6-BB44-E267E4153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52B5-3722-42A1-9F33-C2F516529BBF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627F-D5AA-4861-9DA8-3B5F774EA531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CD5F-EADA-43AA-A1AE-EEFE63FA9083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2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0A31-5AAF-43EC-879C-DAE422FA70D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8DE5-9D32-474E-B062-C904AD3BE2A9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41008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D74D-6E34-4242-AACE-E0233513444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ubtitle 2"/>
          <p:cNvSpPr/>
          <p:nvPr/>
        </p:nvSpPr>
        <p:spPr>
          <a:xfrm>
            <a:off x="5823000" y="4648320"/>
            <a:ext cx="408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20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57200" y="2971800"/>
            <a:ext cx="5099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FD94-9D4B-4859-9C26-7E86C955F36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شكل يبين مصفوفة فارغ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95360" y="1905120"/>
          <a:ext cx="8915400" cy="3504960"/>
        </p:xfrm>
        <a:graphic>
          <a:graphicData uri="http://schemas.openxmlformats.org/drawingml/2006/table">
            <a:tbl>
              <a:tblPr/>
              <a:tblGrid>
                <a:gridCol w="2582640"/>
                <a:gridCol w="2652840"/>
                <a:gridCol w="3679920"/>
              </a:tblGrid>
              <a:tr h="1556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000" spc="-1" strike="noStrike">
                          <a:solidFill>
                            <a:srgbClr val="ff0000"/>
                          </a:solidFill>
                          <a:latin typeface="Calibri"/>
                          <a:cs typeface="PT Bold Heading"/>
                        </a:rPr>
                        <a:t>المجالات الوظيفية لحاملي المعرف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منظم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  <a:ea typeface="PT Bold Heading"/>
                        </a:rPr>
                        <a:t>(وحدة تنظيمية رقم </a:t>
                      </a: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  <a:ea typeface="PT Bold Heading"/>
                        </a:rPr>
                        <a:t>1</a:t>
                      </a: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  <a:ea typeface="PT Bold Heading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جال الوظيفي الث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جال الوظيفي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أو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4000" spc="-1" strike="noStrike">
                          <a:solidFill>
                            <a:srgbClr val="ff0000"/>
                          </a:solidFill>
                          <a:latin typeface="Calibri"/>
                          <a:cs typeface="PT Bold Heading"/>
                        </a:rPr>
                        <a:t>المجال المعرفي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جال معرفي رقم 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جال معرفي رقم 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جال معرفي رقم 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sp>
        <p:nvSpPr>
          <p:cNvPr id="248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F240-F7C6-4BBD-9367-56CAFDF3321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مثال تطبيقي على: وظيفة سك العملة</a:t>
            </a:r>
            <a:r>
              <a:rPr b="0" lang="ar-SA" sz="4400" spc="-1" strike="noStrike">
                <a:solidFill>
                  <a:srgbClr val="af9738"/>
                </a:solidFill>
                <a:latin typeface="Calibri"/>
                <a:ea typeface="PT Bold Heading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28600" y="1087560"/>
          <a:ext cx="9310680" cy="4703760"/>
        </p:xfrm>
        <a:graphic>
          <a:graphicData uri="http://schemas.openxmlformats.org/drawingml/2006/table">
            <a:tbl>
              <a:tblPr/>
              <a:tblGrid>
                <a:gridCol w="957240"/>
                <a:gridCol w="766800"/>
                <a:gridCol w="779400"/>
                <a:gridCol w="766800"/>
                <a:gridCol w="777960"/>
                <a:gridCol w="836640"/>
                <a:gridCol w="779400"/>
                <a:gridCol w="836640"/>
                <a:gridCol w="777960"/>
                <a:gridCol w="838080"/>
                <a:gridCol w="1193760"/>
              </a:tblGrid>
              <a:tr h="578520"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حسن (م أسطوان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علي ( مدرب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حمود ( مدرب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حمد ( م المدير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أحمد ( المدي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جال الوظي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جال المعر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لم المعاد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أسطوان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فر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طلا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تروس الطلا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عاي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تبريد الخام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جم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توس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518040"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توسط الفجو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</a:tr>
            </a:tbl>
          </a:graphicData>
        </a:graphic>
      </p:graphicFrame>
      <p:sp>
        <p:nvSpPr>
          <p:cNvPr id="251" name="عنوان 3"/>
          <p:cNvSpPr/>
          <p:nvPr/>
        </p:nvSpPr>
        <p:spPr>
          <a:xfrm>
            <a:off x="1219320" y="571500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af9738"/>
                </a:solidFill>
                <a:latin typeface="Calibri"/>
                <a:cs typeface="PT Bold Heading"/>
              </a:rPr>
              <a:t>المتوسط العام للمستوى الفعلي = </a:t>
            </a:r>
            <a:r>
              <a:rPr b="0" lang="ar-SA" sz="1800" spc="-1" strike="noStrike">
                <a:solidFill>
                  <a:srgbClr val="af9738"/>
                </a:solidFill>
                <a:latin typeface="Calibri"/>
                <a:ea typeface="PT Bold Heading"/>
              </a:rPr>
              <a:t>24.12</a:t>
            </a:r>
            <a:r>
              <a:rPr b="0" lang="ar-SA" sz="1800" spc="-1" strike="noStrike">
                <a:solidFill>
                  <a:srgbClr val="af9738"/>
                </a:solidFill>
                <a:latin typeface="Calibri"/>
                <a:ea typeface="PT Bold Heading"/>
              </a:rPr>
              <a:t>   </a:t>
            </a:r>
            <a:r>
              <a:rPr b="0" lang="ar-SA" sz="1800" spc="-1" strike="noStrike">
                <a:solidFill>
                  <a:srgbClr val="af9738"/>
                </a:solidFill>
                <a:latin typeface="Arial"/>
                <a:cs typeface="PT Bold Heading"/>
              </a:rPr>
              <a:t>المتوسط العام للمستوى المرغوب = </a:t>
            </a:r>
            <a:r>
              <a:rPr b="0" lang="ar-SA" sz="1800" spc="-1" strike="noStrike">
                <a:solidFill>
                  <a:srgbClr val="af9738"/>
                </a:solidFill>
                <a:latin typeface="Arial"/>
                <a:ea typeface="PT Bold Heading"/>
              </a:rPr>
              <a:t>31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فجوة المعرفة =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4.12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31.26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= -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7.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= -0.43- 1.14 – 1.85 – 2.43 – 1.29= -7.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                                 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فجوة المعرف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توسط الفجوة المعرفية = ـــــــــــــــــــــــــــــــــ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                         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عدد المجالات المعرفية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                                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7.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توسط الفجوة المعرفية = ـــــــــــــــــــــــــ = -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.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                                    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7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95000" y="15238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تم الحصول على أرقام المصفوفة من خلا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يحدد حاملي المعرفة المستويات الحالية من المعرفة لكل مجال معرفي وذلك لكل زمي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عقد جلسات جماعية للمناقشة بين العاملين ليعرض كل فرد رأيه في المقادير، ويمكن استخدام طريقة الاختبار العشوائي للتأكد من المقادي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بنفس الطريقة التي تم تحديد المستويات الحالية للمعرفة يتم تحديد المستويات المرغوب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توضح مصفوفة المعرفة ثلاثة عناصر يمكن قياسها بصورة كمية بالمنظمة هي</a:t>
            </a:r>
            <a:r>
              <a:rPr b="0" lang="ar-SA" sz="4400" spc="-1" strike="noStrike">
                <a:solidFill>
                  <a:srgbClr val="af9738"/>
                </a:solidFill>
                <a:latin typeface="Calibri"/>
                <a:ea typeface="PT Bold Heading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28240" y="1371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ستوى الطموح لكل مجال وظيفي لكل عامل. فيحدد كل عام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حتياجات التدريس والتعلم لكل عضو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إن يكون لكل عضو بالمنظمة برنامج لتطوير موهبت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حديد مستوى الطموح ككل ، وفجوة المعرفة في المجال الوظيفي المحدد عن طريق متوسط المقادير لكل العاملي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توسط فجوة المعرفة لكل مجال معرف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غطية الطموح المعرفي. وهو مؤشر للأداء يقيس إلى أي مدى تقابل الوظيفة مستوى الطموح، وهنا ثلاث احتمالات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ستوى الحالي &gt; المستوى المرغوب وهنا لا توجد فجوة للمعرف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ستوى الحالي = المستوى المرغوب : وهنا الفجوة صف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ستوى الحالي &lt; المستوى المرغوب، والفرق يمثل فجوة المعرف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معادلة تغطية الطموح المعرفي ( ت ط م )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53d75"/>
                </a:solidFill>
                <a:latin typeface="Calibri"/>
                <a:ea typeface="PT Bold Heading"/>
              </a:rPr>
              <a:t>                                                     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متوسط فجوة المعرف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53d75"/>
                </a:solidFill>
                <a:latin typeface="Calibri"/>
                <a:cs typeface="PT Bold Heading"/>
              </a:rPr>
              <a:t>تغطية الطموح المعرفي =   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+ ( ـــــــــــــــــــــ )   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</a:rPr>
              <a:t>×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 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        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                                              </a:t>
            </a:r>
            <a:r>
              <a:rPr b="0" lang="ar-SA" sz="2000" spc="-1" strike="noStrike">
                <a:solidFill>
                  <a:srgbClr val="253d75"/>
                </a:solidFill>
                <a:latin typeface="Calibri"/>
                <a:cs typeface="PT Bold Heading"/>
              </a:rPr>
              <a:t>متوسط مستوى الطمو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وهناك نميز بين اثنين من تغطية الطموح المعرفي هما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1- 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الأداء الكلي للإدارة.  ونستخدم فيه كل فجوات المعرفة ( عادةً ما تكون صفر أو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اقل) ونستخدم فيه أيضاً كل مستويات المعرفة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2- 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نستخدم تغطية الطموح المعرفي فقط في أحد المجالات فقط إن كان فيها فجوة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قوس متوسط أيمن 5"/>
          <p:cNvSpPr/>
          <p:nvPr/>
        </p:nvSpPr>
        <p:spPr>
          <a:xfrm>
            <a:off x="5334120" y="1676520"/>
            <a:ext cx="457200" cy="1676160"/>
          </a:xfrm>
          <a:custGeom>
            <a:avLst/>
            <a:gdLst>
              <a:gd name="textAreaLeft" fmla="*/ 0 w 457200"/>
              <a:gd name="textAreaRight" fmla="*/ 320760 w 457200"/>
              <a:gd name="textAreaTop" fmla="*/ 18720 h 1676160"/>
              <a:gd name="textAreaBottom" fmla="*/ 165744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46"/>
                  <a:pt x="21600" y="491"/>
                </a:cubicBezTo>
                <a:lnTo>
                  <a:pt x="21600" y="21109"/>
                </a:lnTo>
                <a:cubicBezTo>
                  <a:pt x="21600" y="21355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قوس متوسط أيسر 6"/>
          <p:cNvSpPr/>
          <p:nvPr/>
        </p:nvSpPr>
        <p:spPr>
          <a:xfrm>
            <a:off x="2209680" y="1676520"/>
            <a:ext cx="381240" cy="1600200"/>
          </a:xfrm>
          <a:custGeom>
            <a:avLst/>
            <a:gdLst>
              <a:gd name="textAreaLeft" fmla="*/ 111960 w 381240"/>
              <a:gd name="textAreaRight" fmla="*/ 381600 w 381240"/>
              <a:gd name="textAreaTop" fmla="*/ 15840 h 1600200"/>
              <a:gd name="textAreaBottom" fmla="*/ 15843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5"/>
                  <a:pt x="0" y="429"/>
                </a:cubicBezTo>
                <a:lnTo>
                  <a:pt x="0" y="21171"/>
                </a:lnTo>
                <a:cubicBezTo>
                  <a:pt x="0" y="21386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تطبيق على مثال سك العمل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تغطية الطموح المعرفي للمجال الأول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PT Bold Heading"/>
              </a:rPr>
              <a:t>ت ط م 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 = {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+(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4.57/0.43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}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×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=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90.59%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من مستوى الطموح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4.5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تغطية الطموح للمجال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PT Bold Heading"/>
              </a:rPr>
              <a:t>ت ط م 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 = {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+(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6.28/1.14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}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×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81.84%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في مستوى الطموح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6.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وهكذا بقية المجال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تغطية الطموح المعرفي في الأداء الكلي للإدار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PT Bold Heading"/>
              </a:rPr>
              <a:t>ت ط م للأداء الكلي = {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+(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6.25/1.02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}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×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=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83.68%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في مستوى الطموح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6.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3622-3D79-41F2-99F2-3D5D97F679F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عنوان 1"/>
          <p:cNvSpPr/>
          <p:nvPr/>
        </p:nvSpPr>
        <p:spPr>
          <a:xfrm>
            <a:off x="838080" y="54936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عنصر نائب للمحتوى 2"/>
          <p:cNvSpPr/>
          <p:nvPr/>
        </p:nvSpPr>
        <p:spPr>
          <a:xfrm>
            <a:off x="102060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0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Group 5" descr=""/>
          <p:cNvPicPr/>
          <p:nvPr/>
        </p:nvPicPr>
        <p:blipFill>
          <a:blip r:embed="rId1"/>
          <a:stretch/>
        </p:blipFill>
        <p:spPr>
          <a:xfrm>
            <a:off x="6377040" y="1889280"/>
            <a:ext cx="2786040" cy="27064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6A61-BB54-4AE1-BC63-5C92DD53EF5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4"/>
          <p:cNvSpPr/>
          <p:nvPr/>
        </p:nvSpPr>
        <p:spPr>
          <a:xfrm>
            <a:off x="685800" y="2340000"/>
            <a:ext cx="8420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سلسلة القيمة للمعرف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مصفوفة المعرف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4"/>
          <p:cNvSpPr/>
          <p:nvPr/>
        </p:nvSpPr>
        <p:spPr>
          <a:xfrm>
            <a:off x="1463760" y="41911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حاضرة السابع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756525"/>
                </a:solidFill>
                <a:latin typeface="AYM Wadiy S_U normal."/>
                <a:ea typeface="PT Bold Heading"/>
              </a:rPr>
              <a:t>  </a:t>
            </a:r>
            <a:r>
              <a:rPr b="1" lang="ar-SA" sz="2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وهي ذات متغيرات متعددة)</a:t>
            </a:r>
            <a:r>
              <a:rPr b="1" lang="en-US" sz="1600" spc="-1" strike="noStrike">
                <a:solidFill>
                  <a:srgbClr val="af9738"/>
                </a:solidFill>
                <a:latin typeface="AYM Wadiy S_U normal."/>
                <a:ea typeface="PT Bold Heading"/>
              </a:rPr>
              <a:t>)</a:t>
            </a:r>
            <a:r>
              <a:rPr b="1" lang="en-US" sz="3700" spc="-1" strike="noStrike">
                <a:solidFill>
                  <a:srgbClr val="756525"/>
                </a:solidFill>
                <a:latin typeface="AYM Wadiy S_U normal."/>
                <a:ea typeface="PT Bold Heading"/>
              </a:rPr>
              <a:t> </a:t>
            </a: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ea typeface="PT Bold Heading"/>
              </a:rPr>
              <a:t> </a:t>
            </a:r>
            <a:r>
              <a:rPr b="1" lang="ar-SA" sz="37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معادلة المعرفة</a:t>
            </a:r>
            <a:endParaRPr b="0" lang="en-US" sz="37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عرفة = المعلومات (الخبرة </a:t>
            </a:r>
            <a:r>
              <a:rPr b="1" lang="ar-SA" sz="4400" spc="-1" strike="noStrike">
                <a:solidFill>
                  <a:srgbClr val="376092"/>
                </a:solidFill>
                <a:latin typeface="ae_AlMateen"/>
              </a:rPr>
              <a:t>×</a:t>
            </a: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هارات</a:t>
            </a:r>
            <a:r>
              <a:rPr b="1" lang="ar-SA" sz="4400" spc="-1" strike="noStrike">
                <a:solidFill>
                  <a:srgbClr val="376092"/>
                </a:solidFill>
                <a:latin typeface="ae_AlMateen"/>
              </a:rPr>
              <a:t> ×</a:t>
            </a:r>
            <a:r>
              <a:rPr b="0" lang="ar-SA" sz="4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لاتجاه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C38C-1565-4069-879D-C1F2C43E07C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وسيلة شرح مستطيلة مستديرة الزوايا 2"/>
          <p:cNvSpPr/>
          <p:nvPr/>
        </p:nvSpPr>
        <p:spPr>
          <a:xfrm>
            <a:off x="7696080" y="3505320"/>
            <a:ext cx="2057400" cy="2133360"/>
          </a:xfrm>
          <a:prstGeom prst="wedgeRoundRectCallout">
            <a:avLst>
              <a:gd name="adj1" fmla="val -57888"/>
              <a:gd name="adj2" fmla="val -71004"/>
              <a:gd name="adj3" fmla="val 16667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PT Bold Heading"/>
              </a:rPr>
              <a:t>وهي المعرفة التي يمكن تدوينها بصورة فعلية بواسطة الفرد في وظيفته، والمعبر عنها بلغة مفهومة والتي تم أحرازها وفهمها فهماً كاملا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وسيلة شرح مع سهم إلى الأعلى 5"/>
          <p:cNvSpPr/>
          <p:nvPr/>
        </p:nvSpPr>
        <p:spPr>
          <a:xfrm>
            <a:off x="5867280" y="2209680"/>
            <a:ext cx="1828800" cy="838440"/>
          </a:xfrm>
          <a:prstGeom prst="upArrowCallout">
            <a:avLst>
              <a:gd name="adj1" fmla="val 24985"/>
              <a:gd name="adj2" fmla="val 24993"/>
              <a:gd name="adj3" fmla="val 25000"/>
              <a:gd name="adj4" fmla="val 7004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معرفة الصريح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وسيلة شرح مستطيلة مستديرة الزوايا 10"/>
          <p:cNvSpPr/>
          <p:nvPr/>
        </p:nvSpPr>
        <p:spPr>
          <a:xfrm>
            <a:off x="4952880" y="3505320"/>
            <a:ext cx="2057400" cy="2133360"/>
          </a:xfrm>
          <a:prstGeom prst="wedgeRoundRectCallout">
            <a:avLst>
              <a:gd name="adj1" fmla="val -46990"/>
              <a:gd name="adj2" fmla="val -106986"/>
              <a:gd name="adj3" fmla="val 16667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وهي المعرفة المتحصل عليها من خلال الاكتشاف أو الملاحظ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وسيلة شرح مستطيلة مستديرة الزوايا 11"/>
          <p:cNvSpPr/>
          <p:nvPr/>
        </p:nvSpPr>
        <p:spPr>
          <a:xfrm>
            <a:off x="2590920" y="3505320"/>
            <a:ext cx="2057400" cy="2133360"/>
          </a:xfrm>
          <a:prstGeom prst="wedgeRoundRectCallout">
            <a:avLst>
              <a:gd name="adj1" fmla="val -31893"/>
              <a:gd name="adj2" fmla="val -109819"/>
              <a:gd name="adj3" fmla="val 16667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وهي البراعة اليدوية والعقلية، والقدرات المختل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وسيلة شرح مستطيلة مستديرة الزوايا 12"/>
          <p:cNvSpPr/>
          <p:nvPr/>
        </p:nvSpPr>
        <p:spPr>
          <a:xfrm>
            <a:off x="304920" y="3513240"/>
            <a:ext cx="2057400" cy="2133360"/>
          </a:xfrm>
          <a:prstGeom prst="wedgeRoundRectCallout">
            <a:avLst>
              <a:gd name="adj1" fmla="val -9671"/>
              <a:gd name="adj2" fmla="val -108606"/>
              <a:gd name="adj3" fmla="val 16667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هي التصرفات التي يتميز بها الفرد في المواقف الخاصة والتي تنشأ من الافتراضات الأساسية والعبادات والقيم التي يؤمن به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وسيلة شرح مع سهم إلى الأعلى 9"/>
          <p:cNvSpPr/>
          <p:nvPr/>
        </p:nvSpPr>
        <p:spPr>
          <a:xfrm>
            <a:off x="838080" y="2209680"/>
            <a:ext cx="4876920" cy="838440"/>
          </a:xfrm>
          <a:prstGeom prst="upArrowCallout">
            <a:avLst>
              <a:gd name="adj1" fmla="val 24992"/>
              <a:gd name="adj2" fmla="val 24990"/>
              <a:gd name="adj3" fmla="val 25000"/>
              <a:gd name="adj4" fmla="val 7004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معرفة الضمنية ( الكامن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سلسلة القيمة ل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عتبر سلسلة القيمة للمعرفة من خصائص المنظمات كثيفة المعرفة، لأنها تعتبر جزءًا ضرورياً من عملية صناعة المعرفة          ( أنظر الشكل التالي)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9A24-267A-4565-AD22-65E02CA3545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مخطط انسيابي: مهلة 3"/>
          <p:cNvSpPr/>
          <p:nvPr/>
        </p:nvSpPr>
        <p:spPr>
          <a:xfrm>
            <a:off x="838080" y="3200400"/>
            <a:ext cx="1454400" cy="1447920"/>
          </a:xfrm>
          <a:prstGeom prst="flowChartDelay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رسا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رؤ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أهدا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استراتيج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خماسي 4"/>
          <p:cNvSpPr/>
          <p:nvPr/>
        </p:nvSpPr>
        <p:spPr>
          <a:xfrm>
            <a:off x="2282760" y="3200400"/>
            <a:ext cx="2822760" cy="1447920"/>
          </a:xfrm>
          <a:custGeom>
            <a:avLst/>
            <a:gdLst>
              <a:gd name="textAreaLeft" fmla="*/ 0 w 2822760"/>
              <a:gd name="textAreaRight" fmla="*/ 2823120 w 28227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60" y="0"/>
                </a:lnTo>
                <a:lnTo>
                  <a:pt x="21600" y="10800"/>
                </a:lnTo>
                <a:lnTo>
                  <a:pt x="1606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تطوير 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PT Bold Heading"/>
              </a:rPr>
              <a:t>(توضيح المخزون المتاح من المعرف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PT Bold Heading"/>
              </a:rPr>
              <a:t>(تحديد الاحتياجات من المعرف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خماسي 8"/>
          <p:cNvSpPr/>
          <p:nvPr/>
        </p:nvSpPr>
        <p:spPr>
          <a:xfrm>
            <a:off x="4626000" y="3200400"/>
            <a:ext cx="2155680" cy="144792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347" y="0"/>
                </a:lnTo>
                <a:lnTo>
                  <a:pt x="21600" y="10800"/>
                </a:lnTo>
                <a:lnTo>
                  <a:pt x="1434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نشر 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PT Bold Heading"/>
              </a:rPr>
              <a:t>(انتقا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PT Bold Heading"/>
              </a:rPr>
              <a:t>(مشارك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خماسي 9"/>
          <p:cNvSpPr/>
          <p:nvPr/>
        </p:nvSpPr>
        <p:spPr>
          <a:xfrm>
            <a:off x="6324480" y="3200400"/>
            <a:ext cx="1986120" cy="1447920"/>
          </a:xfrm>
          <a:custGeom>
            <a:avLst/>
            <a:gdLst>
              <a:gd name="textAreaLeft" fmla="*/ 0 w 1986120"/>
              <a:gd name="textAreaRight" fmla="*/ 1986480 w 19861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727" y="0"/>
                </a:lnTo>
                <a:lnTo>
                  <a:pt x="21600" y="10800"/>
                </a:lnTo>
                <a:lnTo>
                  <a:pt x="1372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تطبيق 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مخطط انسيابي: مهلة 10"/>
          <p:cNvSpPr/>
          <p:nvPr/>
        </p:nvSpPr>
        <p:spPr>
          <a:xfrm>
            <a:off x="7918560" y="3200400"/>
            <a:ext cx="1454040" cy="1447920"/>
          </a:xfrm>
          <a:prstGeom prst="flowChartDelay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تقيي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وتقدي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رابط بشكل مرفق 6"/>
          <p:cNvCxnSpPr/>
          <p:nvPr/>
        </p:nvCxnSpPr>
        <p:spPr>
          <a:xfrm flipH="1">
            <a:off x="612000" y="3924000"/>
            <a:ext cx="8769960" cy="1486440"/>
          </a:xfrm>
          <a:prstGeom prst="bentConnector3">
            <a:avLst>
              <a:gd name="adj1" fmla="val -2602"/>
            </a:avLst>
          </a:prstGeom>
          <a:ln w="38160">
            <a:solidFill>
              <a:srgbClr val="ceb966"/>
            </a:solidFill>
            <a:miter/>
            <a:tailEnd len="med" type="arrow" w="med"/>
          </a:ln>
        </p:spPr>
      </p:cxnSp>
      <p:cxnSp>
        <p:nvCxnSpPr>
          <p:cNvPr id="235" name="رابط بشكل مرفق 12"/>
          <p:cNvCxnSpPr/>
          <p:nvPr/>
        </p:nvCxnSpPr>
        <p:spPr>
          <a:xfrm flipH="1" flipV="1" rot="5400000">
            <a:off x="39960" y="4609440"/>
            <a:ext cx="1372320" cy="229320"/>
          </a:xfrm>
          <a:prstGeom prst="bentConnector3">
            <a:avLst>
              <a:gd name="adj1" fmla="val 100918"/>
            </a:avLst>
          </a:prstGeom>
          <a:ln w="38160">
            <a:solidFill>
              <a:srgbClr val="ceb9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مما لا شك فيه أن أي نمط من أنماط إدارة المعرفة يبحث في سلسلة القيمة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للمعرفة ينبغي أن يبنى على </a:t>
            </a:r>
            <a:r>
              <a:rPr b="0" lang="ar-SA" sz="24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عنصرين هامين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هما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-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ضمان أن العمالة ذات القيمة العالية للمعرفة ليس لديهم الرغبة في ترك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نظمة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-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ضرورة التأكد من أن المعرفة الضمنية والمتوفرة بكثرة يمكن توضيحها من خلال العملية التجسيدية، وإمكانية الوصول إليها عن طريق المنظمة مثل المعلومات تماماً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مكن تحديد </a:t>
            </a:r>
            <a:r>
              <a:rPr b="0" lang="ar-SA" sz="32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مقياس لنشاط سلسلة القيمة للمعرفة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ن خلال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-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في أي مجال تمتلك المنظمة معرفة أفضل أكثر من منافسيها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-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متلاك دليل/ قاعدة بيانات على الحاسب الآلي لتوضيح أين تتوافر المعرفة في منظمتن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237C-3E31-409D-B623-7AC75C13EE4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أنشطة سلسلة القيمة ل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 algn="r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تحديد الحاجة للمعرفة.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تم ذلك من خلال عاملين هما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حديد أي أنواع المعرفة الضرورية لتحقيق استراتيجية الشرك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ستخدام عمليات ذات إجراءات منت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 algn="r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تحديد المعرفة المتاحة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تم ذلك من خلال عاملين هما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حديد أي المجالات لديها معرفة أفضل من المنافسي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وفر دليل وقواعد بيانات على الحاسب وأين ه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 algn="r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تطوير المعرفة.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ن خلال عاملين هم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متلاك إجراءات رسمية لتطوير المعرفة مثل برامج التطوير والتدريب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أمكانية توفير المعرفة من الخارج في حالة الحاجة إلى ذلك بغض النظر عن التكل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العمليات الوظيفية لسلسلة القيمة للمعرفة</a:t>
            </a:r>
            <a:endParaRPr b="0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242" name="عنصر نائب للمحتوى 3" descr=""/>
          <p:cNvPicPr/>
          <p:nvPr/>
        </p:nvPicPr>
        <p:blipFill>
          <a:blip r:embed="rId1"/>
          <a:stretch/>
        </p:blipFill>
        <p:spPr>
          <a:xfrm>
            <a:off x="493560" y="1573200"/>
            <a:ext cx="8918640" cy="46324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1BB1-85DD-4D27-A36C-275FCF0A9C2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مصفوفة ا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عتبر مصفوفة المعرفة أحد الوسائل التي تساعد المنظمة على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صنيف المعرفة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إمكانية اكتشاف فجوة المعرفة ( الفرق السالب بين المستوى الفعلي والمستوى المرغوب فيه من المعرفة)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تتكون مصفوفة المعرفة من عنصرين أساسيين هما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-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جال المعرفي. ( توصيف محدد للمعرفة في ضوء الرسالة والرؤية والأهداف والإستراتيجي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-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جال الوظيفي.( الربط بين مجالات المعرفة والعنصر البشري وعنصر الموهبة البشري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>مقدمة:</dc:description>
  <dc:language>en-US</dc:language>
  <cp:lastModifiedBy>Ahmad Mohmmad Alholibi</cp:lastModifiedBy>
  <dcterms:modified xsi:type="dcterms:W3CDTF">2012-09-29T08:59:17Z</dcterms:modified>
  <cp:revision>136</cp:revision>
  <dc:subject/>
  <dc:title>كليه إدارة أعما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كليه إدارة أعمال</vt:lpwstr>
  </property>
  <property fmtid="{D5CDD505-2E9C-101B-9397-08002B2CF9AE}" pid="3" name="SlideDescription">
    <vt:lpwstr>مقدمة:</vt:lpwstr>
  </property>
</Properties>
</file>