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AD94-9ACE-45ED-B4C1-8B325B665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FC41-7523-4EAC-84C4-705DC7CB1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86C3-ED53-4953-ABDD-0FEB2BC62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BD8E-9A8F-49E7-B201-ABC70F331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3DE2-2655-4C51-A044-BEC1A964B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96A8-CE02-43F5-9527-B3053BBE5F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2839-D1AF-4C6D-AB48-233031E430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A9C9-C07A-475E-AB86-084E70E929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6676-39B3-40F1-B9B6-737DBFABE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8C853-ED7F-4846-9428-17DC60B6B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0154-5329-4EB1-8BC8-2801D019CB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0FAB-5929-4A20-A853-9D807B565E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28D8-6F05-471A-9391-0B819A8FFB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DEE3-C9F6-4706-92D3-F10B9EAC7D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0B7E-7A7E-4BEF-828A-636D62AA86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3479F-5DA7-45AE-A1F3-625CDC2078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8D3D-0815-4CB6-88F2-31050634AE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9ECC-AD71-4B02-8A69-25E9CFEEE9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8EC8-635E-4B7D-B932-5591BABE53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02D1-ADEF-479E-B921-9E777DB42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6D1C-D972-4292-A418-522D47F99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D2BB-BDC4-4874-8B8F-902A95225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F95B-1662-43F2-9E2B-BA4597C09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19BC-18D0-446E-AE90-82C7DE641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0B19-2D8F-429C-AA62-281754780A8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1ED-7D87-41C3-8854-5E4359494CF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D1B-9996-4B8D-BA94-1E812F69D7D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2666-63B2-42A0-AE84-B298FEFB56B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5C60-E2FC-490C-9616-ED130C9E9CD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7DDD-3A18-45C5-8EB4-2D3A68FDDF4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4392-406A-48DB-905F-DB072E4A73F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95000" y="20574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4)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ذاتية.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عملية تحول المعرفة الواضحة إلى معرفة ضمني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فهي مرتبطة ارتباط وثيق بالتعلم من خلال الممارسة داخل المنظمة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هذه العملية عدة أشكال منها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كاة والتجري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D29-4E6F-48F4-964D-F76AA6CF2F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311C-72BA-46D6-B998-55E6B057A7D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مليات صناع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ثا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فهوم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4C57-1C17-4B85-83AB-F279F19FE33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5800" y="1600200"/>
            <a:ext cx="8686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نه عملية ذاتية ومستمرة تتجاوز الوجود المادي للحدود القديمة للنفس إلى النفس الجديدة من خلال الاستحواذ على البيئة الجديدة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وجهة نظر جديدة للمعرفة الجدي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812880" y="38862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عتبر عملية تكوين المعرفة والابتكار أمراً بالغ الأهمية حيث يضمن للمنظمة تطبيق أنواع حديثة من المعرفة بما يحفظ لها الصدارة بين منافس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عملية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مد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ملية صناعة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لى خمس مراحل أساسية ه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بحث عن معلومات جد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ختيار المعلومة المناسب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نقل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فكير ( التفكير العميق- السببية – التقيي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5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خبرة في اختبار الفهم لهذه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النظر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لعملية صناعة المعرفة واستخدمها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زاوية أخرى من خلال أربعة خطوات هي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أليف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صديق على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شاركة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خمس توجهات أولية مختلف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الاستحواذ على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البحث عن المعرفة الموجودة وفهم متطلباتها والبحث عنها في عدة مصادر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الذكاء التنافسي بين الشركات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خلق معرفة جديد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أنشطة البحوث في شركات الدواء وعملية الإبتكار في مجال الإعلان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جميع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النشر يعتبر مثال أولي لتجميع المعرفة وعمليات التصميم والطباعة وتصحيح بروفات الطباعة أعمال تراكمية للنش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طبيق المعرفة المتا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 الطبيب لا يتوقع أن يصنع الطبيب معرفة جديدة بل يطبق المعرفة الطبية المتوافر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عض المنظمات تركز على إعادة استخدام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يات تطوير المنتج من خلال المعرفة السابقة في المنظمة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نموذج صناعة المعرفة الديناميك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26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93560" y="1352520"/>
            <a:ext cx="8918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صناعة المعرفة من العناصر الخارج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مخطط انسيابي: استخراج 2"/>
          <p:cNvSpPr/>
          <p:nvPr/>
        </p:nvSpPr>
        <p:spPr>
          <a:xfrm>
            <a:off x="4114800" y="2743200"/>
            <a:ext cx="3276720" cy="2514600"/>
          </a:xfrm>
          <a:prstGeom prst="flowChartExtract">
            <a:avLst/>
          </a:prstGeom>
          <a:gradFill rotWithShape="0">
            <a:gsLst>
              <a:gs pos="0">
                <a:srgbClr val="d5ebbf"/>
              </a:gs>
              <a:gs pos="100000">
                <a:srgbClr val="f3faed"/>
              </a:gs>
            </a:gsLst>
            <a:lin ang="16200000"/>
          </a:gradFill>
          <a:ln w="9360">
            <a:solidFill>
              <a:srgbClr val="99ad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استخراج 5"/>
          <p:cNvSpPr/>
          <p:nvPr/>
        </p:nvSpPr>
        <p:spPr>
          <a:xfrm>
            <a:off x="1828800" y="2743200"/>
            <a:ext cx="3276720" cy="2514600"/>
          </a:xfrm>
          <a:prstGeom prst="flowChartExtract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وسيلة شرح على شكل سحابة 4"/>
          <p:cNvSpPr/>
          <p:nvPr/>
        </p:nvSpPr>
        <p:spPr>
          <a:xfrm>
            <a:off x="5105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وسيلة شرح على شكل سحابة 7"/>
          <p:cNvSpPr/>
          <p:nvPr/>
        </p:nvSpPr>
        <p:spPr>
          <a:xfrm>
            <a:off x="2819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عملاء/ المورد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وسيلة شرح مع سهم إلى الأعلى 8"/>
          <p:cNvSpPr/>
          <p:nvPr/>
        </p:nvSpPr>
        <p:spPr>
          <a:xfrm>
            <a:off x="3886200" y="4952880"/>
            <a:ext cx="1371600" cy="1219320"/>
          </a:xfrm>
          <a:prstGeom prst="upArrowCallout">
            <a:avLst>
              <a:gd name="adj1" fmla="val 25000"/>
              <a:gd name="adj2" fmla="val 24997"/>
              <a:gd name="adj3" fmla="val 46833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ساحة الفهم والثقة المتبادلة تتكون من خلال الخب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رابط مستقيم 10"/>
          <p:cNvSpPr/>
          <p:nvPr/>
        </p:nvSpPr>
        <p:spPr>
          <a:xfrm>
            <a:off x="685800" y="380988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ستطيل مستدير الزوايا 12"/>
          <p:cNvSpPr/>
          <p:nvPr/>
        </p:nvSpPr>
        <p:spPr>
          <a:xfrm>
            <a:off x="99072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مستطيل مستدير الزوايا 14"/>
          <p:cNvSpPr/>
          <p:nvPr/>
        </p:nvSpPr>
        <p:spPr>
          <a:xfrm>
            <a:off x="990720" y="2971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ستطيل مستدير الزوايا 15"/>
          <p:cNvSpPr/>
          <p:nvPr/>
        </p:nvSpPr>
        <p:spPr>
          <a:xfrm>
            <a:off x="274320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حاجات، المعرفة النماذج العق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مستدير الزوايا 16"/>
          <p:cNvSpPr/>
          <p:nvPr/>
        </p:nvSpPr>
        <p:spPr>
          <a:xfrm>
            <a:off x="4876920" y="411480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عرفة عن المنتجات ، الأسواق، النماذج العقل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مستدير الزوايا 17"/>
          <p:cNvSpPr/>
          <p:nvPr/>
        </p:nvSpPr>
        <p:spPr>
          <a:xfrm>
            <a:off x="3886200" y="2971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Calibri"/>
                <a:cs typeface="PT Bold Heading"/>
              </a:rPr>
              <a:t>تبادل المعرفة الواضحة من خلال  المناقشات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رابط كسهم مستقيم 18"/>
          <p:cNvCxnSpPr>
            <a:stCxn id="234" idx="3"/>
            <a:endCxn id="236" idx="1"/>
          </p:cNvCxnSpPr>
          <p:nvPr/>
        </p:nvCxnSpPr>
        <p:spPr>
          <a:xfrm>
            <a:off x="2286000" y="434304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رابط كسهم مستقيم 20"/>
          <p:cNvCxnSpPr>
            <a:endCxn id="237" idx="1"/>
          </p:cNvCxnSpPr>
          <p:nvPr/>
        </p:nvCxnSpPr>
        <p:spPr>
          <a:xfrm>
            <a:off x="4038120" y="4343040"/>
            <a:ext cx="839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رابط كسهم مستقيم 22"/>
          <p:cNvCxnSpPr>
            <a:endCxn id="238" idx="1"/>
          </p:cNvCxnSpPr>
          <p:nvPr/>
        </p:nvCxnSpPr>
        <p:spPr>
          <a:xfrm>
            <a:off x="2285640" y="3200040"/>
            <a:ext cx="160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رابط كسهم مستقيم 24"/>
          <p:cNvCxnSpPr/>
          <p:nvPr/>
        </p:nvCxnSpPr>
        <p:spPr>
          <a:xfrm flipV="1">
            <a:off x="3429000" y="3428280"/>
            <a:ext cx="2324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رابط كسهم مستقيم 26"/>
          <p:cNvCxnSpPr/>
          <p:nvPr/>
        </p:nvCxnSpPr>
        <p:spPr>
          <a:xfrm flipV="1">
            <a:off x="5715000" y="3428280"/>
            <a:ext cx="38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مربع نص 27"/>
          <p:cNvSpPr/>
          <p:nvPr/>
        </p:nvSpPr>
        <p:spPr>
          <a:xfrm>
            <a:off x="5676840" y="32767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تجسيد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28"/>
          <p:cNvSpPr/>
          <p:nvPr/>
        </p:nvSpPr>
        <p:spPr>
          <a:xfrm>
            <a:off x="7086600" y="35766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0000"/>
                </a:solidFill>
                <a:latin typeface="Arial"/>
                <a:cs typeface="PT Bold Heading"/>
              </a:rPr>
              <a:t>الحد الفاصل بين المعرفة الصريحة والمعرفة الضمنية لدى المنظمة والعناصر الخار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شكال تحول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) العملية الاجتماع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التحول من المعرفة الضمنية إلى المعرفة الضمنية أيضاً من خلال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اكتساب المهنة بصورة تقليدية من خلال قضاء الوقت في التعلم مع المعلم أكثر من اكتسابها من الدراسة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أكثر من شكل منها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راكم المعرف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 من خلال جمع المديرين للمعلومات ومشاركة الخبرة مع الموردين والعملاء والحوار والنقاش مع المنافسي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نقل المعرفة الضمن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 الإحتكاك المباشر بالخبراء والمهنيين والنقاش والشرح والأمثلة والتجارب التي ينفذو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9500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2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جسيدية. </a:t>
            </a:r>
            <a:r>
              <a:rPr b="1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ي عملية تحويل المعرفة الضمنية إلى معرفة واض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أي أن المعرفة تبلورت مثل عملية تطوير المنتج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وتأخذ هذه العملية عدة أشكال منها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 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سهيل عملية الإبداع لدى الأفراد وصانعي المعرفة بالمنظمة  واستخدام أسلوب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استثارة في مناقشة عملية صناعة المعرفة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3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وافق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تعني تحويل المعرفة الواضحة إلى معرفة واضحة ولكنها أكثر تعقيداً.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حيث يتم جمع المعرفة الواضحة من داخل وخارج المنظمة ويتم توحيدها وطباعتها وتشغيلها وتحويلها في شكل معرفة جديدة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أخذ عدة أشكال منها التركيب والتشغيل لقواعد البيانات، ومنها النشر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9:00:47Z</dcterms:modified>
  <cp:revision>130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