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38FA-71C6-4E4F-B412-7373131F4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43340-4C1B-4BDB-A321-CE6A8680E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802C-64C6-4F2A-8127-63ED0A3BC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773D-4D3A-4661-9458-9DD20548C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6A94-8040-4C62-A301-331507328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EFE39-D82E-4948-AA6F-DFBEB6E70B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62FEA-B06F-41D9-B8DF-8C3577E23C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F03F4-96DA-4CF0-9957-5D6C76C1D3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429E5-F887-4F59-8C0A-34D0B5F4A7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D10AD-FDE2-435E-9929-908C17F9F3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1F89-7244-4620-AB0C-F7F4C6959B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9AF27-FF29-48FD-B480-7764D38017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E71C6-0808-4F74-8B64-DB5DA69D34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F8F8C-BD15-4FD1-A999-4EB989AD8B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53CE1-8C41-4506-944F-8DAE048A52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2ABAD-9167-4868-91EC-F43688800D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1C562-5270-4EF8-B4A9-EBB89A8EAC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4A55B-8A99-4111-8810-813FDFEA19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A6B3-C099-4CCA-8C1C-75FE6A3F1C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48872-AE84-49EC-8B5D-35467581D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12ED-EAA3-426F-B75B-1684FE777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1F80-44ED-4641-8328-A4BCE78BC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A9F6-C002-4D8B-99DE-3E3E3CBE2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C9C0-92A2-42EB-B3E1-8AF26DC0E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EAF9-B1E6-4746-9354-A7AD8014F89C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BAC6-288F-4681-9395-D47E5F6F4502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0755-32B3-4650-98DC-21836ADF4582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2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7231-649D-4C36-958A-37BA2D9F23D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93A1-E6CD-4D91-9A70-8B30E428821C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41008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10B1-B812-4C7E-A84A-C4D63E71C59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20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57200" y="2971800"/>
            <a:ext cx="5099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3381-2B07-485D-95B9-1F28AFB16D9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95000" y="205740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r>
              <a:rPr b="0" lang="ar-SA" sz="32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(4) </a:t>
            </a:r>
            <a:r>
              <a:rPr b="0" lang="ar-SA" sz="3200" spc="-1" strike="noStrike" u="sng">
                <a:solidFill>
                  <a:srgbClr val="ff0000"/>
                </a:solidFill>
                <a:uFillTx/>
                <a:latin typeface="ae_AlMateen"/>
                <a:cs typeface="PT Bold Heading"/>
              </a:rPr>
              <a:t>العملية الذاتية.</a:t>
            </a:r>
            <a:r>
              <a:rPr b="0" lang="ar-SA" sz="32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هي عملية تحول المعرفة الواضحة إلى معرفة ضمني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فهي مرتبطة ارتباط وثيق بالتعلم من خلال الممارسة داخل المنظمة)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قد تأخذ هذه العملية عدة أشكال منها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حاكاة والتجري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1FCD-45F8-4D4A-9E18-B01664AFBD6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عنوان 1"/>
          <p:cNvSpPr/>
          <p:nvPr/>
        </p:nvSpPr>
        <p:spPr>
          <a:xfrm>
            <a:off x="83808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عنصر نائب للمحتوى 2"/>
          <p:cNvSpPr/>
          <p:nvPr/>
        </p:nvSpPr>
        <p:spPr>
          <a:xfrm>
            <a:off x="102060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0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Group 5" descr=""/>
          <p:cNvPicPr/>
          <p:nvPr/>
        </p:nvPicPr>
        <p:blipFill>
          <a:blip r:embed="rId1"/>
          <a:stretch/>
        </p:blipFill>
        <p:spPr>
          <a:xfrm>
            <a:off x="6377040" y="1889280"/>
            <a:ext cx="2786040" cy="27064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9E49-1116-4276-A034-760742EF3F4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4"/>
          <p:cNvSpPr/>
          <p:nvPr/>
        </p:nvSpPr>
        <p:spPr>
          <a:xfrm>
            <a:off x="685800" y="2340000"/>
            <a:ext cx="8420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عمليات صناعة المعرف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4"/>
          <p:cNvSpPr/>
          <p:nvPr/>
        </p:nvSpPr>
        <p:spPr>
          <a:xfrm>
            <a:off x="1463760" y="41911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حاضرة الثام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مفهوم صناعة ا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3B57-A2ED-47E5-A001-D479E5E1EE6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685800" y="1600200"/>
            <a:ext cx="86868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أنه عملية ذاتية ومستمرة تتجاوز الوجود المادي للحدود القديمة للنفس إلى النفس الجديدة من خلال الاستحواذ على البيئة الجديدة </a:t>
            </a:r>
            <a:r>
              <a:rPr b="0" lang="ar-SA" sz="24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وجهة نظر جديدة للمعرفة الجديد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812880" y="38862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تعتبر عملية تكوين المعرفة والابتكار أمراً بالغ الأهمية حيث يضمن للمنظمة تطبيق أنواع حديثة من المعرفة بما يحفظ لها الصدارة بين منافسي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عملية صناعة ا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95000" y="14475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عتمد </a:t>
            </a:r>
            <a:r>
              <a:rPr b="0" lang="ar-SA" sz="28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عملية صناعة المعرفة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على خمس مراحل أساسية هي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بحث عن معلومات جد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ختيار المعلومة المناسب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3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نقل المعلوما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4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تفكير ( التفكير العميق- السببية – التقييم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5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لخبرة في اختبار الفهم لهذه المعلوما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مكن النظر </a:t>
            </a:r>
            <a:r>
              <a:rPr b="0" lang="ar-SA" sz="28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لعملية صناعة المعرفة واستخدمها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بزاوية أخرى من خلال أربعة خطوات هي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أليف الأفكار ال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تصديق على الأفكار ال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3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شاركة الأفكار ال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4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ستخدام الأفكار ال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خمس توجهات أولية مختلفة ل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الاستحواذ على المعرفة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ن خلال البحث عن المعرفة الموجودة وفهم متطلباتها والبحث عنها في عدة مصادر </a:t>
            </a:r>
            <a:r>
              <a:rPr b="0" lang="ar-SA" sz="24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ل الذكاء التنافسي بين الشركات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خلق معرفة جديد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ل أنشطة البحوث في شركات الدواء وعملية الإبتكار في مجال الإعلان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تجميع المعرف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ال النشر يعتبر مثال أولي لتجميع المعرفة وعمليات التصميم والطباعة وتصحيح بروفات الطباعة أعمال تراكمية للنش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تطبيق المعرفة المتاح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ال عمل الطبيب لا يتوقع أن يصنع الطبيب معرفة جديدة بل يطبق المعرفة الطبية المتوافرة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ب</a:t>
            </a: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عض المنظمات تركز على إعادة استخدام المعرف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ال عمليات تطوير المنتج من خلال المعرفة السابقة في المنظمة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نموذج صناعة المعرفة الديناميكي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226" name="عنصر نائب للمحتوى 1" descr=""/>
          <p:cNvPicPr/>
          <p:nvPr/>
        </p:nvPicPr>
        <p:blipFill>
          <a:blip r:embed="rId1"/>
          <a:stretch/>
        </p:blipFill>
        <p:spPr>
          <a:xfrm>
            <a:off x="493560" y="1352520"/>
            <a:ext cx="89186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صناعة المعرفة من العناصر الخارج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8" name="مخطط انسيابي: استخراج 2"/>
          <p:cNvSpPr/>
          <p:nvPr/>
        </p:nvSpPr>
        <p:spPr>
          <a:xfrm>
            <a:off x="4114800" y="2743200"/>
            <a:ext cx="3276720" cy="2514600"/>
          </a:xfrm>
          <a:prstGeom prst="flowChartExtract">
            <a:avLst/>
          </a:prstGeom>
          <a:gradFill rotWithShape="0">
            <a:gsLst>
              <a:gs pos="0">
                <a:srgbClr val="d5ebbf"/>
              </a:gs>
              <a:gs pos="100000">
                <a:srgbClr val="f3faed"/>
              </a:gs>
            </a:gsLst>
            <a:lin ang="16200000"/>
          </a:gradFill>
          <a:ln w="9360">
            <a:solidFill>
              <a:srgbClr val="99ad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مخطط انسيابي: استخراج 5"/>
          <p:cNvSpPr/>
          <p:nvPr/>
        </p:nvSpPr>
        <p:spPr>
          <a:xfrm>
            <a:off x="1828800" y="2743200"/>
            <a:ext cx="3276720" cy="2514600"/>
          </a:xfrm>
          <a:prstGeom prst="flowChartExtract">
            <a:avLst/>
          </a:prstGeom>
          <a:noFill/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وسيلة شرح على شكل سحابة 4"/>
          <p:cNvSpPr/>
          <p:nvPr/>
        </p:nvSpPr>
        <p:spPr>
          <a:xfrm>
            <a:off x="5105520" y="1447920"/>
            <a:ext cx="1447560" cy="990360"/>
          </a:xfrm>
          <a:prstGeom prst="cloudCallout">
            <a:avLst>
              <a:gd name="adj1" fmla="val -4069"/>
              <a:gd name="adj2" fmla="val 78175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منظ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وسيلة شرح على شكل سحابة 7"/>
          <p:cNvSpPr/>
          <p:nvPr/>
        </p:nvSpPr>
        <p:spPr>
          <a:xfrm>
            <a:off x="2819520" y="1447920"/>
            <a:ext cx="1447560" cy="990360"/>
          </a:xfrm>
          <a:prstGeom prst="cloudCallout">
            <a:avLst>
              <a:gd name="adj1" fmla="val -4069"/>
              <a:gd name="adj2" fmla="val 78175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عملاء/ المورد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وسيلة شرح مع سهم إلى الأعلى 8"/>
          <p:cNvSpPr/>
          <p:nvPr/>
        </p:nvSpPr>
        <p:spPr>
          <a:xfrm>
            <a:off x="3886200" y="4952880"/>
            <a:ext cx="1371600" cy="1219320"/>
          </a:xfrm>
          <a:prstGeom prst="upArrowCallout">
            <a:avLst>
              <a:gd name="adj1" fmla="val 25000"/>
              <a:gd name="adj2" fmla="val 24997"/>
              <a:gd name="adj3" fmla="val 46833"/>
              <a:gd name="adj4" fmla="val 7004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Calibri"/>
                <a:cs typeface="PT Bold Heading"/>
              </a:rPr>
              <a:t>مساحة الفهم والثقة المتبادلة تتكون من خلال الخب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رابط مستقيم 10"/>
          <p:cNvSpPr/>
          <p:nvPr/>
        </p:nvSpPr>
        <p:spPr>
          <a:xfrm>
            <a:off x="685800" y="3809880"/>
            <a:ext cx="7315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مستطيل مستدير الزوايا 12"/>
          <p:cNvSpPr/>
          <p:nvPr/>
        </p:nvSpPr>
        <p:spPr>
          <a:xfrm>
            <a:off x="990720" y="4114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معرفة الضمن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مستطيل مستدير الزوايا 14"/>
          <p:cNvSpPr/>
          <p:nvPr/>
        </p:nvSpPr>
        <p:spPr>
          <a:xfrm>
            <a:off x="990720" y="2971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معرفة الصريح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مستطيل مستدير الزوايا 15"/>
          <p:cNvSpPr/>
          <p:nvPr/>
        </p:nvSpPr>
        <p:spPr>
          <a:xfrm>
            <a:off x="2743200" y="4114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حاجات، المعرفة النماذج العقل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مستطيل مستدير الزوايا 16"/>
          <p:cNvSpPr/>
          <p:nvPr/>
        </p:nvSpPr>
        <p:spPr>
          <a:xfrm>
            <a:off x="4876920" y="4114800"/>
            <a:ext cx="167616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Calibri"/>
                <a:cs typeface="PT Bold Heading"/>
              </a:rPr>
              <a:t>معرفة عن المنتجات ، الأسواق، النماذج العقل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مستطيل مستدير الزوايا 17"/>
          <p:cNvSpPr/>
          <p:nvPr/>
        </p:nvSpPr>
        <p:spPr>
          <a:xfrm>
            <a:off x="3886200" y="297180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ffffff"/>
                </a:solidFill>
                <a:latin typeface="Calibri"/>
                <a:cs typeface="PT Bold Heading"/>
              </a:rPr>
              <a:t>تبادل المعرفة الواضحة من خلال  المناقشات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رابط كسهم مستقيم 18"/>
          <p:cNvCxnSpPr>
            <a:stCxn id="234" idx="3"/>
            <a:endCxn id="236" idx="1"/>
          </p:cNvCxnSpPr>
          <p:nvPr/>
        </p:nvCxnSpPr>
        <p:spPr>
          <a:xfrm>
            <a:off x="2286000" y="4343040"/>
            <a:ext cx="457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رابط كسهم مستقيم 20"/>
          <p:cNvCxnSpPr>
            <a:endCxn id="237" idx="1"/>
          </p:cNvCxnSpPr>
          <p:nvPr/>
        </p:nvCxnSpPr>
        <p:spPr>
          <a:xfrm>
            <a:off x="4038120" y="4343040"/>
            <a:ext cx="839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رابط كسهم مستقيم 22"/>
          <p:cNvCxnSpPr>
            <a:endCxn id="238" idx="1"/>
          </p:cNvCxnSpPr>
          <p:nvPr/>
        </p:nvCxnSpPr>
        <p:spPr>
          <a:xfrm>
            <a:off x="2285640" y="3200040"/>
            <a:ext cx="1600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رابط كسهم مستقيم 24"/>
          <p:cNvCxnSpPr/>
          <p:nvPr/>
        </p:nvCxnSpPr>
        <p:spPr>
          <a:xfrm flipV="1">
            <a:off x="3429000" y="3428280"/>
            <a:ext cx="232488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رابط كسهم مستقيم 26"/>
          <p:cNvCxnSpPr/>
          <p:nvPr/>
        </p:nvCxnSpPr>
        <p:spPr>
          <a:xfrm flipV="1">
            <a:off x="5715000" y="3428280"/>
            <a:ext cx="3888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4" name="مربع نص 27"/>
          <p:cNvSpPr/>
          <p:nvPr/>
        </p:nvSpPr>
        <p:spPr>
          <a:xfrm>
            <a:off x="5676840" y="3276720"/>
            <a:ext cx="13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تجسيد 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مربع نص 28"/>
          <p:cNvSpPr/>
          <p:nvPr/>
        </p:nvSpPr>
        <p:spPr>
          <a:xfrm>
            <a:off x="7086600" y="3576600"/>
            <a:ext cx="274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0000"/>
                </a:solidFill>
                <a:latin typeface="Arial"/>
                <a:cs typeface="PT Bold Heading"/>
              </a:rPr>
              <a:t>الحد الفاصل بين المعرفة الصريحة والمعرفة الضمنية لدى المنظمة والعناصر الخارج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أشكال تحول ا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(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1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) العملية الاجتماعية.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هي التحول من المعرفة الضمنية إلى المعرفة الضمنية أيضاً من خلال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اكتساب المهنة بصورة تقليدية من خلال قضاء الوقت في التعلم مع المعلم أكثر من اكتسابها من الدراسة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قد تأخذ أكثر من شكل منها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7680" indent="-49356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تراكم المعرفة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 من خلال جمع المديرين للمعلومات ومشاركة الخبرة مع الموردين والعملاء والحوار والنقاش مع المنافسي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7680" indent="-49356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نقل المعرفة الضمنية.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ن خلا الإحتكاك المباشر بالخبراء والمهنيين والنقاش والشرح والأمثلة والتجارب التي ينفذو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95000" y="1447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(2)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e_AlMateen"/>
                <a:cs typeface="PT Bold Heading"/>
              </a:rPr>
              <a:t>العملية التجسيدية. </a:t>
            </a:r>
            <a:r>
              <a:rPr b="1" lang="ar-SA" sz="32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هي عملية تحويل المعرفة الضمنية إلى معرفة واضح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أي أن المعرفة تبلورت مثل عملية تطوير المنتج)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.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وتأخذ هذه العملية عدة أشكال منها</a:t>
            </a: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ea typeface="PT Bold Heading"/>
              </a:rPr>
              <a:t> </a:t>
            </a: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ea typeface="PT Bold Heading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سهيل عملية الإبداع لدى الأفراد وصانعي المعرفة بالمنظمة  واستخدام أسلوب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استثارة في مناقشة عملية صناعة المعرفة</a:t>
            </a:r>
            <a:r>
              <a:rPr b="0" lang="ar-SA" sz="32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(3)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e_AlMateen"/>
                <a:cs typeface="PT Bold Heading"/>
              </a:rPr>
              <a:t>العملية التوافقية.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هي تعني تحويل المعرفة الواضحة إلى معرفة واضحة ولكنها أكثر تعقيداً.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حيث يتم جمع المعرفة الواضحة من داخل وخارج المنظمة ويتم توحيدها وطباعتها وتشغيلها وتحويلها في شكل معرفة جديدة)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تأخذ عدة أشكال منها التركيب والتشغيل لقواعد البيانات، ومنها النشر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>مقدمة:</dc:description>
  <dc:language>en-US</dc:language>
  <cp:lastModifiedBy>Ahmad Mohmmad Alholibi</cp:lastModifiedBy>
  <dcterms:modified xsi:type="dcterms:W3CDTF">2012-09-29T09:00:47Z</dcterms:modified>
  <cp:revision>130</cp:revision>
  <dc:subject/>
  <dc:title>كليه إدارة أعما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كليه إدارة أعمال</vt:lpwstr>
  </property>
  <property fmtid="{D5CDD505-2E9C-101B-9397-08002B2CF9AE}" pid="3" name="SlideDescription">
    <vt:lpwstr>مقدمة:</vt:lpwstr>
  </property>
</Properties>
</file>