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9EAC-C4EA-4A7E-89B3-D88513E36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D158-37C6-4BBF-A8C6-F7B4451C5C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FC56-3C8B-4784-85B4-62336E782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3315-A8B1-4FAC-AB64-7D5021F984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925F-C3B6-44D2-BC6D-1B56E3495B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20E0-5E0A-4FFF-99AA-773CD29BC6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4131-A0D1-477F-9057-3BCE5146E4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C68-6268-46F3-A396-5CFB9D3EB9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2AA2-3A2F-4FA4-BC8C-5EF14CDD9A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2E90-87EE-4035-91AE-6BACAA61AD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D3F-B2DD-426F-AF89-1012C9E0F8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C77-9FA9-4C52-AF36-4A8FC47565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0CAC-CE11-444B-8CA9-42051A6D18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4F3-4BC2-4E59-BD78-7E054ECE5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C36E-3B7C-453D-8718-D7B5B0E17C7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ECDE-9BAF-4C3B-8FAD-9181AD7AD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55C7-FA5B-4A0B-A5E9-4F6AD6BC10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B415-0EC4-4668-AD23-B3139C1617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ACCC-404D-4DCB-A060-B9C949A2B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F3A5-B00C-46FA-A860-3DE1E5C07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5B15-F9EE-4958-B119-A2E2F2F2A9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CD05-87F4-4BCC-80A2-4511583C5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13D3-78FF-4E74-9078-C3E18976E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336E-56FE-4845-905F-686D4E047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B8A6-D525-4658-8E42-0CE0F52A9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0C3B-CD03-4E0A-B44B-BA2E0DC05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B295-9167-4DC1-BA67-E211D551D7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9CBD-3E60-44E7-B2D5-28AF9668ED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7E42-248E-435D-9BC9-8EDB5E600C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929-8C38-4BC0-AE32-CCA6196B14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2EC-E42C-42A6-B9AE-3F30E83857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AE2-914F-478D-937B-62896361A9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0E2-F18B-4AEC-8477-47162EDA6E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529-A8E1-403F-8816-A592C83ED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B1A-3BFE-46CB-ABA7-13F321B8BE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2D8-AFBD-4F44-92DD-46E52085B3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9FF-52B0-48BE-89C7-70FACA9DF7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AAF-B88D-4B90-AD40-0A0095459A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CBD-7D9F-4D64-89F8-1106283AAB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E9C-01D9-4FB2-807F-AAE9613D20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163-6D29-496B-944B-29C16FF18F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AD0-AC8B-402F-B9E6-06AD6F19B3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00D8-0B49-4A35-B570-85D0BB0F41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22973-CC89-4571-8289-E91D67EB0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C3F5-252C-44DF-96F5-4B8C55E13F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4BD08-79D3-4C26-91BE-F00F5E6FEE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E5C4B-CF42-496D-B751-C471A3CE54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736F-84F9-4B55-877E-A77C19682C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81983-7490-459B-9329-7FB50B26E8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20B24-3547-4117-B613-E85733E8F5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D8383-D52B-4954-B49B-BF39FB6EFD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143E6-1F67-488E-B205-E3CACAD3D7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03730-8CCA-473D-86BF-AA6288297C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56E7F-8C8C-41D2-90EA-E68F5FF6A4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B7E6A-6846-4B78-9045-AF833083A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7B83-2A16-4106-BFBC-22995C7D09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1CBF7-EED5-4ADC-80C1-C4B9571D84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39B2-7BC3-489E-8D16-E9CEE77D35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5E86-55C4-44E2-A125-2A59CC087C9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94390-08FF-4C98-B423-6DE2A3CEC4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E9788-8BBA-4221-A453-0ED3CF3C6F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D4C79-04CB-4CFF-A20A-227747EF1D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56ADE-4A5F-4FAC-A9F7-D618E1992F4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B933-7F54-4FF0-9C47-822721460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727D-82B6-48CF-A3D1-36D7468502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483EE-C6C1-48A6-97F8-373A876814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0EC11-8F9F-4535-849A-6FD77EB125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398B9-FAC4-453C-9DED-05C55CC4D4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26268-EA1E-476C-9253-9BE5E2ED48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DE87E-CE10-498A-A38A-23E3392710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E3426-36F8-4497-AC97-E8AA732D84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D2746-FEC3-4E17-A095-9A53912843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7DF-44E4-4605-91F3-E4A5255D6BB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58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E95D-73AF-4E06-9766-39850ED8785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6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C8E4-0CA7-419D-8F0F-1F2CF262BA4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2A8-4019-4884-B91C-02FDF93C957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2536-D3A0-4D4A-B7C6-90A38F0906F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49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CDC-2568-4BEB-8DB7-D01EB674F56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01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F510-830C-413E-8581-2AA52DE4ED1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B203-31E9-4F63-80EF-4AE83D48A34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C805-C9C2-4406-BA9F-4AAC6746626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E50D-4C9C-459C-B661-B3CDCAAAF65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5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50F2-5AE4-45E5-B176-293E5B39114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5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C63-D8EC-4B45-BA49-7533856F067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06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72D0-1FA3-43C3-896B-BC2503764C4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99428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C589-77B5-413E-9B2A-57E28FB445B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375160" y="4648320"/>
            <a:ext cx="376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5994360" y="1981080"/>
            <a:ext cx="2400480" cy="2524320"/>
            <a:chOff x="5994360" y="1981080"/>
            <a:chExt cx="2400480" cy="2524320"/>
          </a:xfrm>
        </p:grpSpPr>
        <p:sp>
          <p:nvSpPr>
            <p:cNvPr id="515" name="Oval 8"/>
            <p:cNvSpPr/>
            <p:nvPr/>
          </p:nvSpPr>
          <p:spPr>
            <a:xfrm>
              <a:off x="6083280" y="2043000"/>
              <a:ext cx="22323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994360" y="1981080"/>
              <a:ext cx="24004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562284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22280" y="2971800"/>
            <a:ext cx="4707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52440" y="6405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CBD-3CCA-4B6C-AB61-13FB9E75620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طو ة الثالثة: أستخلاص النتائ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ترتبط هذه الخطوة بتلخيص النتائج التي تم التوصل إليها من خلال تحليل استبانة المعرفة بقسمي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19432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4190-BE6F-41D6-99B0-5C5235F94FF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وان 1"/>
          <p:cNvSpPr/>
          <p:nvPr/>
        </p:nvSpPr>
        <p:spPr>
          <a:xfrm>
            <a:off x="773280" y="549360"/>
            <a:ext cx="7878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لمحتوى 2"/>
          <p:cNvSpPr/>
          <p:nvPr/>
        </p:nvSpPr>
        <p:spPr>
          <a:xfrm>
            <a:off x="94284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itle 1"/>
          <p:cNvSpPr/>
          <p:nvPr/>
        </p:nvSpPr>
        <p:spPr>
          <a:xfrm>
            <a:off x="773280" y="120600"/>
            <a:ext cx="7878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9840" y="297144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Group 5" descr=""/>
          <p:cNvPicPr/>
          <p:nvPr/>
        </p:nvPicPr>
        <p:blipFill>
          <a:blip r:embed="rId1"/>
          <a:stretch/>
        </p:blipFill>
        <p:spPr>
          <a:xfrm>
            <a:off x="5877000" y="1889280"/>
            <a:ext cx="258444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165480" y="3352680"/>
            <a:ext cx="260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"/>
          <p:cNvSpPr/>
          <p:nvPr/>
        </p:nvSpPr>
        <p:spPr>
          <a:xfrm>
            <a:off x="3165480" y="2209680"/>
            <a:ext cx="2482920" cy="1236960"/>
          </a:xfrm>
          <a:custGeom>
            <a:avLst/>
            <a:gdLst>
              <a:gd name="textAreaLeft" fmla="*/ 0 w 2482920"/>
              <a:gd name="textAreaRight" fmla="*/ 2482920 w 24829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logo EDE.png"/>
          <p:cNvPicPr/>
          <p:nvPr/>
        </p:nvPicPr>
        <p:blipFill>
          <a:blip r:embed="rId2"/>
          <a:stretch/>
        </p:blipFill>
        <p:spPr>
          <a:xfrm>
            <a:off x="844560" y="2133720"/>
            <a:ext cx="19461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34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خطوات 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خطوات 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هدف مراجعة القدرات المعرفية إلى حل مشاكل الأعمال في المنظمة من خلال النقاط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ا هي المعرفة المتاحة حالياً في القسم أو الإدار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PT Bold Heading"/>
              </a:rPr>
              <a:t>(المنطقة المستهد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المتاحة حالياً والمحتمل الحصول عليها من المصادر المختلفة، وتحديد العوامل البيئية التي تؤثر على القسم أو الإدار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وتخصيص (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تصنيف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 ) المعرفة الضمنية والمعرفة الواضحة في المنطق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بناء خريطة المعرفة لتصنيف وتدفق المعرفة في المنظمة وكذلك في القسم أو الإدارة المستهدفة (هذه الخريطة متعلقة بــ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فراد الوثائق الأفكار الموارد الخارجية ودرجة كثافتها التي تحدد سهولة أو صعوبة حصول الأفراد على المعرفة منها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حديد المعرفة التي تفتقر إليها المنطقة المستهدفة وتشم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عمل تحليل فجوة لتحديد ما هي المعرفة التي تفتقدها لتحقيق أهداف الأعما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ن يحتاج إلى هذه المعرفة المفقود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الحصول على التوصيات من مراجعة القدرات المعرفية للإدارة من خلال النظر إلى الوضع القائم والتحسينات الممكنة لأنشطة إدارة المعرفة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قسم الاستبيان إلى قسم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أول: يغطي الخطوة الأولى في مراجعة القدرات المعرف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ثاني: يغطي الخطوة 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أما الخطوة الثالثة من المراجعة تستخلص من الخطوة الأولى و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أداة المستخدمة في مراجعة القدرات   المعرفية ( استبيان المعرفة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222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أول: تحديد ما هي المعرفة المتوفرة حالياً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ضع قائمة محددة لتقسيمات المعرفة التي تحتاج إليها في وظيفت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أي تقسيمات ا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متاحة حالياً لديك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Calibri"/>
                <a:cs typeface="PT Bold Heading"/>
              </a:rPr>
              <a:t>لكل تقسي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؟ من فضلك أعطي أمثلة محدد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عدد المصادر التي تحصل على المعرفة منها؟ وأي المصادر تستخدم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ضافة إليك من الذي من المحتمل أن يحتاج إ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ستخدم أنت والأخرون المعرفة المحددة في السؤال رقم 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ؤلاء الذين من المحتمل أن يستخدموا هذه المعرفة؟ ومن من المحتمل ألا يحصل ع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عمليات الرئيسية التي تستخدمها للحصول ع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 لتحقيق فوائد القيمة المضافة لمنظمت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تأثيرات البيئية الخارجية التي تؤثر على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الذي تتوقع أن يساعدك استخدام المعرفة كما هي؟ أم تحويلها لتكون أكثر فعالي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جزاء في تلك المعرفة التي تعتبرها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ممكن الوصول إليها، مدى غزارتها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 ضئيلة أو متفرق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قديمة منتهية الصلاحية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1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رسل المعرفة الحالية؟ ما هي الطريقة الأكثر فعالية في أرسال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2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م الخبراء الذين في حوزة المنظمة ولديهم أنواعاً من المعرفة تحتاج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3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في أي شكل من أشكال المعرفة  تستطيع الحصول عليها من 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4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الوثائق الرئيسية والموارد الخارجية التي تستخدمها أو التي تحتاج إليها لإنجاز وظيفتك بصورة أيسر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أنواع المعرفة التي تحتاج إليها كجزء من عملك اليومي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قصير (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طويل (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ثاني: ما هي المعرفة التي نفتقدها في المنطقة المستهد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حتاج إليها لأداء وظيفتك بصورة أفضل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عيد استخدامها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هل لديك أمثلة على معرفة لا يمكن أعادة استخدامها . ولكن إعادة استخدامها سوف تكون 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كل تقسيم من تقسيمات المعرفة في السؤال رق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لى أي درجة يمكن تحسين مستوى الأداء لكل المعرفة الممكن الوصول إليها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يمكن أن يخدم المصدر المحتمل لتلك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أنواع الأسئلة التي تستطيع أن تجد لها إجابة عند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736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لكل نوع من المعرفة المحددة في هذا السؤال أجب على الأسئلة التا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فتقد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نواع المرتبطة ب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أداء الوظيف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زايا التنافسية للمنظم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أسئلة الإدارية البسيطة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الإدارات أو الأفراد الذين تعتقد أنهم لا يجيبون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ذا كانت الإجابة على السؤال السابق بلا فلما بريك  ل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المجالات تسأل نفسك نفس الأنواع المتكررة من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الذي تم سؤاله ولم يجب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إدارة يعم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في أي مستوى وظيفي؟ المسمى الوظيف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ي الإدارات أو من هم الأفراد الذين لديهم أتصال معك بالمعلومات؟ لك إدارة أو فرد أجب عن الأسئلة التالية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مستوى التنظيمي الذي يشغله المستقصي من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المستقصي منه جديد ( أقل من سنة )     متوسط الأجل  (  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   طويل الآجل  ( أكثر من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سئلة التي تسألها للأخرين بالمنظم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طلوبة والتي تعتبر   ( ضرورية لأداء العمل )    ( ضرورية لتحقيق المزايا التنافسية للمنظمة )   ( ضرورية للوصول للإبتكارات)       ( التي انتهت صلاحيتها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تي قد تكون مفيدة لتشجيع مشاركة المعرفة ونقلها في منظم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ظاهر التي تعوق الإدارة الفعالة للمعرف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( ما هي قيود مشاركة ونقل المعرف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سبب الرئيسي الذي ينتج عنه الأخطاء في وظيف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من الوقت ينقضي للبحث عن المعرفة التي تطلبها؟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8:59:50Z</dcterms:created>
  <dc:creator>Mohammad Ahmed Algezawy</dc:creator>
  <dc:description/>
  <dc:language>en-US</dc:language>
  <cp:lastModifiedBy>Ahmad Mohmmad Alholibi</cp:lastModifiedBy>
  <dcterms:modified xsi:type="dcterms:W3CDTF">2012-09-29T08:54:52Z</dcterms:modified>
  <cp:revision>2</cp:revision>
  <dc:subject/>
  <dc:title>عرض تقديمي في PowerPoint</dc:title>
</cp:coreProperties>
</file>