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D817-97A4-43E9-8720-607FAE5E9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CA93-43A1-4C3C-906F-A67A825DE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B542-5E02-4BF4-BFDB-30402EF4A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5C85-8D94-4511-A558-2AD80B791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3491-6E70-48AB-8D39-39936F2F6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F073-D813-4857-930C-3A0FF7295A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B392-92F2-4586-8251-17896EB8FE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316E-1EF4-46EA-A07D-DAFB4FF625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3C55-7ADE-4939-83A2-969662138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1365-B307-4F0B-BF37-1E05F20C3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C9DD-7BDA-4924-B534-4CA628E07E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D0B0-0F5D-4560-9FF2-8FBD5B2A8A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8E47-27A0-46B1-B268-1D03E66B3E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288F-7A95-4F46-81F1-A17B4CF354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C28B-C2D0-4641-9DCF-DDDBF34F36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B19B-00C2-4F09-8FCB-AB243D3C9E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8C8E-7225-4082-9B52-D1FE73FB43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5800-6FA5-4A30-A349-DE9D4DFC40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EE7D-5DB7-46D5-88F2-299E2E0C49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0921-9545-4E00-BFE4-AEEE23516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7704-347B-4018-B638-A6B983B16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0DC5-33DC-41B6-80BA-C882DB4B5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38A5-8895-4B29-9369-A41F4EC51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1324-7BBA-4755-94AB-5DDAA1EA2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7D2-C81E-492D-8A6F-0EA82D68D86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D77-0921-4CA0-BAE9-E1FAD6B8AE1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DFE-34B4-4BA2-B2F5-A5F246FF6F9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4FFB-75CE-45F9-9495-F82FF543273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7D0-2555-495E-8C7D-AA3B504F986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FA1-1562-4C2C-A3C3-26D05D6ED96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40E8-958A-4C07-8B50-C797A416B4C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7FB4-AA24-435A-86B5-D5B4A0E2CA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522B-9549-4E75-A012-8D7444E4B2D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ضرة</a:t>
            </a:r>
            <a:r>
              <a:rPr b="0" lang="ar-EG" sz="4400" spc="-1" strike="noStrike">
                <a:solidFill>
                  <a:srgbClr val="37609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مهي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تعريف بمقرر إدارة المعر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هدف المقرر العام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559-0F78-4EB6-BFA8-C23CD3D668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47920" y="2286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رسيخ القواعد والمفاهيم الأساسية لإدارة المعرفة، وآليات التعامل مع رأس المال المعرفي، وأفضل تطبيقاته في قطاع الأ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أهداف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5D8D-2F81-4589-98CF-4B154421C3E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182880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ن يتعرف الطالب على مفاهيم ومبادئ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مكن الطالب من مراجعة القدرات المعرفية ل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حسن الطالب التعامل مع سلسلة القيمة للمعرفة ومصفوف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فهم الطالب ماهية الأصول المعرفية وخصائصها وعملية نق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عرف الطالب على الدراسات المبكر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جيد الطالب التعامل مع دراسات الحال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محتويات المنهج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7DD-3537-4AA1-AC12-492602DAF24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143000"/>
          <a:ext cx="7467480" cy="5187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ائمة الموضوع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973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فاهيم ومبادئ إدارة 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راتيجية إدارة المعرفة ومسئولية قيادة المنظمات تجاه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اجعة القدرات المع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سلسلة القيمة للمعرفة ، ومصفوف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مليات إنتاج المعرفة والتحديات التي تقابلها المنظ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صول المعرفية وخصائصها وعملية نقل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ظمة المتعل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ئة المعرفية(مشاركة البيئة في البناء المعرفي، بناء وترابط البيئة المعرفية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راسات المبكرة في إدار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دراسة حالات في إدارة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كتاب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620-F08E-43F6-92AF-B244D42DD2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47920" y="15606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الإدارة الاستراتيجية للمعرفة – د. ممدوح عبد العزيز رفاعي – طبع بمعرفة المؤلف – القاهرة –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7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إدارة المعرفة – د. سعد غالب ياسين – دار المسيرة للطباعة والنشر-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6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14440" y="3313080"/>
            <a:ext cx="97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كتاب متوفر لد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جرير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العبيكان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مراجع الإضافية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201-8E94-42C2-8506-B3FC73F06A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198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n Wei Choo, the Knowing organization: how organization use information to construct meaning create knowledge, and make decisions, Oxford university press, 199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710-5751-4EB7-A16E-0C32ABB00E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838080" y="546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9907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1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توزيع الدرجات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AC4-3661-4DE0-97AD-A9BA8B920C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62120" y="15238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ساعات المكتب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رقم جوال المقر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05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alibri"/>
                <a:cs typeface="PT Bold Heading"/>
              </a:rPr>
              <a:t>سيكون الجوال مفتوح في الأوقات المحددة بعالية وسيتم إغلاقة خارج هذه الأوقات، لذا على الجميع التقيد بهذه المواع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بريد الإلكترون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ezawy@kf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905120"/>
          <a:ext cx="4572000" cy="1482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وق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ي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ب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2.00-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ثن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ثلاث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81240" y="1519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ساعات المكتبية وجوال المقرر والبريد الإلكتروني</a:t>
            </a:r>
            <a:r>
              <a:rPr b="0" lang="ar-SA" sz="40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45:30Z</dcterms:modified>
  <cp:revision>109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