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17139-212A-4A33-9CF2-27458068E3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23A7D-BB7F-466C-B5EF-14D049E92AE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CF437-3099-459E-969A-2FB9845685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EDB86-D77C-40D2-B864-23D6AFCE538F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9CC3C-B3D4-4156-9495-24C57FBBB0D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6BBAD-ACDB-4096-83CF-25532BEEAF3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79C16-767C-4A17-BA13-F7625888D60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E449D-F605-4212-AE6A-B058541F816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DCB52-A6E9-4AC9-9E1A-731A0F95404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63194-FDE4-40B8-99A6-28C16D5BEFD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8C18A-E677-482D-BC5B-7A1F6320360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D60CF-7D52-42F6-AC39-62903170244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7F6A3-3FE4-4BCC-9541-AA865FF79971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21BFD-B273-4DA2-8E26-9DCE320D60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D4DCA-2BEC-4601-B459-42B55E510DD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3744A-B2F7-44F6-95C9-B94EAEE841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F6107-D60C-4A81-9426-957ABD3595D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ACF9E-E857-4471-925E-FD2643E313A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9FC60-2F92-4729-BA5E-977887C38AA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AEC7A-5318-4822-870C-1F78D8AAE56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458BE-301E-4581-9DD7-83BCDBF7BF9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5461C-7A6E-4B00-BED6-4DA9EF6CD15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52D4B-0317-48D3-B1F3-066E9381AD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FB249-DB80-4DB6-A39C-2CA6114A71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1A456-B5A9-4A96-BE61-98641D1CF25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19E60-52D9-4D2E-AC74-66018383D3E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F5733-7C38-4263-A591-D46E028CAEA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C707B-BDF9-4EFD-98C6-80C2FC24F6E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63A68-CC0F-456F-998B-6F2CC0FBD75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A0A1-4AA4-4E42-87FA-8B029F809C2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EE83-7B5F-47E1-BD33-E72FF74AEAF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2EEA-028E-4277-85DC-3E7043A3240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C9FC-2333-443B-BA82-4E55890F0C7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8E0A-E786-4736-8950-E3475D463E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B7D15-3B4A-478F-B73C-90A11983360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DFBA-9B8C-4BAC-8C62-570F5A5E3E8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3A2E-1F95-4924-BAF3-0EA2AF314C5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1018-D382-4A0C-860B-8710996CB39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5C26-7705-4972-8B17-814C7834447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BABD-583F-4A34-8F7A-E930BC279CA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240E-BE6B-4BB7-A460-D5790CD9905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BA06-B066-492B-91C7-2A499E95010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28CF0-D283-4538-BA6B-5A54A242D72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3107B9-A28F-42AF-9747-5809423827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FB8A6-6C6D-4A74-8FBB-BC47156864D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123D6D-37B8-495E-BF25-8269D0D42CD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92DB3A-A5D8-45F7-AA8A-621BCA0F9BD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F96723-DD87-479B-85FA-1DAF2C98975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1EDAAF-2421-453F-90C0-2D5A9A39D35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B4983F-E6CE-4CF2-BBD4-A35905321CE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E121AF-A07D-4289-A928-945C063D13D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7C1117-7970-467A-8EC3-038180B7B82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18F7B4-88AB-4AAF-95F0-24B2C1DC073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923D9E-B557-46F5-BCF9-A78BC2EA936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767B12-25E2-494D-8D8A-4D40070F5B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305EE-E936-4365-B240-2A9FAC05D87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99B065-106C-469A-BD88-F7202A47473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799DA-C814-4EA0-B7AE-34C75ABBC7A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50AC0-A9B6-44ED-9BEF-87071ED071B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D4EBF0-5F71-4ED8-84A5-78523AC41C8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28D549-4896-4CDB-84F8-2897ECCC6B7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971C84-0DEC-499B-BF1F-9A719EF4888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B571AA-1BE2-4481-9EC0-EC810D84538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6120EC-3758-48EB-992C-CE24BF19A9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6E68E-B6B3-4705-98A8-3058B8AB47D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3C8D07-F5D6-45BC-83C3-84B927C3E83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09B233-7B8D-4CA2-B6C4-A5E0170442F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A3B77E-9E31-4EF7-9969-A4768367434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C0014C-A0D3-4235-B7D1-C6684A3F95D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B8521D-CA27-44A5-8086-F9E58E8FF87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4E041F-33D2-4744-B06B-A35DAE18BEA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12AF6E-6B0A-44B8-B02A-5BFBB851C73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" name="Group 7"/>
          <p:cNvGrpSpPr/>
          <p:nvPr/>
        </p:nvGrpSpPr>
        <p:grpSpPr>
          <a:xfrm>
            <a:off x="7948440" y="5791320"/>
            <a:ext cx="868680" cy="914400"/>
            <a:chOff x="7948440" y="5791320"/>
            <a:chExt cx="868680" cy="914400"/>
          </a:xfrm>
        </p:grpSpPr>
        <p:sp>
          <p:nvSpPr>
            <p:cNvPr id="4" name="Oval 12"/>
            <p:cNvSpPr/>
            <p:nvPr/>
          </p:nvSpPr>
          <p:spPr>
            <a:xfrm>
              <a:off x="7980120" y="5813280"/>
              <a:ext cx="80856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7948440" y="5791320"/>
              <a:ext cx="86868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4537080" y="6377040"/>
            <a:ext cx="52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626328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619632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Picture 17" descr="logo EDE.png"/>
          <p:cNvPicPr/>
          <p:nvPr/>
        </p:nvPicPr>
        <p:blipFill>
          <a:blip r:embed="rId3"/>
          <a:stretch/>
        </p:blipFill>
        <p:spPr>
          <a:xfrm>
            <a:off x="281160" y="5791320"/>
            <a:ext cx="774360" cy="938160"/>
          </a:xfrm>
          <a:prstGeom prst="rect">
            <a:avLst/>
          </a:prstGeom>
          <a:ln w="0">
            <a:noFill/>
          </a:ln>
        </p:spPr>
      </p:pic>
      <p:sp>
        <p:nvSpPr>
          <p:cNvPr id="10" name="Rectangle 18"/>
          <p:cNvSpPr/>
          <p:nvPr/>
        </p:nvSpPr>
        <p:spPr>
          <a:xfrm>
            <a:off x="84780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Rectangle 19"/>
          <p:cNvSpPr/>
          <p:nvPr/>
        </p:nvSpPr>
        <p:spPr>
          <a:xfrm>
            <a:off x="45252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Slide Number Placeholder 5"/>
          <p:cNvSpPr/>
          <p:nvPr/>
        </p:nvSpPr>
        <p:spPr>
          <a:xfrm>
            <a:off x="4513320" y="6369120"/>
            <a:ext cx="446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7A4D3-5F2E-4F72-8CA1-148D7686F82A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7" name="Group 7"/>
          <p:cNvGrpSpPr/>
          <p:nvPr/>
        </p:nvGrpSpPr>
        <p:grpSpPr>
          <a:xfrm>
            <a:off x="7948440" y="5791320"/>
            <a:ext cx="868680" cy="914400"/>
            <a:chOff x="7948440" y="5791320"/>
            <a:chExt cx="868680" cy="914400"/>
          </a:xfrm>
        </p:grpSpPr>
        <p:sp>
          <p:nvSpPr>
            <p:cNvPr id="458" name="Oval 12"/>
            <p:cNvSpPr/>
            <p:nvPr/>
          </p:nvSpPr>
          <p:spPr>
            <a:xfrm>
              <a:off x="7980120" y="5813280"/>
              <a:ext cx="80856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59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7948440" y="5791320"/>
              <a:ext cx="86868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0" name="Rectangle 15"/>
          <p:cNvSpPr/>
          <p:nvPr/>
        </p:nvSpPr>
        <p:spPr>
          <a:xfrm>
            <a:off x="626328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Rectangle 16"/>
          <p:cNvSpPr/>
          <p:nvPr/>
        </p:nvSpPr>
        <p:spPr>
          <a:xfrm>
            <a:off x="619632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2" name="Picture 17" descr="logo EDE.png"/>
          <p:cNvPicPr/>
          <p:nvPr/>
        </p:nvPicPr>
        <p:blipFill>
          <a:blip r:embed="rId3"/>
          <a:stretch/>
        </p:blipFill>
        <p:spPr>
          <a:xfrm>
            <a:off x="281160" y="5791320"/>
            <a:ext cx="774360" cy="93816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18"/>
          <p:cNvSpPr/>
          <p:nvPr/>
        </p:nvSpPr>
        <p:spPr>
          <a:xfrm>
            <a:off x="84780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Rectangle 19"/>
          <p:cNvSpPr/>
          <p:nvPr/>
        </p:nvSpPr>
        <p:spPr>
          <a:xfrm>
            <a:off x="45252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5"/>
          <p:cNvSpPr/>
          <p:nvPr/>
        </p:nvSpPr>
        <p:spPr>
          <a:xfrm>
            <a:off x="4513320" y="6369120"/>
            <a:ext cx="446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1B1B6-2CFA-4E8A-8367-E775CCC552E9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21"/>
          <p:cNvSpPr/>
          <p:nvPr/>
        </p:nvSpPr>
        <p:spPr>
          <a:xfrm>
            <a:off x="450684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Rectangle 9"/>
          <p:cNvSpPr/>
          <p:nvPr/>
        </p:nvSpPr>
        <p:spPr>
          <a:xfrm>
            <a:off x="0" y="2133720"/>
            <a:ext cx="2462040" cy="144756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Rectangle 11"/>
          <p:cNvSpPr/>
          <p:nvPr/>
        </p:nvSpPr>
        <p:spPr>
          <a:xfrm>
            <a:off x="6681960" y="2133720"/>
            <a:ext cx="2462040" cy="144756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sldNum" idx="6"/>
          </p:nvPr>
        </p:nvSpPr>
        <p:spPr>
          <a:xfrm>
            <a:off x="4993920" y="6492960"/>
            <a:ext cx="44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3586E-F72F-42EF-93A8-6C8AFAB0508A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Group 7"/>
          <p:cNvGrpSpPr/>
          <p:nvPr/>
        </p:nvGrpSpPr>
        <p:grpSpPr>
          <a:xfrm>
            <a:off x="7948440" y="5791320"/>
            <a:ext cx="868680" cy="914400"/>
            <a:chOff x="7948440" y="5791320"/>
            <a:chExt cx="868680" cy="914400"/>
          </a:xfrm>
        </p:grpSpPr>
        <p:sp>
          <p:nvSpPr>
            <p:cNvPr id="53" name="Oval 12"/>
            <p:cNvSpPr/>
            <p:nvPr/>
          </p:nvSpPr>
          <p:spPr>
            <a:xfrm>
              <a:off x="7980120" y="5813280"/>
              <a:ext cx="80856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4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7948440" y="5791320"/>
              <a:ext cx="86868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3"/>
          <p:cNvSpPr>
            <a:spLocks noGrp="1"/>
          </p:cNvSpPr>
          <p:nvPr>
            <p:ph type="sldNum" idx="2"/>
          </p:nvPr>
        </p:nvSpPr>
        <p:spPr>
          <a:xfrm>
            <a:off x="4537080" y="6377040"/>
            <a:ext cx="52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5"/>
          <p:cNvSpPr/>
          <p:nvPr/>
        </p:nvSpPr>
        <p:spPr>
          <a:xfrm>
            <a:off x="626328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6"/>
          <p:cNvSpPr/>
          <p:nvPr/>
        </p:nvSpPr>
        <p:spPr>
          <a:xfrm>
            <a:off x="619632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17" descr="logo EDE.png"/>
          <p:cNvPicPr/>
          <p:nvPr/>
        </p:nvPicPr>
        <p:blipFill>
          <a:blip r:embed="rId3"/>
          <a:stretch/>
        </p:blipFill>
        <p:spPr>
          <a:xfrm>
            <a:off x="281160" y="5791320"/>
            <a:ext cx="774360" cy="93816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8"/>
          <p:cNvSpPr/>
          <p:nvPr/>
        </p:nvSpPr>
        <p:spPr>
          <a:xfrm>
            <a:off x="84780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19"/>
          <p:cNvSpPr/>
          <p:nvPr/>
        </p:nvSpPr>
        <p:spPr>
          <a:xfrm>
            <a:off x="45252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5"/>
          <p:cNvSpPr/>
          <p:nvPr/>
        </p:nvSpPr>
        <p:spPr>
          <a:xfrm>
            <a:off x="4513320" y="6369120"/>
            <a:ext cx="446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B5DE0-2C08-40EB-9EAC-5598FB1A5B0D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" name="Group 7"/>
          <p:cNvGrpSpPr/>
          <p:nvPr/>
        </p:nvGrpSpPr>
        <p:grpSpPr>
          <a:xfrm>
            <a:off x="7948440" y="5791320"/>
            <a:ext cx="868680" cy="914400"/>
            <a:chOff x="7948440" y="5791320"/>
            <a:chExt cx="868680" cy="914400"/>
          </a:xfrm>
        </p:grpSpPr>
        <p:sp>
          <p:nvSpPr>
            <p:cNvPr id="102" name="Oval 12"/>
            <p:cNvSpPr/>
            <p:nvPr/>
          </p:nvSpPr>
          <p:spPr>
            <a:xfrm>
              <a:off x="7980120" y="5813280"/>
              <a:ext cx="80856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3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7948440" y="5791320"/>
              <a:ext cx="86868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PlaceHolder 3"/>
          <p:cNvSpPr>
            <a:spLocks noGrp="1"/>
          </p:cNvSpPr>
          <p:nvPr>
            <p:ph type="sldNum" idx="3"/>
          </p:nvPr>
        </p:nvSpPr>
        <p:spPr>
          <a:xfrm>
            <a:off x="4537080" y="6377040"/>
            <a:ext cx="52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15"/>
          <p:cNvSpPr/>
          <p:nvPr/>
        </p:nvSpPr>
        <p:spPr>
          <a:xfrm>
            <a:off x="626328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16"/>
          <p:cNvSpPr/>
          <p:nvPr/>
        </p:nvSpPr>
        <p:spPr>
          <a:xfrm>
            <a:off x="619632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17" descr="logo EDE.png"/>
          <p:cNvPicPr/>
          <p:nvPr/>
        </p:nvPicPr>
        <p:blipFill>
          <a:blip r:embed="rId3"/>
          <a:stretch/>
        </p:blipFill>
        <p:spPr>
          <a:xfrm>
            <a:off x="281160" y="5791320"/>
            <a:ext cx="774360" cy="9381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8"/>
          <p:cNvSpPr/>
          <p:nvPr/>
        </p:nvSpPr>
        <p:spPr>
          <a:xfrm>
            <a:off x="84780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19"/>
          <p:cNvSpPr/>
          <p:nvPr/>
        </p:nvSpPr>
        <p:spPr>
          <a:xfrm>
            <a:off x="45252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4513320" y="6369120"/>
            <a:ext cx="446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3E250-F0B7-4C47-A6A5-9D57CD61AC25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8" name="Group 7"/>
          <p:cNvGrpSpPr/>
          <p:nvPr/>
        </p:nvGrpSpPr>
        <p:grpSpPr>
          <a:xfrm>
            <a:off x="7948440" y="5791320"/>
            <a:ext cx="868680" cy="914400"/>
            <a:chOff x="7948440" y="5791320"/>
            <a:chExt cx="868680" cy="914400"/>
          </a:xfrm>
        </p:grpSpPr>
        <p:sp>
          <p:nvSpPr>
            <p:cNvPr id="149" name="Oval 12"/>
            <p:cNvSpPr/>
            <p:nvPr/>
          </p:nvSpPr>
          <p:spPr>
            <a:xfrm>
              <a:off x="7980120" y="5813280"/>
              <a:ext cx="80856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0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7948440" y="5791320"/>
              <a:ext cx="86868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" name="Rectangle 15"/>
          <p:cNvSpPr/>
          <p:nvPr/>
        </p:nvSpPr>
        <p:spPr>
          <a:xfrm>
            <a:off x="626328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619632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17" descr="logo EDE.png"/>
          <p:cNvPicPr/>
          <p:nvPr/>
        </p:nvPicPr>
        <p:blipFill>
          <a:blip r:embed="rId3"/>
          <a:stretch/>
        </p:blipFill>
        <p:spPr>
          <a:xfrm>
            <a:off x="281160" y="5791320"/>
            <a:ext cx="774360" cy="93816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18"/>
          <p:cNvSpPr/>
          <p:nvPr/>
        </p:nvSpPr>
        <p:spPr>
          <a:xfrm>
            <a:off x="84780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19"/>
          <p:cNvSpPr/>
          <p:nvPr/>
        </p:nvSpPr>
        <p:spPr>
          <a:xfrm>
            <a:off x="45252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5"/>
          <p:cNvSpPr/>
          <p:nvPr/>
        </p:nvSpPr>
        <p:spPr>
          <a:xfrm>
            <a:off x="4513320" y="6369120"/>
            <a:ext cx="446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89B24-6EF7-4DB3-959A-832F9A2439D9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8699400" y="281160"/>
            <a:ext cx="282600" cy="109044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traight Connector 11"/>
          <p:cNvSpPr/>
          <p:nvPr/>
        </p:nvSpPr>
        <p:spPr>
          <a:xfrm>
            <a:off x="384120" y="1365120"/>
            <a:ext cx="8580600" cy="6480"/>
          </a:xfrm>
          <a:prstGeom prst="line">
            <a:avLst/>
          </a:prstGeom>
          <a:ln w="9360">
            <a:solidFill>
              <a:srgbClr val="ccb6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12"/>
          <p:cNvSpPr/>
          <p:nvPr/>
        </p:nvSpPr>
        <p:spPr>
          <a:xfrm>
            <a:off x="8699400" y="0"/>
            <a:ext cx="282600" cy="301680"/>
          </a:xfrm>
          <a:prstGeom prst="rect">
            <a:avLst/>
          </a:prstGeom>
          <a:solidFill>
            <a:srgbClr val="a379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24"/>
          <p:cNvSpPr/>
          <p:nvPr/>
        </p:nvSpPr>
        <p:spPr>
          <a:xfrm>
            <a:off x="450684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0" name="Group 7"/>
          <p:cNvGrpSpPr/>
          <p:nvPr/>
        </p:nvGrpSpPr>
        <p:grpSpPr>
          <a:xfrm>
            <a:off x="7948440" y="5791320"/>
            <a:ext cx="868680" cy="914400"/>
            <a:chOff x="7948440" y="5791320"/>
            <a:chExt cx="868680" cy="914400"/>
          </a:xfrm>
        </p:grpSpPr>
        <p:sp>
          <p:nvSpPr>
            <p:cNvPr id="201" name="Oval 12"/>
            <p:cNvSpPr/>
            <p:nvPr/>
          </p:nvSpPr>
          <p:spPr>
            <a:xfrm>
              <a:off x="7980120" y="5813280"/>
              <a:ext cx="80856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02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7948440" y="5791320"/>
              <a:ext cx="86868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3" name="Rectangle 15"/>
          <p:cNvSpPr/>
          <p:nvPr/>
        </p:nvSpPr>
        <p:spPr>
          <a:xfrm>
            <a:off x="626328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Rectangle 16"/>
          <p:cNvSpPr/>
          <p:nvPr/>
        </p:nvSpPr>
        <p:spPr>
          <a:xfrm>
            <a:off x="619632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17" descr="logo EDE.png"/>
          <p:cNvPicPr/>
          <p:nvPr/>
        </p:nvPicPr>
        <p:blipFill>
          <a:blip r:embed="rId3"/>
          <a:stretch/>
        </p:blipFill>
        <p:spPr>
          <a:xfrm>
            <a:off x="281160" y="5791320"/>
            <a:ext cx="774360" cy="93816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18"/>
          <p:cNvSpPr/>
          <p:nvPr/>
        </p:nvSpPr>
        <p:spPr>
          <a:xfrm>
            <a:off x="84780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19"/>
          <p:cNvSpPr/>
          <p:nvPr/>
        </p:nvSpPr>
        <p:spPr>
          <a:xfrm>
            <a:off x="45252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5"/>
          <p:cNvSpPr/>
          <p:nvPr/>
        </p:nvSpPr>
        <p:spPr>
          <a:xfrm>
            <a:off x="4513320" y="6369120"/>
            <a:ext cx="446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6D0EB-D8DD-4DC8-99C1-79CF7FC72A34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21"/>
          <p:cNvSpPr/>
          <p:nvPr/>
        </p:nvSpPr>
        <p:spPr>
          <a:xfrm>
            <a:off x="450684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0" y="2133720"/>
            <a:ext cx="2462040" cy="144756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11"/>
          <p:cNvSpPr/>
          <p:nvPr/>
        </p:nvSpPr>
        <p:spPr>
          <a:xfrm>
            <a:off x="6681960" y="2133720"/>
            <a:ext cx="2462040" cy="144756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4"/>
          </p:nvPr>
        </p:nvSpPr>
        <p:spPr>
          <a:xfrm>
            <a:off x="4993920" y="6492960"/>
            <a:ext cx="44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0ABA9-3D71-4616-8912-BD502CE3E1FF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2" name="Group 7"/>
          <p:cNvGrpSpPr/>
          <p:nvPr/>
        </p:nvGrpSpPr>
        <p:grpSpPr>
          <a:xfrm>
            <a:off x="7948440" y="5791320"/>
            <a:ext cx="868680" cy="914400"/>
            <a:chOff x="7948440" y="5791320"/>
            <a:chExt cx="868680" cy="914400"/>
          </a:xfrm>
        </p:grpSpPr>
        <p:sp>
          <p:nvSpPr>
            <p:cNvPr id="253" name="Oval 12"/>
            <p:cNvSpPr/>
            <p:nvPr/>
          </p:nvSpPr>
          <p:spPr>
            <a:xfrm>
              <a:off x="7980120" y="5813280"/>
              <a:ext cx="80856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54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7948440" y="5791320"/>
              <a:ext cx="86868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Rectangle 15"/>
          <p:cNvSpPr/>
          <p:nvPr/>
        </p:nvSpPr>
        <p:spPr>
          <a:xfrm>
            <a:off x="626328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16"/>
          <p:cNvSpPr/>
          <p:nvPr/>
        </p:nvSpPr>
        <p:spPr>
          <a:xfrm>
            <a:off x="619632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17" descr="logo EDE.png"/>
          <p:cNvPicPr/>
          <p:nvPr/>
        </p:nvPicPr>
        <p:blipFill>
          <a:blip r:embed="rId3"/>
          <a:stretch/>
        </p:blipFill>
        <p:spPr>
          <a:xfrm>
            <a:off x="281160" y="5791320"/>
            <a:ext cx="774360" cy="93816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18"/>
          <p:cNvSpPr/>
          <p:nvPr/>
        </p:nvSpPr>
        <p:spPr>
          <a:xfrm>
            <a:off x="84780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45252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5"/>
          <p:cNvSpPr/>
          <p:nvPr/>
        </p:nvSpPr>
        <p:spPr>
          <a:xfrm>
            <a:off x="4513320" y="6369120"/>
            <a:ext cx="446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80197-B1F3-4A0B-9F38-34121494F645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Rectangle 20"/>
          <p:cNvSpPr/>
          <p:nvPr/>
        </p:nvSpPr>
        <p:spPr>
          <a:xfrm>
            <a:off x="450684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1" name="Group 7"/>
          <p:cNvGrpSpPr/>
          <p:nvPr/>
        </p:nvGrpSpPr>
        <p:grpSpPr>
          <a:xfrm>
            <a:off x="7948440" y="5791320"/>
            <a:ext cx="868680" cy="914400"/>
            <a:chOff x="7948440" y="5791320"/>
            <a:chExt cx="868680" cy="914400"/>
          </a:xfrm>
        </p:grpSpPr>
        <p:sp>
          <p:nvSpPr>
            <p:cNvPr id="302" name="Oval 12"/>
            <p:cNvSpPr/>
            <p:nvPr/>
          </p:nvSpPr>
          <p:spPr>
            <a:xfrm>
              <a:off x="7980120" y="5813280"/>
              <a:ext cx="80856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03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7948440" y="5791320"/>
              <a:ext cx="86868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4" name="Rectangle 15"/>
          <p:cNvSpPr/>
          <p:nvPr/>
        </p:nvSpPr>
        <p:spPr>
          <a:xfrm>
            <a:off x="626328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16"/>
          <p:cNvSpPr/>
          <p:nvPr/>
        </p:nvSpPr>
        <p:spPr>
          <a:xfrm>
            <a:off x="619632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Picture 17" descr="logo EDE.png"/>
          <p:cNvPicPr/>
          <p:nvPr/>
        </p:nvPicPr>
        <p:blipFill>
          <a:blip r:embed="rId3"/>
          <a:stretch/>
        </p:blipFill>
        <p:spPr>
          <a:xfrm>
            <a:off x="281160" y="5791320"/>
            <a:ext cx="774360" cy="93816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18"/>
          <p:cNvSpPr/>
          <p:nvPr/>
        </p:nvSpPr>
        <p:spPr>
          <a:xfrm>
            <a:off x="84780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19"/>
          <p:cNvSpPr/>
          <p:nvPr/>
        </p:nvSpPr>
        <p:spPr>
          <a:xfrm>
            <a:off x="45252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5"/>
          <p:cNvSpPr/>
          <p:nvPr/>
        </p:nvSpPr>
        <p:spPr>
          <a:xfrm>
            <a:off x="4513320" y="6369120"/>
            <a:ext cx="446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B3413-ECC1-4796-8775-7F72EC33BBC1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9"/>
          <p:cNvSpPr/>
          <p:nvPr/>
        </p:nvSpPr>
        <p:spPr>
          <a:xfrm>
            <a:off x="8699400" y="281160"/>
            <a:ext cx="282600" cy="109044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traight Connector 11"/>
          <p:cNvSpPr/>
          <p:nvPr/>
        </p:nvSpPr>
        <p:spPr>
          <a:xfrm>
            <a:off x="384120" y="1365120"/>
            <a:ext cx="8580600" cy="6480"/>
          </a:xfrm>
          <a:prstGeom prst="line">
            <a:avLst/>
          </a:prstGeom>
          <a:ln w="9360">
            <a:solidFill>
              <a:srgbClr val="ccb6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Rectangle 12"/>
          <p:cNvSpPr/>
          <p:nvPr/>
        </p:nvSpPr>
        <p:spPr>
          <a:xfrm>
            <a:off x="8699400" y="0"/>
            <a:ext cx="282600" cy="301680"/>
          </a:xfrm>
          <a:prstGeom prst="rect">
            <a:avLst/>
          </a:prstGeom>
          <a:solidFill>
            <a:srgbClr val="a379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24"/>
          <p:cNvSpPr/>
          <p:nvPr/>
        </p:nvSpPr>
        <p:spPr>
          <a:xfrm>
            <a:off x="450684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3" name="Group 7"/>
          <p:cNvGrpSpPr/>
          <p:nvPr/>
        </p:nvGrpSpPr>
        <p:grpSpPr>
          <a:xfrm>
            <a:off x="7948440" y="5791320"/>
            <a:ext cx="868680" cy="914400"/>
            <a:chOff x="7948440" y="5791320"/>
            <a:chExt cx="868680" cy="914400"/>
          </a:xfrm>
        </p:grpSpPr>
        <p:sp>
          <p:nvSpPr>
            <p:cNvPr id="354" name="Oval 12"/>
            <p:cNvSpPr/>
            <p:nvPr/>
          </p:nvSpPr>
          <p:spPr>
            <a:xfrm>
              <a:off x="7980120" y="5813280"/>
              <a:ext cx="80856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55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7948440" y="5791320"/>
              <a:ext cx="86868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6" name="Rectangle 15"/>
          <p:cNvSpPr/>
          <p:nvPr/>
        </p:nvSpPr>
        <p:spPr>
          <a:xfrm>
            <a:off x="626328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Rectangle 16"/>
          <p:cNvSpPr/>
          <p:nvPr/>
        </p:nvSpPr>
        <p:spPr>
          <a:xfrm>
            <a:off x="619632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" name="Picture 17" descr="logo EDE.png"/>
          <p:cNvPicPr/>
          <p:nvPr/>
        </p:nvPicPr>
        <p:blipFill>
          <a:blip r:embed="rId3"/>
          <a:stretch/>
        </p:blipFill>
        <p:spPr>
          <a:xfrm>
            <a:off x="281160" y="5791320"/>
            <a:ext cx="774360" cy="93816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18"/>
          <p:cNvSpPr/>
          <p:nvPr/>
        </p:nvSpPr>
        <p:spPr>
          <a:xfrm>
            <a:off x="84780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Rectangle 19"/>
          <p:cNvSpPr/>
          <p:nvPr/>
        </p:nvSpPr>
        <p:spPr>
          <a:xfrm>
            <a:off x="45252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5"/>
          <p:cNvSpPr/>
          <p:nvPr/>
        </p:nvSpPr>
        <p:spPr>
          <a:xfrm>
            <a:off x="4513320" y="6369120"/>
            <a:ext cx="446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9B2F4-6A21-4111-9F31-6417789866A8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Rectangle 21"/>
          <p:cNvSpPr/>
          <p:nvPr/>
        </p:nvSpPr>
        <p:spPr>
          <a:xfrm>
            <a:off x="450684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Rectangle 9"/>
          <p:cNvSpPr/>
          <p:nvPr/>
        </p:nvSpPr>
        <p:spPr>
          <a:xfrm>
            <a:off x="0" y="2133720"/>
            <a:ext cx="2462040" cy="144756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11"/>
          <p:cNvSpPr/>
          <p:nvPr/>
        </p:nvSpPr>
        <p:spPr>
          <a:xfrm>
            <a:off x="6681960" y="2133720"/>
            <a:ext cx="2462040" cy="144756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sldNum" idx="5"/>
          </p:nvPr>
        </p:nvSpPr>
        <p:spPr>
          <a:xfrm>
            <a:off x="4993920" y="6492960"/>
            <a:ext cx="44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FD5A5-6DBA-4AD7-999D-7A7EE74A7582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5" name="Group 7"/>
          <p:cNvGrpSpPr/>
          <p:nvPr/>
        </p:nvGrpSpPr>
        <p:grpSpPr>
          <a:xfrm>
            <a:off x="7948440" y="5791320"/>
            <a:ext cx="868680" cy="914400"/>
            <a:chOff x="7948440" y="5791320"/>
            <a:chExt cx="868680" cy="914400"/>
          </a:xfrm>
        </p:grpSpPr>
        <p:sp>
          <p:nvSpPr>
            <p:cNvPr id="406" name="Oval 12"/>
            <p:cNvSpPr/>
            <p:nvPr/>
          </p:nvSpPr>
          <p:spPr>
            <a:xfrm>
              <a:off x="7980120" y="5813280"/>
              <a:ext cx="80856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07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7948440" y="5791320"/>
              <a:ext cx="86868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8" name="Rectangle 15"/>
          <p:cNvSpPr/>
          <p:nvPr/>
        </p:nvSpPr>
        <p:spPr>
          <a:xfrm>
            <a:off x="626328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Rectangle 16"/>
          <p:cNvSpPr/>
          <p:nvPr/>
        </p:nvSpPr>
        <p:spPr>
          <a:xfrm>
            <a:off x="619632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0" name="Picture 17" descr="logo EDE.png"/>
          <p:cNvPicPr/>
          <p:nvPr/>
        </p:nvPicPr>
        <p:blipFill>
          <a:blip r:embed="rId3"/>
          <a:stretch/>
        </p:blipFill>
        <p:spPr>
          <a:xfrm>
            <a:off x="281160" y="5791320"/>
            <a:ext cx="774360" cy="938160"/>
          </a:xfrm>
          <a:prstGeom prst="rect">
            <a:avLst/>
          </a:prstGeom>
          <a:ln w="0">
            <a:noFill/>
          </a:ln>
        </p:spPr>
      </p:pic>
      <p:sp>
        <p:nvSpPr>
          <p:cNvPr id="411" name="Rectangle 18"/>
          <p:cNvSpPr/>
          <p:nvPr/>
        </p:nvSpPr>
        <p:spPr>
          <a:xfrm>
            <a:off x="84780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Rectangle 19"/>
          <p:cNvSpPr/>
          <p:nvPr/>
        </p:nvSpPr>
        <p:spPr>
          <a:xfrm>
            <a:off x="45252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5"/>
          <p:cNvSpPr/>
          <p:nvPr/>
        </p:nvSpPr>
        <p:spPr>
          <a:xfrm>
            <a:off x="4513320" y="6369120"/>
            <a:ext cx="446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046D2-B509-4DBA-8A4E-02FE91E59EDC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Rectangle 9"/>
          <p:cNvSpPr/>
          <p:nvPr/>
        </p:nvSpPr>
        <p:spPr>
          <a:xfrm>
            <a:off x="8699400" y="281160"/>
            <a:ext cx="282600" cy="109044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traight Connector 11"/>
          <p:cNvSpPr/>
          <p:nvPr/>
        </p:nvSpPr>
        <p:spPr>
          <a:xfrm>
            <a:off x="384120" y="1365120"/>
            <a:ext cx="8580600" cy="6480"/>
          </a:xfrm>
          <a:prstGeom prst="line">
            <a:avLst/>
          </a:prstGeom>
          <a:ln w="9360">
            <a:solidFill>
              <a:srgbClr val="ccb6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12"/>
          <p:cNvSpPr/>
          <p:nvPr/>
        </p:nvSpPr>
        <p:spPr>
          <a:xfrm>
            <a:off x="8699400" y="0"/>
            <a:ext cx="282600" cy="301680"/>
          </a:xfrm>
          <a:prstGeom prst="rect">
            <a:avLst/>
          </a:prstGeom>
          <a:solidFill>
            <a:srgbClr val="a379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Rectangle 24"/>
          <p:cNvSpPr/>
          <p:nvPr/>
        </p:nvSpPr>
        <p:spPr>
          <a:xfrm>
            <a:off x="450684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4994280" y="6492960"/>
            <a:ext cx="44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1D820-0F0E-4D2D-8FA5-0BAECCDA544B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Rectangle 5"/>
          <p:cNvSpPr/>
          <p:nvPr/>
        </p:nvSpPr>
        <p:spPr>
          <a:xfrm>
            <a:off x="0" y="0"/>
            <a:ext cx="9144000" cy="3429000"/>
          </a:xfrm>
          <a:prstGeom prst="rect">
            <a:avLst/>
          </a:prstGeom>
          <a:solidFill>
            <a:srgbClr val="ad99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Subtitle 2"/>
          <p:cNvSpPr/>
          <p:nvPr/>
        </p:nvSpPr>
        <p:spPr>
          <a:xfrm>
            <a:off x="5375160" y="4648320"/>
            <a:ext cx="37688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f4d52"/>
                </a:solidFill>
                <a:latin typeface="Calibri"/>
              </a:rPr>
              <a:t>جامعة الملك فيص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f4d52"/>
                </a:solidFill>
                <a:latin typeface="Calibri"/>
              </a:rPr>
              <a:t>عمادة التعلم الإلكتروني والتعليم عن بع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f4d52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4" name="Group 7"/>
          <p:cNvGrpSpPr/>
          <p:nvPr/>
        </p:nvGrpSpPr>
        <p:grpSpPr>
          <a:xfrm>
            <a:off x="5994360" y="1981080"/>
            <a:ext cx="2400480" cy="2524320"/>
            <a:chOff x="5994360" y="1981080"/>
            <a:chExt cx="2400480" cy="2524320"/>
          </a:xfrm>
        </p:grpSpPr>
        <p:sp>
          <p:nvSpPr>
            <p:cNvPr id="515" name="Oval 8"/>
            <p:cNvSpPr/>
            <p:nvPr/>
          </p:nvSpPr>
          <p:spPr>
            <a:xfrm>
              <a:off x="6083280" y="2043000"/>
              <a:ext cx="2232360" cy="2397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16" name="Picture 2" descr="http://kfu.files.googlepages.com/newKFUlogo.jpg"/>
            <p:cNvPicPr/>
            <p:nvPr/>
          </p:nvPicPr>
          <p:blipFill>
            <a:blip r:embed="rId1"/>
            <a:stretch/>
          </p:blipFill>
          <p:spPr>
            <a:xfrm>
              <a:off x="5994360" y="1981080"/>
              <a:ext cx="2400480" cy="252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7" name="Freeform 10"/>
          <p:cNvSpPr/>
          <p:nvPr/>
        </p:nvSpPr>
        <p:spPr>
          <a:xfrm>
            <a:off x="0" y="2666880"/>
            <a:ext cx="5622840" cy="1447920"/>
          </a:xfrm>
          <a:custGeom>
            <a:avLst/>
            <a:gdLst/>
            <a:ahLst/>
            <a:rect l="l" t="t" r="r" b="b"/>
            <a:pathLst>
              <a:path w="6090557" h="1447800">
                <a:moveTo>
                  <a:pt x="1" y="0"/>
                </a:moveTo>
                <a:lnTo>
                  <a:pt x="5366657" y="0"/>
                </a:lnTo>
                <a:cubicBezTo>
                  <a:pt x="5558647" y="0"/>
                  <a:pt x="5742774" y="76268"/>
                  <a:pt x="5878532" y="212026"/>
                </a:cubicBezTo>
                <a:cubicBezTo>
                  <a:pt x="6014289" y="347784"/>
                  <a:pt x="6090557" y="531911"/>
                  <a:pt x="6090557" y="723901"/>
                </a:cubicBezTo>
                <a:lnTo>
                  <a:pt x="6090557" y="723900"/>
                </a:lnTo>
                <a:cubicBezTo>
                  <a:pt x="6090557" y="915890"/>
                  <a:pt x="6014289" y="1100017"/>
                  <a:pt x="5878531" y="1235775"/>
                </a:cubicBezTo>
                <a:cubicBezTo>
                  <a:pt x="5742773" y="1371533"/>
                  <a:pt x="5558646" y="1447800"/>
                  <a:pt x="5366656" y="1447800"/>
                </a:cubicBezTo>
                <a:lnTo>
                  <a:pt x="0" y="14478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Title 1"/>
          <p:cNvSpPr/>
          <p:nvPr/>
        </p:nvSpPr>
        <p:spPr>
          <a:xfrm>
            <a:off x="422280" y="2971800"/>
            <a:ext cx="4707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756525"/>
                </a:solidFill>
                <a:latin typeface="AYM Wadiy S_U normal."/>
                <a:cs typeface="PT Bold Heading"/>
              </a:rPr>
              <a:t>اسم المقرر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756525"/>
                </a:solidFill>
                <a:latin typeface="AYM Wadiy S_U normal."/>
                <a:cs typeface="PT Bold Heading"/>
              </a:rPr>
              <a:t>إدارة المعرفة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7f7f7f"/>
                </a:solidFill>
                <a:latin typeface="Calibri"/>
                <a:cs typeface="PT Bold Heading"/>
              </a:rPr>
              <a:t>اسم المدرس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7f7f7f"/>
                </a:solidFill>
                <a:latin typeface="Calibri"/>
                <a:cs typeface="PT Bold Heading"/>
              </a:rPr>
              <a:t>د. محمد الجيزاو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Slide Number Placeholder 10"/>
          <p:cNvSpPr/>
          <p:nvPr/>
        </p:nvSpPr>
        <p:spPr>
          <a:xfrm>
            <a:off x="352440" y="640548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7F2D2-5D65-431B-A5DD-C1EAD0389784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f5e"/>
                </a:solidFill>
                <a:latin typeface="Calibri"/>
                <a:cs typeface="PT Bold Heading"/>
              </a:rPr>
              <a:t>الخطو ة الثالثة: أستخلاص النتائ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f5e"/>
                </a:solidFill>
                <a:latin typeface="Calibri"/>
                <a:cs typeface="PT Bold Heading"/>
              </a:rPr>
              <a:t>وترتبط هذه الخطوة بتلخيص النتائج التي تم التوصل إليها من خلال تحليل استبانة المعرفة بقسميه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Slide Number Placeholder 3"/>
          <p:cNvSpPr/>
          <p:nvPr/>
        </p:nvSpPr>
        <p:spPr>
          <a:xfrm>
            <a:off x="1943280" y="6377040"/>
            <a:ext cx="527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ED356-8F02-4D4E-B7F6-05C9420407A3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عنوان 1"/>
          <p:cNvSpPr/>
          <p:nvPr/>
        </p:nvSpPr>
        <p:spPr>
          <a:xfrm>
            <a:off x="773280" y="549360"/>
            <a:ext cx="787860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عنصر نائب للمحتوى 2"/>
          <p:cNvSpPr/>
          <p:nvPr/>
        </p:nvSpPr>
        <p:spPr>
          <a:xfrm>
            <a:off x="942840" y="1447920"/>
            <a:ext cx="78487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 rtl="1">
              <a:spcBef>
                <a:spcPts val="75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Title 1"/>
          <p:cNvSpPr/>
          <p:nvPr/>
        </p:nvSpPr>
        <p:spPr>
          <a:xfrm>
            <a:off x="773280" y="120600"/>
            <a:ext cx="787860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9840" y="2971440"/>
            <a:ext cx="893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4f4d52"/>
                </a:solidFill>
                <a:latin typeface="Calibri"/>
                <a:cs typeface="PT Bold Heading"/>
              </a:rPr>
              <a:t>مع تمنياتي للجميع بالنجاح والتوفيق</a:t>
            </a:r>
            <a:endParaRPr b="0" lang="en-US" sz="60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8" name="Group 5" descr=""/>
          <p:cNvPicPr/>
          <p:nvPr/>
        </p:nvPicPr>
        <p:blipFill>
          <a:blip r:embed="rId1"/>
          <a:stretch/>
        </p:blipFill>
        <p:spPr>
          <a:xfrm>
            <a:off x="5877000" y="1889280"/>
            <a:ext cx="2584440" cy="2706480"/>
          </a:xfrm>
          <a:prstGeom prst="rect">
            <a:avLst/>
          </a:prstGeom>
          <a:ln w="0">
            <a:noFill/>
          </a:ln>
        </p:spPr>
      </p:pic>
      <p:sp>
        <p:nvSpPr>
          <p:cNvPr id="539" name="Rectangle 8"/>
          <p:cNvSpPr/>
          <p:nvPr/>
        </p:nvSpPr>
        <p:spPr>
          <a:xfrm>
            <a:off x="3165480" y="3352680"/>
            <a:ext cx="2602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7200" spc="-1" strike="noStrike">
                <a:solidFill>
                  <a:srgbClr val="ffffff"/>
                </a:solidFill>
                <a:latin typeface="Calibri"/>
              </a:rPr>
              <a:t>بحمد الله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Freeform 6"/>
          <p:cNvSpPr/>
          <p:nvPr/>
        </p:nvSpPr>
        <p:spPr>
          <a:xfrm>
            <a:off x="3165480" y="2209680"/>
            <a:ext cx="2482920" cy="1236960"/>
          </a:xfrm>
          <a:custGeom>
            <a:avLst/>
            <a:gdLst>
              <a:gd name="textAreaLeft" fmla="*/ 0 w 2482920"/>
              <a:gd name="textAreaRight" fmla="*/ 2482920 w 2482920"/>
              <a:gd name="textAreaTop" fmla="*/ 0 h 1236960"/>
              <a:gd name="textAreaBottom" fmla="*/ 1237320 h 1236960"/>
            </a:gdLst>
            <a:ahLst/>
            <a:rect l="textAreaLeft" t="textAreaTop" r="textAreaRight" b="textAreaBottom"/>
            <a:pathLst>
              <a:path w="1687" h="775">
                <a:moveTo>
                  <a:pt x="1374" y="74"/>
                </a:moveTo>
                <a:lnTo>
                  <a:pt x="1308" y="141"/>
                </a:lnTo>
                <a:lnTo>
                  <a:pt x="1248" y="80"/>
                </a:lnTo>
                <a:lnTo>
                  <a:pt x="1177" y="152"/>
                </a:lnTo>
                <a:lnTo>
                  <a:pt x="1100" y="75"/>
                </a:lnTo>
                <a:lnTo>
                  <a:pt x="1169" y="8"/>
                </a:lnTo>
                <a:lnTo>
                  <a:pt x="1229" y="68"/>
                </a:lnTo>
                <a:lnTo>
                  <a:pt x="1298" y="0"/>
                </a:lnTo>
                <a:lnTo>
                  <a:pt x="1374" y="74"/>
                </a:lnTo>
                <a:close/>
                <a:moveTo>
                  <a:pt x="1687" y="612"/>
                </a:moveTo>
                <a:lnTo>
                  <a:pt x="1686" y="635"/>
                </a:lnTo>
                <a:lnTo>
                  <a:pt x="1683" y="657"/>
                </a:lnTo>
                <a:lnTo>
                  <a:pt x="1677" y="678"/>
                </a:lnTo>
                <a:lnTo>
                  <a:pt x="1669" y="698"/>
                </a:lnTo>
                <a:lnTo>
                  <a:pt x="1656" y="723"/>
                </a:lnTo>
                <a:lnTo>
                  <a:pt x="1649" y="731"/>
                </a:lnTo>
                <a:lnTo>
                  <a:pt x="1641" y="739"/>
                </a:lnTo>
                <a:lnTo>
                  <a:pt x="1633" y="745"/>
                </a:lnTo>
                <a:lnTo>
                  <a:pt x="1623" y="750"/>
                </a:lnTo>
                <a:lnTo>
                  <a:pt x="1603" y="753"/>
                </a:lnTo>
                <a:lnTo>
                  <a:pt x="1583" y="751"/>
                </a:lnTo>
                <a:lnTo>
                  <a:pt x="1561" y="743"/>
                </a:lnTo>
                <a:lnTo>
                  <a:pt x="1542" y="731"/>
                </a:lnTo>
                <a:lnTo>
                  <a:pt x="1523" y="715"/>
                </a:lnTo>
                <a:lnTo>
                  <a:pt x="1504" y="695"/>
                </a:lnTo>
                <a:lnTo>
                  <a:pt x="1488" y="672"/>
                </a:lnTo>
                <a:lnTo>
                  <a:pt x="1474" y="646"/>
                </a:lnTo>
                <a:lnTo>
                  <a:pt x="1462" y="619"/>
                </a:lnTo>
                <a:lnTo>
                  <a:pt x="1425" y="640"/>
                </a:lnTo>
                <a:lnTo>
                  <a:pt x="1387" y="660"/>
                </a:lnTo>
                <a:lnTo>
                  <a:pt x="1346" y="678"/>
                </a:lnTo>
                <a:lnTo>
                  <a:pt x="1305" y="694"/>
                </a:lnTo>
                <a:lnTo>
                  <a:pt x="1251" y="710"/>
                </a:lnTo>
                <a:lnTo>
                  <a:pt x="1198" y="722"/>
                </a:lnTo>
                <a:lnTo>
                  <a:pt x="1146" y="729"/>
                </a:lnTo>
                <a:lnTo>
                  <a:pt x="1095" y="731"/>
                </a:lnTo>
                <a:lnTo>
                  <a:pt x="1060" y="728"/>
                </a:lnTo>
                <a:lnTo>
                  <a:pt x="1025" y="719"/>
                </a:lnTo>
                <a:lnTo>
                  <a:pt x="1008" y="711"/>
                </a:lnTo>
                <a:lnTo>
                  <a:pt x="991" y="702"/>
                </a:lnTo>
                <a:lnTo>
                  <a:pt x="974" y="691"/>
                </a:lnTo>
                <a:lnTo>
                  <a:pt x="957" y="678"/>
                </a:lnTo>
                <a:lnTo>
                  <a:pt x="929" y="653"/>
                </a:lnTo>
                <a:lnTo>
                  <a:pt x="908" y="627"/>
                </a:lnTo>
                <a:lnTo>
                  <a:pt x="900" y="615"/>
                </a:lnTo>
                <a:lnTo>
                  <a:pt x="895" y="603"/>
                </a:lnTo>
                <a:lnTo>
                  <a:pt x="889" y="577"/>
                </a:lnTo>
                <a:lnTo>
                  <a:pt x="780" y="628"/>
                </a:lnTo>
                <a:lnTo>
                  <a:pt x="659" y="683"/>
                </a:lnTo>
                <a:lnTo>
                  <a:pt x="603" y="706"/>
                </a:lnTo>
                <a:lnTo>
                  <a:pt x="552" y="724"/>
                </a:lnTo>
                <a:lnTo>
                  <a:pt x="481" y="746"/>
                </a:lnTo>
                <a:lnTo>
                  <a:pt x="415" y="762"/>
                </a:lnTo>
                <a:lnTo>
                  <a:pt x="355" y="772"/>
                </a:lnTo>
                <a:lnTo>
                  <a:pt x="302" y="775"/>
                </a:lnTo>
                <a:lnTo>
                  <a:pt x="268" y="774"/>
                </a:lnTo>
                <a:lnTo>
                  <a:pt x="236" y="772"/>
                </a:lnTo>
                <a:lnTo>
                  <a:pt x="206" y="769"/>
                </a:lnTo>
                <a:lnTo>
                  <a:pt x="178" y="764"/>
                </a:lnTo>
                <a:lnTo>
                  <a:pt x="153" y="758"/>
                </a:lnTo>
                <a:lnTo>
                  <a:pt x="129" y="751"/>
                </a:lnTo>
                <a:lnTo>
                  <a:pt x="107" y="741"/>
                </a:lnTo>
                <a:lnTo>
                  <a:pt x="88" y="731"/>
                </a:lnTo>
                <a:lnTo>
                  <a:pt x="68" y="717"/>
                </a:lnTo>
                <a:lnTo>
                  <a:pt x="50" y="701"/>
                </a:lnTo>
                <a:lnTo>
                  <a:pt x="35" y="681"/>
                </a:lnTo>
                <a:lnTo>
                  <a:pt x="22" y="661"/>
                </a:lnTo>
                <a:lnTo>
                  <a:pt x="12" y="639"/>
                </a:lnTo>
                <a:lnTo>
                  <a:pt x="8" y="626"/>
                </a:lnTo>
                <a:lnTo>
                  <a:pt x="5" y="613"/>
                </a:lnTo>
                <a:lnTo>
                  <a:pt x="1" y="587"/>
                </a:lnTo>
                <a:lnTo>
                  <a:pt x="0" y="558"/>
                </a:lnTo>
                <a:lnTo>
                  <a:pt x="2" y="523"/>
                </a:lnTo>
                <a:lnTo>
                  <a:pt x="6" y="491"/>
                </a:lnTo>
                <a:lnTo>
                  <a:pt x="13" y="459"/>
                </a:lnTo>
                <a:lnTo>
                  <a:pt x="23" y="428"/>
                </a:lnTo>
                <a:lnTo>
                  <a:pt x="34" y="407"/>
                </a:lnTo>
                <a:lnTo>
                  <a:pt x="48" y="381"/>
                </a:lnTo>
                <a:lnTo>
                  <a:pt x="66" y="379"/>
                </a:lnTo>
                <a:lnTo>
                  <a:pt x="52" y="411"/>
                </a:lnTo>
                <a:lnTo>
                  <a:pt x="45" y="432"/>
                </a:lnTo>
                <a:lnTo>
                  <a:pt x="41" y="455"/>
                </a:lnTo>
                <a:lnTo>
                  <a:pt x="38" y="478"/>
                </a:lnTo>
                <a:lnTo>
                  <a:pt x="37" y="502"/>
                </a:lnTo>
                <a:lnTo>
                  <a:pt x="38" y="522"/>
                </a:lnTo>
                <a:lnTo>
                  <a:pt x="42" y="540"/>
                </a:lnTo>
                <a:lnTo>
                  <a:pt x="47" y="557"/>
                </a:lnTo>
                <a:lnTo>
                  <a:pt x="55" y="573"/>
                </a:lnTo>
                <a:lnTo>
                  <a:pt x="66" y="588"/>
                </a:lnTo>
                <a:lnTo>
                  <a:pt x="78" y="603"/>
                </a:lnTo>
                <a:lnTo>
                  <a:pt x="93" y="616"/>
                </a:lnTo>
                <a:lnTo>
                  <a:pt x="110" y="629"/>
                </a:lnTo>
                <a:lnTo>
                  <a:pt x="128" y="641"/>
                </a:lnTo>
                <a:lnTo>
                  <a:pt x="149" y="650"/>
                </a:lnTo>
                <a:lnTo>
                  <a:pt x="171" y="659"/>
                </a:lnTo>
                <a:lnTo>
                  <a:pt x="183" y="662"/>
                </a:lnTo>
                <a:lnTo>
                  <a:pt x="194" y="665"/>
                </a:lnTo>
                <a:lnTo>
                  <a:pt x="220" y="671"/>
                </a:lnTo>
                <a:lnTo>
                  <a:pt x="245" y="675"/>
                </a:lnTo>
                <a:lnTo>
                  <a:pt x="274" y="677"/>
                </a:lnTo>
                <a:lnTo>
                  <a:pt x="304" y="678"/>
                </a:lnTo>
                <a:lnTo>
                  <a:pt x="352" y="676"/>
                </a:lnTo>
                <a:lnTo>
                  <a:pt x="379" y="673"/>
                </a:lnTo>
                <a:lnTo>
                  <a:pt x="405" y="669"/>
                </a:lnTo>
                <a:lnTo>
                  <a:pt x="462" y="657"/>
                </a:lnTo>
                <a:lnTo>
                  <a:pt x="522" y="641"/>
                </a:lnTo>
                <a:lnTo>
                  <a:pt x="571" y="625"/>
                </a:lnTo>
                <a:lnTo>
                  <a:pt x="623" y="606"/>
                </a:lnTo>
                <a:lnTo>
                  <a:pt x="738" y="559"/>
                </a:lnTo>
                <a:lnTo>
                  <a:pt x="923" y="476"/>
                </a:lnTo>
                <a:lnTo>
                  <a:pt x="927" y="494"/>
                </a:lnTo>
                <a:lnTo>
                  <a:pt x="932" y="512"/>
                </a:lnTo>
                <a:lnTo>
                  <a:pt x="940" y="529"/>
                </a:lnTo>
                <a:lnTo>
                  <a:pt x="949" y="545"/>
                </a:lnTo>
                <a:lnTo>
                  <a:pt x="961" y="561"/>
                </a:lnTo>
                <a:lnTo>
                  <a:pt x="975" y="575"/>
                </a:lnTo>
                <a:lnTo>
                  <a:pt x="990" y="588"/>
                </a:lnTo>
                <a:lnTo>
                  <a:pt x="1007" y="600"/>
                </a:lnTo>
                <a:lnTo>
                  <a:pt x="1035" y="617"/>
                </a:lnTo>
                <a:lnTo>
                  <a:pt x="1049" y="624"/>
                </a:lnTo>
                <a:lnTo>
                  <a:pt x="1064" y="629"/>
                </a:lnTo>
                <a:lnTo>
                  <a:pt x="1092" y="637"/>
                </a:lnTo>
                <a:lnTo>
                  <a:pt x="1106" y="639"/>
                </a:lnTo>
                <a:lnTo>
                  <a:pt x="1120" y="639"/>
                </a:lnTo>
                <a:lnTo>
                  <a:pt x="1164" y="638"/>
                </a:lnTo>
                <a:lnTo>
                  <a:pt x="1210" y="631"/>
                </a:lnTo>
                <a:lnTo>
                  <a:pt x="1256" y="622"/>
                </a:lnTo>
                <a:lnTo>
                  <a:pt x="1304" y="608"/>
                </a:lnTo>
                <a:lnTo>
                  <a:pt x="1343" y="593"/>
                </a:lnTo>
                <a:lnTo>
                  <a:pt x="1379" y="578"/>
                </a:lnTo>
                <a:lnTo>
                  <a:pt x="1411" y="561"/>
                </a:lnTo>
                <a:lnTo>
                  <a:pt x="1439" y="543"/>
                </a:lnTo>
                <a:lnTo>
                  <a:pt x="1429" y="509"/>
                </a:lnTo>
                <a:lnTo>
                  <a:pt x="1415" y="445"/>
                </a:lnTo>
                <a:lnTo>
                  <a:pt x="1409" y="413"/>
                </a:lnTo>
                <a:lnTo>
                  <a:pt x="1406" y="365"/>
                </a:lnTo>
                <a:lnTo>
                  <a:pt x="1403" y="317"/>
                </a:lnTo>
                <a:lnTo>
                  <a:pt x="1385" y="251"/>
                </a:lnTo>
                <a:lnTo>
                  <a:pt x="1411" y="149"/>
                </a:lnTo>
                <a:lnTo>
                  <a:pt x="1507" y="340"/>
                </a:lnTo>
                <a:lnTo>
                  <a:pt x="1507" y="365"/>
                </a:lnTo>
                <a:lnTo>
                  <a:pt x="1465" y="336"/>
                </a:lnTo>
                <a:lnTo>
                  <a:pt x="1461" y="341"/>
                </a:lnTo>
                <a:lnTo>
                  <a:pt x="1458" y="347"/>
                </a:lnTo>
                <a:lnTo>
                  <a:pt x="1461" y="381"/>
                </a:lnTo>
                <a:lnTo>
                  <a:pt x="1469" y="424"/>
                </a:lnTo>
                <a:lnTo>
                  <a:pt x="1475" y="451"/>
                </a:lnTo>
                <a:lnTo>
                  <a:pt x="1483" y="475"/>
                </a:lnTo>
                <a:lnTo>
                  <a:pt x="1491" y="495"/>
                </a:lnTo>
                <a:lnTo>
                  <a:pt x="1501" y="511"/>
                </a:lnTo>
                <a:lnTo>
                  <a:pt x="1525" y="498"/>
                </a:lnTo>
                <a:lnTo>
                  <a:pt x="1549" y="490"/>
                </a:lnTo>
                <a:lnTo>
                  <a:pt x="1571" y="483"/>
                </a:lnTo>
                <a:lnTo>
                  <a:pt x="1592" y="481"/>
                </a:lnTo>
                <a:lnTo>
                  <a:pt x="1616" y="484"/>
                </a:lnTo>
                <a:lnTo>
                  <a:pt x="1626" y="488"/>
                </a:lnTo>
                <a:lnTo>
                  <a:pt x="1636" y="494"/>
                </a:lnTo>
                <a:lnTo>
                  <a:pt x="1651" y="506"/>
                </a:lnTo>
                <a:lnTo>
                  <a:pt x="1663" y="518"/>
                </a:lnTo>
                <a:lnTo>
                  <a:pt x="1672" y="532"/>
                </a:lnTo>
                <a:lnTo>
                  <a:pt x="1680" y="548"/>
                </a:lnTo>
                <a:lnTo>
                  <a:pt x="1685" y="576"/>
                </a:lnTo>
                <a:lnTo>
                  <a:pt x="1687" y="612"/>
                </a:lnTo>
                <a:close/>
                <a:moveTo>
                  <a:pt x="553" y="364"/>
                </a:moveTo>
                <a:lnTo>
                  <a:pt x="487" y="431"/>
                </a:lnTo>
                <a:lnTo>
                  <a:pt x="428" y="370"/>
                </a:lnTo>
                <a:lnTo>
                  <a:pt x="356" y="441"/>
                </a:lnTo>
                <a:lnTo>
                  <a:pt x="280" y="365"/>
                </a:lnTo>
                <a:lnTo>
                  <a:pt x="347" y="297"/>
                </a:lnTo>
                <a:lnTo>
                  <a:pt x="409" y="359"/>
                </a:lnTo>
                <a:lnTo>
                  <a:pt x="479" y="289"/>
                </a:lnTo>
                <a:lnTo>
                  <a:pt x="553" y="364"/>
                </a:lnTo>
                <a:close/>
                <a:moveTo>
                  <a:pt x="1636" y="637"/>
                </a:moveTo>
                <a:lnTo>
                  <a:pt x="1622" y="613"/>
                </a:lnTo>
                <a:lnTo>
                  <a:pt x="1605" y="593"/>
                </a:lnTo>
                <a:lnTo>
                  <a:pt x="1597" y="587"/>
                </a:lnTo>
                <a:lnTo>
                  <a:pt x="1589" y="583"/>
                </a:lnTo>
                <a:lnTo>
                  <a:pt x="1577" y="582"/>
                </a:lnTo>
                <a:lnTo>
                  <a:pt x="1561" y="584"/>
                </a:lnTo>
                <a:lnTo>
                  <a:pt x="1543" y="591"/>
                </a:lnTo>
                <a:lnTo>
                  <a:pt x="1536" y="595"/>
                </a:lnTo>
                <a:lnTo>
                  <a:pt x="1556" y="624"/>
                </a:lnTo>
                <a:lnTo>
                  <a:pt x="1568" y="636"/>
                </a:lnTo>
                <a:lnTo>
                  <a:pt x="1580" y="644"/>
                </a:lnTo>
                <a:lnTo>
                  <a:pt x="1590" y="649"/>
                </a:lnTo>
                <a:lnTo>
                  <a:pt x="1601" y="652"/>
                </a:lnTo>
                <a:lnTo>
                  <a:pt x="1611" y="649"/>
                </a:lnTo>
                <a:lnTo>
                  <a:pt x="1625" y="644"/>
                </a:lnTo>
                <a:lnTo>
                  <a:pt x="1636" y="637"/>
                </a:lnTo>
                <a:close/>
                <a:moveTo>
                  <a:pt x="1288" y="458"/>
                </a:moveTo>
                <a:lnTo>
                  <a:pt x="1287" y="475"/>
                </a:lnTo>
                <a:lnTo>
                  <a:pt x="1285" y="489"/>
                </a:lnTo>
                <a:lnTo>
                  <a:pt x="1280" y="500"/>
                </a:lnTo>
                <a:lnTo>
                  <a:pt x="1275" y="509"/>
                </a:lnTo>
                <a:lnTo>
                  <a:pt x="1268" y="516"/>
                </a:lnTo>
                <a:lnTo>
                  <a:pt x="1259" y="522"/>
                </a:lnTo>
                <a:lnTo>
                  <a:pt x="1248" y="525"/>
                </a:lnTo>
                <a:lnTo>
                  <a:pt x="1237" y="526"/>
                </a:lnTo>
                <a:lnTo>
                  <a:pt x="1222" y="523"/>
                </a:lnTo>
                <a:lnTo>
                  <a:pt x="1214" y="518"/>
                </a:lnTo>
                <a:lnTo>
                  <a:pt x="1208" y="513"/>
                </a:lnTo>
                <a:lnTo>
                  <a:pt x="1198" y="499"/>
                </a:lnTo>
                <a:lnTo>
                  <a:pt x="1191" y="483"/>
                </a:lnTo>
                <a:lnTo>
                  <a:pt x="1183" y="505"/>
                </a:lnTo>
                <a:lnTo>
                  <a:pt x="1179" y="513"/>
                </a:lnTo>
                <a:lnTo>
                  <a:pt x="1173" y="523"/>
                </a:lnTo>
                <a:lnTo>
                  <a:pt x="1165" y="529"/>
                </a:lnTo>
                <a:lnTo>
                  <a:pt x="1158" y="534"/>
                </a:lnTo>
                <a:lnTo>
                  <a:pt x="1150" y="538"/>
                </a:lnTo>
                <a:lnTo>
                  <a:pt x="1142" y="539"/>
                </a:lnTo>
                <a:lnTo>
                  <a:pt x="1134" y="538"/>
                </a:lnTo>
                <a:lnTo>
                  <a:pt x="1123" y="534"/>
                </a:lnTo>
                <a:lnTo>
                  <a:pt x="1114" y="529"/>
                </a:lnTo>
                <a:lnTo>
                  <a:pt x="1107" y="522"/>
                </a:lnTo>
                <a:lnTo>
                  <a:pt x="1101" y="513"/>
                </a:lnTo>
                <a:lnTo>
                  <a:pt x="1097" y="504"/>
                </a:lnTo>
                <a:lnTo>
                  <a:pt x="1094" y="492"/>
                </a:lnTo>
                <a:lnTo>
                  <a:pt x="1092" y="466"/>
                </a:lnTo>
                <a:lnTo>
                  <a:pt x="1095" y="430"/>
                </a:lnTo>
                <a:lnTo>
                  <a:pt x="1098" y="407"/>
                </a:lnTo>
                <a:lnTo>
                  <a:pt x="1070" y="439"/>
                </a:lnTo>
                <a:lnTo>
                  <a:pt x="1070" y="427"/>
                </a:lnTo>
                <a:lnTo>
                  <a:pt x="1079" y="408"/>
                </a:lnTo>
                <a:lnTo>
                  <a:pt x="1094" y="387"/>
                </a:lnTo>
                <a:lnTo>
                  <a:pt x="1113" y="373"/>
                </a:lnTo>
                <a:lnTo>
                  <a:pt x="1112" y="399"/>
                </a:lnTo>
                <a:lnTo>
                  <a:pt x="1112" y="424"/>
                </a:lnTo>
                <a:lnTo>
                  <a:pt x="1113" y="455"/>
                </a:lnTo>
                <a:lnTo>
                  <a:pt x="1117" y="476"/>
                </a:lnTo>
                <a:lnTo>
                  <a:pt x="1122" y="483"/>
                </a:lnTo>
                <a:lnTo>
                  <a:pt x="1127" y="490"/>
                </a:lnTo>
                <a:lnTo>
                  <a:pt x="1133" y="493"/>
                </a:lnTo>
                <a:lnTo>
                  <a:pt x="1142" y="494"/>
                </a:lnTo>
                <a:lnTo>
                  <a:pt x="1157" y="490"/>
                </a:lnTo>
                <a:lnTo>
                  <a:pt x="1164" y="485"/>
                </a:lnTo>
                <a:lnTo>
                  <a:pt x="1172" y="480"/>
                </a:lnTo>
                <a:lnTo>
                  <a:pt x="1181" y="467"/>
                </a:lnTo>
                <a:lnTo>
                  <a:pt x="1186" y="455"/>
                </a:lnTo>
                <a:lnTo>
                  <a:pt x="1182" y="433"/>
                </a:lnTo>
                <a:lnTo>
                  <a:pt x="1175" y="403"/>
                </a:lnTo>
                <a:lnTo>
                  <a:pt x="1171" y="387"/>
                </a:lnTo>
                <a:lnTo>
                  <a:pt x="1191" y="359"/>
                </a:lnTo>
                <a:lnTo>
                  <a:pt x="1196" y="376"/>
                </a:lnTo>
                <a:lnTo>
                  <a:pt x="1203" y="399"/>
                </a:lnTo>
                <a:lnTo>
                  <a:pt x="1206" y="425"/>
                </a:lnTo>
                <a:lnTo>
                  <a:pt x="1210" y="448"/>
                </a:lnTo>
                <a:lnTo>
                  <a:pt x="1214" y="464"/>
                </a:lnTo>
                <a:lnTo>
                  <a:pt x="1221" y="473"/>
                </a:lnTo>
                <a:lnTo>
                  <a:pt x="1227" y="480"/>
                </a:lnTo>
                <a:lnTo>
                  <a:pt x="1236" y="483"/>
                </a:lnTo>
                <a:lnTo>
                  <a:pt x="1246" y="484"/>
                </a:lnTo>
                <a:lnTo>
                  <a:pt x="1255" y="483"/>
                </a:lnTo>
                <a:lnTo>
                  <a:pt x="1261" y="479"/>
                </a:lnTo>
                <a:lnTo>
                  <a:pt x="1265" y="473"/>
                </a:lnTo>
                <a:lnTo>
                  <a:pt x="1268" y="464"/>
                </a:lnTo>
                <a:lnTo>
                  <a:pt x="1263" y="444"/>
                </a:lnTo>
                <a:lnTo>
                  <a:pt x="1260" y="431"/>
                </a:lnTo>
                <a:lnTo>
                  <a:pt x="1254" y="415"/>
                </a:lnTo>
                <a:lnTo>
                  <a:pt x="1239" y="384"/>
                </a:lnTo>
                <a:lnTo>
                  <a:pt x="1261" y="353"/>
                </a:lnTo>
                <a:lnTo>
                  <a:pt x="1279" y="401"/>
                </a:lnTo>
                <a:lnTo>
                  <a:pt x="1286" y="429"/>
                </a:lnTo>
                <a:lnTo>
                  <a:pt x="1288" y="458"/>
                </a:lnTo>
                <a:close/>
                <a:moveTo>
                  <a:pt x="846" y="364"/>
                </a:moveTo>
                <a:lnTo>
                  <a:pt x="1275" y="242"/>
                </a:lnTo>
                <a:lnTo>
                  <a:pt x="1222" y="284"/>
                </a:lnTo>
                <a:lnTo>
                  <a:pt x="792" y="406"/>
                </a:lnTo>
                <a:lnTo>
                  <a:pt x="846" y="364"/>
                </a:lnTo>
                <a:close/>
                <a:moveTo>
                  <a:pt x="892" y="106"/>
                </a:moveTo>
                <a:lnTo>
                  <a:pt x="881" y="110"/>
                </a:lnTo>
                <a:lnTo>
                  <a:pt x="875" y="101"/>
                </a:lnTo>
                <a:lnTo>
                  <a:pt x="869" y="95"/>
                </a:lnTo>
                <a:lnTo>
                  <a:pt x="863" y="92"/>
                </a:lnTo>
                <a:lnTo>
                  <a:pt x="859" y="95"/>
                </a:lnTo>
                <a:lnTo>
                  <a:pt x="853" y="100"/>
                </a:lnTo>
                <a:lnTo>
                  <a:pt x="844" y="125"/>
                </a:lnTo>
                <a:lnTo>
                  <a:pt x="834" y="162"/>
                </a:lnTo>
                <a:lnTo>
                  <a:pt x="825" y="205"/>
                </a:lnTo>
                <a:lnTo>
                  <a:pt x="813" y="205"/>
                </a:lnTo>
                <a:lnTo>
                  <a:pt x="805" y="178"/>
                </a:lnTo>
                <a:lnTo>
                  <a:pt x="797" y="156"/>
                </a:lnTo>
                <a:lnTo>
                  <a:pt x="787" y="144"/>
                </a:lnTo>
                <a:lnTo>
                  <a:pt x="780" y="140"/>
                </a:lnTo>
                <a:lnTo>
                  <a:pt x="762" y="140"/>
                </a:lnTo>
                <a:lnTo>
                  <a:pt x="754" y="138"/>
                </a:lnTo>
                <a:lnTo>
                  <a:pt x="748" y="134"/>
                </a:lnTo>
                <a:lnTo>
                  <a:pt x="743" y="128"/>
                </a:lnTo>
                <a:lnTo>
                  <a:pt x="738" y="121"/>
                </a:lnTo>
                <a:lnTo>
                  <a:pt x="736" y="115"/>
                </a:lnTo>
                <a:lnTo>
                  <a:pt x="736" y="106"/>
                </a:lnTo>
                <a:lnTo>
                  <a:pt x="737" y="96"/>
                </a:lnTo>
                <a:lnTo>
                  <a:pt x="741" y="88"/>
                </a:lnTo>
                <a:lnTo>
                  <a:pt x="747" y="84"/>
                </a:lnTo>
                <a:lnTo>
                  <a:pt x="755" y="83"/>
                </a:lnTo>
                <a:lnTo>
                  <a:pt x="769" y="85"/>
                </a:lnTo>
                <a:lnTo>
                  <a:pt x="781" y="94"/>
                </a:lnTo>
                <a:lnTo>
                  <a:pt x="793" y="106"/>
                </a:lnTo>
                <a:lnTo>
                  <a:pt x="802" y="125"/>
                </a:lnTo>
                <a:lnTo>
                  <a:pt x="820" y="165"/>
                </a:lnTo>
                <a:lnTo>
                  <a:pt x="828" y="129"/>
                </a:lnTo>
                <a:lnTo>
                  <a:pt x="834" y="103"/>
                </a:lnTo>
                <a:lnTo>
                  <a:pt x="842" y="83"/>
                </a:lnTo>
                <a:lnTo>
                  <a:pt x="846" y="74"/>
                </a:lnTo>
                <a:lnTo>
                  <a:pt x="850" y="68"/>
                </a:lnTo>
                <a:lnTo>
                  <a:pt x="854" y="63"/>
                </a:lnTo>
                <a:lnTo>
                  <a:pt x="859" y="59"/>
                </a:lnTo>
                <a:lnTo>
                  <a:pt x="867" y="56"/>
                </a:lnTo>
                <a:lnTo>
                  <a:pt x="874" y="57"/>
                </a:lnTo>
                <a:lnTo>
                  <a:pt x="880" y="61"/>
                </a:lnTo>
                <a:lnTo>
                  <a:pt x="893" y="75"/>
                </a:lnTo>
                <a:lnTo>
                  <a:pt x="892" y="106"/>
                </a:lnTo>
                <a:close/>
                <a:moveTo>
                  <a:pt x="500" y="84"/>
                </a:moveTo>
                <a:lnTo>
                  <a:pt x="500" y="92"/>
                </a:lnTo>
                <a:lnTo>
                  <a:pt x="497" y="101"/>
                </a:lnTo>
                <a:lnTo>
                  <a:pt x="487" y="117"/>
                </a:lnTo>
                <a:lnTo>
                  <a:pt x="481" y="123"/>
                </a:lnTo>
                <a:lnTo>
                  <a:pt x="472" y="131"/>
                </a:lnTo>
                <a:lnTo>
                  <a:pt x="450" y="143"/>
                </a:lnTo>
                <a:lnTo>
                  <a:pt x="389" y="167"/>
                </a:lnTo>
                <a:lnTo>
                  <a:pt x="356" y="167"/>
                </a:lnTo>
                <a:lnTo>
                  <a:pt x="398" y="148"/>
                </a:lnTo>
                <a:lnTo>
                  <a:pt x="420" y="136"/>
                </a:lnTo>
                <a:lnTo>
                  <a:pt x="440" y="123"/>
                </a:lnTo>
                <a:lnTo>
                  <a:pt x="471" y="98"/>
                </a:lnTo>
                <a:lnTo>
                  <a:pt x="395" y="98"/>
                </a:lnTo>
                <a:lnTo>
                  <a:pt x="387" y="99"/>
                </a:lnTo>
                <a:lnTo>
                  <a:pt x="370" y="112"/>
                </a:lnTo>
                <a:lnTo>
                  <a:pt x="370" y="91"/>
                </a:lnTo>
                <a:lnTo>
                  <a:pt x="383" y="72"/>
                </a:lnTo>
                <a:lnTo>
                  <a:pt x="393" y="64"/>
                </a:lnTo>
                <a:lnTo>
                  <a:pt x="404" y="62"/>
                </a:lnTo>
                <a:lnTo>
                  <a:pt x="500" y="62"/>
                </a:lnTo>
                <a:lnTo>
                  <a:pt x="502" y="69"/>
                </a:lnTo>
                <a:lnTo>
                  <a:pt x="500" y="84"/>
                </a:lnTo>
                <a:close/>
                <a:moveTo>
                  <a:pt x="117" y="259"/>
                </a:moveTo>
                <a:lnTo>
                  <a:pt x="113" y="276"/>
                </a:lnTo>
                <a:lnTo>
                  <a:pt x="105" y="294"/>
                </a:lnTo>
                <a:lnTo>
                  <a:pt x="96" y="303"/>
                </a:lnTo>
                <a:lnTo>
                  <a:pt x="88" y="310"/>
                </a:lnTo>
                <a:lnTo>
                  <a:pt x="78" y="314"/>
                </a:lnTo>
                <a:lnTo>
                  <a:pt x="68" y="315"/>
                </a:lnTo>
                <a:lnTo>
                  <a:pt x="58" y="314"/>
                </a:lnTo>
                <a:lnTo>
                  <a:pt x="48" y="310"/>
                </a:lnTo>
                <a:lnTo>
                  <a:pt x="41" y="303"/>
                </a:lnTo>
                <a:lnTo>
                  <a:pt x="35" y="294"/>
                </a:lnTo>
                <a:lnTo>
                  <a:pt x="29" y="282"/>
                </a:lnTo>
                <a:lnTo>
                  <a:pt x="25" y="270"/>
                </a:lnTo>
                <a:lnTo>
                  <a:pt x="23" y="259"/>
                </a:lnTo>
                <a:lnTo>
                  <a:pt x="22" y="246"/>
                </a:lnTo>
                <a:lnTo>
                  <a:pt x="23" y="227"/>
                </a:lnTo>
                <a:lnTo>
                  <a:pt x="26" y="205"/>
                </a:lnTo>
                <a:lnTo>
                  <a:pt x="33" y="182"/>
                </a:lnTo>
                <a:lnTo>
                  <a:pt x="40" y="156"/>
                </a:lnTo>
                <a:lnTo>
                  <a:pt x="50" y="131"/>
                </a:lnTo>
                <a:lnTo>
                  <a:pt x="60" y="107"/>
                </a:lnTo>
                <a:lnTo>
                  <a:pt x="71" y="86"/>
                </a:lnTo>
                <a:lnTo>
                  <a:pt x="84" y="67"/>
                </a:lnTo>
                <a:lnTo>
                  <a:pt x="83" y="80"/>
                </a:lnTo>
                <a:lnTo>
                  <a:pt x="79" y="97"/>
                </a:lnTo>
                <a:lnTo>
                  <a:pt x="74" y="117"/>
                </a:lnTo>
                <a:lnTo>
                  <a:pt x="68" y="140"/>
                </a:lnTo>
                <a:lnTo>
                  <a:pt x="55" y="184"/>
                </a:lnTo>
                <a:lnTo>
                  <a:pt x="52" y="202"/>
                </a:lnTo>
                <a:lnTo>
                  <a:pt x="51" y="217"/>
                </a:lnTo>
                <a:lnTo>
                  <a:pt x="53" y="231"/>
                </a:lnTo>
                <a:lnTo>
                  <a:pt x="57" y="245"/>
                </a:lnTo>
                <a:lnTo>
                  <a:pt x="64" y="256"/>
                </a:lnTo>
                <a:lnTo>
                  <a:pt x="70" y="260"/>
                </a:lnTo>
                <a:lnTo>
                  <a:pt x="75" y="261"/>
                </a:lnTo>
                <a:lnTo>
                  <a:pt x="84" y="258"/>
                </a:lnTo>
                <a:lnTo>
                  <a:pt x="91" y="249"/>
                </a:lnTo>
                <a:lnTo>
                  <a:pt x="100" y="234"/>
                </a:lnTo>
                <a:lnTo>
                  <a:pt x="109" y="212"/>
                </a:lnTo>
                <a:lnTo>
                  <a:pt x="112" y="217"/>
                </a:lnTo>
                <a:lnTo>
                  <a:pt x="116" y="225"/>
                </a:lnTo>
                <a:lnTo>
                  <a:pt x="117" y="242"/>
                </a:lnTo>
                <a:lnTo>
                  <a:pt x="117" y="2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1" name="Picture 8" descr="logo EDE.png"/>
          <p:cNvPicPr/>
          <p:nvPr/>
        </p:nvPicPr>
        <p:blipFill>
          <a:blip r:embed="rId2"/>
          <a:stretch/>
        </p:blipFill>
        <p:spPr>
          <a:xfrm>
            <a:off x="844560" y="2133720"/>
            <a:ext cx="1946160" cy="2361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70344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خطوات مراجعة القدرات</a:t>
            </a:r>
            <a:br>
              <a:rPr sz="4400"/>
            </a:br>
            <a:r>
              <a:rPr b="0" lang="ar-SA" sz="44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المعرفيةبالمنظم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914400" y="426708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  <a:cs typeface="PT Bold Heading"/>
              </a:rPr>
              <a:t>المحاضرة الخامس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af9738"/>
                </a:solidFill>
                <a:latin typeface="Calibri"/>
                <a:cs typeface="PT Bold Heading"/>
              </a:rPr>
              <a:t>خطوات مراجعة القدرات المعرفي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تهدف مراجعة القدرات المعرفية إلى حل مشاكل الأعمال في المنظمة من خلال النقاط التالية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lvl="1" marL="831960" indent="-415800" algn="r" rtl="1">
              <a:spcBef>
                <a:spcPts val="601"/>
              </a:spcBef>
              <a:buClr>
                <a:srgbClr val="003f5e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تحديد ما هي المعرفة المتاحة حالياً في القسم أو الإدارة </a:t>
            </a:r>
            <a:r>
              <a:rPr b="0" lang="ar-SA" sz="2400" spc="-1" strike="noStrike">
                <a:solidFill>
                  <a:srgbClr val="ff0000"/>
                </a:solidFill>
                <a:latin typeface="Calibri"/>
                <a:ea typeface="PT Bold Heading"/>
              </a:rPr>
              <a:t>(المنطقة المستهدفة) 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من خلال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31960" indent="-415800" algn="r" rtl="1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 algn="r" rtl="1">
              <a:spcBef>
                <a:spcPts val="451"/>
              </a:spcBef>
              <a:buClr>
                <a:srgbClr val="003f5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3f5e"/>
                </a:solidFill>
                <a:latin typeface="Calibri"/>
                <a:cs typeface="PT Bold Heading"/>
              </a:rPr>
              <a:t>تحديد المعرفة المتاحة حالياً والمحتمل الحصول عليها من المصادر المختلفة، وتحديد العوامل البيئية التي تؤثر على القسم أو الإدارة المستهدفة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 algn="r" rtl="1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 algn="r" rtl="1">
              <a:spcBef>
                <a:spcPts val="451"/>
              </a:spcBef>
              <a:buClr>
                <a:srgbClr val="003f5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3f5e"/>
                </a:solidFill>
                <a:latin typeface="Calibri"/>
                <a:cs typeface="PT Bold Heading"/>
              </a:rPr>
              <a:t>تحديد وتخصيص ( </a:t>
            </a:r>
            <a:r>
              <a:rPr b="0" lang="ar-SA" sz="1800" spc="-1" strike="noStrike">
                <a:solidFill>
                  <a:srgbClr val="ff0000"/>
                </a:solidFill>
                <a:latin typeface="Calibri"/>
                <a:cs typeface="PT Bold Heading"/>
              </a:rPr>
              <a:t>تصنيف</a:t>
            </a:r>
            <a:r>
              <a:rPr b="0" lang="ar-SA" sz="1800" spc="-1" strike="noStrike">
                <a:solidFill>
                  <a:srgbClr val="003f5e"/>
                </a:solidFill>
                <a:latin typeface="Calibri"/>
                <a:ea typeface="PT Bold Heading"/>
              </a:rPr>
              <a:t> ) المعرفة الضمنية والمعرفة الواضحة في المنطقة المستهدفة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 algn="r" rtl="1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 algn="r" rtl="1">
              <a:spcBef>
                <a:spcPts val="451"/>
              </a:spcBef>
              <a:buClr>
                <a:srgbClr val="003f5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3f5e"/>
                </a:solidFill>
                <a:latin typeface="Calibri"/>
                <a:cs typeface="PT Bold Heading"/>
              </a:rPr>
              <a:t>بناء خريطة المعرفة لتصنيف وتدفق المعرفة في المنظمة وكذلك في القسم أو الإدارة المستهدفة (هذه الخريطة متعلقة بــ  </a:t>
            </a:r>
            <a:r>
              <a:rPr b="0" lang="ar-SA" sz="1800" spc="-1" strike="noStrike">
                <a:solidFill>
                  <a:srgbClr val="ff0000"/>
                </a:solidFill>
                <a:latin typeface="Calibri"/>
                <a:cs typeface="PT Bold Heading"/>
              </a:rPr>
              <a:t>الأفراد الوثائق الأفكار الموارد الخارجية ودرجة كثافتها التي تحدد سهولة أو صعوبة حصول الأفراد على المعرفة منها</a:t>
            </a:r>
            <a:r>
              <a:rPr b="0" lang="ar-SA" sz="1800" spc="-1" strike="noStrike">
                <a:solidFill>
                  <a:srgbClr val="003f5e"/>
                </a:solidFill>
                <a:latin typeface="Calibri"/>
                <a:ea typeface="PT Bold Heading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f5e"/>
                </a:solidFill>
                <a:latin typeface="Calibri"/>
                <a:ea typeface="PT Bold Heading"/>
              </a:rPr>
              <a:t>	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(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2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) تحديد المعرفة التي تفتقر إليها المنطقة المستهدفة وتشمل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451"/>
              </a:spcBef>
              <a:buClr>
                <a:srgbClr val="003f5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3f5e"/>
                </a:solidFill>
                <a:latin typeface="Calibri"/>
                <a:cs typeface="PT Bold Heading"/>
              </a:rPr>
              <a:t>عمل تحليل فجوة لتحديد ما هي المعرفة التي تفتقدها لتحقيق أهداف الأعمال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451"/>
              </a:spcBef>
              <a:buClr>
                <a:srgbClr val="003f5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3f5e"/>
                </a:solidFill>
                <a:latin typeface="Calibri"/>
                <a:cs typeface="PT Bold Heading"/>
              </a:rPr>
              <a:t>تحديد من يحتاج إلى هذه المعرفة المفقودة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400"/>
              </a:spcBef>
              <a:buClr>
                <a:srgbClr val="003f5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	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(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3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) الحصول على التوصيات من مراجعة القدرات المعرفية للإدارة من خلال النظر إلى الوضع القائم والتحسينات الممكنة لأنشطة إدارة المعرفة في المنطقة المستهدف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3f5e"/>
                </a:solidFill>
                <a:latin typeface="Calibri"/>
                <a:cs typeface="PT Bold Heading"/>
              </a:rPr>
              <a:t>يقسم الاستبيان إلى قسمين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3f5e"/>
                </a:solidFill>
                <a:latin typeface="Calibri"/>
                <a:cs typeface="PT Bold Heading"/>
              </a:rPr>
              <a:t>القسم الأول: يغطي الخطوة الأولى في مراجعة القدرات المعرفي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3f5e"/>
                </a:solidFill>
                <a:latin typeface="Calibri"/>
                <a:cs typeface="PT Bold Heading"/>
              </a:rPr>
              <a:t>القسم الثاني: يغطي الخطوة الثاني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3f5e"/>
                </a:solidFill>
                <a:latin typeface="Calibri"/>
                <a:cs typeface="PT Bold Heading"/>
              </a:rPr>
              <a:t>أما الخطوة الثالثة من المراجعة تستخلص من الخطوة الأولى والثاني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af9738"/>
                </a:solidFill>
                <a:latin typeface="Calibri"/>
                <a:cs typeface="PT Bold Heading"/>
              </a:rPr>
              <a:t>الأداة المستخدمة في مراجعة القدرات   المعرفية ( استبيان المعرفة)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42228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PT Bold Heading"/>
              </a:rPr>
              <a:t>القسم الأول: تحديد ما هي المعرفة المتوفرة حالياً في المنطقة المستهدف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0000"/>
                </a:solidFill>
                <a:latin typeface="Calibri"/>
                <a:cs typeface="PT Bold Heading"/>
              </a:rPr>
              <a:t>الأسئلة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499"/>
              </a:spcBef>
              <a:buClr>
                <a:srgbClr val="af9738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af9738"/>
                </a:solidFill>
                <a:latin typeface="Calibri"/>
                <a:cs typeface="PT Bold Heading"/>
              </a:rPr>
              <a:t>ضع قائمة محددة لتقسيمات المعرفة التي تحتاج إليها في وظيفت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499"/>
              </a:spcBef>
              <a:buClr>
                <a:srgbClr val="af9738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af9738"/>
                </a:solidFill>
                <a:latin typeface="Calibri"/>
                <a:cs typeface="PT Bold Heading"/>
              </a:rPr>
              <a:t>أي تقسيمات المعرفة المحددة في السؤال رقم (</a:t>
            </a:r>
            <a:r>
              <a:rPr b="0" lang="ar-SA" sz="2000" spc="-1" strike="noStrike">
                <a:solidFill>
                  <a:srgbClr val="af9738"/>
                </a:solidFill>
                <a:latin typeface="Calibri"/>
                <a:ea typeface="PT Bold Heading"/>
              </a:rPr>
              <a:t>1</a:t>
            </a:r>
            <a:r>
              <a:rPr b="0" lang="ar-SA" sz="2000" spc="-1" strike="noStrike">
                <a:solidFill>
                  <a:srgbClr val="af9738"/>
                </a:solidFill>
                <a:latin typeface="Calibri"/>
                <a:ea typeface="PT Bold Heading"/>
              </a:rPr>
              <a:t>) متاحة حالياً لديك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499"/>
              </a:spcBef>
              <a:buClr>
                <a:srgbClr val="ff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ff0000"/>
                </a:solidFill>
                <a:uFillTx/>
                <a:latin typeface="Calibri"/>
                <a:cs typeface="PT Bold Heading"/>
              </a:rPr>
              <a:t>لكل تقسيم </a:t>
            </a:r>
            <a:r>
              <a:rPr b="0" lang="ar-SA" sz="2000" spc="-1" strike="noStrike">
                <a:solidFill>
                  <a:srgbClr val="af9738"/>
                </a:solidFill>
                <a:latin typeface="Calibri"/>
                <a:cs typeface="PT Bold Heading"/>
              </a:rPr>
              <a:t>للمعرفة المحددة في السؤال رقم (</a:t>
            </a:r>
            <a:r>
              <a:rPr b="0" lang="ar-SA" sz="2000" spc="-1" strike="noStrike">
                <a:solidFill>
                  <a:srgbClr val="af9738"/>
                </a:solidFill>
                <a:latin typeface="Calibri"/>
                <a:ea typeface="PT Bold Heading"/>
              </a:rPr>
              <a:t>1</a:t>
            </a:r>
            <a:r>
              <a:rPr b="0" lang="ar-SA" sz="2000" spc="-1" strike="noStrike">
                <a:solidFill>
                  <a:srgbClr val="af9738"/>
                </a:solidFill>
                <a:latin typeface="Calibri"/>
                <a:ea typeface="PT Bold Heading"/>
              </a:rPr>
              <a:t>) أجب عما يلي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79760" indent="-41580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كيف تستخدم تلك المعرفة؟ من فضلك أعطي أمثلة محددة 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79760" indent="-41580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كم عدد المصادر التي تحصل على المعرفة منها؟ وأي المصادر تستخدمها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79760" indent="-41580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بالإضافة إليك من الذي من المحتمل أن يحتاج إلى هذه المعرفة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79760" indent="-41580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كيف يمكن أن تستخدم أنت والأخرون المعرفة المحددة في السؤال رقم </a:t>
            </a:r>
            <a:r>
              <a:rPr b="0" lang="ar-SA" sz="1600" spc="-1" strike="noStrike">
                <a:solidFill>
                  <a:srgbClr val="003f5e"/>
                </a:solidFill>
                <a:latin typeface="Calibri"/>
                <a:ea typeface="PT Bold Heading"/>
              </a:rPr>
              <a:t>5</a:t>
            </a:r>
            <a:r>
              <a:rPr b="0" lang="ar-SA" sz="1600" spc="-1" strike="noStrike">
                <a:solidFill>
                  <a:srgbClr val="003f5e"/>
                </a:solidFill>
                <a:latin typeface="Calibri"/>
                <a:ea typeface="PT Bold Heading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79760" indent="-41580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من هؤلاء الذين من المحتمل أن يستخدموا هذه المعرفة؟ ومن من المحتمل ألا يحصل عليها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79760" indent="-41580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ما هي العمليات الرئيسية التي تستخدمها للحصول على هذه المعرفة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79760" indent="-41580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كيف تستخدم تلك المعرفة لتحقيق فوائد القيمة المضافة لمنظمتك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79760" indent="-41580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ما هي التأثيرات البيئية الخارجية التي تؤثر على المعرفة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79760" indent="-41580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ما الذي تتوقع أن يساعدك استخدام المعرفة كما هي؟ أم تحويلها لتكون أكثر فعالية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34308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ما هي الأجزاء في تلك المعرفة التي تعتبرها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800280" algn="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 </a:t>
            </a: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1</a:t>
            </a: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- ممكن الوصول إليها، مدى غزارتها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800280" algn="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2</a:t>
            </a: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-  ضئيلة أو متفرقة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800280" algn="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3</a:t>
            </a: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- قديمة منتهية الصلاحية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800280" algn="r" rtl="1">
              <a:spcBef>
                <a:spcPts val="300"/>
              </a:spcBef>
              <a:buClr>
                <a:srgbClr val="003f5e"/>
              </a:buClr>
              <a:buFont typeface="Calibri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4308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ea typeface="PT Bold Heading"/>
              </a:rPr>
              <a:t>(</a:t>
            </a:r>
            <a:r>
              <a:rPr b="0" lang="ar-SA" sz="1600" spc="-1" strike="noStrike">
                <a:solidFill>
                  <a:srgbClr val="003f5e"/>
                </a:solidFill>
                <a:latin typeface="Calibri"/>
                <a:ea typeface="PT Bold Heading"/>
              </a:rPr>
              <a:t>11</a:t>
            </a:r>
            <a:r>
              <a:rPr b="0" lang="ar-SA" sz="1600" spc="-1" strike="noStrike">
                <a:solidFill>
                  <a:srgbClr val="003f5e"/>
                </a:solidFill>
                <a:latin typeface="Calibri"/>
                <a:ea typeface="PT Bold Heading"/>
              </a:rPr>
              <a:t>)</a:t>
            </a:r>
            <a:r>
              <a:rPr b="0" lang="ar-SA" sz="1600" spc="-1" strike="noStrike">
                <a:solidFill>
                  <a:srgbClr val="003f5e"/>
                </a:solidFill>
                <a:latin typeface="Calibri"/>
                <a:ea typeface="PT Bold Heading"/>
              </a:rPr>
              <a:t>	</a:t>
            </a: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كيف يمكن أن ترسل المعرفة الحالية؟ ما هي الطريقة الأكثر فعالية في أرسال المعرفة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4308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ea typeface="PT Bold Heading"/>
              </a:rPr>
              <a:t>(</a:t>
            </a:r>
            <a:r>
              <a:rPr b="0" lang="ar-SA" sz="1600" spc="-1" strike="noStrike">
                <a:solidFill>
                  <a:srgbClr val="003f5e"/>
                </a:solidFill>
                <a:latin typeface="Calibri"/>
                <a:ea typeface="PT Bold Heading"/>
              </a:rPr>
              <a:t>12</a:t>
            </a:r>
            <a:r>
              <a:rPr b="0" lang="ar-SA" sz="1600" spc="-1" strike="noStrike">
                <a:solidFill>
                  <a:srgbClr val="003f5e"/>
                </a:solidFill>
                <a:latin typeface="Calibri"/>
                <a:ea typeface="PT Bold Heading"/>
              </a:rPr>
              <a:t>)</a:t>
            </a:r>
            <a:r>
              <a:rPr b="0" lang="ar-SA" sz="1600" spc="-1" strike="noStrike">
                <a:solidFill>
                  <a:srgbClr val="003f5e"/>
                </a:solidFill>
                <a:latin typeface="Calibri"/>
                <a:ea typeface="PT Bold Heading"/>
              </a:rPr>
              <a:t>	</a:t>
            </a: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من هم الخبراء الذين في حوزة المنظمة ولديهم أنواعاً من المعرفة تحتاج إليها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4308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ea typeface="PT Bold Heading"/>
              </a:rPr>
              <a:t>(</a:t>
            </a:r>
            <a:r>
              <a:rPr b="0" lang="ar-SA" sz="1600" spc="-1" strike="noStrike">
                <a:solidFill>
                  <a:srgbClr val="003f5e"/>
                </a:solidFill>
                <a:latin typeface="Calibri"/>
                <a:ea typeface="PT Bold Heading"/>
              </a:rPr>
              <a:t>13</a:t>
            </a:r>
            <a:r>
              <a:rPr b="0" lang="ar-SA" sz="1600" spc="-1" strike="noStrike">
                <a:solidFill>
                  <a:srgbClr val="003f5e"/>
                </a:solidFill>
                <a:latin typeface="Calibri"/>
                <a:ea typeface="PT Bold Heading"/>
              </a:rPr>
              <a:t>) في أي شكل من أشكال المعرفة  تستطيع الحصول عليها من الخبراء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4308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ea typeface="PT Bold Heading"/>
              </a:rPr>
              <a:t>(</a:t>
            </a:r>
            <a:r>
              <a:rPr b="0" lang="ar-SA" sz="1600" spc="-1" strike="noStrike">
                <a:solidFill>
                  <a:srgbClr val="003f5e"/>
                </a:solidFill>
                <a:latin typeface="Calibri"/>
                <a:ea typeface="PT Bold Heading"/>
              </a:rPr>
              <a:t>14</a:t>
            </a:r>
            <a:r>
              <a:rPr b="0" lang="ar-SA" sz="1600" spc="-1" strike="noStrike">
                <a:solidFill>
                  <a:srgbClr val="003f5e"/>
                </a:solidFill>
                <a:latin typeface="Calibri"/>
                <a:ea typeface="PT Bold Heading"/>
              </a:rPr>
              <a:t>) ما هي الوثائق الرئيسية والموارد الخارجية التي تستخدمها أو التي تحتاج إليها لإنجاز وظيفتك بصورة أيسر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4308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ea typeface="PT Bold Heading"/>
              </a:rPr>
              <a:t>(</a:t>
            </a:r>
            <a:r>
              <a:rPr b="0" lang="ar-SA" sz="1600" spc="-1" strike="noStrike">
                <a:solidFill>
                  <a:srgbClr val="003f5e"/>
                </a:solidFill>
                <a:latin typeface="Calibri"/>
                <a:ea typeface="PT Bold Heading"/>
              </a:rPr>
              <a:t>15</a:t>
            </a:r>
            <a:r>
              <a:rPr b="0" lang="ar-SA" sz="1600" spc="-1" strike="noStrike">
                <a:solidFill>
                  <a:srgbClr val="003f5e"/>
                </a:solidFill>
                <a:latin typeface="Calibri"/>
                <a:ea typeface="PT Bold Heading"/>
              </a:rPr>
              <a:t>) ما هي أنواع المعرفة التي تحتاج إليها كجزء من عملك اليومي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4308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800280" algn="r" rtl="1">
              <a:spcBef>
                <a:spcPts val="300"/>
              </a:spcBef>
              <a:buClr>
                <a:srgbClr val="003f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3f5e"/>
                </a:solidFill>
                <a:latin typeface="Calibri"/>
                <a:cs typeface="PT Bold Heading"/>
              </a:rPr>
              <a:t>في الأجل القصير ( </a:t>
            </a: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1</a:t>
            </a: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-</a:t>
            </a: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2</a:t>
            </a: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800280" algn="r" rtl="1">
              <a:spcBef>
                <a:spcPts val="300"/>
              </a:spcBef>
              <a:buClr>
                <a:srgbClr val="003f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3f5e"/>
                </a:solidFill>
                <a:latin typeface="Calibri"/>
                <a:cs typeface="PT Bold Heading"/>
              </a:rPr>
              <a:t>في الأجل الطويل (</a:t>
            </a: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3</a:t>
            </a: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-</a:t>
            </a: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5</a:t>
            </a: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PT Bold Heading"/>
              </a:rPr>
              <a:t>القسم الثاني: ما هي المعرفة التي نفتقدها في المنطقة المستهدفة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0000"/>
                </a:solidFill>
                <a:latin typeface="Calibri"/>
                <a:cs typeface="PT Bold Heading"/>
              </a:rPr>
              <a:t>الأسئلة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499"/>
              </a:spcBef>
              <a:buClr>
                <a:srgbClr val="af9738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af9738"/>
                </a:solidFill>
                <a:latin typeface="Calibri"/>
                <a:cs typeface="PT Bold Heading"/>
              </a:rPr>
              <a:t>ما هي تقسيمات المعرفة التي تحتاج إليها لأداء وظيفتك بصورة أفضل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499"/>
              </a:spcBef>
              <a:buClr>
                <a:srgbClr val="af9738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af9738"/>
                </a:solidFill>
                <a:latin typeface="Calibri"/>
                <a:cs typeface="PT Bold Heading"/>
              </a:rPr>
              <a:t>ما هي تقسيمات المعرفة التي تعيد استخدامها؟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499"/>
              </a:spcBef>
              <a:buClr>
                <a:srgbClr val="af9738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af9738"/>
                </a:solidFill>
                <a:latin typeface="Calibri"/>
                <a:cs typeface="PT Bold Heading"/>
              </a:rPr>
              <a:t>هل لديك أمثلة على معرفة لا يمكن أعادة استخدامها . ولكن إعادة استخدامها سوف تكون مفيد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499"/>
              </a:spcBef>
              <a:buClr>
                <a:srgbClr val="af9738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af9738"/>
                </a:solidFill>
                <a:latin typeface="Calibri"/>
                <a:cs typeface="PT Bold Heading"/>
              </a:rPr>
              <a:t>لكل تقسيم من تقسيمات المعرفة في السؤال رقم </a:t>
            </a:r>
            <a:r>
              <a:rPr b="0" lang="ar-SA" sz="2000" spc="-1" strike="noStrike">
                <a:solidFill>
                  <a:srgbClr val="af9738"/>
                </a:solidFill>
                <a:latin typeface="Calibri"/>
                <a:ea typeface="PT Bold Heading"/>
              </a:rPr>
              <a:t>1</a:t>
            </a:r>
            <a:r>
              <a:rPr b="0" lang="ar-SA" sz="2000" spc="-1" strike="noStrike">
                <a:solidFill>
                  <a:srgbClr val="af9738"/>
                </a:solidFill>
                <a:latin typeface="Calibri"/>
                <a:ea typeface="PT Bold Heading"/>
              </a:rPr>
              <a:t> أجب عما يلي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88400" indent="-42048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إلى أي درجة يمكن تحسين مستوى الأداء لكل المعرفة الممكن الوصول إليها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88400" indent="-42048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من يمكن أن يخدم المصدر المحتمل لتلك المعرفة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88400" indent="-42048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أي أنواع الأسئلة التي تستطيع أن تجد لها إجابة عندك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7362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  <a:cs typeface="PT Bold Heading"/>
              </a:rPr>
              <a:t>لكل نوع من المعرفة المحددة في هذا السؤال أجب على الأسئلة التالي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577160" indent="-420480" algn="r" rtl="1">
              <a:spcBef>
                <a:spcPts val="300"/>
              </a:spcBef>
              <a:buClr>
                <a:srgbClr val="003f5e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3f5e"/>
                </a:solidFill>
                <a:latin typeface="Calibri"/>
                <a:cs typeface="PT Bold Heading"/>
              </a:rPr>
              <a:t>ما هي المعرفة المفتقدة؟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577160" indent="-420480" algn="r" rtl="1">
              <a:spcBef>
                <a:spcPts val="300"/>
              </a:spcBef>
              <a:buClr>
                <a:srgbClr val="003f5e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3f5e"/>
                </a:solidFill>
                <a:latin typeface="Calibri"/>
                <a:cs typeface="PT Bold Heading"/>
              </a:rPr>
              <a:t>ما هي الأنواع المرتبطة ب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4" marL="1998000" indent="-420480" algn="r" rtl="1">
              <a:spcBef>
                <a:spcPts val="300"/>
              </a:spcBef>
              <a:buClr>
                <a:srgbClr val="003f5e"/>
              </a:buClr>
              <a:buFont typeface="Calibri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3f5e"/>
                </a:solidFill>
                <a:latin typeface="Calibri"/>
                <a:cs typeface="PT Bold Heading"/>
              </a:rPr>
              <a:t>أداء الوظيفة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4" marL="1998000" indent="-420480" algn="r" rtl="1">
              <a:spcBef>
                <a:spcPts val="300"/>
              </a:spcBef>
              <a:buClr>
                <a:srgbClr val="003f5e"/>
              </a:buClr>
              <a:buFont typeface="Calibri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3f5e"/>
                </a:solidFill>
                <a:latin typeface="Calibri"/>
                <a:cs typeface="PT Bold Heading"/>
              </a:rPr>
              <a:t>المزايا التنافسية للمنظمة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4" marL="1998000" indent="-420480" algn="r" rtl="1">
              <a:spcBef>
                <a:spcPts val="300"/>
              </a:spcBef>
              <a:buClr>
                <a:srgbClr val="003f5e"/>
              </a:buClr>
              <a:buFont typeface="Calibri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3f5e"/>
                </a:solidFill>
                <a:latin typeface="Calibri"/>
                <a:cs typeface="PT Bold Heading"/>
              </a:rPr>
              <a:t>الأسئلة الإدارية البسيطة</a:t>
            </a:r>
            <a:r>
              <a:rPr b="0" lang="ar-SA" sz="1200" spc="-1" strike="noStrike">
                <a:solidFill>
                  <a:srgbClr val="ff0000"/>
                </a:solidFill>
                <a:latin typeface="Calibri"/>
                <a:ea typeface="PT Bold Heading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34308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أي الإدارات أو الأفراد الذين تعتقد أنهم لا يجيبون على الأسئلة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4308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إذا كانت الإجابة على السؤال السابق بلا فلما بريك  لا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4308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في أي المجالات تسأل نفسك نفس الأنواع المتكررة من الأسئلة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4308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من الذي تم سؤاله ولم يجب على الأسئلة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4308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في أي إدارة يعمل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4308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وفي أي مستوى وظيفي؟ المسمى الوظيفي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4308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من هي الإدارات أو من هم الأفراد الذين لديهم أتصال معك بالمعلومات؟ لك إدارة أو فرد أجب عن الأسئلة التالية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28880" indent="-228600" algn="r" rtl="1">
              <a:spcBef>
                <a:spcPts val="300"/>
              </a:spcBef>
              <a:buClr>
                <a:srgbClr val="003f5e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3f5e"/>
                </a:solidFill>
                <a:latin typeface="Calibri"/>
                <a:cs typeface="PT Bold Heading"/>
              </a:rPr>
              <a:t>ما هو المستوى التنظيمي الذي يشغله المستقصي من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028880" indent="-228600" algn="r" rtl="1">
              <a:spcBef>
                <a:spcPts val="300"/>
              </a:spcBef>
              <a:buClr>
                <a:srgbClr val="003f5e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3f5e"/>
                </a:solidFill>
                <a:latin typeface="Calibri"/>
                <a:cs typeface="PT Bold Heading"/>
              </a:rPr>
              <a:t>هل المستقصي منه جديد ( أقل من سنة )     متوسط الأجل  (   </a:t>
            </a: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1</a:t>
            </a: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-</a:t>
            </a: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3</a:t>
            </a: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 )   طويل الآجل  ( أكثر من </a:t>
            </a: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3</a:t>
            </a: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028880" indent="-228600" algn="r" rtl="1">
              <a:spcBef>
                <a:spcPts val="300"/>
              </a:spcBef>
              <a:buClr>
                <a:srgbClr val="003f5e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3f5e"/>
                </a:solidFill>
                <a:latin typeface="Calibri"/>
                <a:cs typeface="PT Bold Heading"/>
              </a:rPr>
              <a:t>ما هي الأسئلة التي تسألها للأخرين بالمنظمة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028880" indent="-228600" algn="r" rtl="1">
              <a:spcBef>
                <a:spcPts val="300"/>
              </a:spcBef>
              <a:buClr>
                <a:srgbClr val="003f5e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3f5e"/>
                </a:solidFill>
                <a:latin typeface="Calibri"/>
                <a:cs typeface="PT Bold Heading"/>
              </a:rPr>
              <a:t>ما هي المعرفة المطلوبة والتي تعتبر   ( ضرورية لأداء العمل )    ( ضرورية لتحقيق المزايا التنافسية للمنظمة )   ( ضرورية للوصول للإبتكارات)       ( التي انتهت صلاحيتها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028880" indent="-228600" algn="r" rtl="1">
              <a:spcBef>
                <a:spcPts val="300"/>
              </a:spcBef>
              <a:buClr>
                <a:srgbClr val="003f5e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3f5e"/>
                </a:solidFill>
                <a:latin typeface="Calibri"/>
                <a:cs typeface="PT Bold Heading"/>
              </a:rPr>
              <a:t>ما هي الآليات التي قد تكون مفيدة لتشجيع مشاركة المعرفة ونقلها في منظمتك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028880" indent="-228600" algn="r" rtl="1">
              <a:spcBef>
                <a:spcPts val="300"/>
              </a:spcBef>
              <a:buClr>
                <a:srgbClr val="003f5e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3f5e"/>
                </a:solidFill>
                <a:latin typeface="Calibri"/>
                <a:cs typeface="PT Bold Heading"/>
              </a:rPr>
              <a:t>ما هي المظاهر التي تعوق الإدارة الفعالة للمعرفة؟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028880" indent="-228600" algn="r" rtl="1">
              <a:spcBef>
                <a:spcPts val="300"/>
              </a:spcBef>
              <a:buClr>
                <a:srgbClr val="003f5e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( ما هي قيود مشاركة ونقل المعرفة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028880" indent="-228600" algn="r" rtl="1">
              <a:spcBef>
                <a:spcPts val="300"/>
              </a:spcBef>
              <a:buClr>
                <a:srgbClr val="003f5e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3f5e"/>
                </a:solidFill>
                <a:latin typeface="Calibri"/>
                <a:cs typeface="PT Bold Heading"/>
              </a:rPr>
              <a:t>ما هو السبب الرئيسي الذي ينتج عنه الأخطاء في وظيفتك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028880" indent="-228600" algn="r" rtl="1">
              <a:spcBef>
                <a:spcPts val="300"/>
              </a:spcBef>
              <a:buClr>
                <a:srgbClr val="003f5e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3f5e"/>
                </a:solidFill>
                <a:latin typeface="Calibri"/>
                <a:cs typeface="PT Bold Heading"/>
              </a:rPr>
              <a:t>كم من الوقت ينقضي للبحث عن المعرفة التي تطلبها؟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0T08:59:50Z</dcterms:created>
  <dc:creator>Mohammad Ahmed Algezawy</dc:creator>
  <dc:description/>
  <dc:language>en-US</dc:language>
  <cp:lastModifiedBy>Ahmad Mohmmad Alholibi</cp:lastModifiedBy>
  <dcterms:modified xsi:type="dcterms:W3CDTF">2012-09-29T08:54:52Z</dcterms:modified>
  <cp:revision>2</cp:revision>
  <dc:subject/>
  <dc:title>عرض تقديمي في PowerPoint</dc:title>
</cp:coreProperties>
</file>