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2E061-FA4E-4055-87C7-5A756B34C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50180-133E-46E9-BC45-12828EAA8BD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67A1-7467-4262-8E38-70F27015ECA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324E-3CD3-4CD0-9C5F-10F85CAC14E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FA08-7978-45D2-B0AB-28E5A727DFC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0A5F-6AC3-40B7-82BF-98596439C2A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9B44-326E-4970-82FC-382D3EE6046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C76C-7941-4F26-A207-28B92B30B2C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7B6B-2D03-4D46-90F9-128352CA602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E58B-E330-4CAF-AE12-9FDEBC1117C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DFD4-CCE8-476A-85C5-5BE4EFAFD94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E3CC9-2469-47A6-8712-2C614D3228B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7850E-0167-46C9-B5ED-35D41751EAD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38379-8C9C-465E-B7EC-0A7C17FB57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E6C21-10DD-478E-83D4-C64C3711CB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F9482-11D0-4918-8141-164799B966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CB600-A12E-4C28-A3AF-FB8AD4C64C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1DFF7-90D8-40BE-8D3E-4677CE6861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31C05-BEDB-4775-BB42-58D67BA28D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1864D-766E-4401-A207-60340496AA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D17B-95F3-43AE-BF26-766EEFAB5D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78D6E-AADB-4AED-9688-462E7C6D51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C9160-025A-4DF0-AB10-82B1B8AD36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ACF94-2F00-4B34-AD36-1E692A2322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21FB3-14FA-43A6-88EE-A471B4D344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6BF02-A1B2-4C1A-AD1D-1717C1837A8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9371-2A6A-4EB4-87FF-2AF2FF3A8A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1B29-915B-418B-9194-04C4AEEB62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B08D-E214-4F8A-B317-875B302677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5470-5856-49D6-8239-DC03C1384EC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72AA-CB98-401C-AAF0-35997CB8AE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9E2BD-0B91-420E-9D14-5FA26566D8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7223-5645-458F-83F2-30A2B45E65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9C46-97DE-4374-A282-22E7FE594C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688A-B3C2-4633-8C0D-3F145F8D66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B1EB-5007-4879-A4C2-134F3F3AEF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B77B-F003-4DBA-B776-7767ABD01A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469-8A3F-46CE-B29E-55B1C588D8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AB92-4841-45F0-9247-D8486B726F8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1F91D-0C26-47C7-B1FB-F932744391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CEE5E-4A57-434C-A2DD-2AA797734B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BC5E0-C4BB-4DE1-8478-4CE19357F12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F02D2-C0BC-4DF4-902F-33796F26774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B934B-00A3-4C8E-AE44-FBBA6FB7EEF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6FA58-F9CE-4C6B-BE4F-B93463E7B8E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2C5C9-4709-4590-92AD-FF9B63EDEDF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E9940-1EDC-48F9-8A9C-DF4029B2E0C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19BD3-7951-4EC8-B9CF-B70A9FF3551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E290F-03F8-489C-B0C4-FCB61528B06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517F2-A9D6-472C-9E4A-450FB5BE14D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46AE0-F353-4FAA-A170-813A2983125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50D67-A013-4F7C-B420-E0079E0FC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48654-CE01-4457-BFD5-A241D85EF7F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9B6E6-1571-4EA6-B3C8-98C7CA00E1E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14C9C-A926-4477-B6CD-B13ED0D6ABB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C1F67-E920-4E6D-9CD5-9B79BFC26DD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01D0D-DCCB-4EB2-847D-8AA638784D2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CD51B-10F7-4EE2-B698-58F9CC79295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C0D39-A147-4E2C-A586-50EF977EAB4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632F8-69A1-466F-8F34-45A19AB8470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2F608-43DC-462F-B2B7-EE2A35EA116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F17C5-C82A-4D1B-ABE9-DE0EAADB0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C5A3-F24C-45FA-A983-7629BBA0FB2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317D6-0A0D-461A-B82C-5E89435AADC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28443-269F-41EC-B7A8-9973113F820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87F9E-364D-4C17-8C52-1970DBACBB9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C6CA4-9F53-4C91-8696-12E74646451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88A7E-FA96-49D2-9B05-7D747B493E6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680D4-6882-4AD4-A9AC-645C5D56F91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1FAE-34C3-4D2F-AC3C-B6C3F49AEE9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CC04-AEB5-4480-A8F2-AC1A22AD181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03A3-DE11-4DDE-A08F-BE7E1668F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3D06-D599-47A5-B8D2-CF02A6244B17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6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C8CA-1D5A-445F-A4A5-9AD27209332E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20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FD3E-7E6A-4A91-812A-DF908C986CBD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2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3"/>
          <p:cNvSpPr>
            <a:spLocks noGrp="1"/>
          </p:cNvSpPr>
          <p:nvPr>
            <p:ph type="sldNum" idx="3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670B-3D52-4803-A683-86808E8308E6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4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96BA-2045-465C-B84D-53A02606E1E6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2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0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5BDE-CEBD-43AF-8801-08817474ED42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4"/>
          </p:nvPr>
        </p:nvSpPr>
        <p:spPr>
          <a:xfrm>
            <a:off x="540972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9DA0-9438-48D1-AAF9-BF7A2E52E5C4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5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7711-4F86-4942-9BF3-05AC224AB7C9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0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A2A7-BAE9-48B7-B897-71DAFE01FC3E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Num" idx="5"/>
          </p:nvPr>
        </p:nvSpPr>
        <p:spPr>
          <a:xfrm>
            <a:off x="540972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2FD8-15A7-4744-A9A4-587D215864BE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6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57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8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209D-EB6F-4DA1-97CA-341C99AAEF43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2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0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FA85-6E76-48C8-832A-BF49BCDD2486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21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Num" idx="6"/>
          </p:nvPr>
        </p:nvSpPr>
        <p:spPr>
          <a:xfrm>
            <a:off x="540972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A502-574B-4976-A35C-7ED7E0992478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541008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37E2-875F-4813-996E-5F7AC09B34D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ad9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ubtitle 2"/>
          <p:cNvSpPr/>
          <p:nvPr/>
        </p:nvSpPr>
        <p:spPr>
          <a:xfrm>
            <a:off x="5823000" y="4648320"/>
            <a:ext cx="408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جامعة الملك فيص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عمادة التعلم الإلكتروني والتعليم عن بع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f4d52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4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515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16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7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itle 1"/>
          <p:cNvSpPr/>
          <p:nvPr/>
        </p:nvSpPr>
        <p:spPr>
          <a:xfrm>
            <a:off x="457200" y="2971800"/>
            <a:ext cx="5099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اسم المقرر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إدارة المعرفة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اسم المدر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د. محمد الجيزاو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ADA4-E026-4F83-A66D-35BF87140CB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f5e"/>
                </a:solidFill>
                <a:latin typeface="Calibri"/>
                <a:cs typeface="PT Bold Heading"/>
              </a:rPr>
              <a:t>أهداف مراجعة القدرات المعرفي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1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- أعطاء نظرة شاملة لنطاق وطبيعة وهيكل المعرفة في قسم محدد ب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2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- التزود بالحالة الفعلية عن الخصائص الكيفية للمقادير المتوفرة من المعرفة داخل مستودع المعرفة المحد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3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- التزود بالحالة الفعلية عن الخصائص الكمية للمقادير المتوفرة من المعرفة داخل مستودع المعرفة المحد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4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- التزود بمعنى واضح لمدخلات البيانات الخام للخطة الإستراتيجية اللازمة لتشغيل المعرفة ب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95000" y="1295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f5e"/>
                </a:solidFill>
                <a:latin typeface="Calibri"/>
                <a:cs typeface="PT Bold Heading"/>
              </a:rPr>
              <a:t>يشتمل تقرير مراجعة القدرات المعرفية على النتائج الرئيسية  التي تتضمن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تحديد الواضح لسبب اتباع مراجعة المعرفة بالمنظم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وصف دقيق لعملية المارجعة ذاتها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ليل دقة وحساسية النتائج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خاتمة حيث يجب أن تلخص النتائج التفصيلية لمراجعة القدرات المعرفية بشكل سهل وقابل للفه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خريطة مجمعة للمعرفة يظهر العلاقة بين مستودعات المعرفة التي تمتلكها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محتوى المعرفة بكل قسم ووسائل تسجيل المعلومات فيها ، بالإضافة لتسجيل خصائص الوصفية والكمية لكل قس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فهرس مجمع لمحتويات التقرير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95000" y="1371240"/>
            <a:ext cx="8915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f5e"/>
                </a:solidFill>
                <a:latin typeface="Calibri"/>
                <a:cs typeface="PT Bold Heading"/>
              </a:rPr>
              <a:t>هناك مجموعة من التساؤلات عن مراجعة  القدرات المعرفية تشمل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499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مفهوم الأعمال.( 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رسالة وأهداف فريق العمل الخاص بكب وحدة تنظيمي؟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معرفة الفنية للمنظم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تعتمد على المعرفة والخبراء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يمكن توليد المعرف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وصف الطرق المختلفة التي تستخدم لتصنيف المعرفة بالمنظمة (مثل خرائط المعرفة لمن يعرف وماذ يعرف؟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هل هناك تصنيف للمعرفة المرتبطة بخبرات النجاح والفشل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آليات المتوفرة لتحويل المعرفة من الأفراد والفرق إلى الأفراد والفرق الأخرى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حاملي المعرف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هل يركزون على ما هو أفضل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و نوع المشاركة المتوفرة بين الإدارة وحاملي المعرفة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غ يستخدم التدريب لزيادة المعرفة والمهارات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يمكن تحقيق الربط بين المكافآت ومستويات المعرفة والمهار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4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)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معرفة التي تنقل بواسطة تكنولوجيا المعلومات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) هل تستخدم تكنولوجيا المعلومات فقط في تشغيل البيانات أم تستخدم أيضا في إدارة المعرفة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2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) كيف يمكن تطبيق مشروعات نظم المعلومات المرتبطة بإدارة المعرفة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5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) تصميم الهيكل التنظيمي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) هل تدفق المعلومات في الوحدة التنظيمية يشجع أم يعيق الإبتكا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2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) كيف يمكن لأي فرد داخل المنظمة أن يكون داخل شبكات الأعمال الحديثة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f5e"/>
                </a:solidFill>
                <a:latin typeface="Calibri"/>
                <a:ea typeface="PT Bold Heading"/>
              </a:rPr>
              <a:t>(الطرق المختلفة لتحليل المعرفة)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والتي تستخدم في مراجعة القدرات المعرفية منها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خرائط التدف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نماذج المدخلات والمخرجات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دراسة قوائم المعرفة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خلال قائمة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إستبيان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جلسات المجموعة القائمة على المراجعة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بالإدارة الوسطى للتعرف على المحاذير المختلف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تحليل البيئي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لفهم المعرفة الحالية وما هو دورها في المنظمة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نظام التحليل الشفهي.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ويستخدم لتحديد المعارف البسيطة جدا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495000" y="1752120"/>
            <a:ext cx="8915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تحليل المعرفة الأساسية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ويستخدم لتحديد المعرفة الكلية وأيضاً المعرفة الأكثر تفصيلاً المرتبطة بها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وضع خريطة للمعرفة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لكل المستويات التنظيمية أو شبكات الأعما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تحليل الحرج لوظيفة المعرفة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. لتحديد المجالات الأكثر حساسية للمعرف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تحليل إحتياجات وإستخدام المعرفة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. لتقييم الوضع الراهن للمعرفة وكيف يمكن تحسين المواق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وضع وتوصيف نموذج المعرفة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. لمعرفة تفاصيل المعرفة كثيفة العم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تحليل تدفق المعرفة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ويستخدم لتوفير نظرة شاملة لتغيرات المعرفة، مكاسب وخسائر،ومدخلات العمليات، ووظيفة الأعمال على مستوى المنظمة ككل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495000" y="15238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  <a:cs typeface="PT Bold Heading"/>
              </a:rPr>
              <a:t>أخيرًا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إن وضع خريطة للمعرفة يوضح تصنيف وتدفق المعرفة. </a:t>
            </a:r>
            <a:r>
              <a:rPr b="0" lang="ar-SA" sz="1600" spc="-1" strike="noStrike">
                <a:solidFill>
                  <a:srgbClr val="ff0000"/>
                </a:solidFill>
                <a:latin typeface="Calibri"/>
                <a:ea typeface="PT Bold Heading"/>
              </a:rPr>
              <a:t>( جزء هام جداً في مراجعة القدرات المعرفية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إن أفضل تمثيل لخرائط المعرفة هي القصص </a:t>
            </a:r>
            <a:r>
              <a:rPr b="0" lang="ar-SA" sz="1600" spc="-1" strike="noStrike">
                <a:solidFill>
                  <a:srgbClr val="ff0000"/>
                </a:solidFill>
                <a:latin typeface="Calibri"/>
                <a:ea typeface="PT Bold Heading"/>
              </a:rPr>
              <a:t>( فهي تغطي الأطر والقيم والرسائل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3f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إن أكثر الأنشطة الإنتاجية في هذه المراجعة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نظم المعرفة المرتبطة بالعملاء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3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حصول على ذاكرة المنظمة </a:t>
            </a:r>
            <a:r>
              <a:rPr b="0" lang="ar-SA" sz="1200" spc="-1" strike="noStrike">
                <a:solidFill>
                  <a:srgbClr val="ff0000"/>
                </a:solidFill>
                <a:latin typeface="Calibri"/>
                <a:ea typeface="PT Bold Heading"/>
              </a:rPr>
              <a:t>( في المساعدة على التعلم ومنع تكرار الأخطاء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3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تصنيف المباشر للخبراء الحقيقيين </a:t>
            </a:r>
            <a:r>
              <a:rPr b="0" lang="ar-SA" sz="1200" spc="-1" strike="noStrike">
                <a:solidFill>
                  <a:srgbClr val="ff0000"/>
                </a:solidFill>
                <a:latin typeface="Calibri"/>
                <a:ea typeface="PT Bold Heading"/>
              </a:rPr>
              <a:t>( تحديد الفائدة التي ستعود للمنظمة من هؤلاء الخبراء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3f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مراجعة القدرات المعرفية المتعلقة بالإنتاج يتطلب التركيز على التساؤلات الاتية لحل مشكلة هامة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معرفة التي نمتلكها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 وماهي المعرفة التي نفتقر إليها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 ومن الذي يحتاج إلى هذه المعرفة؟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وكيف يمكن استخدام هذه المعرفة؟ 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E84F-93A2-40A7-9567-ED9E2407E07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عنوان 1"/>
          <p:cNvSpPr/>
          <p:nvPr/>
        </p:nvSpPr>
        <p:spPr>
          <a:xfrm>
            <a:off x="838080" y="54936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عنصر نائب للمحتوى 2"/>
          <p:cNvSpPr/>
          <p:nvPr/>
        </p:nvSpPr>
        <p:spPr>
          <a:xfrm>
            <a:off x="1020600" y="14479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itle 1"/>
          <p:cNvSpPr/>
          <p:nvPr/>
        </p:nvSpPr>
        <p:spPr>
          <a:xfrm>
            <a:off x="838080" y="120600"/>
            <a:ext cx="85345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5960" y="2971440"/>
            <a:ext cx="967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4f4d52"/>
                </a:solidFill>
                <a:latin typeface="Calibri"/>
                <a:cs typeface="PT Bold Heading"/>
              </a:rPr>
              <a:t>مع تمنياتي للجميع بالنجاح والتوفيق</a:t>
            </a:r>
            <a:endParaRPr b="0" lang="en-US" sz="60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Group 5" descr=""/>
          <p:cNvPicPr/>
          <p:nvPr/>
        </p:nvPicPr>
        <p:blipFill>
          <a:blip r:embed="rId1"/>
          <a:stretch/>
        </p:blipFill>
        <p:spPr>
          <a:xfrm>
            <a:off x="6377040" y="1889280"/>
            <a:ext cx="2786040" cy="270648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راجعة القدرات</a:t>
            </a:r>
            <a:br>
              <a:rPr sz="4400"/>
            </a:br>
            <a:r>
              <a:rPr b="0" lang="ar-SA" sz="4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المعرفيةبالمنظم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990360" y="4267080"/>
            <a:ext cx="7429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محاضرة الرابع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تحليل فجوة المعرفة بالمنظم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تنقسم فجوة المعرفة بالمنظمة إلى نوعين رئيسيي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أولاً: الفجوة الداخلية ( خاصة بنقاط القوة والضعف بالمنظم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وينظر للفجوة الداخلية من زاويتي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أولى: فجوة الفعل والإمكانية.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أي الفرق بين ما تعمله الشركة فعلاً وما تستطيع عمله) ومن هذه الفجوة نحدد بدقة القدرات الذاتية للمعرفة في 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ثانية: فجوة بين الإمكانية والهدف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 أي الفرق بين ما تستطيع الشركة فعله وما يجب أن تفعله) من هذه الفجوة نحدد بدقة إمكانات التطور الداخلية في المنظمة.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                                                                      أنظر الرسم التا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Box 15"/>
          <p:cNvSpPr/>
          <p:nvPr/>
        </p:nvSpPr>
        <p:spPr>
          <a:xfrm>
            <a:off x="165240" y="175248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أد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5" name="Group 19"/>
          <p:cNvGrpSpPr/>
          <p:nvPr/>
        </p:nvGrpSpPr>
        <p:grpSpPr>
          <a:xfrm>
            <a:off x="495360" y="1599840"/>
            <a:ext cx="8832960" cy="4572360"/>
            <a:chOff x="495360" y="1599840"/>
            <a:chExt cx="8832960" cy="4572360"/>
          </a:xfrm>
        </p:grpSpPr>
        <p:cxnSp>
          <p:nvCxnSpPr>
            <p:cNvPr id="526" name="Straight Arrow Connector 4"/>
            <p:cNvCxnSpPr/>
            <p:nvPr/>
          </p:nvCxnSpPr>
          <p:spPr>
            <a:xfrm flipV="1">
              <a:off x="1402920" y="1599840"/>
              <a:ext cx="1080" cy="4572720"/>
            </a:xfrm>
            <a:prstGeom prst="straightConnector1">
              <a:avLst/>
            </a:prstGeom>
            <a:ln w="57240">
              <a:solidFill>
                <a:srgbClr val="ccb661"/>
              </a:solidFill>
              <a:miter/>
              <a:tailEnd len="med" type="arrow" w="med"/>
            </a:ln>
          </p:spPr>
        </p:cxnSp>
        <p:cxnSp>
          <p:nvCxnSpPr>
            <p:cNvPr id="527" name="Straight Arrow Connector 6"/>
            <p:cNvCxnSpPr/>
            <p:nvPr/>
          </p:nvCxnSpPr>
          <p:spPr>
            <a:xfrm>
              <a:off x="495360" y="5638680"/>
              <a:ext cx="7925760" cy="1080"/>
            </a:xfrm>
            <a:prstGeom prst="straightConnector1">
              <a:avLst/>
            </a:prstGeom>
            <a:ln w="57240">
              <a:solidFill>
                <a:srgbClr val="ccb661"/>
              </a:solidFill>
              <a:miter/>
              <a:tailEnd len="med" type="arrow" w="med"/>
            </a:ln>
          </p:spPr>
        </p:cxnSp>
        <p:sp>
          <p:nvSpPr>
            <p:cNvPr id="528" name="Straight Connector 8"/>
            <p:cNvSpPr/>
            <p:nvPr/>
          </p:nvSpPr>
          <p:spPr>
            <a:xfrm flipV="1">
              <a:off x="1403280" y="4038120"/>
              <a:ext cx="6191280" cy="16002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Straight Connector 9"/>
            <p:cNvSpPr/>
            <p:nvPr/>
          </p:nvSpPr>
          <p:spPr>
            <a:xfrm flipV="1">
              <a:off x="1407960" y="2286000"/>
              <a:ext cx="4535640" cy="33530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Arc 12"/>
            <p:cNvSpPr/>
            <p:nvPr/>
          </p:nvSpPr>
          <p:spPr>
            <a:xfrm>
              <a:off x="4705560" y="2590560"/>
              <a:ext cx="2311200" cy="2971800"/>
            </a:xfrm>
            <a:custGeom>
              <a:avLst/>
              <a:gdLst/>
              <a:ahLst/>
              <a:rect l="l" t="t" r="r" b="b"/>
              <a:pathLst>
                <a:path stroke="0" w="2133600" h="2971800">
                  <a:moveTo>
                    <a:pt x="1066800" y="0"/>
                  </a:moveTo>
                  <a:cubicBezTo>
                    <a:pt x="1655977" y="0"/>
                    <a:pt x="2133600" y="665260"/>
                    <a:pt x="2133600" y="1485900"/>
                  </a:cubicBezTo>
                  <a:lnTo>
                    <a:pt x="1066800" y="1485900"/>
                  </a:lnTo>
                  <a:lnTo>
                    <a:pt x="1066800" y="0"/>
                  </a:lnTo>
                  <a:close/>
                </a:path>
                <a:path fill="none" w="2133600" h="2971800">
                  <a:moveTo>
                    <a:pt x="1066800" y="0"/>
                  </a:moveTo>
                  <a:cubicBezTo>
                    <a:pt x="1655977" y="0"/>
                    <a:pt x="2133600" y="665260"/>
                    <a:pt x="2133600" y="1485900"/>
                  </a:cubicBezTo>
                </a:path>
              </a:pathLst>
            </a:custGeom>
            <a:noFill/>
            <a:ln w="57240">
              <a:solidFill>
                <a:srgbClr val="ccb661"/>
              </a:solidFill>
              <a:round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TextBox 14"/>
            <p:cNvSpPr/>
            <p:nvPr/>
          </p:nvSpPr>
          <p:spPr>
            <a:xfrm>
              <a:off x="8255160" y="5334120"/>
              <a:ext cx="107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الزم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TextBox 16"/>
            <p:cNvSpPr/>
            <p:nvPr/>
          </p:nvSpPr>
          <p:spPr>
            <a:xfrm>
              <a:off x="3880080" y="1942200"/>
              <a:ext cx="169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الأداء المخطط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TextBox 17"/>
            <p:cNvSpPr/>
            <p:nvPr/>
          </p:nvSpPr>
          <p:spPr>
            <a:xfrm>
              <a:off x="6934320" y="4344480"/>
              <a:ext cx="1733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الأداء الفعلي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TextBox 18"/>
            <p:cNvSpPr/>
            <p:nvPr/>
          </p:nvSpPr>
          <p:spPr>
            <a:xfrm>
              <a:off x="4994280" y="3195720"/>
              <a:ext cx="185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فجوة المعرفة الداخلي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أولاً: الفجوة الخارجية( خاصة بالفرص والتهديدات التي تتعرض لها 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وينظر للفجوة الخارجية من زاويتي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أولى: فجوة المتاح والإمكانية.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أي الفرق بين ما تتيحه البيئة فعلاً وما تستطيع فعله المنظمة) ومن هذه الفجوة نحدد مدى جاهزية المنظمة لاقتناص الفرص وتجنب التهديدا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ثانية: فجوة بين الإمكانية والقدرة على صناعة الفرص وتجنب التهديدات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 أي الفرق بين أمكانيات المنظمة وما تستطيع به التأثير في قيادة بيئة المعرفة ) من هذه الفجوة نحدد بدقة إمكانات المنظمة في التأثير في البيئة الخارجية فلا تكون مستجيبة لها فقط بل يتعدى ذلك فتؤثر فيها بما يخدم مصلحتها وتقود صناعة المعرفة في هذا المجا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3"/>
          <p:cNvGrpSpPr/>
          <p:nvPr/>
        </p:nvGrpSpPr>
        <p:grpSpPr>
          <a:xfrm>
            <a:off x="495360" y="1599840"/>
            <a:ext cx="8832960" cy="4572360"/>
            <a:chOff x="495360" y="1599840"/>
            <a:chExt cx="8832960" cy="4572360"/>
          </a:xfrm>
        </p:grpSpPr>
        <p:cxnSp>
          <p:nvCxnSpPr>
            <p:cNvPr id="537" name="Straight Arrow Connector 4"/>
            <p:cNvCxnSpPr/>
            <p:nvPr/>
          </p:nvCxnSpPr>
          <p:spPr>
            <a:xfrm flipV="1">
              <a:off x="1402920" y="1599840"/>
              <a:ext cx="1080" cy="4572720"/>
            </a:xfrm>
            <a:prstGeom prst="straightConnector1">
              <a:avLst/>
            </a:prstGeom>
            <a:ln w="57240">
              <a:solidFill>
                <a:srgbClr val="ccb661"/>
              </a:solidFill>
              <a:miter/>
              <a:tailEnd len="med" type="arrow" w="med"/>
            </a:ln>
          </p:spPr>
        </p:cxnSp>
        <p:cxnSp>
          <p:nvCxnSpPr>
            <p:cNvPr id="538" name="Straight Arrow Connector 5"/>
            <p:cNvCxnSpPr/>
            <p:nvPr/>
          </p:nvCxnSpPr>
          <p:spPr>
            <a:xfrm>
              <a:off x="495360" y="5638680"/>
              <a:ext cx="7925760" cy="1080"/>
            </a:xfrm>
            <a:prstGeom prst="straightConnector1">
              <a:avLst/>
            </a:prstGeom>
            <a:ln w="57240">
              <a:solidFill>
                <a:srgbClr val="ccb661"/>
              </a:solidFill>
              <a:miter/>
              <a:tailEnd len="med" type="arrow" w="med"/>
            </a:ln>
          </p:spPr>
        </p:cxnSp>
        <p:sp>
          <p:nvSpPr>
            <p:cNvPr id="539" name="Straight Connector 6"/>
            <p:cNvSpPr/>
            <p:nvPr/>
          </p:nvSpPr>
          <p:spPr>
            <a:xfrm flipV="1">
              <a:off x="1403280" y="4038120"/>
              <a:ext cx="6191280" cy="16002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Straight Connector 7"/>
            <p:cNvSpPr/>
            <p:nvPr/>
          </p:nvSpPr>
          <p:spPr>
            <a:xfrm flipV="1">
              <a:off x="1407960" y="2286000"/>
              <a:ext cx="4535640" cy="33530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Arc 8"/>
            <p:cNvSpPr/>
            <p:nvPr/>
          </p:nvSpPr>
          <p:spPr>
            <a:xfrm>
              <a:off x="4705560" y="2590560"/>
              <a:ext cx="2311200" cy="2971800"/>
            </a:xfrm>
            <a:custGeom>
              <a:avLst/>
              <a:gdLst/>
              <a:ahLst/>
              <a:rect l="l" t="t" r="r" b="b"/>
              <a:pathLst>
                <a:path stroke="0" w="2133600" h="2971800">
                  <a:moveTo>
                    <a:pt x="1066800" y="0"/>
                  </a:moveTo>
                  <a:cubicBezTo>
                    <a:pt x="1655977" y="0"/>
                    <a:pt x="2133600" y="665260"/>
                    <a:pt x="2133600" y="1485900"/>
                  </a:cubicBezTo>
                  <a:lnTo>
                    <a:pt x="1066800" y="1485900"/>
                  </a:lnTo>
                  <a:lnTo>
                    <a:pt x="1066800" y="0"/>
                  </a:lnTo>
                  <a:close/>
                </a:path>
                <a:path fill="none" w="2133600" h="2971800">
                  <a:moveTo>
                    <a:pt x="1066800" y="0"/>
                  </a:moveTo>
                  <a:cubicBezTo>
                    <a:pt x="1655977" y="0"/>
                    <a:pt x="2133600" y="665260"/>
                    <a:pt x="2133600" y="1485900"/>
                  </a:cubicBezTo>
                </a:path>
              </a:pathLst>
            </a:custGeom>
            <a:noFill/>
            <a:ln w="57240">
              <a:solidFill>
                <a:srgbClr val="ccb661"/>
              </a:solidFill>
              <a:round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TextBox 9"/>
            <p:cNvSpPr/>
            <p:nvPr/>
          </p:nvSpPr>
          <p:spPr>
            <a:xfrm>
              <a:off x="8255160" y="5334120"/>
              <a:ext cx="107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الزم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TextBox 10"/>
            <p:cNvSpPr/>
            <p:nvPr/>
          </p:nvSpPr>
          <p:spPr>
            <a:xfrm>
              <a:off x="1898640" y="1942200"/>
              <a:ext cx="3673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صناعة الفرص والقدرة على تجنب التهديدات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TextBox 11"/>
            <p:cNvSpPr/>
            <p:nvPr/>
          </p:nvSpPr>
          <p:spPr>
            <a:xfrm>
              <a:off x="5572440" y="4508280"/>
              <a:ext cx="338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الفرص والتهديدات في البيئة الخارجي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TextBox 12"/>
            <p:cNvSpPr/>
            <p:nvPr/>
          </p:nvSpPr>
          <p:spPr>
            <a:xfrm>
              <a:off x="4994280" y="3195720"/>
              <a:ext cx="185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فجوة المعرفة الخارجي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6" name="TextBox 13"/>
          <p:cNvSpPr/>
          <p:nvPr/>
        </p:nvSpPr>
        <p:spPr>
          <a:xfrm>
            <a:off x="165240" y="184644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أد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ماذا نعني بمراجعة القدرات المعرفي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فكما أن المنظمات الصناعية تحدد المخزون المتاح من الأصول المادية إن منظمات المعرفة يجب أن تحدد المخزون الرأسمالي من الأصول الفكرية لتحصل على إجبابات للأسئلة التالي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معرفة المتاحة لديها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وما هي المعرفة التي تحتاج إليها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وما هي المعرفة التي غير  المتاحة 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وكيف يمكن أن تطبقها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لذلك الإدارة الناجحة للمعرفة في المنظمة عليها ان تبدأ من هذه التساؤلات، وأن تراجع إجاباتها عليها كل فترة للتحسين والتطوير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f5e"/>
                </a:solidFill>
                <a:latin typeface="Calibri"/>
                <a:cs typeface="PT Bold Heading"/>
              </a:rPr>
              <a:t>يعتبر الجزء الحيوي في منهجية إدارة المعرفة هو مراجعة القدرات المعرفية من حيث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غزارة أو ندرة المعلومات في 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تحذير من القصور في المعلومات وما شابه ذلك في 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عدم القدرة على حفظ المعلومات المتصلة بموضوع معين جنباً إلى جنب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قيادة الإكتشافات الهامة ب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إستخدام العادي للبيانات التي تقادمت ب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عدم معرفة وقت اللجوء للخبير فيما يتعلق بتوفير بعض البيانات لإستخدامها في مجال محدد ب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f5e"/>
                </a:solidFill>
                <a:latin typeface="Calibri"/>
                <a:cs typeface="PT Bold Heading"/>
              </a:rPr>
              <a:t>تبدأ مراجعة القدرات المعرفية بـ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buClr>
                <a:srgbClr val="003f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تقييم مخزون المعرفة والذي يمثل الخطوة الأولى في أي استراتيجية فعالة لإدارة المعرف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buClr>
                <a:srgbClr val="003f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حصول على المعرفة الضمنية بإستخدام تكنولوجيا المعلومات وفرق العمل وفرق النقا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buClr>
                <a:srgbClr val="003f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المعرفة عن الأفراد الذين يعرفون محتويات التغذية العكسية عن العملاء الرئيسيين  والتي تعتبر نقطة الإنطلاق نحو الإبتكارات وتطوير المنتج وتحديث نظم الإنتاج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buClr>
                <a:srgbClr val="003f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بحث عن الفرص وتقييم البيانات التي يتم جمعها من حيث الصلة والشكل والطبيعة والصلة الوثيقة بموضوع معين، ودرجة الإستفادة والتكلفة والوقت والدق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buClr>
                <a:srgbClr val="003f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راجعة التوثيق لتحديد كل الذين يملكون مقداراً وفيراً من مستودعات المعرف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>مقدمة:</dc:description>
  <dc:language>en-US</dc:language>
  <cp:lastModifiedBy>Ahmad Mohmmad Alholibi</cp:lastModifiedBy>
  <dcterms:modified xsi:type="dcterms:W3CDTF">2012-09-29T08:52:50Z</dcterms:modified>
  <cp:revision>153</cp:revision>
  <dc:subject/>
  <dc:title>كليه إدارة أعمال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كليه إدارة أعمال</vt:lpwstr>
  </property>
  <property fmtid="{D5CDD505-2E9C-101B-9397-08002B2CF9AE}" pid="3" name="SlideDescription">
    <vt:lpwstr>مقدمة:</vt:lpwstr>
  </property>
</Properties>
</file>