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3647-0B47-4D17-BE9B-1C855AB9F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D0F9-A024-48F5-9761-E83A7C328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7D00-8345-4F3F-B581-B40C0B84F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03F5-7EF5-421B-A42A-0638AE763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282C-E661-43DA-AA03-25A61BBDC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1AE2-5B65-47C4-A772-EDE9260CEA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EB29-E8D4-4D7C-8716-99BB841186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7235-F7ED-4666-8E08-3D11F8EACA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192B-B12B-415D-A8D6-6B321B3668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8A9A-33C6-4E9E-8EDC-1A331EA02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F824-B2E1-4E02-AB9F-57170F7B34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48C3-87F2-4E34-AB8D-4EC9F72E24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1BDC-85F4-46B4-97B8-BCB25D6C6A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CA33-1456-4D2E-927A-EDE8A99E65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DB63-70EB-4BD0-B4BA-E3E550379A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E240-2736-4942-BBC4-E1BE5AB96D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9626-2865-49BD-898B-0BB009FBE0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3D2D-FE5E-4C36-A5AA-87194ACD37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0FEE-B7A4-4626-80B1-89577F62F3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BBDB-D5AC-4BB5-80AC-085588ACF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2F76-D0E7-4AB8-A965-21395E698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DFAD-B738-4E7F-988C-AD3E6B1E5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CC26-17DB-4BA6-B5C0-BBAEF3825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AD11-2700-412E-BF9E-1CE5F3F95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839C-A7FB-4198-9C80-75E142B04CC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CB8C-A3FE-4FDB-8014-2E5F0E27D900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5D2-C749-4425-A9E1-85F95717888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C5C6-EB99-4C39-A161-FCC65B64E05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5F90-6A98-4F6B-9C75-736CD2A5D6C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FC9-A1C5-4700-A7C6-C5E4505D0DF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DB62-471A-43F5-AF07-ADF51340F4E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5747-4DAF-477B-84A6-A9AFB6B2A98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8AD-D0C8-4774-AC84-143BE259073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ضرة</a:t>
            </a:r>
            <a:r>
              <a:rPr b="0" lang="ar-EG" sz="4400" spc="-1" strike="noStrike">
                <a:solidFill>
                  <a:srgbClr val="37609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مهي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تعريف بمقرر إدارة المعرف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هدف المقرر العام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09D3-764C-44A3-890A-32834374B62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447920" y="22860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ترسيخ القواعد والمفاهيم الأساسية لإدارة المعرفة، وآليات التعامل مع رأس المال المعرفي، وأفضل تطبيقاته في قطاع الأ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أهداف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3FDA-510F-4E18-A41A-1B80CE96494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838080" y="1828800"/>
            <a:ext cx="8077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ن يتعرف الطالب على مفاهيم ومبادئ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مكن الطالب من مراجعة القدرات المعرفية ل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حسن الطالب التعامل مع سلسلة القيمة للمعرفة ومصفوف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فهم الطالب ماهية الأصول المعرفية وخصائصها وعملية نق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عرف الطالب على الدراسات المبكر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جيد الطالب التعامل مع دراسات الحال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محتويات المنهج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B441-12AC-46CF-BB72-2F1981FBF8D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43000" y="1143000"/>
          <a:ext cx="7467480" cy="51879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قائمة الموضوع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973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فاهيم ومبادئ إدارة 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راتيجية إدارة المعرفة ومسئولية قيادة المنظمات تجاه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راجعة القدرات المعرف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سلسلة القيمة للمعرفة ، ومصفوف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مليات إنتاج المعرفة والتحديات التي تقابلها المنظ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صول المعرفية وخصائصها وعملية نقل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نظمة المتعل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بيئة المعرفية(مشاركة البيئة في البناء المعرفي، بناء وترابط البيئة المعرفية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دراسات المبكرة في إدار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دراسة حالات في إدارة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كتاب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DBB-5265-427F-BF67-ACB7B817353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47920" y="15606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الإدارة الاستراتيجية للمعرفة – د. ممدوح عبد العزيز رفاعي – طبع بمعرفة المؤلف – القاهرة –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7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إدارة المعرفة – د. سعد غالب ياسين – دار المسيرة للطباعة والنشر-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6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14440" y="3313080"/>
            <a:ext cx="974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كتاب متوفر لد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جرير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العبيكان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مراجع الإضافية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9E8D-9A81-41D8-A011-BA883D56DC8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19828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n Wei Choo, the Knowing organization: how organization use information to construct meaning create knowledge, and make decisions, Oxford university press, 199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DD5D-006E-4470-B75A-007251227C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838080" y="54612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99072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1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71600" y="2362320"/>
          <a:ext cx="7086600" cy="2225520"/>
        </p:xfrm>
        <a:graphic>
          <a:graphicData uri="http://schemas.openxmlformats.org/drawingml/2006/table">
            <a:tbl>
              <a:tblPr/>
              <a:tblGrid>
                <a:gridCol w="2386080"/>
                <a:gridCol w="4700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نشا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شاركة في منتديات الحوار على البلاك بور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حضور المحاضرات المسجلة والمحاضرات المباش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واجبات المنزل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7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اختبار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موع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توزيع الدرجات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9D65-8DA4-4386-B307-7D1AFFE2876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62120" y="152388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ساعات المكتب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رقم جوال المقر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059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alibri"/>
                <a:cs typeface="PT Bold Heading"/>
              </a:rPr>
              <a:t>سيكون الجوال مفتوح في الأوقات المحددة بعالية وسيتم إغلاقة خارج هذه الأوقات، لذا على الجميع التقيد بهذه المواع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بريد الإلكترون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ezawy@kf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905120"/>
          <a:ext cx="4572000" cy="1482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وق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يو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سب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2.00-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ثن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ثلاث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81240" y="15192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ساعات المكتبية وجوال المقرر والبريد الإلكتروني</a:t>
            </a:r>
            <a:r>
              <a:rPr b="0" lang="ar-SA" sz="40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hmad Mohmmad Alholibi</cp:lastModifiedBy>
  <dcterms:modified xsi:type="dcterms:W3CDTF">2012-09-29T08:45:30Z</dcterms:modified>
  <cp:revision>109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