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5139A9-4336-4614-9E74-85DD41C17F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8A1D789-1B43-4F9D-BB2C-7F7CC67BED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13B2B4A-8E17-4F45-BA66-DCBE677B9E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A18A097-851E-44FC-9E82-D3D061F057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B857657-AAD5-41EC-BD68-12D5A0BC15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1C3ADB-B99B-4FBD-B1F7-36EB64E5139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37A3D96-258A-4D7A-9B1F-88709A9993F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4B25CAC-613A-46FF-BD19-04169433A6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ABAFBC7-1566-4D90-97A7-EF47A5E91C0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B3B0FB1-81F4-47C0-9D04-4118874CA7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E5D7EDE-8281-4967-A5B8-6074B3F114B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1E8A8B6-89A6-4EDB-80C8-B0D7B26A4E5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3DAE06F-F89F-4DCB-B3E1-83B4A01075B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F3F50EF-41AB-432E-BDCE-7F2A469291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5C835F-5AD1-4115-AA9E-6CE6879CCC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A6BCAB3-407A-4DDB-A007-AB0FEB93C1A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8B9932F-A3E9-451B-8DB5-2798CDED67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DFB21CA-4A43-4507-AAB8-03C2F64AE0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15EE9C4-A9C7-4519-9793-EBB85FDA79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FB3F3E2-B912-4204-B120-B5EE9EAAFE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CAD8631-D2C8-4FC0-8AAA-EFF2DD57C8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2E338AE-12FE-419C-8704-26777BDDD1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E8FE511-2237-4E51-9D04-0414F43843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43ECB3-0BDF-4137-BFA7-2C797E0974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ACDC-BF31-4403-87EA-C5CA21A49D41}"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4405-C2E2-4836-9E6F-20F5932478F6}"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EB85-4AFD-49D3-956B-0C509E3766C8}"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8E36-A8A3-4FB6-B2BE-3457878053D7}"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بادئ واستراتيجيات </a:t>
            </a:r>
            <a:br>
              <a:rPr sz="4400"/>
            </a:br>
            <a:r>
              <a:rPr b="0" lang="ar-SA" sz="4400" spc="-1" strike="noStrike">
                <a:solidFill>
                  <a:srgbClr val="376092"/>
                </a:solidFill>
                <a:latin typeface="ae_AlMateen"/>
                <a:cs typeface="PT Bold Heading"/>
              </a:rPr>
              <a:t>إدارة المعرفة</a:t>
            </a:r>
            <a:endParaRPr b="0" lang="en-US" sz="4400" spc="-1" strike="noStrike">
              <a:solidFill>
                <a:srgbClr val="376092"/>
              </a:solidFill>
              <a:latin typeface="Calibri"/>
            </a:endParaRPr>
          </a:p>
        </p:txBody>
      </p:sp>
      <p:sp>
        <p:nvSpPr>
          <p:cNvPr id="154" name="PlaceHolder 2"/>
          <p:cNvSpPr>
            <a:spLocks noGrp="1"/>
          </p:cNvSpPr>
          <p:nvPr>
            <p:ph type="subTitle"/>
          </p:nvPr>
        </p:nvSpPr>
        <p:spPr>
          <a:xfrm>
            <a:off x="990360" y="4114440"/>
            <a:ext cx="7429320" cy="152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PT Bold Heading"/>
              </a:rPr>
              <a:t>المحاضرة الثانية</a:t>
            </a:r>
            <a:endParaRPr b="0" lang="en-US" sz="3200" spc="-1" strike="noStrike">
              <a:solidFill>
                <a:srgbClr val="000000"/>
              </a:solidFill>
              <a:latin typeface="Calibri"/>
            </a:endParaRPr>
          </a:p>
        </p:txBody>
      </p:sp>
      <p:pic>
        <p:nvPicPr>
          <p:cNvPr id="155" name="Picture 8" descr=""/>
          <p:cNvPicPr/>
          <p:nvPr/>
        </p:nvPicPr>
        <p:blipFill>
          <a:blip r:embed="rId1"/>
          <a:stretch/>
        </p:blipFill>
        <p:spPr>
          <a:xfrm>
            <a:off x="0" y="0"/>
            <a:ext cx="9906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من: الوصول إلى المعرفة يمثل نقطة البدا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وصول للمعرفة ضرورة إلا أن الإدارة الناجحة للمعرفة تتطلب التركيز  على العملاء ليكونوا أكثر من متلقين لخدماتنا ومنتجاتنا، وتتطلب أيضاً الالتزام بالتفاعل المشترك بين حاملي المعرفة خاصة إذا كانت المعرفة ضمني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أرسال شركتي تويوتا ونيسان مصممي سيارتهما للولايات المتحدة لتلقي المعرفة الضمنية بواسطة الاختلاط الودي مع شرائح العملاء المستهدفي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تاسع: إدارة المعرفة عملية مستمرة وليست لها نهاي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تعتبر مهام المعرفة ليست لها نهاية حيث أن تصنيفات المعرفة المطلوبة تتغير دائماً  وبشكل متسارع مثل </a:t>
            </a:r>
            <a:r>
              <a:rPr b="0" lang="ar-SA" sz="2000" spc="-1" strike="noStrike">
                <a:solidFill>
                  <a:srgbClr val="000000"/>
                </a:solidFill>
                <a:latin typeface="Calibri"/>
                <a:ea typeface="PT Bold Heading"/>
              </a:rPr>
              <a:t>( </a:t>
            </a:r>
            <a:r>
              <a:rPr b="0" lang="ar-SA" sz="2000" spc="-1" strike="noStrike">
                <a:solidFill>
                  <a:srgbClr val="ff0000"/>
                </a:solidFill>
                <a:latin typeface="Calibri"/>
                <a:cs typeface="PT Bold Heading"/>
              </a:rPr>
              <a:t>إدارة التكنولوجيا الجديدة، القضايا التنظيمية، تغير اهتمامات العميل، تأكيد المنظمات الدائم على المنتج والخدمة التي تقدمها باستراتيجيات وهياكل تنظيمية متجددة.... </a:t>
            </a:r>
            <a:r>
              <a:rPr b="0" lang="ar-SA" sz="2000" spc="-1" strike="noStrike">
                <a:solidFill>
                  <a:srgbClr val="000000"/>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لذلك ينبغي أن يكون توصيف البيئة سريع لتتمكن إدارة المعرفة من مواكبت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عاشر: تتطلب إدارة المعرفة تعاقد معرفي</a:t>
            </a:r>
            <a:endParaRPr b="0" lang="en-US" sz="32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سئلة تحتاج إلى إجاب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هل المعرفة يمتلكها العاملون أم يستأجرونها؟</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هل كل المعرفة في عقول العاملين ولها أولوية لديه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ماذا تعرف عن المعرفة التي تشتق من أسطوانة حاسب آلي؟</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ماذا عن المعرفة التي لدى المستشارون أثناء أدائهم لاستشاراته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العديد من المنظمات تحتفظ بمعرفة العاملين لديها، لأن العاملون ينقلون بسرعة كبيرة إلى وظائف جديدة ومنظمات جديدة. لذلك فإن أمر توثيق المعرفة بالغ الأهمية للمنظمات خاصة تلك التي تتعامل مع المعرفة على أنها مورداً هاماً ورئيسياً في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ستراتيجية إدارة المعرفة</a:t>
            </a:r>
            <a:endParaRPr b="0" lang="en-US" sz="4400" spc="-1" strike="noStrike">
              <a:solidFill>
                <a:srgbClr val="376092"/>
              </a:solidFill>
              <a:latin typeface="Calibri"/>
            </a:endParaRPr>
          </a:p>
        </p:txBody>
      </p:sp>
      <p:sp>
        <p:nvSpPr>
          <p:cNvPr id="170" name=""/>
          <p:cNvSpPr txBox="1"/>
          <p:nvPr/>
        </p:nvSpPr>
        <p:spPr>
          <a:xfrm>
            <a:off x="495000" y="1371600"/>
            <a:ext cx="8915400" cy="274320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عند صياغة الاستراتيجية للمنظمة تبحث وبشكل مباشر عن الميزة التنافسية لديها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تحقق بها تفوقاً على منافسيها وتحرز مكانة في السوق أفضل مما كانت عليه.</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إذا نظرنا إلى طبيعة المعرفة من خلال نموذج ( البيانات- المعلومات- المعرفة – التكنولوجيا) ندرك كيف يمكن أن تحقق المنظمة ميزة تنافسية من خلال المعرفة.</a:t>
            </a:r>
            <a:endParaRPr b="0" lang="en-US" sz="20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المعلومات التي تساهم في تخفيض التكلفة وتحسين المنتج وتحسين أداء العملية أو تطوير مفاهيم جديدة في السوق هي التي تكون المعرفة للمنظمة.(</a:t>
            </a:r>
            <a:r>
              <a:rPr b="0" lang="ar-SA" sz="1400" spc="-1" strike="noStrike">
                <a:solidFill>
                  <a:srgbClr val="003f5e"/>
                </a:solidFill>
                <a:latin typeface="Calibri"/>
                <a:cs typeface="PT Bold Heading"/>
              </a:rPr>
              <a:t>أنظر الشكل التالي)</a:t>
            </a:r>
            <a:endParaRPr b="0" lang="en-US" sz="1400" spc="-1" strike="noStrike">
              <a:solidFill>
                <a:srgbClr val="000000"/>
              </a:solidFill>
              <a:latin typeface="Calibri"/>
            </a:endParaRPr>
          </a:p>
        </p:txBody>
      </p:sp>
      <p:pic>
        <p:nvPicPr>
          <p:cNvPr id="171" name="Diagram 3" descr=""/>
          <p:cNvPicPr/>
          <p:nvPr/>
        </p:nvPicPr>
        <p:blipFill>
          <a:blip r:embed="rId1"/>
          <a:stretch/>
        </p:blipFill>
        <p:spPr>
          <a:xfrm>
            <a:off x="1731960" y="3780000"/>
            <a:ext cx="6607080" cy="262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95000" y="1599840"/>
            <a:ext cx="8915400" cy="7621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ولابد أن تتكامل استراتيجية المعرفة مع رسالة المنظمة ورؤيتها كما تظهر في الشكل التالي</a:t>
            </a:r>
            <a:endParaRPr b="0" lang="en-US" sz="2000" spc="-1" strike="noStrike">
              <a:solidFill>
                <a:srgbClr val="000000"/>
              </a:solidFill>
              <a:latin typeface="Calibri"/>
            </a:endParaRPr>
          </a:p>
        </p:txBody>
      </p:sp>
      <p:pic>
        <p:nvPicPr>
          <p:cNvPr id="173" name="Diagram 3" descr=""/>
          <p:cNvPicPr/>
          <p:nvPr/>
        </p:nvPicPr>
        <p:blipFill>
          <a:blip r:embed="rId1"/>
          <a:stretch/>
        </p:blipFill>
        <p:spPr>
          <a:xfrm>
            <a:off x="1731960" y="1908000"/>
            <a:ext cx="6607080" cy="436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وتقع استراتيجيات إدارة المعرفة في ثلاث تقسيمات</a:t>
            </a:r>
            <a:r>
              <a:rPr b="0" lang="ar-SA" sz="3200" spc="-1" strike="noStrike">
                <a:solidFill>
                  <a:srgbClr val="000000"/>
                </a:solidFill>
                <a:latin typeface="Calibri"/>
                <a:ea typeface="PT Bold Heading"/>
              </a:rPr>
              <a:t> </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هي</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1- </a:t>
            </a:r>
            <a:r>
              <a:rPr b="0" lang="ar-SA" sz="3200" spc="-1" strike="noStrike">
                <a:solidFill>
                  <a:srgbClr val="003f5e"/>
                </a:solidFill>
                <a:latin typeface="Calibri"/>
                <a:cs typeface="PT Bold Heading"/>
              </a:rPr>
              <a:t>إحراز أو الاستحواذ على 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2- </a:t>
            </a:r>
            <a:r>
              <a:rPr b="0" lang="ar-SA" sz="3200" spc="-1" strike="noStrike">
                <a:solidFill>
                  <a:srgbClr val="003f5e"/>
                </a:solidFill>
                <a:latin typeface="Calibri"/>
                <a:cs typeface="PT Bold Heading"/>
              </a:rPr>
              <a:t>الاحتفاظ ب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3- </a:t>
            </a:r>
            <a:r>
              <a:rPr b="0" lang="ar-SA" sz="3200" spc="-1" strike="noStrike">
                <a:solidFill>
                  <a:srgbClr val="003f5e"/>
                </a:solidFill>
                <a:latin typeface="Calibri"/>
                <a:cs typeface="PT Bold Heading"/>
              </a:rPr>
              <a:t>استغلال 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وفيما يلي نوضح ذلك</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1- </a:t>
            </a:r>
            <a:r>
              <a:rPr b="0" lang="ar-SA" sz="3200" spc="-1" strike="noStrike">
                <a:solidFill>
                  <a:srgbClr val="000000"/>
                </a:solidFill>
                <a:latin typeface="Calibri"/>
                <a:cs typeface="PT Bold Heading"/>
              </a:rPr>
              <a:t>إحراز أو الاستحواذ على 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ينبغي أن يكون للمنظمة استراتيجية للاستحواذ على المعرفة في المستقبل ، ويمكن أحراز هذه المعرفة الجديدة من خلال مساريين رئيسيين هم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003f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حصول على المعرفة من خارج المنظمة إما بشرائها أو تعيين خبراء فيها أو الترخيص لها من خلال براءة الاختراع.</a:t>
            </a:r>
            <a:endParaRPr b="0" lang="en-US" sz="2000" spc="-1" strike="noStrike">
              <a:solidFill>
                <a:srgbClr val="000000"/>
              </a:solidFill>
              <a:latin typeface="Calibri"/>
            </a:endParaRPr>
          </a:p>
          <a:p>
            <a:pPr marL="343080" indent="-343080" algn="r" rtl="1">
              <a:spcBef>
                <a:spcPts val="499"/>
              </a:spcBef>
              <a:buClr>
                <a:srgbClr val="003f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صناعة المعرفة من داخل المنظمة من خلال أنشطة البحوث التطبيقية أو بأحرازها بواسطة الخبرة المتاحة للعاملين.</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ينبغي ملاحظة أن توليد المعرفة سواء بشرائها أو أتناجها داخلياً يصب في الميزة التنافسية، وكلما كانت المعرفة أكثر أبداعاً تضيف تميزاً على استراتيجيات المنظمة وتمكنها من التغلب على منافسيها بسهول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2- </a:t>
            </a:r>
            <a:r>
              <a:rPr b="0" lang="ar-SA" sz="3200" spc="-1" strike="noStrike">
                <a:solidFill>
                  <a:srgbClr val="000000"/>
                </a:solidFill>
                <a:latin typeface="Calibri"/>
                <a:cs typeface="PT Bold Heading"/>
              </a:rPr>
              <a:t>الاحتفاظ ب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الغرض من هذه الاستراتيجية ضمان المحافظة على قاعدة المعرفة وصيانتها عند النقطة التي يتم استغلالها في المنظم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ا يوجد فرق بين المعرفة الواضحة والمعرفة الضمنية في المنظمة فكلاهما تؤكد المنظمة على ملكيتها لهما</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تقابل هذه الاستراتيجية تحدى مطلب نشر المعرفة داخل المنظمة لتظل متاحة لنقطة الاستغلال، ومشاركتها بين الموظفين، فإلى أي مدة يمكن المنظمة أن توازن بين الأمري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3- </a:t>
            </a:r>
            <a:r>
              <a:rPr b="0" lang="ar-SA" sz="3200" spc="-1" strike="noStrike">
                <a:solidFill>
                  <a:srgbClr val="000000"/>
                </a:solidFill>
                <a:latin typeface="Calibri"/>
                <a:cs typeface="PT Bold Heading"/>
              </a:rPr>
              <a:t>استغلال 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عتبر استغلال المعرفة الجزء الأكثر أهمية في إدارة المعرفة حيث يتم استغلال المعرفة من خلال مساريين رئيسيين هما</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استغلالها داخل المنظمة فتحقق الميزة التنافسية.</a:t>
            </a:r>
            <a:endParaRPr b="0" lang="en-US" sz="2400" spc="-1" strike="noStrike">
              <a:solidFill>
                <a:srgbClr val="000000"/>
              </a:solidFill>
              <a:latin typeface="Calibri"/>
            </a:endParaRPr>
          </a:p>
          <a:p>
            <a:pPr marL="343080" indent="-34308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استغلالها خارجياً عن طريق الترخيص ببراءات اختراع أو تقديمها كخدمات استشارية لمن يريدها</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بادئ واستراتيجيات </a:t>
            </a:r>
            <a:br>
              <a:rPr sz="4400"/>
            </a:br>
            <a:r>
              <a:rPr b="0" lang="ar-SA" sz="4400" spc="-1" strike="noStrike">
                <a:solidFill>
                  <a:srgbClr val="376092"/>
                </a:solidFill>
                <a:latin typeface="ae_AlMateen"/>
                <a:cs typeface="PT Bold Heading"/>
              </a:rPr>
              <a:t>إدارة المعرفة</a:t>
            </a:r>
            <a:endParaRPr b="0" lang="en-US" sz="4400" spc="-1" strike="noStrike">
              <a:solidFill>
                <a:srgbClr val="376092"/>
              </a:solidFill>
              <a:latin typeface="Calibri"/>
            </a:endParaRPr>
          </a:p>
        </p:txBody>
      </p:sp>
      <p:sp>
        <p:nvSpPr>
          <p:cNvPr id="157" name="PlaceHolder 2"/>
          <p:cNvSpPr>
            <a:spLocks noGrp="1"/>
          </p:cNvSpPr>
          <p:nvPr>
            <p:ph type="subTitle"/>
          </p:nvPr>
        </p:nvSpPr>
        <p:spPr>
          <a:xfrm>
            <a:off x="990360" y="4114440"/>
            <a:ext cx="7429320" cy="152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PT Bold Heading"/>
              </a:rPr>
              <a:t>المحاضرة الثان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بادئ إدارة المعرفة</a:t>
            </a:r>
            <a:endParaRPr b="0" lang="en-US" sz="4400" spc="-1" strike="noStrike">
              <a:solidFill>
                <a:srgbClr val="376092"/>
              </a:solidFill>
              <a:latin typeface="Calibri"/>
            </a:endParaRPr>
          </a:p>
        </p:txBody>
      </p:sp>
      <p:sp>
        <p:nvSpPr>
          <p:cNvPr id="159" name=""/>
          <p:cNvSpPr txBox="1"/>
          <p:nvPr/>
        </p:nvSpPr>
        <p:spPr>
          <a:xfrm>
            <a:off x="495000" y="1600200"/>
            <a:ext cx="8915400" cy="4525920"/>
          </a:xfrm>
          <a:prstGeom prst="rect">
            <a:avLst/>
          </a:prstGeom>
          <a:noFill/>
          <a:ln w="0">
            <a:noFill/>
          </a:ln>
        </p:spPr>
        <p:txBody>
          <a:bodyPr anchor="t">
            <a:normAutofit fontScale="96000"/>
          </a:bodyPr>
          <a:p>
            <a:pPr marL="329040" indent="-3290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اول: إدارة المعرفة مكلفة ( ولكنها ليست ذكية)</a:t>
            </a:r>
            <a:endParaRPr b="0" lang="en-US" sz="3200" spc="-1" strike="noStrike">
              <a:solidFill>
                <a:srgbClr val="000000"/>
              </a:solidFill>
              <a:latin typeface="Calibri"/>
            </a:endParaRPr>
          </a:p>
          <a:p>
            <a:pPr marL="329040" indent="-3290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معرفة أصل من أصول المنظمة وتتطلب إدارة فعالة لاستثمار أصولها. وهناك العديد من الأنشطة المرتبطة التي تتطلب استثمار في العمالة والأموال مثل</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حصول على المعرفة مثل أعداد الوثائق ونقلها إلى الحاسب الآلي.</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قيمة المضافة للمعرفة خلال عملية التأليف والتجميع والتنقيح.</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مداخل تطوير وتقسيم المعرفة وتصنيف المساهمات الجديدة فيها.</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طوير البنية الأساسية لتكنولوجيا المعلومات وتطبيقات توزيع المعرفة.</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عليم العاملين صناعة ( خلق ) والمشاركة والاستخدام للمعرفة.</a:t>
            </a:r>
            <a:endParaRPr b="0" lang="en-US" sz="1600" spc="-1" strike="noStrike">
              <a:solidFill>
                <a:srgbClr val="000000"/>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بالرغم من ارتفاع التكلفة إلا أن مردودها أعلى بكثير من تكلفتها حيث أن:</a:t>
            </a:r>
            <a:endParaRPr b="0" lang="en-US" sz="20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ما هي تكلفة الجهل والقصور في المعرفة.</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كم تتكلف المنظمة في حال عدم قدرتها على الإجابة على تساؤلات العملاء.</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أو أتخاذ قرارات ضعيفة اعتمادا على الجهل بالمعرفة.</a:t>
            </a:r>
            <a:endParaRPr b="0" lang="en-US" sz="1600" spc="-1" strike="noStrike">
              <a:solidFill>
                <a:srgbClr val="000000"/>
              </a:solidFill>
              <a:latin typeface="Calibri"/>
            </a:endParaRPr>
          </a:p>
          <a:p>
            <a:pPr lvl="1" marL="71316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فلتعرف قيمة الجودة أنظر إلى تكلفة الافتقار إلي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ني: تتطلب الإدارة الفعالة للمعرفة حلولاً تمزج بين الأفراد والتكنولوجيا.</a:t>
            </a:r>
            <a:endParaRPr b="0" lang="en-US" sz="3200" spc="-1" strike="noStrike">
              <a:solidFill>
                <a:srgbClr val="000000"/>
              </a:solidFill>
              <a:latin typeface="Calibri"/>
            </a:endParaRPr>
          </a:p>
          <a:p>
            <a:pPr marL="343080" indent="-3430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عندما نبحث عن فهم وتفسير المعرفة في نطاق البيئة وتجميعها من مصادرها المختلفة فإننا نحتاج إلى العنصر البشري.</a:t>
            </a:r>
            <a:endParaRPr b="0" lang="en-US" sz="2400" spc="-1" strike="noStrike">
              <a:solidFill>
                <a:srgbClr val="000000"/>
              </a:solidFill>
              <a:latin typeface="Calibri"/>
            </a:endParaRPr>
          </a:p>
          <a:p>
            <a:pPr marL="343080" indent="-3430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عندما نحتاج إلى تحويل وتوزيع المعرفة ذات الهيكل العالي  والتي تتغير بسرعة فإن الحاسب الآلي أكثر قدرة من البشر في ذلك.</a:t>
            </a:r>
            <a:endParaRPr b="0" lang="en-US" sz="2400" spc="-1" strike="noStrike">
              <a:solidFill>
                <a:srgbClr val="000000"/>
              </a:solidFill>
              <a:latin typeface="Calibri"/>
            </a:endParaRPr>
          </a:p>
          <a:p>
            <a:pPr marL="343080" indent="-3430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ذلك فإن يتطلب مزيجاً مناسباً من العنصر البشري ونظم التكنولوجيا لإدارة المعرفة</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لث: إدارة المعرفة ذات صبغة سياسية عليا</a:t>
            </a:r>
            <a:endParaRPr b="0" lang="en-US" sz="32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عنى الإدارة العليا بتحديد رؤية ورسالة واستراتيجيات  والسياسات الهامة والمصيرية بالمنظمة وبالتالي فإن إدارة المعرفة من لب عملها.</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لذلك لابد من أجماع المديرون والقادة حول ضرورة تبني مدخل من مداخل المعرفة للمنظمة ، كما يناط بهم أيضاً تحديد سياسات المعرفة لإدارتها بطريقة فعال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95000" y="1600200"/>
            <a:ext cx="8915400" cy="4525920"/>
          </a:xfrm>
          <a:prstGeom prst="rect">
            <a:avLst/>
          </a:prstGeom>
          <a:noFill/>
          <a:ln w="0">
            <a:noFill/>
          </a:ln>
        </p:spPr>
        <p:txBody>
          <a:bodyPr anchor="t">
            <a:normAutofit fontScale="96000"/>
          </a:bodyPr>
          <a:p>
            <a:pPr marL="329040" indent="-3290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رابع: تتطلب الإدارة الفعالة للمعرفة مديرون ل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29040" indent="-329040"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لكل منظمة وظائفها  التنظيمية الجوهرية والتي تحدد واجباتها ومسئولياتها ومعايير أدائها.</a:t>
            </a:r>
            <a:endParaRPr b="0" lang="en-US" sz="2400" spc="-1" strike="noStrike">
              <a:solidFill>
                <a:srgbClr val="000000"/>
              </a:solidFill>
              <a:latin typeface="Calibri"/>
            </a:endParaRPr>
          </a:p>
          <a:p>
            <a:pPr marL="329040" indent="-3290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ا يمكن أن تدار المعرفة بالمنظمة إلا بتوضيح ما يجب أن تؤديه بعض هذه الوظائف في جمع وتصنيف المعرفة وإنشاء بنية أساسية تكنولوجية موجهة بالمعرفة وإعطاء النصائح والإرشادات لاستخدام تلك المعرفة.</a:t>
            </a:r>
            <a:endParaRPr b="0" lang="en-US" sz="2400" spc="-1" strike="noStrike">
              <a:solidFill>
                <a:srgbClr val="000000"/>
              </a:solidFill>
              <a:latin typeface="Calibri"/>
            </a:endParaRPr>
          </a:p>
          <a:p>
            <a:pPr marL="329040" indent="-329040"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نبغي على مديرو  المعرفة أدراك أن أهم مقومات نجاحهم هو أنكار الذات.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95000" y="1600200"/>
            <a:ext cx="8915400" cy="4525920"/>
          </a:xfrm>
          <a:prstGeom prst="rect">
            <a:avLst/>
          </a:prstGeom>
          <a:noFill/>
          <a:ln w="0">
            <a:noFill/>
          </a:ln>
        </p:spPr>
        <p:txBody>
          <a:bodyPr anchor="t">
            <a:normAutofit fontScale="99000"/>
          </a:bodyPr>
          <a:p>
            <a:pPr marL="339480" indent="-33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خامس: من فوائد إدارة المعرفة</a:t>
            </a:r>
            <a:r>
              <a:rPr b="0" lang="ar-SA" sz="3200" spc="-1" strike="noStrike">
                <a:solidFill>
                  <a:srgbClr val="000000"/>
                </a:solidFill>
                <a:latin typeface="Calibri"/>
                <a:ea typeface="PT Bold Heading"/>
              </a:rPr>
              <a:t> </a:t>
            </a:r>
            <a:endParaRPr b="0" lang="en-US" sz="3200" spc="-1" strike="noStrike">
              <a:solidFill>
                <a:srgbClr val="000000"/>
              </a:solidFill>
              <a:latin typeface="Calibri"/>
            </a:endParaRPr>
          </a:p>
          <a:p>
            <a:pPr marL="339480" indent="-33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PT Bold Heading"/>
              </a:rPr>
              <a:t>*وضع خرائط للمعرفة أكثر فائدة من وضع نماذج للمعرفة، </a:t>
            </a:r>
            <a:endParaRPr b="0" lang="en-US" sz="2400" spc="-1" strike="noStrike">
              <a:solidFill>
                <a:srgbClr val="000000"/>
              </a:solidFill>
              <a:latin typeface="Calibri"/>
            </a:endParaRPr>
          </a:p>
          <a:p>
            <a:pPr marL="339480" indent="-33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PT Bold Heading"/>
              </a:rPr>
              <a:t>*وفوائدها في الأسواق أكثر من فوائدها في التدرج الهرمي للمعرفة</a:t>
            </a:r>
            <a:endParaRPr b="0" lang="en-US" sz="2400" spc="-1" strike="noStrike">
              <a:solidFill>
                <a:srgbClr val="000000"/>
              </a:solidFill>
              <a:latin typeface="Calibri"/>
            </a:endParaRPr>
          </a:p>
          <a:p>
            <a:pPr marL="339480" indent="-3394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لجأ المنظمة إلى عمل نموذج هرمي للمعرفة ولكن غالبية المنظمات تكون في حالة أفضل بتبادلها المعرفة المتوفرة في السوق ووضع خرائط لهذ المعرفة بالقدر الذي يجعل لديها رؤية لرغبات عملائها.</a:t>
            </a:r>
            <a:endParaRPr b="0" lang="en-US" sz="2000" spc="-1" strike="noStrike">
              <a:solidFill>
                <a:srgbClr val="000000"/>
              </a:solidFill>
              <a:latin typeface="Calibri"/>
            </a:endParaRPr>
          </a:p>
          <a:p>
            <a:pPr marL="339480" indent="-3394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إن توصيف عملية النشر في خريطة للمعرفة يكون أكثر فائدة للمستخدم من نموذج المعرفة بالرغم من أن النموذج أكثر فهماً من القائمين على أمر المعرفة بالمنظمة.</a:t>
            </a:r>
            <a:endParaRPr b="0" lang="en-US" sz="2000" spc="-1" strike="noStrike">
              <a:solidFill>
                <a:srgbClr val="000000"/>
              </a:solidFill>
              <a:latin typeface="Calibri"/>
            </a:endParaRPr>
          </a:p>
          <a:p>
            <a:pPr marL="339480" indent="-3394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ن وضع خريطة للمعرفة التنظيمية هو نشاط ربما يكون فردي ولكنه الأكثر احتمالا لتحقيق أفضل وصول لهذه المعرف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95000" y="1600200"/>
            <a:ext cx="8915400" cy="452592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سادس: مشاركة واستخدام المعرفة غالباً ما تكون أفعالاً غير طبيعية.</a:t>
            </a:r>
            <a:endParaRPr b="0" lang="en-US" sz="3200" spc="-1" strike="noStrike">
              <a:solidFill>
                <a:srgbClr val="000000"/>
              </a:solidFill>
              <a:latin typeface="Calibri"/>
            </a:endParaRPr>
          </a:p>
          <a:p>
            <a:pPr marL="332640" indent="-3326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يتساءل</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حاملي المعرفة أنه إذا كانت المعرفة لديهم ذات قيمة فكيف يشاركون أحداً في تلك المعرفة؟</a:t>
            </a:r>
            <a:endParaRPr b="0" lang="en-US" sz="20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ويتساءلون</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وإذا كانت وظائفنا صناعة المعرفة، فلماذا نضع وظائفنا في مخاطرة حيث تستخدم المنظمة أخرين بدلاً منا؟</a:t>
            </a:r>
            <a:endParaRPr b="0" lang="en-US" sz="2000" spc="-1" strike="noStrike">
              <a:solidFill>
                <a:srgbClr val="000000"/>
              </a:solidFill>
              <a:latin typeface="Calibri"/>
            </a:endParaRPr>
          </a:p>
          <a:p>
            <a:pPr marL="332640" indent="-3326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وهذه النظرة من قبل صناع المعرفة المليئة بالشك والريبة أتجاه طبيعي ما لم تتوفر لديهم دافعية عالية للمشاركة في المعرفة من خلال تقييم الأداء والحوافز والمكافآت</a:t>
            </a:r>
            <a:r>
              <a:rPr b="0" lang="ar-SA" sz="2000" spc="-1" strike="noStrike">
                <a:solidFill>
                  <a:srgbClr val="000000"/>
                </a:solidFill>
                <a:latin typeface="Calibri"/>
                <a:ea typeface="PT Bold Heading"/>
              </a:rPr>
              <a:t>.</a:t>
            </a:r>
            <a:endParaRPr b="0" lang="en-US" sz="2000" spc="-1" strike="noStrike">
              <a:solidFill>
                <a:srgbClr val="000000"/>
              </a:solidFill>
              <a:latin typeface="Calibri"/>
            </a:endParaRPr>
          </a:p>
          <a:p>
            <a:pPr marL="332640" indent="-33264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إن المشاركة واستخدام المعرفة لا تكون منحة من العامل بقدر ما تكون ذات قيمة له تجعله مدفوعاً لذلك.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5000" y="1600200"/>
            <a:ext cx="89154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سابع: إدارة المعرفة تعني تحسين العمل المعرفي</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اشك أن المنظمة تحتاج إلى تحسين عملية إدارة المعرفة عموماً إلا أنها المعرفة يتم استخدامها ومشاركتها بكثافة في بعض العمليات العمل المعرفي المحددة مثل </a:t>
            </a:r>
            <a:r>
              <a:rPr b="0" lang="ar-SA" sz="2000" spc="-1" strike="noStrike">
                <a:solidFill>
                  <a:srgbClr val="ff0000"/>
                </a:solidFill>
                <a:latin typeface="Calibri"/>
                <a:ea typeface="PT Bold Heading"/>
              </a:rPr>
              <a:t>( بحوث التسويق، تصميم وتطوير المنتج، التسعير، أعداد الأوامر... )</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بالتالي التحسين في هذه العمليات يصب في تحسين إدارة المعرفة بشكل مباشر. </a:t>
            </a:r>
            <a:endParaRPr b="0" lang="en-US" sz="20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إن أكثر مداخل التحسين فعالية هي التي تصب في</a:t>
            </a:r>
            <a:r>
              <a:rPr b="0" lang="ar-SA" sz="2000" spc="-1" strike="noStrike">
                <a:solidFill>
                  <a:srgbClr val="ff0000"/>
                </a:solidFill>
                <a:latin typeface="Calibri"/>
                <a:ea typeface="PT Bold Heading"/>
              </a:rPr>
              <a:t> الإدارة الوسطى </a:t>
            </a:r>
            <a:r>
              <a:rPr b="0" lang="ar-SA" sz="2000" spc="-1" strike="noStrike">
                <a:solidFill>
                  <a:srgbClr val="003f5e"/>
                </a:solidFill>
                <a:latin typeface="Calibri"/>
                <a:cs typeface="PT Bold Heading"/>
              </a:rPr>
              <a:t>التي تقع بين قمة التنظيم وقاعدته، حيث أن :</a:t>
            </a:r>
            <a:endParaRPr b="0" lang="en-US" sz="2000" spc="-1" strike="noStrike">
              <a:solidFill>
                <a:srgbClr val="000000"/>
              </a:solidFill>
              <a:latin typeface="Calibri"/>
            </a:endParaRPr>
          </a:p>
          <a:p>
            <a:pPr lvl="1" marL="705600" indent="-27144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عمل المعرفي المبدع يتطلب أقل تدخل من القمة إلى القاعدة.</a:t>
            </a:r>
            <a:endParaRPr b="0" lang="en-US" sz="2000" spc="-1" strike="noStrike">
              <a:solidFill>
                <a:srgbClr val="000000"/>
              </a:solidFill>
              <a:latin typeface="Calibri"/>
            </a:endParaRPr>
          </a:p>
          <a:p>
            <a:pPr lvl="1" marL="705600" indent="-27144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عمل المعرفي المبدع يتطلب تطبيق المعرفة بصورة أكث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hmad Mohmmad Alholibi</cp:lastModifiedBy>
  <dcterms:modified xsi:type="dcterms:W3CDTF">2012-09-29T08:50:05Z</dcterms:modified>
  <cp:revision>111</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