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0BECD-2067-4EC4-BEDC-50D60275CC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6E7790F-0768-477D-9E8A-77EC95D19E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EFE9BB3-6BAE-4331-A726-F189E5D049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E2BA118-EA59-462E-94A2-EE8A17A51B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FD1892C-13D3-40A4-BC01-94126AB33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DBBD5C-537A-4355-96A7-CAE027842C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AA5B6F-85D0-4F8D-9D30-67367EC912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BB0FFEE-90D9-453D-8374-561398A6B1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9F480F-E21F-46C3-951A-902D8CDBC4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FCDD722-7655-4594-8683-F010F722DF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632A7FA-C1E4-471C-8928-21BCB66AED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F6CAC21-320B-42D0-B501-01C36EAEA4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757DB3-A6D4-48A7-A951-6578B868E2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567F92-55BA-430E-A57F-29BE52F51A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9B48F0-55CB-4D97-B984-4F4F93B1DA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EAE10FC-EED9-4DD5-9202-83A967740B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ADF2A0A-60A3-4955-B8E7-00EADA3CA0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4536E48-3FEB-4E8F-9093-D355693263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6A742AF-5918-4C0E-B388-5788A2D624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21BBD8F-460A-40D8-8C9F-7DCB8D5793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CBEBEF0-9AA3-4FBB-B4F2-796E9E63BE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AB398B-AE9F-48FC-91EA-83D1308418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626311-82B5-42FD-A635-17278C3329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4A5E4CF-33F7-47A4-A394-7F7477753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9E04-629F-4C6E-878B-8DFA9E9D8B8D}"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DE88-299A-4FEF-BB24-34C2F2C070A8}"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0E40-27AB-494E-8DD3-0C2733F0BC1E}"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F609-849E-4E13-93C7-4179A36872C8}"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6556-46DD-47EE-8E14-3D29CFD4DC91}"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FF6B-90AF-4DF8-8718-64530B49B922}"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F147-C25F-4153-A9F9-6A29D8FE1691}"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Calibri"/>
                <a:ea typeface="PT Bold Heading"/>
              </a:rPr>
              <a:t>4</a:t>
            </a:r>
            <a:r>
              <a:rPr b="0" lang="ar-SA" sz="4400" spc="-1" strike="noStrike">
                <a:solidFill>
                  <a:srgbClr val="af9738"/>
                </a:solidFill>
                <a:latin typeface="Calibri"/>
                <a:ea typeface="PT Bold Heading"/>
              </a:rPr>
              <a:t> </a:t>
            </a:r>
            <a:r>
              <a:rPr b="0" lang="ar-SA" sz="4400" spc="-1" strike="noStrike">
                <a:solidFill>
                  <a:srgbClr val="ff0000"/>
                </a:solidFill>
                <a:latin typeface="Calibri"/>
                <a:cs typeface="PT Bold Heading"/>
              </a:rPr>
              <a:t>مشكلات</a:t>
            </a:r>
            <a:r>
              <a:rPr b="0" lang="ar-SA" sz="4400" spc="-1" strike="noStrike">
                <a:solidFill>
                  <a:srgbClr val="af9738"/>
                </a:solidFill>
                <a:latin typeface="Calibri"/>
                <a:ea typeface="PT Bold Heading"/>
              </a:rPr>
              <a:t> قد تجعل أطلس المعرفة غير فعال</a:t>
            </a:r>
            <a:endParaRPr b="0" lang="en-US" sz="4400" spc="-1" strike="noStrike">
              <a:solidFill>
                <a:srgbClr val="376092"/>
              </a:solidFill>
              <a:latin typeface="Calibri"/>
            </a:endParaRPr>
          </a:p>
        </p:txBody>
      </p:sp>
      <p:sp>
        <p:nvSpPr>
          <p:cNvPr id="233" name=""/>
          <p:cNvSpPr txBox="1"/>
          <p:nvPr/>
        </p:nvSpPr>
        <p:spPr>
          <a:xfrm>
            <a:off x="495000" y="1600200"/>
            <a:ext cx="8915400" cy="4525920"/>
          </a:xfrm>
          <a:prstGeom prst="rect">
            <a:avLst/>
          </a:prstGeom>
          <a:noFill/>
          <a:ln w="0">
            <a:noFill/>
          </a:ln>
        </p:spPr>
        <p:txBody>
          <a:bodyPr anchor="t">
            <a:normAutofit fontScale="87000"/>
          </a:bodyPr>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PT Bold Heading"/>
              </a:rPr>
              <a:t>الأولـى: </a:t>
            </a:r>
            <a:r>
              <a:rPr b="0" lang="ar-SA" sz="3200" spc="-1" strike="noStrike" u="sng">
                <a:solidFill>
                  <a:srgbClr val="003f5e"/>
                </a:solidFill>
                <a:uFillTx/>
                <a:latin typeface="Calibri"/>
                <a:cs typeface="PT Bold Heading"/>
              </a:rPr>
              <a:t>المساندة غير كافية من الإدارة</a:t>
            </a:r>
            <a:r>
              <a:rPr b="0" lang="ar-SA" sz="3200" spc="-1" strike="noStrike">
                <a:solidFill>
                  <a:srgbClr val="003f5e"/>
                </a:solidFill>
                <a:latin typeface="Calibri"/>
                <a:ea typeface="PT Bold Heading"/>
              </a:rPr>
              <a:t>. </a:t>
            </a:r>
            <a:r>
              <a:rPr b="0" lang="ar-SA" sz="2400" spc="-1" strike="noStrike">
                <a:solidFill>
                  <a:srgbClr val="003f5e"/>
                </a:solidFill>
                <a:latin typeface="Calibri"/>
                <a:cs typeface="PT Bold Heading"/>
              </a:rPr>
              <a:t>في الوقت والمال والموهب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نية: </a:t>
            </a:r>
            <a:r>
              <a:rPr b="0" lang="ar-SA" sz="3200" spc="-1" strike="noStrike" u="sng">
                <a:solidFill>
                  <a:srgbClr val="003f5e"/>
                </a:solidFill>
                <a:uFillTx/>
                <a:latin typeface="Calibri"/>
                <a:cs typeface="PT Bold Heading"/>
              </a:rPr>
              <a:t>التركيز على المنتج أكثر من العملية. </a:t>
            </a:r>
            <a:r>
              <a:rPr b="0" lang="ar-SA" sz="2400" spc="-1" strike="noStrike">
                <a:solidFill>
                  <a:srgbClr val="003f5e"/>
                </a:solidFill>
                <a:latin typeface="Calibri"/>
                <a:cs typeface="PT Bold Heading"/>
              </a:rPr>
              <a:t>حيث أن وضع</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خريطة المعرفة يمثل المصدر الرئيسي للفهم والتعاون، والتركيز على</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المنتج قد يفقدنا هذه النقط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لثة:</a:t>
            </a:r>
            <a:r>
              <a:rPr b="0" lang="ar-SA" sz="3200" spc="-1" strike="noStrike">
                <a:solidFill>
                  <a:srgbClr val="003f5e"/>
                </a:solidFill>
                <a:latin typeface="Calibri"/>
                <a:ea typeface="PT Bold Heading"/>
              </a:rPr>
              <a:t> </a:t>
            </a:r>
            <a:r>
              <a:rPr b="0" lang="ar-SA" sz="3200" spc="-1" strike="noStrike" u="sng">
                <a:solidFill>
                  <a:srgbClr val="003f5e"/>
                </a:solidFill>
                <a:uFillTx/>
                <a:latin typeface="Calibri"/>
                <a:cs typeface="PT Bold Heading"/>
              </a:rPr>
              <a:t>المبالغة في أهمية أطلس. </a:t>
            </a:r>
            <a:r>
              <a:rPr b="0" lang="ar-SA" sz="2400" spc="-1" strike="noStrike">
                <a:solidFill>
                  <a:srgbClr val="003f5e"/>
                </a:solidFill>
                <a:latin typeface="Calibri"/>
                <a:cs typeface="PT Bold Heading"/>
              </a:rPr>
              <a:t>التركيز على الخريطة بقوة قد</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يضعف الإنتاج</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رابعة: </a:t>
            </a:r>
            <a:r>
              <a:rPr b="0" lang="ar-SA" sz="3200" spc="-1" strike="noStrike" u="sng">
                <a:solidFill>
                  <a:srgbClr val="003f5e"/>
                </a:solidFill>
                <a:uFillTx/>
                <a:latin typeface="Calibri"/>
                <a:cs typeface="PT Bold Heading"/>
              </a:rPr>
              <a:t>المعرفة تمثل قوة وربما تفسد القوة الأمر. </a:t>
            </a:r>
            <a:r>
              <a:rPr b="0" lang="ar-SA" sz="2400" spc="-1" strike="noStrike">
                <a:solidFill>
                  <a:srgbClr val="003f5e"/>
                </a:solidFill>
                <a:latin typeface="Calibri"/>
                <a:cs typeface="PT Bold Heading"/>
              </a:rPr>
              <a:t>إذا ما تم</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إساءة استخدامها من قبل الأفراد أو المجموعات داخل المنظم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6719-1B01-49F6-A41B-390FC0B06284}"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35"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0" name="Group 5" descr=""/>
          <p:cNvPicPr/>
          <p:nvPr/>
        </p:nvPicPr>
        <p:blipFill>
          <a:blip r:embed="rId1"/>
          <a:stretch/>
        </p:blipFill>
        <p:spPr>
          <a:xfrm>
            <a:off x="6377040" y="1889280"/>
            <a:ext cx="2786040" cy="2706480"/>
          </a:xfrm>
          <a:prstGeom prst="rect">
            <a:avLst/>
          </a:prstGeom>
          <a:ln w="0">
            <a:noFill/>
          </a:ln>
        </p:spPr>
      </p:pic>
      <p:sp>
        <p:nvSpPr>
          <p:cNvPr id="241"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42"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CC37-1EAF-48A2-80EC-BACED8A96B5A}"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15" name="Title 4"/>
          <p:cNvSpPr/>
          <p:nvPr/>
        </p:nvSpPr>
        <p:spPr>
          <a:xfrm>
            <a:off x="68580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خرائط المعرفة</a:t>
            </a:r>
            <a:endParaRPr b="0" lang="en-US" sz="4400" spc="-1" strike="noStrike">
              <a:solidFill>
                <a:srgbClr val="000000"/>
              </a:solidFill>
              <a:latin typeface="Calibri"/>
            </a:endParaRPr>
          </a:p>
        </p:txBody>
      </p:sp>
      <p:sp>
        <p:nvSpPr>
          <p:cNvPr id="216"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سادس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 هي خرائط المعرفة؟</a:t>
            </a:r>
            <a:endParaRPr b="0" lang="en-US" sz="4400" spc="-1" strike="noStrike">
              <a:solidFill>
                <a:srgbClr val="376092"/>
              </a:solidFill>
              <a:latin typeface="Calibri"/>
            </a:endParaRPr>
          </a:p>
        </p:txBody>
      </p:sp>
      <p:sp>
        <p:nvSpPr>
          <p:cNvPr id="218"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تبر المعرفة من أول وأكثر الابتكارات نجاحاً  والتي قدمها الممارسين لإدارة المعرفة.</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وضح خريطة المعرفة (أين توجد المصادر المهمة للمعرفة التنظيمية سواء الوثائق المهمة أو أشكال المعرفة الأخرى الي تم تصنيف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مثل بعض الخرائط في قواعد معلومات المديرين سواء كانت مطبوعة أو في شكل إلكتروني والذي يتمثل في شبكات الاتصالات الإلكترونية والتي تتيح للباحثين عن المعرفة الاتصال الفوري مع مصادر المعرفة التي تم تحديدها </a:t>
            </a:r>
            <a:r>
              <a:rPr b="0" lang="ar-SA" sz="2000" spc="-1" strike="noStrike">
                <a:solidFill>
                  <a:srgbClr val="ff0000"/>
                </a:solidFill>
                <a:latin typeface="Calibri"/>
                <a:ea typeface="PT Bold Heading"/>
              </a:rPr>
              <a:t>(وهذه كلها خرائط لأنها توضح بصورة رئيسية أين تتوفر المعرفة بصورة أفضل)</a:t>
            </a:r>
            <a:endParaRPr b="0" lang="en-US" sz="2000" spc="-1" strike="noStrike">
              <a:solidFill>
                <a:srgbClr val="000000"/>
              </a:solidFill>
              <a:latin typeface="Calibri"/>
            </a:endParaRPr>
          </a:p>
        </p:txBody>
      </p:sp>
      <p:sp>
        <p:nvSpPr>
          <p:cNvPr id="219" name="Slide Number Placeholder 3"/>
          <p:cNvSpPr/>
          <p:nvPr/>
        </p:nvSpPr>
        <p:spPr>
          <a:xfrm>
            <a:off x="9423360" y="635652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0EAE-8B1B-4D1C-895F-0C8267C28D9E}"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طلس المعرف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cs typeface="PT Bold Heading"/>
              </a:rPr>
              <a:t>يعرف أطلس المعرفة </a:t>
            </a:r>
            <a:r>
              <a:rPr b="0" lang="ar-SA" sz="2800" spc="-1" strike="noStrike">
                <a:solidFill>
                  <a:srgbClr val="003f5e"/>
                </a:solidFill>
                <a:latin typeface="Calibri"/>
                <a:cs typeface="PT Bold Heading"/>
              </a:rPr>
              <a:t>بأنه مجموعة من خرائط المعرفة المتصلة الحلقات بشكل وافر ووثيق، وهو صورة توضح بيئة العمليات المعقدة لمنظمة الأعمال.</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و تنظيم ومراجعة مجموعة مرتبطة من الخرائط والتي تعطي صورة حية وغنية للارتباطات بين العاملين والعمليات والأهداف التي يتم انجازها.</a:t>
            </a:r>
            <a:endParaRPr b="0" lang="en-US" sz="28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لكي تبني المنظمة أطلس المعرفة عليها:</a:t>
            </a:r>
            <a:endParaRPr b="0" lang="en-US" sz="28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أنشاء الارتباطات.</a:t>
            </a:r>
            <a:endParaRPr b="0" lang="en-US" sz="24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إيجاد الفهم  المبدئي بين جهات الارتباط والذي يزداد مع الوق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ميزات أطلس المعرفة</a:t>
            </a:r>
            <a:endParaRPr b="0" lang="en-US" sz="4400" spc="-1" strike="noStrike">
              <a:solidFill>
                <a:srgbClr val="376092"/>
              </a:solidFill>
              <a:latin typeface="Calibri"/>
            </a:endParaRPr>
          </a:p>
        </p:txBody>
      </p:sp>
      <p:sp>
        <p:nvSpPr>
          <p:cNvPr id="223" name=""/>
          <p:cNvSpPr txBox="1"/>
          <p:nvPr/>
        </p:nvSpPr>
        <p:spPr>
          <a:xfrm>
            <a:off x="495000" y="1600200"/>
            <a:ext cx="8915400" cy="4525920"/>
          </a:xfrm>
          <a:prstGeom prst="rect">
            <a:avLst/>
          </a:prstGeom>
          <a:noFill/>
          <a:ln w="0">
            <a:noFill/>
          </a:ln>
        </p:spPr>
        <p:txBody>
          <a:bodyPr anchor="t">
            <a:normAutofit fontScale="95000"/>
          </a:bodyPr>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ربط أطلس بين </a:t>
            </a:r>
            <a:r>
              <a:rPr b="1" lang="ar-SA" sz="2800" spc="-1" strike="noStrike" u="sng">
                <a:solidFill>
                  <a:srgbClr val="ff0000"/>
                </a:solidFill>
                <a:uFillTx/>
                <a:latin typeface="Calibri"/>
                <a:cs typeface="PT Bold Heading"/>
              </a:rPr>
              <a:t>وثائق الشركة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خرائط العمليات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شجرة التساؤلات التي تحدد احتياجات العميل</a:t>
            </a:r>
            <a:r>
              <a:rPr b="1" lang="ar-SA" sz="2800" spc="-1" strike="noStrike" u="sng">
                <a:solidFill>
                  <a:srgbClr val="003f5e"/>
                </a:solidFill>
                <a:uFillTx/>
                <a:latin typeface="Calibri"/>
                <a:ea typeface="PT Bold Heading"/>
              </a:rPr>
              <a:t>.</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زيد من قيمة كل خريطة من خلال وضعها في نحيط مشاركة مع </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خرائط الأخرى.</a:t>
            </a:r>
            <a:endParaRPr b="0" lang="en-US" sz="2800" spc="-1" strike="noStrike">
              <a:solidFill>
                <a:srgbClr val="000000"/>
              </a:solidFill>
              <a:latin typeface="Calibri"/>
            </a:endParaRPr>
          </a:p>
          <a:p>
            <a:pPr marL="434160" indent="-434160" algn="r" rtl="1">
              <a:spcBef>
                <a:spcPts val="45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كما أن خريطة المعرفة تجيب عن أسئلة (</a:t>
            </a:r>
            <a:r>
              <a:rPr b="0" lang="ar-SA" sz="1800" spc="-1" strike="noStrike">
                <a:solidFill>
                  <a:srgbClr val="ff0000"/>
                </a:solidFill>
                <a:latin typeface="Calibri"/>
                <a:cs typeface="PT Bold Heading"/>
              </a:rPr>
              <a:t>ما هي المعرفة؟ أين نجدها؟)</a:t>
            </a:r>
            <a:r>
              <a:rPr b="0" lang="ar-SA" sz="2800" spc="-1" strike="noStrike">
                <a:solidFill>
                  <a:srgbClr val="003f5e"/>
                </a:solidFill>
                <a:latin typeface="Calibri"/>
                <a:ea typeface="PT Bold Heading"/>
              </a:rPr>
              <a:t> فإن أطلس يجيب عن نفس الأسئلة ولكن بصورة أكثر تكاملاً وشمولاً كما يجيب عن أسئلة  </a:t>
            </a:r>
            <a:r>
              <a:rPr b="0" lang="ar-SA" sz="1800" spc="-1" strike="noStrike">
                <a:solidFill>
                  <a:srgbClr val="ff0000"/>
                </a:solidFill>
                <a:latin typeface="Calibri"/>
                <a:ea typeface="PT Bold Heading"/>
              </a:rPr>
              <a:t>( متى نحتاج لهذا النوع من المعرفة؟  وكيف تختلف أنشطة ومجالات المعرفة المرتبطة بها؟ ولماذا تحدث تلك الأنشط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فوائد أطلس المعرفة</a:t>
            </a:r>
            <a:endParaRPr b="0" lang="en-US" sz="4400" spc="-1" strike="noStrike">
              <a:solidFill>
                <a:srgbClr val="376092"/>
              </a:solidFill>
              <a:latin typeface="Calibri"/>
            </a:endParaRPr>
          </a:p>
        </p:txBody>
      </p:sp>
      <p:sp>
        <p:nvSpPr>
          <p:cNvPr id="225" name=""/>
          <p:cNvSpPr txBox="1"/>
          <p:nvPr/>
        </p:nvSpPr>
        <p:spPr>
          <a:xfrm>
            <a:off x="495000" y="1600200"/>
            <a:ext cx="8915400" cy="4525920"/>
          </a:xfrm>
          <a:prstGeom prst="rect">
            <a:avLst/>
          </a:prstGeom>
          <a:noFill/>
          <a:ln w="0">
            <a:noFill/>
          </a:ln>
        </p:spPr>
        <p:txBody>
          <a:bodyPr anchor="t">
            <a:normAutofit fontScale="97000"/>
          </a:bodyPr>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صياغة أفضل القرارات المتخذة من جانب العاملين على كل المستويات.</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سين الجودة والكفاء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موارد المعرفة ذات القيم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الفجوات الحرجة للمعرف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مساعدة العاملين في تحديد المعرفة التي يحتاجونها</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يتيح الفرصة لفهم وتحسين الأنشطة المركزية للأعم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جدول يبين فوائد أطلس المعرفة</a:t>
            </a:r>
            <a:endParaRPr b="0" lang="en-US" sz="4400" spc="-1" strike="noStrike">
              <a:solidFill>
                <a:srgbClr val="376092"/>
              </a:solidFill>
              <a:latin typeface="Calibri"/>
            </a:endParaRPr>
          </a:p>
        </p:txBody>
      </p:sp>
      <p:graphicFrame>
        <p:nvGraphicFramePr>
          <p:cNvPr id="227" name=""/>
          <p:cNvGraphicFramePr/>
          <p:nvPr/>
        </p:nvGraphicFramePr>
        <p:xfrm>
          <a:off x="495360" y="1371600"/>
          <a:ext cx="8915400" cy="4378320"/>
        </p:xfrm>
        <a:graphic>
          <a:graphicData uri="http://schemas.openxmlformats.org/drawingml/2006/table">
            <a:tbl>
              <a:tblPr/>
              <a:tblGrid>
                <a:gridCol w="4457520"/>
                <a:gridCol w="4457880"/>
              </a:tblGrid>
              <a:tr h="33516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فوائ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وظيفة أو الخاص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زيادة الاعتمادية + المعنى + العمق+ القيم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زيد المشاركة في توفير المعرفة وموارد المعلوم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حسين أتخاذ القرارات+ تحسين المعنويات+ تحسين التعاون</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منح العاملين الفهم الصحيح لمحيط المشاركة ومعنى أعمالهم</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مناقشة واختبار وتحسين الأفكار الواضحة والممارس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أغراض الأعمال، والعمليات، والارتباطات الواضحة والأهداف</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تحسين الكفاءة + تحسين الجود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وفير موارد المعرفة الأساسية الممكن الوصول إليها في الوقت المناسب</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تركيز الجهود على الاستحواذ على المعرفة المطلوبة لتلبية رغبات العملاء وجذب عملاء جد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فجوات المعرف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اقتراح أعادة الاستحواذ المحتمل + الاستخدام الأفضل للمعرفة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الأصول المعرف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7852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صياغة حل المشكلة + وضع أساس للابتكار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تزود بأوجه متعددة لصور وظائف الأعمال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351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خفيض المشكلات بين الإدارات والجماع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تاحه الفرصة الواسعة للمناقش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خطوات العملية لتكوين أطلس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ff0000"/>
                </a:solidFill>
                <a:latin typeface="Calibri"/>
                <a:cs typeface="PT Bold Heading"/>
              </a:rPr>
              <a:t>تحديد نشاط الأعمال الأكثر أهمية </a:t>
            </a:r>
            <a:r>
              <a:rPr b="0" lang="ar-SA" sz="2000" spc="-1" strike="noStrike">
                <a:solidFill>
                  <a:srgbClr val="003f5e"/>
                </a:solidFill>
                <a:latin typeface="Calibri"/>
                <a:cs typeface="PT Bold Heading"/>
              </a:rPr>
              <a:t>والذي يتطلب التحسين، </a:t>
            </a:r>
            <a:r>
              <a:rPr b="0" lang="ar-SA" sz="2000" spc="-1" strike="noStrike">
                <a:solidFill>
                  <a:srgbClr val="ff0000"/>
                </a:solidFill>
                <a:latin typeface="Calibri"/>
                <a:cs typeface="PT Bold Heading"/>
              </a:rPr>
              <a:t>وتحديد الهدف </a:t>
            </a:r>
            <a:r>
              <a:rPr b="0" lang="ar-SA" sz="2000" spc="-1" strike="noStrike">
                <a:solidFill>
                  <a:srgbClr val="003f5e"/>
                </a:solidFill>
                <a:latin typeface="Calibri"/>
                <a:cs typeface="PT Bold Heading"/>
              </a:rPr>
              <a:t>الذي يمكن أن يقوم به أطلس</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العملاء الأكثر أهمية </a:t>
            </a:r>
            <a:r>
              <a:rPr b="0" lang="ar-SA" sz="2000" spc="-1" strike="noStrike">
                <a:solidFill>
                  <a:srgbClr val="003f5e"/>
                </a:solidFill>
                <a:latin typeface="Calibri"/>
                <a:cs typeface="PT Bold Heading"/>
              </a:rPr>
              <a:t>للمنظمة</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تحديد وتخطيط الحاجات الأساسية للعملاء</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 </a:t>
            </a:r>
            <a:r>
              <a:rPr b="0" lang="ar-SA" sz="2000" spc="-1" strike="noStrike">
                <a:solidFill>
                  <a:srgbClr val="003f5e"/>
                </a:solidFill>
                <a:latin typeface="Calibri"/>
                <a:cs typeface="PT Bold Heading"/>
              </a:rPr>
              <a:t>تكوين فريق من ا</a:t>
            </a:r>
            <a:r>
              <a:rPr b="0" lang="ar-SA" sz="2000" spc="-1" strike="noStrike">
                <a:solidFill>
                  <a:srgbClr val="ff0000"/>
                </a:solidFill>
                <a:latin typeface="Calibri"/>
                <a:cs typeface="PT Bold Heading"/>
              </a:rPr>
              <a:t>لخبراء</a:t>
            </a:r>
            <a:r>
              <a:rPr b="0" lang="ar-SA" sz="2000" spc="-1" strike="noStrike">
                <a:solidFill>
                  <a:srgbClr val="003f5e"/>
                </a:solidFill>
                <a:latin typeface="Calibri"/>
                <a:ea typeface="PT Bold Heading"/>
              </a:rPr>
              <a:t> الداخليين</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 </a:t>
            </a:r>
            <a:r>
              <a:rPr b="0" lang="ar-SA" sz="2000" spc="-1" strike="noStrike">
                <a:solidFill>
                  <a:srgbClr val="003f5e"/>
                </a:solidFill>
                <a:latin typeface="Calibri"/>
                <a:cs typeface="PT Bold Heading"/>
              </a:rPr>
              <a:t>تجميع </a:t>
            </a:r>
            <a:r>
              <a:rPr b="0" lang="ar-SA" sz="2000" spc="-1" strike="noStrike">
                <a:solidFill>
                  <a:srgbClr val="ff0000"/>
                </a:solidFill>
                <a:latin typeface="Calibri"/>
                <a:cs typeface="PT Bold Heading"/>
              </a:rPr>
              <a:t>جميع خرائط العمليات، وقواعد البيانات، وخرائط المعرفة </a:t>
            </a:r>
            <a:r>
              <a:rPr b="0" lang="ar-SA" sz="2000" spc="-1" strike="noStrike">
                <a:solidFill>
                  <a:srgbClr val="003f5e"/>
                </a:solidFill>
                <a:latin typeface="Calibri"/>
                <a:cs typeface="PT Bold Heading"/>
              </a:rPr>
              <a:t>ومعالجتها لتحقق المشارك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 </a:t>
            </a:r>
            <a:r>
              <a:rPr b="0" lang="ar-SA" sz="2000" spc="-1" strike="noStrike">
                <a:solidFill>
                  <a:srgbClr val="ff0000"/>
                </a:solidFill>
                <a:latin typeface="Calibri"/>
                <a:cs typeface="PT Bold Heading"/>
              </a:rPr>
              <a:t>نشر </a:t>
            </a:r>
            <a:r>
              <a:rPr b="0" lang="ar-SA" sz="2000" spc="-1" strike="noStrike">
                <a:solidFill>
                  <a:srgbClr val="003f5e"/>
                </a:solidFill>
                <a:latin typeface="Calibri"/>
                <a:cs typeface="PT Bold Heading"/>
              </a:rPr>
              <a:t>نتائج الاجتماع للتحضير لمناقشات أخرى</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7-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هياكل المعلومات الخارجية </a:t>
            </a:r>
            <a:r>
              <a:rPr b="0" lang="ar-SA" sz="2000" spc="-1" strike="noStrike">
                <a:solidFill>
                  <a:srgbClr val="003f5e"/>
                </a:solidFill>
                <a:latin typeface="Calibri"/>
                <a:cs typeface="PT Bold Heading"/>
              </a:rPr>
              <a:t>وكيفية التعامل معها من قبل فريق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8- </a:t>
            </a:r>
            <a:r>
              <a:rPr b="0" lang="ar-SA" sz="2000" spc="-1" strike="noStrike">
                <a:solidFill>
                  <a:srgbClr val="ff0000"/>
                </a:solidFill>
                <a:latin typeface="Calibri"/>
                <a:cs typeface="PT Bold Heading"/>
              </a:rPr>
              <a:t>شرح أطلس </a:t>
            </a:r>
            <a:r>
              <a:rPr b="0" lang="ar-SA" sz="2000" spc="-1" strike="noStrike">
                <a:solidFill>
                  <a:srgbClr val="003f5e"/>
                </a:solidFill>
                <a:latin typeface="Calibri"/>
                <a:cs typeface="PT Bold Heading"/>
              </a:rPr>
              <a:t>في تصميمه الأولي وإبراز مدى وضوحه وسهولته في الوصول للمعرفة المتاح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9- </a:t>
            </a:r>
            <a:r>
              <a:rPr b="0" lang="ar-SA" sz="2000" spc="-1" strike="noStrike">
                <a:solidFill>
                  <a:srgbClr val="ff0000"/>
                </a:solidFill>
                <a:latin typeface="Calibri"/>
                <a:cs typeface="PT Bold Heading"/>
              </a:rPr>
              <a:t>تشجيع ومساندة </a:t>
            </a:r>
            <a:r>
              <a:rPr b="0" lang="ar-SA" sz="2000" spc="-1" strike="noStrike">
                <a:solidFill>
                  <a:srgbClr val="003f5e"/>
                </a:solidFill>
                <a:latin typeface="Calibri"/>
                <a:cs typeface="PT Bold Heading"/>
              </a:rPr>
              <a:t>استخدام أطلس</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0- </a:t>
            </a:r>
            <a:r>
              <a:rPr b="0" lang="ar-SA" sz="2000" spc="-1" strike="noStrike">
                <a:solidFill>
                  <a:srgbClr val="003f5e"/>
                </a:solidFill>
                <a:latin typeface="Calibri"/>
                <a:cs typeface="PT Bold Heading"/>
              </a:rPr>
              <a:t>جعل الأطلس كامل وتحديثه بشكل دوري من خلال </a:t>
            </a:r>
            <a:r>
              <a:rPr b="0" lang="ar-SA" sz="2000" spc="-1" strike="noStrike">
                <a:solidFill>
                  <a:srgbClr val="ff0000"/>
                </a:solidFill>
                <a:latin typeface="Calibri"/>
                <a:cs typeface="PT Bold Heading"/>
              </a:rPr>
              <a:t>التحسين المستمر</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أخطار المحتملة من جراء أطلس المعرفة</a:t>
            </a:r>
            <a:endParaRPr b="0" lang="en-US" sz="4400" spc="-1" strike="noStrike">
              <a:solidFill>
                <a:srgbClr val="376092"/>
              </a:solidFill>
              <a:latin typeface="Calibri"/>
            </a:endParaRPr>
          </a:p>
        </p:txBody>
      </p:sp>
      <p:sp>
        <p:nvSpPr>
          <p:cNvPr id="231"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يست كل مواقف الأعمال تحتاج إلى تخطيطاً للمعرفة أو حتى تبرر المجهود والتكلفة. لذلك ينبغي الحذر من الأمور التالية:</a:t>
            </a:r>
            <a:endParaRPr b="0" lang="en-US" sz="20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همية تحقيق عائد يفوق تكلفة إعداد أطلس.</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تكون مشكلات متكررة والمنظمة في حاجة إلى تجنبها.</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هناك صعوبة أو تعقيد في أن يشمل التنسيق العديد من المعاملين والمهام أو الأهداف.</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يعتمد النجاح على المشاركة والاستخدام الفعال للمعرفة.</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التحسين قابلاً للقياس .</a:t>
            </a:r>
            <a:endParaRPr b="0" lang="en-US" sz="1600" spc="-1" strike="noStrike">
              <a:solidFill>
                <a:srgbClr val="000000"/>
              </a:solidFill>
              <a:latin typeface="Calibri"/>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بل أن هناك مبررات لعدم الحاجة لأطلس المعرفة في ( حالات خاصة)</a:t>
            </a:r>
            <a:endParaRPr b="0" lang="en-US" sz="28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شركات المتعددة الجنسية ( أحد مظاهر العولمة)</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شكل أساسي على الحكم الموضوعي أو التي تشتمل على صراعات.</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في حالة الاندماج بين وحدة وأخرى.</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صفة خاصة على فهم العميل.</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عندما يتطلب الأمر تغيير ثقافة المنظمة.</a:t>
            </a:r>
            <a:endParaRPr b="0" lang="en-US" sz="1600" spc="-1" strike="noStrike">
              <a:solidFill>
                <a:srgbClr val="000000"/>
              </a:solidFill>
              <a:latin typeface="Calibri"/>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hmad Mohmmad Alholibi</cp:lastModifiedBy>
  <dcterms:modified xsi:type="dcterms:W3CDTF">2012-09-29T08:57:31Z</dcterms:modified>
  <cp:revision>123</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