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227-4F87-4A50-B896-37223960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37A-F5C3-4C50-A331-4505212A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B48-191E-4D56-969F-9B06B54E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3DF-3F94-4856-8ADE-DA94B61E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C311-80F9-4B08-88BF-EA8F8A4D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7A06-EB9C-4E4B-BACC-D83785F8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7589-C9A7-445A-9666-F924A584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7913-24A9-4802-8301-58D8AC18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A1BF-F58E-4A51-B608-F406D3C3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FEA3-7F38-4F57-B98F-3FED9229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9AB9-319E-4BAB-87B3-5E86C70A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53D5-A29A-4AEB-9CB4-E3A30055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0C07-60DA-46E5-95BB-43458665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2F0F-E694-413D-B3F4-C0F2C7B9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D5BE-6D8F-4731-AD3E-D5AD76B5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900F-EEAB-48F3-B42A-C8A87BC4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0FB3-CAB4-48C5-88BB-6258DBB9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50D6-4DBC-4C68-920E-6D8F1E18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B5ED-D3F2-48F3-A23F-B2959C82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39C-8B4F-4C8D-B69B-9167011A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72F-8C87-4E25-AB58-CBBD3524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072-FDE7-4CBC-ACCF-08E67FF4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485-EDEE-45E3-8BC1-1F472E1D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7A9-A92B-4BAF-B93D-104EDFE8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8C1E-35E0-4C39-87F9-FC2C21C6952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A5EE-7010-4793-ABC5-88D662C1ED9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2.xml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6633"/>
                </a:solidFill>
                <a:latin typeface="Arial"/>
              </a:rPr>
              <a:t>Sentences</a:t>
            </a:r>
            <a:endParaRPr b="0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Definition of a Sente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Every sentence 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Arial"/>
              </a:rPr>
              <a:t>begins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with a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capital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letter and 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Arial"/>
              </a:rPr>
              <a:t>ends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with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punctuation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ntences express a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complete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thought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ere are </a:t>
            </a:r>
            <a:r>
              <a:rPr b="0" lang="en-US" sz="3200" spc="-1" strike="noStrike" u="sng">
                <a:solidFill>
                  <a:srgbClr val="402000"/>
                </a:solidFill>
                <a:uFillTx/>
                <a:latin typeface="Arial"/>
              </a:rPr>
              <a:t>four types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of sentences we use when we writ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"/>
              </a:rPr>
              <a:t>stateme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"/>
              </a:rPr>
              <a:t>comman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"/>
              </a:rPr>
              <a:t>exclamat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Statemen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A statement is a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telling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sentenc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A statement ends with a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period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mic Sans MS"/>
              </a:rPr>
              <a:t>I am responsible for the choices I make</a:t>
            </a:r>
            <a:r>
              <a:rPr b="0" lang="en-US" sz="3200" spc="-1" strike="noStrike">
                <a:solidFill>
                  <a:srgbClr val="cd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A question is an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asking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sentenc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Questions end with a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question mark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Questions often begin with who, what, when, where, how, or why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What time is it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omman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A command is a sentence that gives an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order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ommands end with a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period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ommands can begin with “please” or an introduction word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Please get out your pencil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Exclam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An exclamation is an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excited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sentenc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Exclamations end with an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exclamation point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!</a:t>
            </a: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Exclamations can begin with question words, but don’t ask a quest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What a huge dog that is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What type is each sentence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Where is my coat?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Go get your book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My dog’s name is Toby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I won!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Please sit dow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Joey is absent today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How many apples are on the tre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1905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5410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4876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42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Arial"/>
              </a:rPr>
              <a:t>comman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657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Arial"/>
              </a:rPr>
              <a:t>exclam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48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2514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Arial"/>
              </a:rPr>
              <a:t>comman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Add the correct </a:t>
            </a:r>
            <a:r>
              <a:rPr b="0" lang="en-US" sz="4400" spc="-1" strike="noStrike">
                <a:solidFill>
                  <a:srgbClr val="cd3333"/>
                </a:solidFill>
                <a:latin typeface="Arial"/>
              </a:rPr>
              <a:t>end mark</a:t>
            </a: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 to each sentence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Go get in the car </a:t>
            </a:r>
            <a:r>
              <a:rPr b="0" lang="en-US" sz="3200" spc="-1" strike="noStrike">
                <a:solidFill>
                  <a:srgbClr val="cd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Where is Kelse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What a huge watermel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I found a dim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I won the grand priz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How did you do th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Next, put in the sug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15238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d3333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50292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d3333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648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d33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4114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d3333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3200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d3333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2971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d3333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2362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d33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ummary Slide-</a:t>
            </a:r>
            <a:r>
              <a:rPr b="0" lang="en-US" sz="2000" spc="-1" strike="noStrike">
                <a:solidFill>
                  <a:srgbClr val="996633"/>
                </a:solidFill>
                <a:latin typeface="Times New Roman"/>
              </a:rPr>
              <a:t>click on the arrow to review if needed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ntenc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finition of a sente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tatemen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Ques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mman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clam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at type is each sentenc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3429000" y="19810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8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8" y="20200"/>
                </a:lnTo>
                <a:lnTo>
                  <a:pt x="58998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8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98" h="21600">
                <a:moveTo>
                  <a:pt x="26700" y="10800"/>
                </a:moveTo>
                <a:lnTo>
                  <a:pt x="37206" y="3794"/>
                </a:lnTo>
                <a:lnTo>
                  <a:pt x="37206" y="17806"/>
                </a:lnTo>
                <a:close/>
              </a:path>
              <a:path fill="darken" w="60398" h="21600">
                <a:moveTo>
                  <a:pt x="23193" y="3794"/>
                </a:moveTo>
                <a:lnTo>
                  <a:pt x="24855" y="3794"/>
                </a:lnTo>
                <a:lnTo>
                  <a:pt x="24855" y="17806"/>
                </a:lnTo>
                <a:lnTo>
                  <a:pt x="23193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6324480" y="5410080"/>
            <a:ext cx="1067040" cy="38124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419" h="21600">
                <a:moveTo>
                  <a:pt x="0" y="0"/>
                </a:moveTo>
                <a:lnTo>
                  <a:pt x="60419" y="0"/>
                </a:lnTo>
                <a:lnTo>
                  <a:pt x="60419" y="21600"/>
                </a:lnTo>
                <a:lnTo>
                  <a:pt x="0" y="21600"/>
                </a:lnTo>
                <a:close/>
              </a:path>
              <a:path fill="lightenLess" w="60419" h="21600">
                <a:moveTo>
                  <a:pt x="0" y="0"/>
                </a:moveTo>
                <a:lnTo>
                  <a:pt x="60419" y="0"/>
                </a:lnTo>
                <a:lnTo>
                  <a:pt x="59019" y="1400"/>
                </a:lnTo>
                <a:lnTo>
                  <a:pt x="1400" y="1400"/>
                </a:lnTo>
                <a:close/>
              </a:path>
              <a:path fill="darken" w="60419" h="21600">
                <a:moveTo>
                  <a:pt x="60419" y="0"/>
                </a:moveTo>
                <a:lnTo>
                  <a:pt x="60419" y="21600"/>
                </a:lnTo>
                <a:lnTo>
                  <a:pt x="59019" y="20200"/>
                </a:lnTo>
                <a:lnTo>
                  <a:pt x="59019" y="1400"/>
                </a:lnTo>
                <a:close/>
              </a:path>
              <a:path fill="darkenLess" w="60419" h="21600">
                <a:moveTo>
                  <a:pt x="60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19" y="20200"/>
                </a:lnTo>
                <a:close/>
              </a:path>
              <a:path fill="lighten" w="60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19" h="21600">
                <a:moveTo>
                  <a:pt x="23203" y="10800"/>
                </a:moveTo>
                <a:lnTo>
                  <a:pt x="37216" y="3794"/>
                </a:lnTo>
                <a:lnTo>
                  <a:pt x="37216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3733920" y="480060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3429000" y="42670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8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8" y="20200"/>
                </a:lnTo>
                <a:lnTo>
                  <a:pt x="58998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8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98" h="21600">
                <a:moveTo>
                  <a:pt x="23193" y="10800"/>
                </a:moveTo>
                <a:lnTo>
                  <a:pt x="37206" y="3794"/>
                </a:lnTo>
                <a:lnTo>
                  <a:pt x="37206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3352680" y="30481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76" h="21600">
                <a:moveTo>
                  <a:pt x="23231" y="10800"/>
                </a:moveTo>
                <a:lnTo>
                  <a:pt x="37244" y="3794"/>
                </a:lnTo>
                <a:lnTo>
                  <a:pt x="37244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>
            <a:hlinkClick r:id="rId4" action="ppaction://hlinksldjump"/>
          </p:cNvPr>
          <p:cNvSpPr/>
          <p:nvPr/>
        </p:nvSpPr>
        <p:spPr>
          <a:xfrm>
            <a:off x="3200400" y="365760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>
            <a:hlinkClick r:id="rId5" action="ppaction://hlinksldjump"/>
          </p:cNvPr>
          <p:cNvSpPr/>
          <p:nvPr/>
        </p:nvSpPr>
        <p:spPr>
          <a:xfrm>
            <a:off x="5486400" y="251460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6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19:06:50Z</dcterms:created>
  <dc:creator> </dc:creator>
  <dc:description/>
  <dc:language>en-US</dc:language>
  <cp:lastModifiedBy> </cp:lastModifiedBy>
  <dcterms:modified xsi:type="dcterms:W3CDTF">2003-06-26T20:18:56Z</dcterms:modified>
  <cp:revision>3</cp:revision>
  <dc:subject/>
  <dc:title>Sentences</dc:title>
</cp:coreProperties>
</file>