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C06-BDD4-47E8-861F-BAE1B127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57D-5FBD-4E00-8975-28FA5D63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F17-CBCC-4A57-A742-FA2F40B7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8FC-E0FB-4D03-9655-8ADD23FD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7EC3-F45E-4F5E-945C-052DE9F5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E194-E55F-4A82-9B6C-BD7EEF02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279C-CD94-4E65-A94B-553F58DC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89AD-C219-44B8-B93B-8B7C05DB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DD20-9AFA-4F00-906F-05571709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7A47-DB0C-4ED1-AD05-3475A9FD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0F27-056F-44B3-A048-74BB4A40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426-42EA-443C-854B-B6BAE909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0C06-48CE-4B99-9F2F-2C56A4D6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616A-4C87-4953-878D-EFF36AC8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9AB8-7C14-4006-A144-691EBF3A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F8F4-B318-45AE-B3BB-14CC8F5F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C74A-47AB-4D64-86F9-ED9ABB0D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56E-A290-4D62-B971-176558D3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CF3-F5D6-4482-B1D7-FF19C515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34C-C56A-481F-BF48-1F53884D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E2A-BE5C-4B04-AD3A-0DE78E3E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152-F08B-45DF-977D-C76230F5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D57-5EC4-453F-8507-3E6002CF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786-F5F1-404D-8912-0BAEA13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15E3-8F72-4214-906F-45FF8BBB4F6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5AEB-F0DC-4434-B21C-B0B9BA96356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Complex Claus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447920" y="5943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Ms. Lubna Bahamm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drives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as i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had no driving licen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ounger sister is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elligent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tha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older o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sults of the exam came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a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expect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Adverbial Clauses of Manner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semblance, degree, or effec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udent studies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rd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th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may get the first place on cla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mployee arrives to work on time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le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 should be fi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uda speaks English fluently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e lived in the UK for five yea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6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atima fails the exam, she has to repeat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Adverbial Clauses of Caus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ason, purpose, condition, or contra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clause that functions as a noun becomes a noun clause and then it can take the place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verb (direct or indirect),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n object of prepos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ased on its location in the sente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762120" y="5335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2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.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Noun Clau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6091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a noun/pronoun/noun phrase or clause that represents the doer of the a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 Objec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who or what receives the action of the verb (verb must be a transitive action ver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She kicke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r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∙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direct Objec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to whom or for what the action was done (verb must be a transitive action ver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Her mother g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gift card to the 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 of the Preposi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the noun or pronoun that the preposition refers 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She r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ow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il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almost fe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ords that introduce noun claus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2193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un clauses can be introduced by words that are also called subordinators AND relative pronouns (this can get trick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Words in green- introduce noun clause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Words in blue – introduce noun &amp; adj clau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in black – introduce noun &amp; adv clau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How, howev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whet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whatev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whichever, whomever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whe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hat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hi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ho, whom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hoever, whos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termining the function of your noun cla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key to determining if a clause is a noun clause is to first learn and be able to recognize when you see a word that introduces a noun claus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condly, find out where the clause is located in your sentenc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f the clause comes right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after a preposition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, then it is a noun clause acting as the object of the preposition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f it comes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at the beginning of the sentence AND before the acting verb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f the sentence is the subject of the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ntenc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Noun clause functions continued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astly, if the clause comes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after the main action verb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 the sentence it will be direct object or indirect objec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440" y="38052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 at this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ou really do not want to know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6e6000"/>
                </a:solidFill>
                <a:latin typeface="Comic Sans MS"/>
              </a:rPr>
              <a:t>ingredients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in Aunt Nancy's ste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gredients = nou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replace the noun ingredients with a clause, we have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noun cla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ou really do not want to know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6e6000"/>
                </a:solidFill>
                <a:latin typeface="Comic Sans MS"/>
              </a:rPr>
              <a:t>what Aunt Nancy adds to her stew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unt Nancy adds to her stew”= is a noun clause functioning as the objec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the verb “know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jective Claus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140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tive pronouns introduce adjective clau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ost common Relative Pronou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o, whom, which, whomever, whose, what, th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EN a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lso be relative pronouns used to introduce adjective clauses BUT are most often subordinators- IT DEPENDS ON WHAT IT IS REFERRING TO.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f you take the adjective clause out of your sentence, your sentence will still be left with a main clau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N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lso be a subordinate conjunction that starts an adjective clau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Allison likes pathway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here she can s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other people in case of an emergen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ere can she see other people in an emergenc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974880" y="3008160"/>
            <a:ext cx="6797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6"/>
          <p:cNvSpPr/>
          <p:nvPr/>
        </p:nvSpPr>
        <p:spPr>
          <a:xfrm>
            <a:off x="304920" y="360360"/>
            <a:ext cx="80769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 adjective clause describes/modifies a noun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pronoun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Modifies - means it refers to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as an adjective modifies a noun or pronoun,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djective clause acts in the same way, except it is 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of words acting like an adjective would!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Thunderstorm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which are often quite unpredic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eem to arise when the weather forecast least expects them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often quite unpredictable?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mplex sentenc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is made up of a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independent claus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and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dependent clause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70c0"/>
                </a:solidFill>
                <a:uFillTx/>
                <a:latin typeface="Comic Sans MS"/>
              </a:rPr>
              <a:t>Adjective Clause Practice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70c0"/>
                </a:solidFill>
                <a:latin typeface="Comic Sans MS"/>
              </a:rPr>
              <a:t>Read each sentence, pick out the complete adjective clause, CIRCLE the relative pronoun and write out the noun or pronoun that your adjective clause modifies</a:t>
            </a:r>
            <a:r>
              <a:rPr b="0" i="1" lang="en-US" sz="24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man who looked pale was very si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He was sitting in the emergency room that was very crowd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he woman who you called will be here soon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He lived in chamber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had once belonged to his deceased partner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00" y="228240"/>
            <a:ext cx="7988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Find the adjective clause in the following sentences and which word it modif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I play a kind of music that nobody lik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The man whom you saw was not the famous act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I remember the day when I took my first airplane r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I have a neighbor whose parents live in Austral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The hint that I learned about cleaning the walk saved me much 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at nobody lik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s either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usic or ki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 prepositional phrase can separate the introductory word from the word it modifi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om you sa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en I took my first airplane r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hose parents live in Austral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neighb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at I learned about cleaning the wal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h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an adverbial subordinate claus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the 4 kinds of adverbial claus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2666520"/>
            <a:ext cx="68706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x sentence are fun to analys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MPj04384650000"/>
          <p:cNvPicPr/>
          <p:nvPr/>
        </p:nvPicPr>
        <p:blipFill>
          <a:blip r:embed="rId1"/>
          <a:stretch/>
        </p:blipFill>
        <p:spPr>
          <a:xfrm>
            <a:off x="2286000" y="838080"/>
            <a:ext cx="426708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 simple sentence? Give examp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’s a compound sentence? Give exampl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’s a complex senten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principal/independent/main clau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you know a subordinate clau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00000"/>
                </a:solidFill>
                <a:uFillTx/>
                <a:latin typeface="Comic Sans MS"/>
              </a:rPr>
              <a:t>3</a:t>
            </a:r>
            <a:r>
              <a:rPr b="0" lang="en-US" sz="4400" spc="-1" strike="noStrike" u="sng">
                <a:solidFill>
                  <a:srgbClr val="c00000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c00000"/>
                </a:solidFill>
                <a:uFillTx/>
                <a:latin typeface="Comic Sans MS"/>
              </a:rPr>
              <a:t>Types of Dependent Clau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are three kinds of dependent clauses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jective clau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verb claus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un clau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504960"/>
            <a:ext cx="7772400" cy="1927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y are they important?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enhance writing; thus, it’s not so choppy. They allow for better fluency when reading; hence, better comprehension, and they break the monotony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sentenc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0640" y="1519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Subordinate clau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4"/>
          <p:cNvSpPr/>
          <p:nvPr/>
        </p:nvSpPr>
        <p:spPr>
          <a:xfrm flipH="1">
            <a:off x="1219320" y="1676520"/>
            <a:ext cx="2133360" cy="190476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4495680" y="1676520"/>
            <a:ext cx="0" cy="83808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5562720" y="1676520"/>
            <a:ext cx="2286000" cy="190476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57200" y="3581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 Nomin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 3. Adjectiv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019240" y="2514600"/>
            <a:ext cx="5038920" cy="3720960"/>
          </a:xfrm>
          <a:prstGeom prst="rect">
            <a:avLst/>
          </a:prstGeom>
          <a:noFill/>
          <a:ln w="57240">
            <a:solidFill>
              <a:srgbClr val="703d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Adverbial Cla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ubordinate clause that takes the place of an adverb, describ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rb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 studies h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djective: The cat is extremely cle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nother adverb: He talks very quick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Types of Adverbial Clau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rding to the idea they express, adverbial clauses are divided into four kind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33520" y="43434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Place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03dff"/>
                </a:solidFill>
                <a:latin typeface="Arial"/>
              </a:rPr>
              <a:t>Manner                      Ca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8" name="Group 22"/>
          <p:cNvGrpSpPr/>
          <p:nvPr/>
        </p:nvGrpSpPr>
        <p:grpSpPr>
          <a:xfrm>
            <a:off x="1066680" y="2895120"/>
            <a:ext cx="6934320" cy="1386360"/>
            <a:chOff x="1066680" y="2895120"/>
            <a:chExt cx="6934320" cy="1386360"/>
          </a:xfrm>
        </p:grpSpPr>
        <p:sp>
          <p:nvSpPr>
            <p:cNvPr id="169" name="Line 4"/>
            <p:cNvSpPr/>
            <p:nvPr/>
          </p:nvSpPr>
          <p:spPr>
            <a:xfrm>
              <a:off x="1066680" y="36576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Line 6"/>
            <p:cNvSpPr/>
            <p:nvPr/>
          </p:nvSpPr>
          <p:spPr>
            <a:xfrm>
              <a:off x="1066680" y="3672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>
              <a:off x="3276720" y="3657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>
              <a:off x="5500800" y="3657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001000" y="36576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13"/>
            <p:cNvSpPr/>
            <p:nvPr/>
          </p:nvSpPr>
          <p:spPr>
            <a:xfrm flipV="1">
              <a:off x="4495680" y="289512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52640" y="6094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Adverbial Clauses of Time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particular time, duration, or frequenc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e6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Dur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stay in London, I visited many pla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father left to work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woke up this mor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by cried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e was coo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Adverbial Clauses of Plac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place, from a place, or to a pla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e6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Wherev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go, I am used to taking my cat with 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 was ordered to go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wh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e ca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l find your book </a:t>
            </a:r>
            <a:r>
              <a:rPr b="0" lang="en-US" sz="3200" spc="-1" strike="noStrike">
                <a:solidFill>
                  <a:srgbClr val="6e6000"/>
                </a:solidFill>
                <a:latin typeface="Comic Sans MS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put it last nigh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bna</dc:creator>
  <dc:description/>
  <dc:language>en-US</dc:language>
  <cp:lastModifiedBy>almas</cp:lastModifiedBy>
  <dcterms:modified xsi:type="dcterms:W3CDTF">2013-10-03T10:20:2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