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C31-92E0-4905-8DCE-29DA0495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951-F0A1-4C42-BD9B-541B200E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97A-B568-4673-9607-657B7145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4B1-9B1C-4F0C-BE50-6B87CC2A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E258-DADD-462F-97B7-FAE473A1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A445-0884-4612-9EA7-60655899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D388-2443-481B-BEFC-BE2065B9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9281-65C2-4E4C-84B8-BD0FC4CA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BB96-67D0-4C7D-8A26-978C9FC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0DB2-A6F7-4F09-9836-C460847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3D6-6E18-4F40-B0A6-89CA755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BAF-BCD8-4AE2-98AF-D11AC4EB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1244-4D8C-4194-9708-6DA0AE5E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4495-44DD-49FA-BA0E-AC57D481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B32-84C1-4658-8FAE-1ADE1799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4DB-C1A2-4BAA-901F-DD98ED3D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8B08-AD04-4208-BE6A-7902427A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5FF-8680-4F62-AECB-F58E75F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815-7903-4960-BFB2-D1C93D29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CD8-62B7-4948-A52D-0DA41E6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22E-FC0D-43E9-803A-4E5F99EA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C15-58A0-4596-96DD-5F394DF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993-FC73-4070-8301-C215950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3E3-3C36-469D-A4CA-3C7A07F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A34E-66EA-4A51-8449-E6754CB1B0C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2756-F084-45E1-9617-D8D0C0D5A4D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152280" y="0"/>
            <a:ext cx="7696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بسم الله الرحمن الرحيم 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038240"/>
            <a:ext cx="7143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ndalus"/>
              </a:rPr>
              <a:t>مدرسة ذكور اسكندر الثانوية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203800"/>
            <a:ext cx="450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igned by : </a:t>
            </a:r>
            <a:endParaRPr b="0" lang="en-US" sz="96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79640" y="5707080"/>
            <a:ext cx="57913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halil Abu Rizik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752480"/>
            <a:ext cx="7848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DilleniaUPC"/>
              </a:rPr>
              <a:t>Iskandar Secondary School for Boys.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6019920"/>
            <a:ext cx="2362320" cy="609480"/>
          </a:xfrm>
          <a:prstGeom prst="cloudCallout">
            <a:avLst>
              <a:gd name="adj1" fmla="val -46574"/>
              <a:gd name="adj2" fmla="val 7994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ess F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o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4078440"/>
            <a:ext cx="8305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arative and  Superlative </a:t>
            </a:r>
            <a:r>
              <a:rPr b="0" lang="hi-IN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مقارنة والتفضيل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2708280"/>
            <a:ext cx="7704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glish for Palestine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th, 11th and 12th Grades</a:t>
            </a:r>
            <a:endParaRPr b="0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88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b7"/>
                </a:solidFill>
                <a:latin typeface="Arial Black"/>
              </a:rPr>
              <a:t>الصفات الشاذة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[ب] الصفات الشاذة ( لا تأخ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ولا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2205000"/>
          <a:ext cx="8820000" cy="42912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1666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ي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tte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فضل من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est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فض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d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سيء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wor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بعيد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r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arth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( مع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me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ليل/بعض ( مع غير المعدود )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ch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y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ثي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خارج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outset / out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داخل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inmost / inn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على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pp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upperm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[ج] صفات ذات مقطعين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Two Syllable Adjectives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ar-SA" sz="3200" spc="-1" strike="noStrike">
                <a:solidFill>
                  <a:srgbClr val="ffffb7"/>
                </a:solidFill>
                <a:latin typeface="Arial Black"/>
              </a:rPr>
              <a:t> :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ة المنتهية بـ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 حيث تقلب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إلى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ونضيف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2133720"/>
          <a:ext cx="9143640" cy="1641240"/>
        </p:xfrm>
        <a:graphic>
          <a:graphicData uri="http://schemas.openxmlformats.org/drawingml/2006/table">
            <a:tbl>
              <a:tblPr/>
              <a:tblGrid>
                <a:gridCol w="3047400"/>
                <a:gridCol w="3048840"/>
                <a:gridCol w="304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ودود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iendl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ود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riendl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ضحك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ضحاكا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unnier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ضحاكاً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funniest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الصفات الأخرى حيث نحضر كلمة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عند المقارنة بين شيئين أو شخصين  و (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 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4941720"/>
          <a:ext cx="8748720" cy="760680"/>
        </p:xfrm>
        <a:graphic>
          <a:graphicData uri="http://schemas.openxmlformats.org/drawingml/2006/table">
            <a:tbl>
              <a:tblPr/>
              <a:tblGrid>
                <a:gridCol w="2916360"/>
                <a:gridCol w="2916000"/>
                <a:gridCol w="2916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ريص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صا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careful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صاً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reful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the m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هذب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تهذيباً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polit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تهذيباُ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polit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500"/>
                            </p:stCondLst>
                            <p:childTnLst>
                              <p:par>
                                <p:cTn id="5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صفات ذات ثلاث مقاطع أو أكثر ( نفس القاعدة رقم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حيث نضي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و(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)عند المقارنة بين أكثر من شيئين أو شخصين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Syllable Adjectiv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في المثال التا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95968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2492280"/>
          <a:ext cx="9143640" cy="2376000"/>
        </p:xfrm>
        <a:graphic>
          <a:graphicData uri="http://schemas.openxmlformats.org/drawingml/2006/table">
            <a:tbl>
              <a:tblPr/>
              <a:tblGrid>
                <a:gridCol w="3047400"/>
                <a:gridCol w="3048480"/>
                <a:gridCol w="3047760"/>
              </a:tblGrid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جميل       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autif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جمال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beautifu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ممتع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إمتاعاً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re interest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إمتاعاً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ost intere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</a:rPr>
              <a:t>أمثلة توضيحي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م المقارنة بين الصفات بوجود طرفين ( شيئين  أو شخصين ) بينهما كلم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بعد صفة المقارنة كما ي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فضة أرخص من الذه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lver is cheaper than go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200" spc="-1" strike="noStrike">
                <a:solidFill>
                  <a:srgbClr val="ffffff"/>
                </a:solidFill>
                <a:latin typeface="Arial"/>
              </a:rPr>
              <a:t>الذهب أغلى من الفضة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ld is more expensive than silv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042920" y="5805360"/>
            <a:ext cx="1225440" cy="648000"/>
          </a:xfrm>
          <a:prstGeom prst="leftArrow">
            <a:avLst>
              <a:gd name="adj1" fmla="val 50000"/>
              <a:gd name="adj2" fmla="val 4727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b7"/>
                </a:solidFill>
                <a:latin typeface="Arial Black"/>
              </a:rPr>
              <a:t>التفضيل بإستخدام صيغة التفضيل في الصفة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م التفضيل بإستخدام صيغة التفضيل في الصفة حسب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أ)  ذات المقطع الواحد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مكة أقدس مدينة في العالم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kah is the holiest city in the wor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             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ب) ذات المقطعين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اتم أكرم شخص عرفته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tim is the most generous person I have kn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1187280" y="5805360"/>
            <a:ext cx="1008360" cy="503280"/>
          </a:xfrm>
          <a:prstGeom prst="leftArrow">
            <a:avLst>
              <a:gd name="adj1" fmla="val 50000"/>
              <a:gd name="adj2" fmla="val 50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0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1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ذكر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أ* نستدل على المقارنة بين طرفين ( شيئين  أو شخصين ) بينهما 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صفة المقار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لم تكن موجودة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فإننا نميز جمل المقارنة عن التفضيل عن طريق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 إسم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a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att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ami .(fat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إذا كان هناك مقارنة بين إسم وضمير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r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onger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friends . (stron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كلم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ضفة التي أضيفت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* عند تشابه الإسمين ( الأول والإسم الذي بعد الصفة إذا كان هذا الإسم معرفا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أو جاءت كلمتي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, the 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بعد الصفة مكان الإسم تعتبر مقارنة 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jacket is cheaper than the one in the shop (che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بدأت الجملة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تعتبر مقارنة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easier for me to start with this exercise ( eas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0" y="5445000"/>
            <a:ext cx="1476360" cy="692280"/>
          </a:xfrm>
          <a:prstGeom prst="leftArrow">
            <a:avLst>
              <a:gd name="adj1" fmla="val 50000"/>
              <a:gd name="adj2" fmla="val 5331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ذكر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7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5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60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5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500"/>
                            </p:stCondLst>
                            <p:childTnLst>
                              <p:par>
                                <p:cTn id="7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500"/>
                            </p:stCondLst>
                            <p:childTnLst>
                              <p:par>
                                <p:cTn id="7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100" spc="-1" strike="noStrike">
                <a:solidFill>
                  <a:srgbClr val="ffffb7"/>
                </a:solidFill>
                <a:latin typeface="Arial Black"/>
              </a:rPr>
              <a:t>تذَكر (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2</a:t>
            </a:r>
            <a:r>
              <a:rPr b="1" lang="en-US" sz="81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8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ستدل على أن الجملة تفضي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إذا سبق الإسم الذي يتبع الصفة حرف ج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, of the , of 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ثال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lever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his friends. (clever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تنسى أن تضع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قبل الصفة التي أضيف عليها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إذا وجدت أحد هذه الكلم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known , I have heard , I have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ثال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yla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beauti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irl I have known ( beautifu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 تشابه الإسمين الأول والإسم الذي بعد الصفة إذا كان الإسم غير معرفاً ب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يعتبر تفضيل  مثال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 was the most polite girl we met ( polite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عندما يتبع الصفة (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-infinitiv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والتي تعني ( فعل مجرد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) تكون تفضيل مثال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earl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( early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250920" y="6165720"/>
            <a:ext cx="1081080" cy="692280"/>
          </a:xfrm>
          <a:prstGeom prst="leftArrow">
            <a:avLst>
              <a:gd name="adj1" fmla="val 50000"/>
              <a:gd name="adj2" fmla="val 390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ختبر نفس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00"/>
                            </p:stCondLst>
                            <p:childTnLst>
                              <p:par>
                                <p:cTn id="7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7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40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8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0"/>
                            </p:stCondLst>
                            <p:childTnLst>
                              <p:par>
                                <p:cTn id="8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500"/>
                            </p:stCondLst>
                            <p:childTnLst>
                              <p:par>
                                <p:cTn id="8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60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6500"/>
                            </p:stCondLst>
                            <p:childTnLst>
                              <p:par>
                                <p:cTn id="8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7500"/>
                            </p:stCondLst>
                            <p:childTnLst>
                              <p:par>
                                <p:cTn id="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95640" y="6149880"/>
            <a:ext cx="44766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 is -----------------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arth looks --------------------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otel is ------------------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er is ------------------------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tuation became ------------------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’s --------------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ly in Palestine is ---------------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ere --------------- to arrive at the stadium . ( lat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pen is ------------------ the one you saw yesterday . (expensive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cket is much ------------------ 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8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500"/>
                            </p:stCondLst>
                            <p:childTnLst>
                              <p:par>
                                <p:cTn id="8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8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6500"/>
                            </p:stCondLst>
                            <p:childTnLst>
                              <p:par>
                                <p:cTn id="8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8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7500"/>
                            </p:stCondLst>
                            <p:childTnLst>
                              <p:par>
                                <p:cTn id="9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8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8500"/>
                            </p:stCondLst>
                            <p:childTnLst>
                              <p:par>
                                <p:cTn id="9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8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8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9500"/>
                            </p:stCondLst>
                            <p:childTnLst>
                              <p:par>
                                <p:cTn id="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8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800" fill="hold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8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835280" y="189000"/>
            <a:ext cx="4465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إختبر نفسك الآن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24000" y="5950080"/>
            <a:ext cx="44769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مع تمنياتنا لكم بالنجاح والتوفيق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6093000"/>
            <a:ext cx="1008000" cy="765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إجاب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endshow"/>
          </p:cNvPr>
          <p:cNvSpPr/>
          <p:nvPr/>
        </p:nvSpPr>
        <p:spPr>
          <a:xfrm>
            <a:off x="468360" y="6093000"/>
            <a:ext cx="863640" cy="76500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إنه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ocket is muc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ster th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lane . (f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arth look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beautiful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moon (beautifu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tuation beca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s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fore ( b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in Palestine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une . (h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tal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 . ( tall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er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languages .(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tel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comfor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tel in town .(comfor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expensive th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one you saw yesterday . (expensiv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e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retti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n you ever used . (pretty 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ost interes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I ever read . ( interesting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at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rrive at the stadium . ( late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500"/>
                            </p:stCondLst>
                            <p:childTnLst>
                              <p:par>
                                <p:cTn id="9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500"/>
                            </p:stCondLst>
                            <p:childTnLst>
                              <p:par>
                                <p:cTn id="9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1979640" y="476280"/>
            <a:ext cx="482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Good bye .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pic>
        <p:nvPicPr>
          <p:cNvPr id="185" name="Picture 3" descr="constr30"/>
          <p:cNvPicPr/>
          <p:nvPr/>
        </p:nvPicPr>
        <p:blipFill>
          <a:blip r:embed="rId1"/>
          <a:stretch/>
        </p:blipFill>
        <p:spPr>
          <a:xfrm>
            <a:off x="6564240" y="2316240"/>
            <a:ext cx="1970280" cy="18334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4"/>
          <p:cNvSpPr txBox="1"/>
          <p:nvPr/>
        </p:nvSpPr>
        <p:spPr>
          <a:xfrm>
            <a:off x="468360" y="544500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With my best wish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ench Script MT"/>
              </a:rPr>
              <a:t>khalil Abu Rizi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492280"/>
            <a:ext cx="88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s:  English For Pales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lish For all levels by Ahmad Mamdou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 more information, please contact me at:    aburizik.k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0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9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5400"/>
            </a:br>
            <a:r>
              <a:rPr b="1" lang="ar-SA" sz="5400" spc="-1" strike="noStrike">
                <a:solidFill>
                  <a:srgbClr val="ffffb7"/>
                </a:solidFill>
                <a:latin typeface="Arial Black"/>
              </a:rPr>
              <a:t>المقارنة والتفضيل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8600" y="3998520"/>
            <a:ext cx="622764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عناه ، تركيبته (شروطه) ، أمثلة عليه ، تذَكر ،  دلائله ، الصفات الشاذة ، أمثلة توضيحية ،  إختبر نفسك ، إجابات نموذجية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6165720"/>
            <a:ext cx="1655640" cy="692280"/>
          </a:xfrm>
          <a:prstGeom prst="leftArrow">
            <a:avLst>
              <a:gd name="adj1" fmla="val 50000"/>
              <a:gd name="adj2" fmla="val 597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 Black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94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0439 C 0.03644 0.00439 0.06744 0.04568 0.06744 0.09628 C 0.06744 0.12958 0.05444 0.15888 0.03544 0.17619 L 0.03444 0.17619 C 0.02744 0.18285 0.02344 0.1935 0.02344 0.20549 C 0.02344 0.21614 0.02744 0.22547 0.03244 0.23213 C 0.04044 0.24278 0.04544 0.25876 0.04544 0.27474 C 0.04544 0.30937 0.02444 0.33734 -0.00156 0.33734 C -0.02756 0.33734 -0.04856 0.30937 -0.04856 0.27474 C -0.04856 0.25876 -0.04356 0.24278 -0.03556 0.23213 C -0.03056 0.22547 -0.02756 0.21614 -0.02756 0.20549 C -0.02756 0.1935 -0.03156 0.18285 -0.03756 0.17619 L -0.03856 0.17619 C -0.05856 0.15888 -0.07156 0.12958 -0.07156 0.09628 C -0.07156 0.04568 -0.04056 0.00439 -0.00156 0.00439 Z">
                                      <p:cBhvr>
                                        <p:cTn id="9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معنى المقارنة والتفضيل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ارنة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مقارنة بي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فضيل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la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و مقارنة بين أكثر من طرفين ( شيئين أو شخصين ) بإستخدام الصفات القصيرة ذات المقطع الواحد أو المقطعين أو أكثر من ثلاث مقاطع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584000" cy="692280"/>
          </a:xfrm>
          <a:prstGeom prst="leftArrow">
            <a:avLst>
              <a:gd name="adj1" fmla="val 50000"/>
              <a:gd name="adj2" fmla="val 5720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1 0.028 0.08257 0.062 0.08257 C 0.097 0.08257 0.125 0.04661 0.125 0 C 0.125 -0.04661 0.153 -0.08257 0.188 -0.08257 C 0.222 -0.08257 0.25 -0.04661 0.25 0 E">
                                      <p:cBhvr>
                                        <p:cTn id="1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مقارنة 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طرفين ( شيئين أو شخصين )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تركيبة (شروط) صيغة التفضيل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)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إتمام هذه الصيغة يوجد ثلاث شروط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ول : وجود أكثر من  طرفين أو أكثر  شيئين أو أكثر  شخصين لتتم مقارنتهما ببعضهما البعض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ني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ذات المقطع ال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ثالث : إضافة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على الصفة المكونة من مقطعين أو ثلاث مقاطع أو أكثر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324000" y="6165720"/>
            <a:ext cx="1726920" cy="692280"/>
          </a:xfrm>
          <a:prstGeom prst="leftArrow">
            <a:avLst>
              <a:gd name="adj1" fmla="val 50000"/>
              <a:gd name="adj2" fmla="val 6236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ال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سم الصفات في اللغة الإنجليزية إلى نوعين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قصيرة تتكون من مقطع واحد وتخرج عند اللفظ دفعة واحدة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, low , high , 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فات طويلة تتكون من أكثر من مقطع وتخرج عند اللفظ على دفعات  مثل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nsive , beautiful , comfortabl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تتكون كل صفة من الصفات المذكورة أعلاه  من ثلاث حالات ه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حالة العادية للصفة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مقارن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الة التفضي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000"/>
                            </p:stCondLst>
                            <p:childTnLst>
                              <p:par>
                                <p:cTn id="3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07760" y="1557360"/>
            <a:ext cx="8435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فيما يلي تفصيل الثلاث حالات لكل نوع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[أ] الصفات ذات المقطع الواحد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e Syllable Adjecti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سبق الحرف الأخير من الصفة حرف متحرك من الأ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 i o u 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ضاعف الحرف الأخير عند المقارنة والتفضيل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2400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4581360"/>
          <a:ext cx="8209080" cy="16700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صف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مقارن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تفضي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كبير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بر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ig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بر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bigg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حار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an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كثر حرارة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hot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 إذا إنتهت الصفة ب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فإننا نحول هذا الحرف إلى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 وهكذا في حالة التفضيل فإننا نحول الحر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إلى 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ثم نضيف (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ك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unniest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أكثر إضحاكا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مضحك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n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ل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vie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أثق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i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               ثقيل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v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8360" y="580536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00"/>
                            </p:stCondLst>
                            <p:childTnLst>
                              <p:par>
                                <p:cTn id="3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Comparative and Superlative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ar-SA" sz="4000" spc="-1" strike="noStrike">
                <a:solidFill>
                  <a:srgbClr val="ffffb7"/>
                </a:solidFill>
                <a:latin typeface="Arial Black"/>
              </a:rPr>
              <a:t>المقارنة والتفضيل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0" y="6138720"/>
            <a:ext cx="2016000" cy="719280"/>
          </a:xfrm>
          <a:prstGeom prst="leftArrow">
            <a:avLst>
              <a:gd name="adj1" fmla="val 50000"/>
              <a:gd name="adj2" fmla="val 700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ب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370520"/>
            <a:ext cx="82454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إذا إنتهت الصفة بحر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نضيف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فقط كما في الأمثلة ال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آ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t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  فيما بعد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متأخ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الأكب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rgest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  أكبر من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r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               كبير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- الصفات الأخرى ( وهي كثيرة في اللغة الإنجليزية )  ما عليك إلا إضافة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شيئين أو شخصين  و (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 عند المقارنة بين أكثر من شيئين أو شخصين ك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4653000"/>
          <a:ext cx="8675280" cy="1641600"/>
        </p:xfrm>
        <a:graphic>
          <a:graphicData uri="http://schemas.openxmlformats.org/drawingml/2006/table">
            <a:tbl>
              <a:tblPr/>
              <a:tblGrid>
                <a:gridCol w="2890800"/>
                <a:gridCol w="2893320"/>
                <a:gridCol w="2891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قص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قص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ort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قصر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e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صغير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أصغر من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ller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أصغر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malle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06:17:34Z</dcterms:created>
  <dc:creator>bigboss</dc:creator>
  <dc:description/>
  <dc:language>en-US</dc:language>
  <cp:lastModifiedBy>Wael</cp:lastModifiedBy>
  <dcterms:modified xsi:type="dcterms:W3CDTF">2011-04-28T18:34:53Z</dcterms:modified>
  <cp:revision>23</cp:revision>
  <dc:subject/>
  <dc:title>الشريحة 1</dc:title>
</cp:coreProperties>
</file>