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A02C-2E8C-44B5-BC7C-0D7DE67D9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DF2C-46D7-4C57-815F-DCE98A415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6A52-9E9F-45E4-A5D1-A35890004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35B0-15B4-406E-B90E-3886F798B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4746-D206-4B28-A26C-A698084A2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8C5D-D2E8-4B98-8744-064AA8350A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75F2-B4E7-497D-BBAC-008840F920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3169-C8F7-47EA-8F43-D0F9222E38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5862-3A86-4E02-842B-EC942BC4FD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687F-0E90-4E89-AC0D-819EF735F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8E11-A2F5-4948-838C-D14452CAC1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C25D-4F88-4B88-AFD2-CFC42B4779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CFD6-E961-4925-A92F-1962AFC300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BF94-27BF-48D1-AFE7-EC5CAF2A28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C357-8554-4A98-AB13-7AF1A21913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3F7D-95DA-4147-AB69-738CC1A0E5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A8E6-B622-4BA4-B57E-0D2CDC71A5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38F9-A6AD-4726-93AC-316D5E7E96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1ECB-E915-47FA-A1D4-609405E28B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1223-9986-4430-BE55-0701EBCEB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9EE6-1A4C-4278-A64B-3B2F6F5E6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C654-D270-440D-AC1D-E39D68BA5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986E-2AC1-46EB-BC44-5737606C1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0AB5-649D-44BD-9AAB-5A140F455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876D-5856-4159-82A5-E46B842F5D0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D77-595C-411B-BC81-90D7679A49D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352F-9DA5-49A5-BE31-93935A8A754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1E06-35A8-4D59-85FF-AA51D553578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AF56-BE79-4C91-A9D0-AB90C442C480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1CBE-B96F-4B3E-89A3-4701C76ED5F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E64E-D263-48CA-A491-F8304524610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95000" y="20574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4)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ذاتية.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عملية تحول المعرفة الواضحة إلى معرفة ضمني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فهي مرتبطة ارتباط وثيق بالتعلم من خلال الممارسة داخل المنظمة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هذه العملية عدة أشكال منها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كاة والتجري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992F-C84E-4A36-AE42-AD22221F123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ED7F-D953-458E-B906-5F7747A2C49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مليات صناع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ثام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فهوم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173E-DB60-4108-914C-ABFDAA271CD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5800" y="1600200"/>
            <a:ext cx="8686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نه عملية ذاتية ومستمرة تتجاوز الوجود المادي للحدود القديمة للنفس إلى النفس الجديدة من خلال الاستحواذ على البيئة الجديدة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وجهة نظر جديدة للمعرفة الجديد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812880" y="38862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عتبر عملية تكوين المعرفة والابتكار أمراً بالغ الأهمية حيث يضمن للمنظمة تطبيق أنواع حديثة من المعرفة بما يحفظ لها الصدارة بين منافس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عملية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مد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ملية صناعة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لى خمس مراحل أساسية ه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بحث عن معلومات جد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ختيار المعلومة المناسب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نقل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فكير ( التفكير العميق- السببية – التقييم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5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خبرة في اختبار الفهم لهذه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النظر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لعملية صناعة المعرفة واستخدمها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زاوية أخرى من خلال أربعة خطوات هي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أليف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صديق على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شاركة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خمس توجهات أولية مختلف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الاستحواذ على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البحث عن المعرفة الموجودة وفهم متطلباتها والبحث عنها في عدة مصادر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الذكاء التنافسي بين الشركات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خلق معرفة جديد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أنشطة البحوث في شركات الدواء وعملية الإبتكار في مجال الإعلان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جميع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النشر يعتبر مثال أولي لتجميع المعرفة وعمليات التصميم والطباعة وتصحيح بروفات الطباعة أعمال تراكمية للنش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طبيق المعرفة المتا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 الطبيب لا يتوقع أن يصنع الطبيب معرفة جديدة بل يطبق المعرفة الطبية المتوافرة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عض المنظمات تركز على إعادة استخدام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يات تطوير المنتج من خلال المعرفة السابقة في المنظمة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نموذج صناعة المعرفة الديناميكي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26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93560" y="1352520"/>
            <a:ext cx="89186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صناعة المعرفة من العناصر الخارج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مخطط انسيابي: استخراج 2"/>
          <p:cNvSpPr/>
          <p:nvPr/>
        </p:nvSpPr>
        <p:spPr>
          <a:xfrm>
            <a:off x="4114800" y="2743200"/>
            <a:ext cx="3276720" cy="2514600"/>
          </a:xfrm>
          <a:prstGeom prst="flowChartExtract">
            <a:avLst/>
          </a:prstGeom>
          <a:gradFill rotWithShape="0">
            <a:gsLst>
              <a:gs pos="0">
                <a:srgbClr val="d5ebbf"/>
              </a:gs>
              <a:gs pos="100000">
                <a:srgbClr val="f3faed"/>
              </a:gs>
            </a:gsLst>
            <a:lin ang="16200000"/>
          </a:gradFill>
          <a:ln w="9360">
            <a:solidFill>
              <a:srgbClr val="99ad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استخراج 5"/>
          <p:cNvSpPr/>
          <p:nvPr/>
        </p:nvSpPr>
        <p:spPr>
          <a:xfrm>
            <a:off x="1828800" y="2743200"/>
            <a:ext cx="3276720" cy="2514600"/>
          </a:xfrm>
          <a:prstGeom prst="flowChartExtract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وسيلة شرح على شكل سحابة 4"/>
          <p:cNvSpPr/>
          <p:nvPr/>
        </p:nvSpPr>
        <p:spPr>
          <a:xfrm>
            <a:off x="5105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وسيلة شرح على شكل سحابة 7"/>
          <p:cNvSpPr/>
          <p:nvPr/>
        </p:nvSpPr>
        <p:spPr>
          <a:xfrm>
            <a:off x="2819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عملاء/ المورد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وسيلة شرح مع سهم إلى الأعلى 8"/>
          <p:cNvSpPr/>
          <p:nvPr/>
        </p:nvSpPr>
        <p:spPr>
          <a:xfrm>
            <a:off x="3886200" y="4952880"/>
            <a:ext cx="1371600" cy="1219320"/>
          </a:xfrm>
          <a:prstGeom prst="upArrowCallout">
            <a:avLst>
              <a:gd name="adj1" fmla="val 25000"/>
              <a:gd name="adj2" fmla="val 24997"/>
              <a:gd name="adj3" fmla="val 46833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ساحة الفهم والثقة المتبادلة تتكون من خلال الخب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رابط مستقيم 10"/>
          <p:cNvSpPr/>
          <p:nvPr/>
        </p:nvSpPr>
        <p:spPr>
          <a:xfrm>
            <a:off x="685800" y="3809880"/>
            <a:ext cx="731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مستطيل مستدير الزوايا 12"/>
          <p:cNvSpPr/>
          <p:nvPr/>
        </p:nvSpPr>
        <p:spPr>
          <a:xfrm>
            <a:off x="99072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مستطيل مستدير الزوايا 14"/>
          <p:cNvSpPr/>
          <p:nvPr/>
        </p:nvSpPr>
        <p:spPr>
          <a:xfrm>
            <a:off x="990720" y="2971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مستطيل مستدير الزوايا 15"/>
          <p:cNvSpPr/>
          <p:nvPr/>
        </p:nvSpPr>
        <p:spPr>
          <a:xfrm>
            <a:off x="274320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حاجات، المعرفة النماذج العق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مستدير الزوايا 16"/>
          <p:cNvSpPr/>
          <p:nvPr/>
        </p:nvSpPr>
        <p:spPr>
          <a:xfrm>
            <a:off x="4876920" y="411480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عرفة عن المنتجات ، الأسواق، النماذج العقل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مستدير الزوايا 17"/>
          <p:cNvSpPr/>
          <p:nvPr/>
        </p:nvSpPr>
        <p:spPr>
          <a:xfrm>
            <a:off x="3886200" y="2971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Calibri"/>
                <a:cs typeface="PT Bold Heading"/>
              </a:rPr>
              <a:t>تبادل المعرفة الواضحة من خلال  المناقشات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رابط كسهم مستقيم 18"/>
          <p:cNvCxnSpPr>
            <a:stCxn id="234" idx="3"/>
            <a:endCxn id="236" idx="1"/>
          </p:cNvCxnSpPr>
          <p:nvPr/>
        </p:nvCxnSpPr>
        <p:spPr>
          <a:xfrm>
            <a:off x="2286000" y="434304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رابط كسهم مستقيم 20"/>
          <p:cNvCxnSpPr>
            <a:endCxn id="237" idx="1"/>
          </p:cNvCxnSpPr>
          <p:nvPr/>
        </p:nvCxnSpPr>
        <p:spPr>
          <a:xfrm>
            <a:off x="4038120" y="4343040"/>
            <a:ext cx="839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رابط كسهم مستقيم 22"/>
          <p:cNvCxnSpPr>
            <a:endCxn id="238" idx="1"/>
          </p:cNvCxnSpPr>
          <p:nvPr/>
        </p:nvCxnSpPr>
        <p:spPr>
          <a:xfrm>
            <a:off x="2285640" y="3200040"/>
            <a:ext cx="160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رابط كسهم مستقيم 24"/>
          <p:cNvCxnSpPr/>
          <p:nvPr/>
        </p:nvCxnSpPr>
        <p:spPr>
          <a:xfrm flipV="1">
            <a:off x="3429000" y="3428280"/>
            <a:ext cx="2324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رابط كسهم مستقيم 26"/>
          <p:cNvCxnSpPr/>
          <p:nvPr/>
        </p:nvCxnSpPr>
        <p:spPr>
          <a:xfrm flipV="1">
            <a:off x="5715000" y="3428280"/>
            <a:ext cx="38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مربع نص 27"/>
          <p:cNvSpPr/>
          <p:nvPr/>
        </p:nvSpPr>
        <p:spPr>
          <a:xfrm>
            <a:off x="5676840" y="32767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تجسيد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ربع نص 28"/>
          <p:cNvSpPr/>
          <p:nvPr/>
        </p:nvSpPr>
        <p:spPr>
          <a:xfrm>
            <a:off x="7086600" y="35766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0000"/>
                </a:solidFill>
                <a:latin typeface="Arial"/>
                <a:cs typeface="PT Bold Heading"/>
              </a:rPr>
              <a:t>الحد الفاصل بين المعرفة الصريحة والمعرفة الضمنية لدى المنظمة والعناصر الخارج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شكال تحول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1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) العملية الاجتماع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التحول من المعرفة الضمنية إلى المعرفة الضمنية أيضاً من خلال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اكتساب المهنة بصورة تقليدية من خلال قضاء الوقت في التعلم مع المعلم أكثر من اكتسابها من الدراسة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أكثر من شكل منها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راكم المعرف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 من خلال جمع المديرين للمعلومات ومشاركة الخبرة مع الموردين والعملاء والحوار والنقاش مع المنافسي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نقل المعرفة الضمن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 الإحتكاك المباشر بالخبراء والمهنيين والنقاش والشرح والأمثلة والتجارب التي ينفذو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9500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2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جسيدية. </a:t>
            </a:r>
            <a:r>
              <a:rPr b="1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ي عملية تحويل المعرفة الضمنية إلى معرفة واض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أي أن المعرفة تبلورت مثل عملية تطوير المنتج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وتأخذ هذه العملية عدة أشكال منها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 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سهيل عملية الإبداع لدى الأفراد وصانعي المعرفة بالمنظمة  واستخدام أسلوب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استثارة في مناقشة عملية صناعة المعرفة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3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وافق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تعني تحويل المعرفة الواضحة إلى معرفة واضحة ولكنها أكثر تعقيداً.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حيث يتم جمع المعرفة الواضحة من داخل وخارج المنظمة ويتم توحيدها وطباعتها وتشغيلها وتحويلها في شكل معرفة جديدة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أخذ عدة أشكال منها التركيب والتشغيل لقواعد البيانات، ومنها النشر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Mohammad Ahmed Algezawy</cp:lastModifiedBy>
  <dcterms:modified xsi:type="dcterms:W3CDTF">2011-10-20T17:48:18Z</dcterms:modified>
  <cp:revision>130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