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4B11-3DAF-46E8-93BA-D2D208742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2FA6-1DA6-445B-98EC-7D7664C1B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A802-F24C-437B-A53E-6B6E29FFE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45C6-31A5-4A70-854D-324394646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6F28-B86C-43F8-AF71-FB24DD1A2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2B4C6-51E2-4950-AEDC-A61935729D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57457-C6A6-418D-8F6E-5CB9928F72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03DA-494C-40F3-BA24-567A52B343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078A-209B-44DC-825D-25FA60682A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95ACB-873B-4D2A-969A-AC98A9F843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8CC3-078B-48DC-B846-8AD1F65B1A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89F76-645F-4693-8247-750D6FF071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E2E16-0B5C-43A4-8D86-09F622E7D7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FF05-750D-494A-A5A1-D16544B1BD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E51F5-85A2-475C-979E-F9AA95D610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6E8EC-838D-4721-818A-ACDA3C8333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A08C-D76B-4C28-AF41-EB2BFBB598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27AD3-959D-45BB-861E-9F0E40F7C9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ED8C-AC18-4017-96C6-62DE8E39A9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9E52-D708-411A-A97E-B8F89B242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DB7E-44F5-41C8-BA97-95406B986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1220-9E55-4481-A646-5B1FD599A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DB30-762E-4F6E-8808-664C2C461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1AEA-2A2C-48F4-95DE-B78CBA04F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ED50-9F29-4E81-B0A5-29D735FFA7E5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3A04-6126-4147-A11C-8050D571A784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0B68-23E3-4F9A-86AC-DE76C6B41CBD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2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2C0E-B9C5-4F5B-A407-E40B6C50AAB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35CB-428F-440F-9779-E7F49C239E4F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41008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8E3B-8EB1-4048-AF1D-00FD33152ED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20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57200" y="2971800"/>
            <a:ext cx="5099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801D-AE4E-4D05-A14B-F8555E45D65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86EF-568E-4AEC-9D7B-06E9E06E1D8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عنوان 1"/>
          <p:cNvSpPr/>
          <p:nvPr/>
        </p:nvSpPr>
        <p:spPr>
          <a:xfrm>
            <a:off x="83808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عنصر نائب للمحتوى 2"/>
          <p:cNvSpPr/>
          <p:nvPr/>
        </p:nvSpPr>
        <p:spPr>
          <a:xfrm>
            <a:off x="102060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0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127A-5453-41CE-ADBF-FCBE840ED35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4"/>
          <p:cNvSpPr/>
          <p:nvPr/>
        </p:nvSpPr>
        <p:spPr>
          <a:xfrm>
            <a:off x="685800" y="2340000"/>
            <a:ext cx="8420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حاضرة</a:t>
            </a:r>
            <a:r>
              <a:rPr b="0" lang="ar-EG" sz="4400" spc="-1" strike="noStrike">
                <a:solidFill>
                  <a:srgbClr val="37609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تمهي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4"/>
          <p:cNvSpPr/>
          <p:nvPr/>
        </p:nvSpPr>
        <p:spPr>
          <a:xfrm>
            <a:off x="1463760" y="41911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تعريف بمقرر إدارة المعرف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هدف المقرر العام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47A5-746D-4998-8B1B-CEE4FC0ACDC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447920" y="228600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PT Bold Heading"/>
              </a:rPr>
              <a:t>ترسيخ القواعد والمفاهيم الأساسية لإدارة المعرفة، وآليات التعامل مع رأس المال المعرفي، وأفضل تطبيقاته في قطاع الأعم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أهداف المقرر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5752-860A-4D06-8D30-D230E5D1D55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838080" y="1828800"/>
            <a:ext cx="8077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ن يتعرف الطالب على مفاهيم ومبادئ إدارة المعر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تمكن الطالب من مراجعة القدرات المعرفية للمنظ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حسن الطالب التعامل مع سلسلة القيمة للمعرفة ومصفوفة المعر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فهم الطالب ماهية الأصول المعرفية وخصائصها وعملية نقل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تعرف الطالب على الدراسات المبكرة في إدارة المعر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جيد الطالب التعامل مع دراسات الحالة في إدارة المعر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محتويات المنهج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396A-EC41-4D52-93DD-1C2BAC4747E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43000" y="1143000"/>
          <a:ext cx="7467480" cy="518796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4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قائمة الموضوع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9738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فاهيم ومبادئ إدارة  المعرف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ستراتيجية إدارة المعرفة ومسئولية قيادة المنظمات تجاه المعرف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راجعة القدرات المعرف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سلسلة القيمة للمعرفة ، ومصفوفة المعرف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عمليات إنتاج المعرفة والتحديات التي تقابلها المنظم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أصول المعرفية وخصائصها وعملية نقل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نظمة المتعلم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بيئة المعرفية(مشاركة البيئة في البناء المعرفي، بناء وترابط البيئة المعرفية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دراسات المبكرة في إدارة المعرف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دراسة حالات في إدارة المعرف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الكتاب المقرر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BDB3-8E4F-4D07-9493-D8A7018FD49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447920" y="156060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** الإدارة الاستراتيجية للمعرفة – د. ممدوح عبد العزيز رفاعي – طبع بمعرفة المؤلف – القاهرة – 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2007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** إدارة المعرفة – د. سعد غالب ياسين – دار المسيرة للطباعة والنشر- 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2006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14440" y="3313080"/>
            <a:ext cx="9742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كتاب متوفر لد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PT Bold Heading"/>
              </a:rPr>
              <a:t>- مكتبة جرير بجميع فروعها في أنحاء المملك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PT Bold Heading"/>
              </a:rPr>
              <a:t>- مكتبة العبيكان بجميع فروعها في أنحاء المملك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PT Bold Heading"/>
              </a:rPr>
              <a:t> مكت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PT Bold Heading"/>
              </a:rPr>
              <a:t> مكت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المراجع الإضافية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D3BA-BDB5-41F0-B5A3-BF9000CCC13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19828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un Wei Choo, the Knowing organization: how organization use information to construct meaning create knowledge, and make decisions, Oxford university press, 199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294D-1F62-4281-9840-5DC0B5B83F3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itle 1"/>
          <p:cNvSpPr/>
          <p:nvPr/>
        </p:nvSpPr>
        <p:spPr>
          <a:xfrm>
            <a:off x="838080" y="54612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ontent Placeholder 2"/>
          <p:cNvSpPr/>
          <p:nvPr/>
        </p:nvSpPr>
        <p:spPr>
          <a:xfrm>
            <a:off x="99072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1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371600" y="2362320"/>
          <a:ext cx="7086600" cy="2225520"/>
        </p:xfrm>
        <a:graphic>
          <a:graphicData uri="http://schemas.openxmlformats.org/drawingml/2006/table">
            <a:tbl>
              <a:tblPr/>
              <a:tblGrid>
                <a:gridCol w="2386080"/>
                <a:gridCol w="47005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نشا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شاركة في منتديات الحوار على البلاك بور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حضور المحاضرات المسجلة والمحاضرات المباش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واجبات المنزلي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7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اختبار النهائ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جموع النهائ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توزيع الدرجات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C2FF-46DD-4887-92A4-0532A145F8E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762120" y="1523880"/>
            <a:ext cx="84582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Calibri"/>
                <a:cs typeface="PT Bold Heading"/>
              </a:rPr>
              <a:t>الساعات المكتبي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Calibri"/>
                <a:cs typeface="PT Bold Heading"/>
              </a:rPr>
              <a:t>رقم جوال المقر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PT Bold Heading"/>
              </a:rPr>
              <a:t>059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PT Bold Heading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0000"/>
                </a:solidFill>
                <a:latin typeface="Calibri"/>
                <a:cs typeface="PT Bold Heading"/>
              </a:rPr>
              <a:t>سيكون الجوال مفتوح في الأوقات المحددة بعالية وسيتم إغلاقة خارج هذه الأوقات، لذا على الجميع التقيد بهذه المواعي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Calibri"/>
                <a:cs typeface="PT Bold Heading"/>
              </a:rPr>
              <a:t>البريد الإلكترون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PT Bold Heading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ezawy@kfu.edu.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438280" y="1905120"/>
          <a:ext cx="4572000" cy="14824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وق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يو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.30-1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سب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2.00-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أثن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.30-1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ثلاثا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81240" y="15192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f4d52"/>
                </a:solidFill>
                <a:latin typeface="Calibri"/>
                <a:cs typeface="PT Bold Heading"/>
              </a:rPr>
              <a:t>الساعات المكتبية وجوال المقرر والبريد الإلكتروني</a:t>
            </a:r>
            <a:r>
              <a:rPr b="0" lang="ar-SA" sz="40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endParaRPr b="0" lang="en-US" sz="4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>مقدمة:</dc:description>
  <dc:language>en-US</dc:language>
  <cp:lastModifiedBy>user</cp:lastModifiedBy>
  <dcterms:modified xsi:type="dcterms:W3CDTF">2011-10-07T12:53:55Z</dcterms:modified>
  <cp:revision>109</cp:revision>
  <dc:subject/>
  <dc:title>كليه إدارة أعما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كليه إدارة أعمال</vt:lpwstr>
  </property>
  <property fmtid="{D5CDD505-2E9C-101B-9397-08002B2CF9AE}" pid="3" name="SlideDescription">
    <vt:lpwstr>مقدمة:</vt:lpwstr>
  </property>
</Properties>
</file>