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E8ED6-C770-48E3-BB3C-D56C1CC9F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218FD1-8A62-4690-B564-6D946B411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0C39A1-E0A8-43A3-82F9-A6FAD67AE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4399E7A-10A8-48F2-85DC-3E7741259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6A29508-549C-43F3-82FB-69EF560C8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A77FEA-6FC5-423C-B70D-02C13CC76F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E12BAE-3103-49FD-B56F-2E9BCCFC77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AB5A79-4268-4F68-BAD7-43AE33095C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9D9236-842A-4DCC-9649-612B9A1822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43AAB0E-E043-43F4-BA98-9E705D49C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0E7412-930D-41C8-B713-1D8E42DB8E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BB84C4B-ED8B-4C6E-ADD1-22CFE4135B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F1CFF9-A591-4F70-96C6-81D9CCD75F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C7562D-FAC7-4E04-AA2D-2640CF6C71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190864-0C92-424B-AC2F-EE307BCC3D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A901A8-7C2C-4551-9FF0-C8E49A4638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DB8C5C-A0B3-484B-BE2C-549533AF14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226B43-9E0A-4583-BE95-8D9CBE7162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A3D5CC-FB74-4B7A-8A58-A7A752F5BD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F71551-5F92-4FE6-B35C-ACF9F1A22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9B13C8F-CDD3-423C-A594-378B40B67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43C02E-94F9-4357-8A5F-7999572D6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8D8848-47BA-40DC-AE99-93A3517B09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EC5994-D50B-4309-B3A6-49C5AF88F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6C41-E278-4E0E-9111-21D9545139FF}"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C746-626F-4CCC-8F36-14CB3D1D83E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1114-327E-4AC7-9515-F1D8E3D82DB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6B6B-2119-4E24-89E5-9C09AD9CCE6A}"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015A-1FE7-438B-9C09-9D06E303FCA7}"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41FE-98FE-4D84-AC74-EAA176F5CBE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35DF-9B70-4C3C-A7AA-30BBE63726AB}"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12920" y="1599840"/>
            <a:ext cx="47052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عوامل المؤثرة في إدارة المعرفة</a:t>
            </a:r>
            <a:endParaRPr b="0" lang="en-US" sz="2800" spc="-1" strike="noStrike">
              <a:solidFill>
                <a:srgbClr val="376092"/>
              </a:solidFill>
              <a:latin typeface="Calibri"/>
            </a:endParaRPr>
          </a:p>
        </p:txBody>
      </p:sp>
      <p:pic>
        <p:nvPicPr>
          <p:cNvPr id="236" name="Content Placeholder 3" descr=""/>
          <p:cNvPicPr/>
          <p:nvPr/>
        </p:nvPicPr>
        <p:blipFill>
          <a:blip r:embed="rId1"/>
          <a:stretch/>
        </p:blipFill>
        <p:spPr>
          <a:xfrm>
            <a:off x="487440" y="1596960"/>
            <a:ext cx="89312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447920"/>
            <a:ext cx="8915400" cy="45259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ناك بعض القضايا التي ينبغي دراستها لتحقيق الإدارة الفعالة للمعرفة هي:</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1</a:t>
            </a:r>
            <a:r>
              <a:rPr b="0" lang="ar-SA" sz="2400" spc="-1" strike="noStrike">
                <a:solidFill>
                  <a:srgbClr val="003f5e"/>
                </a:solidFill>
                <a:latin typeface="Calibri"/>
                <a:ea typeface="PT Bold Heading"/>
              </a:rPr>
              <a:t>- الاستخدام الذكي وتطوير وملكية وحماية الأصول المعرفية وليس الأصول المادية فقط حيث أنها أصبحت الدعامة الأساسية للمزايا التنافسية في الاقتصاد الحديث.</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2</a:t>
            </a:r>
            <a:r>
              <a:rPr b="0" lang="ar-SA" sz="2400" spc="-1" strike="noStrike">
                <a:solidFill>
                  <a:srgbClr val="003f5e"/>
                </a:solidFill>
                <a:latin typeface="Calibri"/>
                <a:ea typeface="PT Bold Heading"/>
              </a:rPr>
              <a:t>- كيفية فهم وحماية والإبقاء والمحافظة على المعرفة داخل المنظمة.   </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في هذا الأمر العديد من التحديات:</a:t>
            </a:r>
            <a:endParaRPr b="0" lang="en-US" sz="24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يكون هذا الأمر تحديداً خاصاً للإدارة العليا.</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دم وضوح حقوق الملكية الفكرية وحدودها غير الواضحة</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غير متوطنة في بعض السجلات التخطيطية الإلكترو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95000" y="1600200"/>
            <a:ext cx="8915400" cy="45259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PT Bold Heading"/>
              </a:rPr>
              <a:t>3</a:t>
            </a: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تمكن البيئة التنافسية الحالية المنظمات من حماية أصولها المعرفية من أن يتم أعادة التعاقد عليها مرة أخرى، ولكنها في نفس الوقت تمكن المنظمات من بناء وشراء وتجميع وإعادة تجميع ونشر وإعادة نشر الأصول المعرفية طبقاً لتغيير احتياجات العميل وطبقاً لتغير ظروف المنافس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وكلما زادت مرونة المنظمة في استخدام قواعد المعرفة كلما كانت الشركة أكثر نجاحاً في المستقبل</a:t>
            </a:r>
            <a:r>
              <a:rPr b="0" lang="ar-SA" sz="2000" spc="-1" strike="noStrike">
                <a:solidFill>
                  <a:srgbClr val="c00000"/>
                </a:solidFill>
                <a:latin typeface="Calibri"/>
                <a:ea typeface="PT Bold Heading"/>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4- </a:t>
            </a:r>
            <a:r>
              <a:rPr b="0" lang="ar-SA" sz="2400" spc="-1" strike="noStrike">
                <a:solidFill>
                  <a:srgbClr val="003f5e"/>
                </a:solidFill>
                <a:latin typeface="Calibri"/>
                <a:cs typeface="PT Bold Heading"/>
              </a:rPr>
              <a:t>إدارة الموارد المعرفية ليست كإدارة الموارد البشرية، إلا أنهما يتفقان في اهتمامهما بإدارة حقوق الملكية الفكرية وإدارة تطوير ونقل المعرفة الفنية للصناعة والمعرفة التنظيم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سئولية قيادة المنظمات تجاه المعرفة</a:t>
            </a:r>
            <a:endParaRPr b="0" lang="en-US" sz="4400" spc="-1" strike="noStrike">
              <a:solidFill>
                <a:srgbClr val="376092"/>
              </a:solidFill>
              <a:latin typeface="Calibri"/>
            </a:endParaRPr>
          </a:p>
        </p:txBody>
      </p:sp>
      <p:sp>
        <p:nvSpPr>
          <p:cNvPr id="240" name=""/>
          <p:cNvSpPr txBox="1"/>
          <p:nvPr/>
        </p:nvSpPr>
        <p:spPr>
          <a:xfrm>
            <a:off x="329760" y="1295280"/>
            <a:ext cx="8915400" cy="452592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للمعرفة عدة خصائص هي:</a:t>
            </a:r>
            <a:endParaRPr b="0" lang="en-US" sz="28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تعتبر المعرفة مورداً إنتاجياً ذات أهمية بالغة وذلك حال مساهمتها في القيمة المضافة </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أهميتها الاستراتيجية في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يمكن النظر للمنظمة على أنها الموقع الذي يتم فيه صناعة وتحويل المعرف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هناك أنواع مختلفة من المعرفة داخل المنظمة ، وبحسب نوعها تختلف قابليتها للانتقال.</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تعتبر المعرفة الضمنية ذات أهمية كبيرة خصوصاً في تحقيق الميزة التنافسي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a:t>
            </a:r>
            <a:r>
              <a:rPr b="0" lang="ar-SA" sz="2000" spc="-1" strike="noStrike">
                <a:solidFill>
                  <a:srgbClr val="003f5e"/>
                </a:solidFill>
                <a:latin typeface="Calibri"/>
                <a:ea typeface="PT Bold Heading"/>
              </a:rPr>
              <a:t>- توزع المعرفة الضمنية  ويتم تخصيصها اعتمادا على المشاركة فيها بين أفراد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a:t>
            </a:r>
            <a:r>
              <a:rPr b="0" lang="ar-SA" sz="2000" spc="-1" strike="noStrike">
                <a:solidFill>
                  <a:srgbClr val="003f5e"/>
                </a:solidFill>
                <a:latin typeface="Calibri"/>
                <a:ea typeface="PT Bold Heading"/>
              </a:rPr>
              <a:t>- نقل وتوزيع المعرفة الضمنية يمثل معضلة ويتطلب توفر آليات التكامل داخل المنظ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نظراً لخصائص المعرفة في الشريحة السابقة، يتحمل قادة المنظمة العديد من المسئوليات تجاه المعرفة المتوفرة لديهم ومنها:</a:t>
            </a:r>
            <a:endParaRPr b="0" lang="en-US" sz="2800" spc="-1" strike="noStrike">
              <a:solidFill>
                <a:srgbClr val="000000"/>
              </a:solidFill>
              <a:latin typeface="Calibri"/>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أن يعي قادة المنظمة المعرفة التي لديها وتبحث عنها وتلك التي تحتاج إليها.</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أن تولد معرفة جديدة من مصادرها الداخلية مثل البحوث والتطوير.</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تجعل المعرفة في متناول من يحتاج إليها من داخل المنظمة أو حتى خارجها ولو بشروط.</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أن تنقل المعرفة إلى من يحتاج إليها من العاملين في أعمالهم اليومية رسمياً من خلال التدريب والتنمية وبشكل غير رسمي من خلال التهيئة أثناء العم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5</a:t>
            </a:r>
            <a:r>
              <a:rPr b="0" lang="ar-SA" sz="2400" spc="-1" strike="noStrike">
                <a:solidFill>
                  <a:srgbClr val="003f5e"/>
                </a:solidFill>
                <a:latin typeface="Calibri"/>
                <a:ea typeface="PT Bold Heading"/>
              </a:rPr>
              <a:t>- أن يتم تمثيل المعرفة في شكل تقارير ، ورسوم وعروض مما يسهل عملية وضعها في متناول من يحتاج إليها.</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6</a:t>
            </a:r>
            <a:r>
              <a:rPr b="0" lang="ar-SA" sz="2400" spc="-1" strike="noStrike">
                <a:solidFill>
                  <a:srgbClr val="003f5e"/>
                </a:solidFill>
                <a:latin typeface="Calibri"/>
                <a:ea typeface="PT Bold Heading"/>
              </a:rPr>
              <a:t>- وضع الضوابط لجعل المعرفة السليمة الموثوق بها هي المعرفة السائدة في المنظمة.</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7</a:t>
            </a:r>
            <a:r>
              <a:rPr b="0" lang="ar-SA" sz="2400" spc="-1" strike="noStrike">
                <a:solidFill>
                  <a:srgbClr val="003f5e"/>
                </a:solidFill>
                <a:latin typeface="Calibri"/>
                <a:ea typeface="PT Bold Heading"/>
              </a:rPr>
              <a:t>- جعل العمليات المعرفية السابقة عمليات سهلة وميسرة من خلال تطوير ثقافة المنظمة ونظم الحوافز وتطوير القيادات التي تقدر وتشارك وتستخدم المعرف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B802-4B74-4E7B-874E-203D75A8EF6B}"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44"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9" name="Group 5" descr=""/>
          <p:cNvPicPr/>
          <p:nvPr/>
        </p:nvPicPr>
        <p:blipFill>
          <a:blip r:embed="rId1"/>
          <a:stretch/>
        </p:blipFill>
        <p:spPr>
          <a:xfrm>
            <a:off x="6370560" y="1884240"/>
            <a:ext cx="2797200" cy="2718000"/>
          </a:xfrm>
          <a:prstGeom prst="rect">
            <a:avLst/>
          </a:prstGeom>
          <a:ln w="0">
            <a:noFill/>
          </a:ln>
        </p:spPr>
      </p:pic>
      <p:sp>
        <p:nvSpPr>
          <p:cNvPr id="250"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51"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52"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عمليات إدارة المعرفة </a:t>
            </a:r>
            <a:br>
              <a:rPr sz="4400"/>
            </a:br>
            <a:r>
              <a:rPr b="0" lang="ar-SA" sz="4400" spc="-1" strike="noStrike">
                <a:solidFill>
                  <a:srgbClr val="376092"/>
                </a:solidFill>
                <a:latin typeface="ae_AlMateen"/>
                <a:cs typeface="PT Bold Heading"/>
              </a:rPr>
              <a:t>وتحليل فجوة المعرفة </a:t>
            </a:r>
            <a:br>
              <a:rPr sz="4400"/>
            </a:br>
            <a:r>
              <a:rPr b="0" lang="ar-SA" sz="4400" spc="-1" strike="noStrike">
                <a:solidFill>
                  <a:srgbClr val="376092"/>
                </a:solidFill>
                <a:latin typeface="ae_AlMateen"/>
                <a:cs typeface="PT Bold Heading"/>
              </a:rPr>
              <a:t>بالمنظمة</a:t>
            </a:r>
            <a:endParaRPr b="0" lang="en-US" sz="4400" spc="-1" strike="noStrike">
              <a:solidFill>
                <a:srgbClr val="376092"/>
              </a:solidFill>
              <a:latin typeface="Calibri"/>
            </a:endParaRPr>
          </a:p>
        </p:txBody>
      </p:sp>
      <p:sp>
        <p:nvSpPr>
          <p:cNvPr id="215" name="PlaceHolder 2"/>
          <p:cNvSpPr>
            <a:spLocks noGrp="1"/>
          </p:cNvSpPr>
          <p:nvPr>
            <p:ph type="subTitle"/>
          </p:nvPr>
        </p:nvSpPr>
        <p:spPr>
          <a:xfrm>
            <a:off x="990360" y="4267080"/>
            <a:ext cx="7429320" cy="1371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ثالث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عمليات إدارة المعرفة</a:t>
            </a:r>
            <a:endParaRPr b="0" lang="en-US" sz="4400" spc="-1" strike="noStrike">
              <a:solidFill>
                <a:srgbClr val="376092"/>
              </a:solidFill>
              <a:latin typeface="Calibri"/>
            </a:endParaRPr>
          </a:p>
        </p:txBody>
      </p:sp>
      <p:sp>
        <p:nvSpPr>
          <p:cNvPr id="217" name=""/>
          <p:cNvSpPr txBox="1"/>
          <p:nvPr/>
        </p:nvSpPr>
        <p:spPr>
          <a:xfrm>
            <a:off x="495000" y="1600200"/>
            <a:ext cx="89154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تمثل عمليات إدارة المعرفة في أي عملية تساعد أي استراتيجية من استراتيجيات إدارة المعرفة السابقة وهي ( أحراز أو  الاستحواذ على المعرفة، والاحتفاظ بها ، واستغلالها)</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تتركز عادة عمليات إدارة المعرفة في بناء وتطوير أمور ثلاثة ه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نظم الخبر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برمجيات</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برامج تطوير المنتج ( سلعة أو خدمة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ذلك بالتأكيد من خلال تفاعل حقيقي مع البيئة الداخلية للمنظمة في بحثها عن نقاط قوتها وتطويرها، ومحاولتها التقليل من أثر نقاط ضعفها والتغلب عليها، كما يشمل هذا التفاعل بيئتها الخارجية في بحثها عن الفرص وتجنبها التهديدات التي قد تفرض عليها من البيئة الخارج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قيمة المعرفة بالنسبة للمنظمة</a:t>
            </a:r>
            <a:endParaRPr b="0" lang="en-US" sz="4400" spc="-1" strike="noStrike">
              <a:solidFill>
                <a:srgbClr val="376092"/>
              </a:solidFill>
              <a:latin typeface="Calibri"/>
            </a:endParaRPr>
          </a:p>
        </p:txBody>
      </p:sp>
      <p:sp>
        <p:nvSpPr>
          <p:cNvPr id="219" name=""/>
          <p:cNvSpPr txBox="1"/>
          <p:nvPr/>
        </p:nvSpPr>
        <p:spPr>
          <a:xfrm>
            <a:off x="495000" y="1600200"/>
            <a:ext cx="8915400" cy="4525920"/>
          </a:xfrm>
          <a:prstGeom prst="rect">
            <a:avLst/>
          </a:prstGeom>
          <a:noFill/>
          <a:ln w="0">
            <a:noFill/>
          </a:ln>
        </p:spPr>
        <p:txBody>
          <a:bodyPr anchor="t">
            <a:normAutofit fontScale="98000"/>
          </a:bodyPr>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مد قدرة المنظمة في اكتشاف المعرفة على عامل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الوصول للمعرفة من خلال أشخاص داخل المنظم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وصول إلى التكنولوجيا المطلوبة لاستغلال تلك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خلال هذين العاملين فقط يمكن جعل المعرفة ذات قيمة عال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مهندس في مصنع صمم ماكينة جديدة تمثل تطوراً نوعياً في المصانع وتحدث طفرات في الإنتاج </a:t>
            </a:r>
            <a:r>
              <a:rPr b="0" lang="ar-SA" sz="1400" spc="-1" strike="noStrike">
                <a:solidFill>
                  <a:srgbClr val="ff0000"/>
                </a:solidFill>
                <a:latin typeface="Calibri"/>
                <a:ea typeface="PT Bold Heading"/>
              </a:rPr>
              <a:t>( تمثل هذه النقطة العامل الأول)         </a:t>
            </a:r>
            <a:r>
              <a:rPr b="0" lang="ar-SA" sz="2000" spc="-1" strike="noStrike">
                <a:solidFill>
                  <a:srgbClr val="003f5e"/>
                </a:solidFill>
                <a:latin typeface="Calibri"/>
                <a:cs typeface="PT Bold Heading"/>
              </a:rPr>
              <a:t>ولكي تحقق هذه المعرفة الجديدة أثرها ينبغي تقديم تسهيلات من قبل المصنع والقائمين على التصنيع لجعلها حقيقة </a:t>
            </a:r>
            <a:r>
              <a:rPr b="0" lang="ar-SA" sz="1400" spc="-1" strike="noStrike">
                <a:solidFill>
                  <a:srgbClr val="ff0000"/>
                </a:solidFill>
                <a:latin typeface="Calibri"/>
                <a:ea typeface="PT Bold Heading"/>
              </a:rPr>
              <a:t>(العامل</a:t>
            </a:r>
            <a:r>
              <a:rPr b="0" lang="ar-SA" sz="2000" spc="-1" strike="noStrike">
                <a:solidFill>
                  <a:srgbClr val="003f5e"/>
                </a:solidFill>
                <a:latin typeface="Calibri"/>
                <a:ea typeface="PT Bold Heading"/>
              </a:rPr>
              <a:t> </a:t>
            </a:r>
            <a:r>
              <a:rPr b="0" lang="ar-SA" sz="1400" spc="-1" strike="noStrike">
                <a:solidFill>
                  <a:srgbClr val="ff0000"/>
                </a:solidFill>
                <a:latin typeface="Calibri"/>
                <a:cs typeface="PT Bold Heading"/>
              </a:rPr>
              <a:t>الثاني)</a:t>
            </a:r>
            <a:r>
              <a:rPr b="0" lang="ar-SA" sz="2000" spc="-1" strike="noStrike">
                <a:solidFill>
                  <a:srgbClr val="003f5e"/>
                </a:solidFill>
                <a:latin typeface="Calibri"/>
                <a:cs typeface="PT Bold Heading"/>
              </a:rPr>
              <a:t>، وبذلك يمكن للمصنع أن يعظم  الأصل المعرفي الذي سيضيف له ميزة</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نافسية فور تشغيله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يمكن توضيح ذلك من خلال الرسم التال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0" name="Straight Arrow Connector 9"/>
          <p:cNvCxnSpPr/>
          <p:nvPr/>
        </p:nvCxnSpPr>
        <p:spPr>
          <a:xfrm>
            <a:off x="1568160" y="5724360"/>
            <a:ext cx="7182360" cy="7200"/>
          </a:xfrm>
          <a:prstGeom prst="straightConnector1">
            <a:avLst/>
          </a:prstGeom>
          <a:ln w="57240">
            <a:solidFill>
              <a:srgbClr val="ccb661"/>
            </a:solidFill>
            <a:miter/>
            <a:tailEnd len="med" type="arrow" w="med"/>
          </a:ln>
        </p:spPr>
      </p:cxnSp>
      <p:cxnSp>
        <p:nvCxnSpPr>
          <p:cNvPr id="221" name="Straight Arrow Connector 10"/>
          <p:cNvCxnSpPr/>
          <p:nvPr/>
        </p:nvCxnSpPr>
        <p:spPr>
          <a:xfrm flipV="1">
            <a:off x="1568160" y="1599840"/>
            <a:ext cx="1080" cy="4131360"/>
          </a:xfrm>
          <a:prstGeom prst="straightConnector1">
            <a:avLst/>
          </a:prstGeom>
          <a:ln w="57240">
            <a:solidFill>
              <a:srgbClr val="ccb661"/>
            </a:solidFill>
            <a:miter/>
            <a:tailEnd len="med" type="arrow" w="med"/>
          </a:ln>
        </p:spPr>
      </p:cxnSp>
      <p:sp>
        <p:nvSpPr>
          <p:cNvPr id="222" name="Cloud Callout 14"/>
          <p:cNvSpPr/>
          <p:nvPr/>
        </p:nvSpPr>
        <p:spPr>
          <a:xfrm>
            <a:off x="1568520" y="426708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منخفض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ea typeface="PT Bold Heading"/>
              </a:rPr>
              <a:t>(</a:t>
            </a:r>
            <a:r>
              <a:rPr b="0" lang="ar-SA" sz="1600" spc="-1" strike="noStrike">
                <a:solidFill>
                  <a:srgbClr val="c00000"/>
                </a:solidFill>
                <a:latin typeface="Calibri"/>
                <a:cs typeface="PT Bold Heading"/>
              </a:rPr>
              <a:t>اكتشافات وأفكار لم تجد طريقها للنور</a:t>
            </a:r>
            <a:r>
              <a:rPr b="0" lang="ar-SA" sz="1600" spc="-1" strike="noStrike">
                <a:solidFill>
                  <a:srgbClr val="c00000"/>
                </a:solidFill>
                <a:latin typeface="Calibri"/>
                <a:ea typeface="PT Bold Heading"/>
              </a:rPr>
              <a:t>)</a:t>
            </a:r>
            <a:endParaRPr b="0" lang="en-US" sz="1600" spc="-1" strike="noStrike">
              <a:solidFill>
                <a:srgbClr val="000000"/>
              </a:solidFill>
              <a:latin typeface="Calibri"/>
            </a:endParaRPr>
          </a:p>
        </p:txBody>
      </p:sp>
      <p:sp>
        <p:nvSpPr>
          <p:cNvPr id="223" name="Right Arrow 15"/>
          <p:cNvSpPr/>
          <p:nvPr/>
        </p:nvSpPr>
        <p:spPr>
          <a:xfrm rot="19909200">
            <a:off x="3546000" y="3316320"/>
            <a:ext cx="2073240" cy="1433520"/>
          </a:xfrm>
          <a:prstGeom prst="rightArrow">
            <a:avLst>
              <a:gd name="adj1" fmla="val 50000"/>
              <a:gd name="adj2" fmla="val 49996"/>
            </a:avLst>
          </a:pr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PT Bold Heading"/>
              </a:rPr>
              <a:t>تسهيلات من داخل المنظمة</a:t>
            </a:r>
            <a:r>
              <a:rPr b="0" lang="ar-SA" sz="1200" spc="-1" strike="noStrike">
                <a:solidFill>
                  <a:srgbClr val="000000"/>
                </a:solidFill>
                <a:latin typeface="Calibri"/>
                <a:ea typeface="PT Bold Heading"/>
              </a:rPr>
              <a: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c00000"/>
                </a:solidFill>
                <a:latin typeface="Calibri"/>
                <a:cs typeface="PT Bold Heading"/>
              </a:rPr>
              <a:t>توظيف التكنولوجيا لإنتاج هذه المعرفة</a:t>
            </a:r>
            <a:endParaRPr b="0" lang="en-US" sz="1000" spc="-1" strike="noStrike">
              <a:solidFill>
                <a:srgbClr val="000000"/>
              </a:solidFill>
              <a:latin typeface="Calibri"/>
            </a:endParaRPr>
          </a:p>
        </p:txBody>
      </p:sp>
      <p:sp>
        <p:nvSpPr>
          <p:cNvPr id="224" name="Cloud Callout 16"/>
          <p:cNvSpPr/>
          <p:nvPr/>
        </p:nvSpPr>
        <p:spPr>
          <a:xfrm>
            <a:off x="5459400" y="213372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عالية القيم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00000"/>
                </a:solidFill>
                <a:latin typeface="Calibri"/>
                <a:ea typeface="PT Bold Heading"/>
              </a:rPr>
              <a:t>( </a:t>
            </a:r>
            <a:r>
              <a:rPr b="0" lang="ar-SA" sz="1200" spc="-1" strike="noStrike">
                <a:solidFill>
                  <a:srgbClr val="c00000"/>
                </a:solidFill>
                <a:latin typeface="Calibri"/>
                <a:cs typeface="PT Bold Heading"/>
              </a:rPr>
              <a:t>أضافة أصل معرفي جديد للمنظمة</a:t>
            </a:r>
            <a:r>
              <a:rPr b="0" lang="ar-SA" sz="1200" spc="-1" strike="noStrike">
                <a:solidFill>
                  <a:srgbClr val="c00000"/>
                </a:solidFill>
                <a:latin typeface="Calibri"/>
                <a:ea typeface="PT Bold Heading"/>
              </a:rPr>
              <a:t>)</a:t>
            </a:r>
            <a:endParaRPr b="0" lang="en-US" sz="1200" spc="-1" strike="noStrike">
              <a:solidFill>
                <a:srgbClr val="000000"/>
              </a:solidFill>
              <a:latin typeface="Calibri"/>
            </a:endParaRPr>
          </a:p>
        </p:txBody>
      </p:sp>
      <p:sp>
        <p:nvSpPr>
          <p:cNvPr id="225" name="TextBox 17"/>
          <p:cNvSpPr/>
          <p:nvPr/>
        </p:nvSpPr>
        <p:spPr>
          <a:xfrm>
            <a:off x="4848120" y="5545080"/>
            <a:ext cx="35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قدرة المنظمة على استغلال المعرفة</a:t>
            </a:r>
            <a:endParaRPr b="0" lang="en-US" sz="1800" spc="-1" strike="noStrike">
              <a:solidFill>
                <a:srgbClr val="000000"/>
              </a:solidFill>
              <a:latin typeface="Calibri"/>
            </a:endParaRPr>
          </a:p>
        </p:txBody>
      </p:sp>
      <p:sp>
        <p:nvSpPr>
          <p:cNvPr id="226" name="TextBox 18"/>
          <p:cNvSpPr/>
          <p:nvPr/>
        </p:nvSpPr>
        <p:spPr>
          <a:xfrm>
            <a:off x="861840" y="2133720"/>
            <a:ext cx="1320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فوائد المتوقعة للمنظمة</a:t>
            </a:r>
            <a:endParaRPr b="0" lang="en-US" sz="1800" spc="-1" strike="noStrike">
              <a:solidFill>
                <a:srgbClr val="000000"/>
              </a:solidFill>
              <a:latin typeface="Calibri"/>
            </a:endParaRPr>
          </a:p>
        </p:txBody>
      </p:sp>
      <p:sp>
        <p:nvSpPr>
          <p:cNvPr id="227" name="Rounded Rectangular Callout 20"/>
          <p:cNvSpPr/>
          <p:nvPr/>
        </p:nvSpPr>
        <p:spPr>
          <a:xfrm>
            <a:off x="7594560" y="3200400"/>
            <a:ext cx="2063880" cy="1917720"/>
          </a:xfrm>
          <a:prstGeom prst="wedgeRoundRectCallout">
            <a:avLst>
              <a:gd name="adj1" fmla="val -76199"/>
              <a:gd name="adj2" fmla="val -47300"/>
              <a:gd name="adj3" fmla="val 1666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PT Bold Heading"/>
              </a:rPr>
              <a:t>مؤشرات التحسين لهذا الأصل</a:t>
            </a:r>
            <a:r>
              <a:rPr b="0" lang="ar-SA" sz="1100" spc="-1" strike="noStrike">
                <a:solidFill>
                  <a:srgbClr val="000000"/>
                </a:solidFill>
                <a:latin typeface="Calibri"/>
              </a:rPr>
              <a:t>:</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1- </a:t>
            </a:r>
            <a:r>
              <a:rPr b="0" lang="ar-SA" sz="1100" spc="-1" strike="noStrike">
                <a:solidFill>
                  <a:srgbClr val="c00000"/>
                </a:solidFill>
                <a:latin typeface="Calibri"/>
                <a:cs typeface="PT Bold Heading"/>
              </a:rPr>
              <a:t>مخاطر فقد المعرفة (كيف تحفظ ومن يسمح له بالاستخدام)</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2- </a:t>
            </a:r>
            <a:r>
              <a:rPr b="0" lang="ar-SA" sz="1100" spc="-1" strike="noStrike">
                <a:solidFill>
                  <a:srgbClr val="c00000"/>
                </a:solidFill>
                <a:latin typeface="Calibri"/>
                <a:cs typeface="PT Bold Heading"/>
              </a:rPr>
              <a:t>قيمة هذه المعرفة (صعوبة التشغيل بدونها)</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3- </a:t>
            </a:r>
            <a:r>
              <a:rPr b="0" lang="ar-SA" sz="1100" spc="-1" strike="noStrike">
                <a:solidFill>
                  <a:srgbClr val="c00000"/>
                </a:solidFill>
                <a:latin typeface="Calibri"/>
                <a:cs typeface="PT Bold Heading"/>
              </a:rPr>
              <a:t>تكلفة أنشطة التحسين الضرورية</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همية الفرد في مجال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ركز تطبيقات إدارة المعرفة بصورة أولية على المظاهر التكنولوجية (الآلة) لعمليات إدارة المعرفة. ويلاحظ في السنوات الأخيرة هناك زيادة في التعرف على أهمية العنصر البشري حيث أن كل عملية من عمليات إدارة المعرفة تشمل أفراد يعملون في كل المجالات وعلى كل المستويات.</a:t>
            </a:r>
            <a:endParaRPr b="0" lang="en-US" sz="2400" spc="-1" strike="noStrike">
              <a:solidFill>
                <a:srgbClr val="000000"/>
              </a:solidFill>
              <a:latin typeface="Calibri"/>
            </a:endParaRPr>
          </a:p>
          <a:p>
            <a:pPr marL="343080" indent="-343080" algn="r" rtl="1">
              <a:spcBef>
                <a:spcPts val="601"/>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هناك فوائد مباشرة للمنظمة تتمثل في الوقت المتوفر لسرعة الوصول للمعرفة الناجمة عن خبرة الأفراد ذاتهم، وفوائد مباشرة للأفراد نتيجة لتمكنهم من أداء مهماتهم بطريقة أكثر سهولة.</a:t>
            </a:r>
            <a:endParaRPr b="0" lang="en-US" sz="2000" spc="-1" strike="noStrike">
              <a:solidFill>
                <a:srgbClr val="000000"/>
              </a:solidFill>
              <a:latin typeface="Calibri"/>
            </a:endParaRPr>
          </a:p>
          <a:p>
            <a:pPr lvl="1" marL="85716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هناك فوائد غير مباشرة للفرد نتيجة لإدراكه بصعوبة موقفه في حالة عدم تطور خبرا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الأمور بالغة الأهمية لفهم دوافع الأفراد عند أدائهم لعمليات إدارة المعرفة النظر في الأمور الثلاثة التال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دراسة قيم القائمين على صناعة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دراسة قيم القائمين على تطبيق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دراسة قيم القائمين على تحقيق التوازن في استراتيجية الاستحواذ على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صناع المعرفة يصنعون الفوضى ويشيعون جوا من عدم القدرة على التنبؤ،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قائمون على التطبيق بالتأكيد قادرون على التأثير على ما صنعة صناع المعرفة،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ما القائمون على تحقيق التوازن قادرون على مقاومة التغيير بحسب رؤيتهم للتغيرات الجديدة ومدى تأثر مصالحهم الشخصية ب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تطبيق إدارة المعرفة</a:t>
            </a:r>
            <a:endParaRPr b="0" lang="en-US" sz="4400" spc="-1" strike="noStrike">
              <a:solidFill>
                <a:srgbClr val="376092"/>
              </a:solidFill>
              <a:latin typeface="Calibri"/>
            </a:endParaRPr>
          </a:p>
        </p:txBody>
      </p:sp>
      <p:sp>
        <p:nvSpPr>
          <p:cNvPr id="232"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بر إدارة المعرفة مجالاً متعدد الأنظمة، وبصفة عامة هناك عدد من الخطوات المبدئية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قابلة للتطبيق في عدد كبير من المنظمات:</a:t>
            </a:r>
            <a:endParaRPr b="0" lang="en-US" sz="2000" spc="-1" strike="noStrike">
              <a:solidFill>
                <a:srgbClr val="000000"/>
              </a:solidFill>
              <a:latin typeface="Calibri"/>
            </a:endParaRPr>
          </a:p>
          <a:p>
            <a:pPr marL="335880" indent="-335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أولى: </a:t>
            </a:r>
            <a:r>
              <a:rPr b="0" lang="ar-SA" sz="2000" spc="-1" strike="noStrike">
                <a:solidFill>
                  <a:srgbClr val="003f5e"/>
                </a:solidFill>
                <a:latin typeface="Calibri"/>
                <a:cs typeface="PT Bold Heading"/>
              </a:rPr>
              <a:t>تحديد المعرفة اللازمة بصورة فعلية للمنظمة، وتعتبر هذه الخطوة ضرورية لصناعة محتوى جوهر الكفاءات الضرورية لنمو ونجاح المنظمة.</a:t>
            </a:r>
            <a:endParaRPr b="0" lang="en-US" sz="2000" spc="-1" strike="noStrike">
              <a:solidFill>
                <a:srgbClr val="000000"/>
              </a:solidFill>
              <a:latin typeface="Calibri"/>
            </a:endParaRPr>
          </a:p>
          <a:p>
            <a:pPr marL="335880" indent="-335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نية: </a:t>
            </a:r>
            <a:r>
              <a:rPr b="0" lang="ar-SA" sz="2000" spc="-1" strike="noStrike">
                <a:solidFill>
                  <a:srgbClr val="003f5e"/>
                </a:solidFill>
                <a:latin typeface="Calibri"/>
                <a:cs typeface="PT Bold Heading"/>
              </a:rPr>
              <a:t>تحديد محتوى وهيكل المعرفة في المنظمة، من خلال مراجعة شكل المعرفة الضمنية المحفوظة ( لدى الخبراء في كل مجال) وأيضاً المعرفة الصريحة ( التوثيقات الرسمية المتوفرة بالمنظمة) وعمل قائمة بذلك .</a:t>
            </a:r>
            <a:endParaRPr b="0" lang="en-US" sz="2000" spc="-1" strike="noStrike">
              <a:solidFill>
                <a:srgbClr val="000000"/>
              </a:solidFill>
              <a:latin typeface="Calibri"/>
            </a:endParaRPr>
          </a:p>
          <a:p>
            <a:pPr marL="335880" indent="-3358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لثة: </a:t>
            </a:r>
            <a:r>
              <a:rPr b="0" lang="ar-SA" sz="2000" spc="-1" strike="noStrike">
                <a:solidFill>
                  <a:srgbClr val="003f5e"/>
                </a:solidFill>
                <a:latin typeface="Calibri"/>
                <a:cs typeface="PT Bold Heading"/>
              </a:rPr>
              <a:t>مراجعة قوائم المعارف بالمنظمة للتحسين عليها اعتمادا على:</a:t>
            </a:r>
            <a:endParaRPr b="0" lang="en-US" sz="20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مخاطر فقد المعرفة.</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قيمة هذه المعرفة ( صعوبة التشغيل بدونها )</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تكلفة أنشطة التحسين الضروري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عوامل المؤثرة على إدارة المعرفة</a:t>
            </a:r>
            <a:endParaRPr b="0" lang="en-US" sz="4400" spc="-1" strike="noStrike">
              <a:solidFill>
                <a:srgbClr val="376092"/>
              </a:solidFill>
              <a:latin typeface="Calibri"/>
            </a:endParaRPr>
          </a:p>
        </p:txBody>
      </p:sp>
      <p:sp>
        <p:nvSpPr>
          <p:cNvPr id="234"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أثر إدارة المعرفة بعدة عوامل منها ما هو داخلي ومنها ما هو خارج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داخل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تكلفة المنطقية لاستخلاص المعرف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نظم الملائمة التي تدعم صناعة المعرفة داخلياً.</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فرص  الفنية المتاحة في المنظم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طلب المنطقي على المعرفة الناتجة من المنظمة ( تأثير شبكات الأعمال) .</a:t>
            </a:r>
            <a:endParaRPr b="0" lang="en-US" sz="16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خارج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بيئة التعاقدية.</a:t>
            </a:r>
            <a:endParaRPr b="0" lang="en-US" sz="1600" spc="-1" strike="noStrike">
              <a:solidFill>
                <a:srgbClr val="000000"/>
              </a:solidFill>
              <a:latin typeface="Calibri"/>
            </a:endParaRPr>
          </a:p>
          <a:p>
            <a:pPr lvl="1" marL="857160" indent="-457200" algn="r" rtl="1">
              <a:spcBef>
                <a:spcPts val="7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قواعد والتشريعات التي تحكم عملية نقل المعرفة بين المنظمات.</a:t>
            </a: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10T15:20:36Z</dcterms:modified>
  <cp:revision>110</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