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F55-A4FF-4983-98E8-A5700EB06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9E49-5F8C-434A-95B6-A591FC7EBB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E83-315A-4494-BB20-C4988059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5307-3D63-4041-981F-404E0BBE47A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B62-6F89-4410-A5E4-5A789FB6BA6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6336-C037-4FF2-94DA-513CA067FE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944F-CF20-4C3A-9F2D-2E09780B49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D20-2C85-49BF-9204-B2C92C67BE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202-B990-49C3-A9F9-3C635A9C6B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2888-315E-4BEF-AD5A-AE07AE5E841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1874-15EB-46FA-9656-5DF8604B152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D59-C3D4-4426-87FE-0A7A4CBF1E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8D2-4B88-4A8C-99A6-C9085A0678C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375-3E27-429E-9521-DB54831C0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D73-66D8-4B5C-868A-3273E9CFA5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41E-B4E3-4E7A-B121-FFDAD59A6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84C9-EC92-4A9D-AFBD-88D9C756C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10AD-86F5-40FD-A6D5-4D3EF18592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38B6-477C-469C-8CCC-ED9B0017C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39EE-7F81-4A35-85C2-820B7762E4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9A86-A123-4AA6-A0D2-1AAD28C2B8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0490-CCC5-41CB-900F-CE279A79F8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35A2-3A9B-493F-9A03-014B7F5B4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6CB8-6421-415B-9EFC-78F1D6FB7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E1A1-E398-4328-9DFF-7514790742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5681-A2EE-4EE5-8337-D9611625A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05AB-D34B-4BF6-AF80-76D827067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B857-FB83-4623-A446-0618F6733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3DB2-6A66-493E-A88C-4D8A82EE56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A5C-07BF-40F0-994B-DA16E6DA2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2F7-34CF-4357-8494-D5D1C089CF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C63-8123-43EC-AFCC-57FCB18674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C8D-7ABF-4723-91C1-D51B6ECE01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7D6-6591-4269-9A18-B18AD7700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9A70-C4FF-4025-9F2C-4D068A49B6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233-DAB5-47CC-BD90-E73C83D320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BBF-F0AE-4C91-BC35-2BF332EDEF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5D9-D304-4915-8B43-40CD26FBD4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932-B803-4F6F-B342-820D93966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B7C-9A61-4A93-83BA-BB48B810A3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F1E-086B-4CA0-921E-BA6C0FF939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84C-01AB-439B-9056-75B37C4B4F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80BB-3366-465D-9853-F938CC05B9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5947F-BC18-4D2C-9DEF-19EF705B8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7405-2913-45FE-BC51-D7AE169D3F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FC573-C311-46FF-946D-52999C5ED5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49FC8-9C94-4E2B-847D-12D10051E2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AA04B-7E9F-4D59-94A2-EC6B05015C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6AAC9-C9A8-44CE-8F60-1AD5863C24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6F435-5279-49A8-A50A-CAAD5EEA36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21662-830E-4BC0-8038-9EA7DD8B77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C6ECD-E951-4CC5-B2A7-D323AC8125D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078D3-0CB1-40AF-BB06-B822EA050B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4207A-73C6-4F39-951F-78B6AD4934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12B5-61D4-447E-92D7-FCB3C8364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A599-48A4-4B21-AB86-F438C8D351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EF435-AEAF-4849-B622-C488D4E53F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95C8-23E1-4E6E-9B2A-A7821D45E9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CF3-F5AC-4DB1-B04A-55168227A6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41E3-2A57-4DCE-AE3F-D5AE6B3670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B485-ADE5-4F9C-9A21-EB395B74D2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2AEB-7568-4DD1-BCD9-3FE98631E9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88662-4E83-4440-8BB9-C8CB9F04C0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4094-3110-4E5A-8FF0-53E8C8A3A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28AF-DCE1-4A13-B236-3987728C2C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B977-B14E-4427-B257-DE5344848E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03D0-8B1C-41B7-B70B-EACBD25298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56B8-F594-4D27-835B-6AA1145E6E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D81A-F003-411D-A147-A1778BBDB3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4C35-7F43-43B6-8ED6-E3443A3440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437D9-D116-43C0-B6EF-38028567F3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DF29D-D2B5-468A-8015-9B4505CB0A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590-3E1D-4935-92A2-7C06E19D0C2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58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1900-BF21-4487-9B59-A085D62EDC9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6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C1CA-01E4-4A6D-AA7D-F3FFFE99C4C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C55-0883-4DD4-B9C7-90C0E34D274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56F-5C78-4C4B-819B-8603D6050EF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49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B5A-CFC1-47DB-B819-A1EA21C1ED0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01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1100-2037-4C59-BC54-CDDDB0E717C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450-8584-4834-98B7-02A67793D7F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65C-013C-46CF-9DC3-15F307EEB9A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8668-D40B-4D5E-B8DA-E084BF72203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5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DA6-CFFD-48DC-87DD-468750B4301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5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FE78-8CDB-40BE-928E-CB95743DBA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06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5AAE-6CA7-4C26-96CB-4D958CE7494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99428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DD6-1B05-4FF3-9595-5FEA8EA549C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375160" y="4648320"/>
            <a:ext cx="376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5994360" y="1981080"/>
            <a:ext cx="2400480" cy="2524320"/>
            <a:chOff x="5994360" y="1981080"/>
            <a:chExt cx="2400480" cy="2524320"/>
          </a:xfrm>
        </p:grpSpPr>
        <p:sp>
          <p:nvSpPr>
            <p:cNvPr id="515" name="Oval 8"/>
            <p:cNvSpPr/>
            <p:nvPr/>
          </p:nvSpPr>
          <p:spPr>
            <a:xfrm>
              <a:off x="6083280" y="2043000"/>
              <a:ext cx="22323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994360" y="1981080"/>
              <a:ext cx="24004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562284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22280" y="2971800"/>
            <a:ext cx="4707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52440" y="6405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7257-29C2-4E97-9A7D-582BCA63637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طو ة الثالثة: أستخلاص النتائ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ترتبط هذه الخطوة بتلخيص النتائج التي تم التوصل إليها من خلال تحليل استبانة المعرفة بقسمي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19432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0397-3888-44A3-80A1-8DB977E728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وان 1"/>
          <p:cNvSpPr/>
          <p:nvPr/>
        </p:nvSpPr>
        <p:spPr>
          <a:xfrm>
            <a:off x="773280" y="549360"/>
            <a:ext cx="7878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لمحتوى 2"/>
          <p:cNvSpPr/>
          <p:nvPr/>
        </p:nvSpPr>
        <p:spPr>
          <a:xfrm>
            <a:off x="9428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773280" y="120600"/>
            <a:ext cx="7878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9840" y="297144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Group 5" descr=""/>
          <p:cNvPicPr/>
          <p:nvPr/>
        </p:nvPicPr>
        <p:blipFill>
          <a:blip r:embed="rId1"/>
          <a:stretch/>
        </p:blipFill>
        <p:spPr>
          <a:xfrm>
            <a:off x="5870520" y="1884240"/>
            <a:ext cx="2597040" cy="271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165480" y="3352680"/>
            <a:ext cx="26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"/>
          <p:cNvSpPr/>
          <p:nvPr/>
        </p:nvSpPr>
        <p:spPr>
          <a:xfrm>
            <a:off x="3165480" y="2209680"/>
            <a:ext cx="2482920" cy="1236960"/>
          </a:xfrm>
          <a:custGeom>
            <a:avLst/>
            <a:gdLst>
              <a:gd name="textAreaLeft" fmla="*/ 0 w 2482920"/>
              <a:gd name="textAreaRight" fmla="*/ 2482920 w 24829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logo EDE.png"/>
          <p:cNvPicPr/>
          <p:nvPr/>
        </p:nvPicPr>
        <p:blipFill>
          <a:blip r:embed="rId2"/>
          <a:stretch/>
        </p:blipFill>
        <p:spPr>
          <a:xfrm>
            <a:off x="844560" y="2133720"/>
            <a:ext cx="19461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34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خطوات 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خطوات 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هدف مراجعة القدرات المعرفية إلى حل مشاكل الأعمال في المنظمة من خلال النقاط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ا هي المعرفة المتاحة حالياً في القسم أو الإدار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PT Bold Heading"/>
              </a:rPr>
              <a:t>(المنطقة المستهد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المتاحة حالياً والمحتمل الحصول عليها من المصادر المختلفة، وتحديد العوامل البيئية التي تؤثر على القسم أو الإدار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وتخصيص (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تصنيف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 ) المعرفة الضمنية والمعرفة الواضحة في المنطق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بناء خريطة المعرفة لتصنيف وتدفق المعرفة في المنظمة وكذلك في القسم أو الإدارة المستهدفة (هذه الخريطة متعلقة بــ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فراد الوثائق الأفكار الموارد الخارجية ودرجة كثافتها التي تحدد سهولة أو صعوبة حصول الأفراد على المعرفة منها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حديد المعرفة التي تفتقر إليها المنطقة المستهدفة وتشم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عمل تحليل فجوة لتحديد ما هي المعرفة التي تفتقدها لتحقيق أهداف الأعما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ن يحتاج إلى هذه المعرفة المفقود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الحصول على التوصيات من مراجعة القدرات المعرفية للإدارة من خلال النظر إلى الوضع القائم والتحسينات الممكنة لأنشطة إدارة المعرفة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قسم الاستبيان إلى قسم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أول: يغطي الخطوة الأولى في مراجعة القدرات المعرف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ثاني: يغطي الخطوة 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أما الخطوة الثالثة من المراجعة تستخلص من الخطوة الأولى و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أداة المستخدمة في مراجعة القدرات   المعرفية ( استبيان المعرفة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2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أول: تحديد ما هي المعرفة المتوفرة حالياً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ضع قائمة محددة لتقسيمات المعرفة التي تحتاج إليها في وظيفت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أي تقسيمات ا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متاحة حالياً لديك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Calibri"/>
                <a:cs typeface="PT Bold Heading"/>
              </a:rPr>
              <a:t>لكل تقسي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؟ من فضلك أعطي أمثلة محدد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عدد المصادر التي تحصل على المعرفة منها؟ وأي المصادر تستخدم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ضافة إليك من الذي من المحتمل أن يحتاج إ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ستخدم أنت والأخرون المعرفة المحددة في السؤال رقم 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ؤلاء الذين من المحتمل أن يستخدموا هذه المعرفة؟ ومن من المحتمل ألا يحصل ع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عمليات الرئيسية التي تستخدمها للحصول ع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 لتحقيق فوائد القيمة المضافة لمنظمت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تأثيرات البيئية الخارجية التي تؤثر على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الذي تتوقع أن يساعدك استخدام المعرفة كما هي؟ أم تحويلها لتكون أكثر فعالي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جزاء في تلك المعرفة التي تعتبرها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ممكن الوصول إليها، مدى غزارتها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 ضئيلة أو متفرق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قديمة منتهية الصلاحية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1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رسل المعرفة الحالية؟ ما هي الطريقة الأكثر فعالية في أرسال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2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م الخبراء الذين في حوزة المنظمة ولديهم أنواعاً من المعرفة تحتاج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3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في أي شكل من أشكال المعرفة  تستطيع الحصول عليها من 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4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الوثائق الرئيسية والموارد الخارجية التي تستخدمها أو التي تحتاج إليها لإنجاز وظيفتك بصورة أيسر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أنواع المعرفة التي تحتاج إليها كجزء من عملك اليومي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قصير (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طويل (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ثاني: ما هي المعرفة التي نفتقدها في المنطقة المستهد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حتاج إليها لأداء وظيفتك بصورة أفضل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عيد استخدامها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هل لديك أمثلة على معرفة لا يمكن أعادة استخدامها . ولكن إعادة استخدامها سوف تكون 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كل تقسيم من تقسيمات المعرفة في السؤال رق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لى أي درجة يمكن تحسين مستوى الأداء لكل المعرفة الممكن الوصول إليها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يمكن أن يخدم المصدر المحتمل لتلك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أنواع الأسئلة التي تستطيع أن تجد لها إجابة عند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736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لكل نوع من المعرفة المحددة في هذا السؤال أجب على الأسئلة التا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فتقد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نواع المرتبطة ب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أداء الوظيف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زايا التنافسية للمنظم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أسئلة الإدارية البسيطة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الإدارات أو الأفراد الذين تعتقد أنهم لا يجيبون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ذا كانت الإجابة على السؤال السابق بلا فلما بريك  ل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المجالات تسأل نفسك نفس الأنواع المتكررة من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الذي تم سؤاله ولم يجب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إدارة يعم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في أي مستوى وظيفي؟ المسمى الوظيف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ي الإدارات أو من هم الأفراد الذين لديهم أتصال معك بالمعلومات؟ لك إدارة أو فرد أجب عن الأسئلة التالية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مستوى التنظيمي الذي يشغله المستقصي من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المستقصي منه جديد ( أقل من سنة )     متوسط الأجل  (  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   طويل الآجل  ( أكثر من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سئلة التي تسألها للأخرين بالمنظم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طلوبة والتي تعتبر   ( ضرورية لأداء العمل )    ( ضرورية لتحقيق المزايا التنافسية للمنظمة )   ( ضرورية للوصول للإبتكارات)       ( التي انتهت صلاحيتها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تي قد تكون مفيدة لتشجيع مشاركة المعرفة ونقلها في منظم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ظاهر التي تعوق الإدارة الفعالة للمعرف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( ما هي قيود مشاركة ونقل المعرف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سبب الرئيسي الذي ينتج عنه الأخطاء في وظيف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من الوقت ينقضي للبحث عن المعرفة التي تطلبها؟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8:59:50Z</dcterms:created>
  <dc:creator>Mohammad Ahmed Algezawy</dc:creator>
  <dc:description/>
  <dc:language>en-US</dc:language>
  <cp:lastModifiedBy>Windows User</cp:lastModifiedBy>
  <dcterms:modified xsi:type="dcterms:W3CDTF">2011-10-17T12:19:07Z</dcterms:modified>
  <cp:revision>2</cp:revision>
  <dc:subject/>
  <dc:title>عرض تقديمي في PowerPoint</dc:title>
</cp:coreProperties>
</file>