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C7D0-3381-4C39-B22D-302B9E037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B10F-FFC8-4CC0-AF09-2406EC9A3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9299-32AE-4C96-861F-B588EC61D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E786-1616-4909-BFFD-9E7C7A384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3486-B25A-417C-87CC-A547002D4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1DF2-1318-47E4-B7F4-4EAC418928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B38A-CA8F-4276-8E1C-1EEE955A7B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D7D5F-6D7D-4E2A-9E02-6B7D48047E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E9C6-E41B-4BAA-A4DB-BB42D3B19E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2311-7A1D-441B-BB4C-88793760A3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9016-71B4-4375-9DD1-C568B47B9F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104B-B787-41D8-A367-3ED5E95DE8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F629-F642-4135-BEFA-DEDE24C4A2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6793-E5F5-48E7-A452-DAC3029E97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1FAF-64C4-407F-9EAB-4EE566C0B3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D401-7584-4FF1-A5BD-9748DB2A31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19DF-04C3-4EDA-9EA6-80DE61A223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1CC1-F007-430D-9C2A-C1034FA05C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8488-005F-4237-86B4-74349B8ECC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F605-EDB1-4275-B05A-64D3D3CED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A653-6AE4-4FE6-9B0A-F8A062BE0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4928-1924-4621-949B-306622903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2204-D4D2-4E72-AA1A-68CA7E1A2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EE7A-C588-400E-8347-599916E46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BC5-5A96-4137-84AF-2A4B2078AEAC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D4C7-5EBE-456A-87E8-D5203CBC2CF7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0135-3084-4BB8-A429-B7406D8F4A8B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71DA-BD95-4CAC-9873-460DA00428A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E334-AAEA-4786-BF32-E2C4B92AD4B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1DD8-83ED-41F5-B72A-100E8EF161E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5447-B561-436A-8345-1AB159F0281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شكل يبين مصفوفة فارغ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95360" y="1905120"/>
          <a:ext cx="8915400" cy="3504960"/>
        </p:xfrm>
        <a:graphic>
          <a:graphicData uri="http://schemas.openxmlformats.org/drawingml/2006/table">
            <a:tbl>
              <a:tblPr/>
              <a:tblGrid>
                <a:gridCol w="2582640"/>
                <a:gridCol w="2652840"/>
                <a:gridCol w="3679920"/>
              </a:tblGrid>
              <a:tr h="1556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000" spc="-1" strike="noStrike">
                          <a:solidFill>
                            <a:srgbClr val="ff0000"/>
                          </a:solidFill>
                          <a:latin typeface="Calibri"/>
                          <a:cs typeface="PT Bold Heading"/>
                        </a:rPr>
                        <a:t>المجالات الوظيفية لحاملي المعرف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منظم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(وحدة تنظيمية رقم </a:t>
                      </a: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ال الوظيفي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ال الوظيف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000" spc="-1" strike="noStrike">
                          <a:solidFill>
                            <a:srgbClr val="ff0000"/>
                          </a:solidFill>
                          <a:latin typeface="Calibri"/>
                          <a:cs typeface="PT Bold Heading"/>
                        </a:rPr>
                        <a:t>المجال المعرفي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24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0353-7552-468B-B6FD-5C244295335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ثال تطبيقي على: وظيفة سك العملة</a:t>
            </a:r>
            <a:r>
              <a:rPr b="0" lang="ar-SA" sz="4400" spc="-1" strike="noStrike">
                <a:solidFill>
                  <a:srgbClr val="af9738"/>
                </a:solidFill>
                <a:latin typeface="Calibri"/>
                <a:ea typeface="PT Bold Heading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087560"/>
          <a:ext cx="9310680" cy="4703760"/>
        </p:xfrm>
        <a:graphic>
          <a:graphicData uri="http://schemas.openxmlformats.org/drawingml/2006/table">
            <a:tbl>
              <a:tblPr/>
              <a:tblGrid>
                <a:gridCol w="957240"/>
                <a:gridCol w="766800"/>
                <a:gridCol w="779400"/>
                <a:gridCol w="766800"/>
                <a:gridCol w="777960"/>
                <a:gridCol w="836640"/>
                <a:gridCol w="779400"/>
                <a:gridCol w="836640"/>
                <a:gridCol w="777960"/>
                <a:gridCol w="838080"/>
                <a:gridCol w="1193760"/>
              </a:tblGrid>
              <a:tr h="578520"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سن (م أسطوان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لي ( مدرب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حمود ( مدرب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حمد ( م المدير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حمد ( المدي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ال الوظي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جال المعر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لم المعاد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أسطوان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فر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ط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روس الط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عاي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بريد الخا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توس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توسط الفجو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</a:tbl>
          </a:graphicData>
        </a:graphic>
      </p:graphicFrame>
      <p:sp>
        <p:nvSpPr>
          <p:cNvPr id="251" name="عنوان 3"/>
          <p:cNvSpPr/>
          <p:nvPr/>
        </p:nvSpPr>
        <p:spPr>
          <a:xfrm>
            <a:off x="1219320" y="57150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af9738"/>
                </a:solidFill>
                <a:latin typeface="Calibri"/>
                <a:cs typeface="PT Bold Heading"/>
              </a:rPr>
              <a:t>المتوسط العام للمستوى الفعلي = </a:t>
            </a:r>
            <a:r>
              <a:rPr b="0" lang="ar-SA" sz="1800" spc="-1" strike="noStrike">
                <a:solidFill>
                  <a:srgbClr val="af9738"/>
                </a:solidFill>
                <a:latin typeface="Calibri"/>
                <a:ea typeface="PT Bold Heading"/>
              </a:rPr>
              <a:t>24.12</a:t>
            </a:r>
            <a:r>
              <a:rPr b="0" lang="ar-SA" sz="1800" spc="-1" strike="noStrike">
                <a:solidFill>
                  <a:srgbClr val="af9738"/>
                </a:solidFill>
                <a:latin typeface="Calibri"/>
                <a:ea typeface="PT Bold Heading"/>
              </a:rPr>
              <a:t>   </a:t>
            </a:r>
            <a:r>
              <a:rPr b="0" lang="ar-SA" sz="1800" spc="-1" strike="noStrike">
                <a:solidFill>
                  <a:srgbClr val="af9738"/>
                </a:solidFill>
                <a:latin typeface="Arial"/>
                <a:cs typeface="PT Bold Heading"/>
              </a:rPr>
              <a:t>المتوسط العام للمستوى المرغوب = </a:t>
            </a:r>
            <a:r>
              <a:rPr b="0" lang="ar-SA" sz="1800" spc="-1" strike="noStrike">
                <a:solidFill>
                  <a:srgbClr val="af9738"/>
                </a:solidFill>
                <a:latin typeface="Arial"/>
                <a:ea typeface="PT Bold Heading"/>
              </a:rPr>
              <a:t>31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جوة المعرفة =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4.12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1.26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= 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7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= -0.43- 1.14 – 1.85 – 2.43 – 1.29= -7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جوة المعرف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الفجوة المعرفية = ـــــــــــــــــــــــــــــــــ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دد المجالات المعرفية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7.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الفجوة المعرفية = ـــــــــــــــــــــــــ = -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.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7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9500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الحصول على أرقام المصفوفة من خل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يحدد حاملي المعرفة المستويات الحالية من المعرفة لكل مجال معرفي وذلك لكل زمي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قد جلسات جماعية للمناقشة بين العاملين ليعرض كل فرد رأيه في المقادير، ويمكن استخدام طريقة الاختبار العشوائي للتأكد من المقاد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بنفس الطريقة التي تم تحديد المستويات الحالية للمعرفة يتم تحديد المستويات المرغوب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وضح مصفوفة المعرفة ثلاثة عناصر يمكن قياسها بصورة كمية بالمنظمة هي</a:t>
            </a:r>
            <a:r>
              <a:rPr b="0" lang="ar-SA" sz="4400" spc="-1" strike="noStrike">
                <a:solidFill>
                  <a:srgbClr val="af9738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ستوى الطموح لكل مجال وظيفي لكل عامل. فيحدد كل عا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حتياجات التدريس والتعلم لكل عضو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إن يكون لكل عضو بالمنظمة برنامج لتطوير موهبت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مستوى الطموح ككل ، وفجوة المعرفة في المجال الوظيفي المحدد عن طريق متوسط المقادير لكل العامل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فجوة المعرفة لكل مجال معرف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غطية الطموح المعرفي. وهو مؤشر للأداء يقيس إلى أي مدى تقابل الوظيفة مستوى الطموح، وهنا ثلاث احتمال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&gt; المستوى المرغوب وهنا لا توجد فجوة للمعر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= المستوى المرغوب : وهنا الفجوة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&lt; المستوى المرغوب، والفرق يمثل فجوة المعرف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عادلة تغطية الطموح المعرفي ( ت ط م )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                                            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متوسط فجوة المعر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53d75"/>
                </a:solidFill>
                <a:latin typeface="Calibri"/>
                <a:cs typeface="PT Bold Heading"/>
              </a:rPr>
              <a:t>تغطية الطموح المعرفي =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+ ( ـــــــــــــــــــــ )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</a:rPr>
              <a:t>×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                                      </a:t>
            </a:r>
            <a:r>
              <a:rPr b="0" lang="ar-SA" sz="2000" spc="-1" strike="noStrike">
                <a:solidFill>
                  <a:srgbClr val="253d75"/>
                </a:solidFill>
                <a:latin typeface="Calibri"/>
                <a:cs typeface="PT Bold Heading"/>
              </a:rPr>
              <a:t>متوسط مستوى الطمو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وهناك نميز بين اثنين من تغطية الطموح المعرفي هما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الأداء الكلي للإدارة.  ونستخدم فيه كل فجوات المعرفة ( عادةً ما تكون صفر أو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اقل) ونستخدم فيه أيضاً كل مستويات المعرفة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نستخدم تغطية الطموح المعرفي فقط في أحد المجالات فقط إن كان فيها فجوة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قوس متوسط أيمن 5"/>
          <p:cNvSpPr/>
          <p:nvPr/>
        </p:nvSpPr>
        <p:spPr>
          <a:xfrm>
            <a:off x="5334120" y="1676520"/>
            <a:ext cx="457200" cy="1676160"/>
          </a:xfrm>
          <a:custGeom>
            <a:avLst/>
            <a:gdLst>
              <a:gd name="textAreaLeft" fmla="*/ 0 w 457200"/>
              <a:gd name="textAreaRight" fmla="*/ 320760 w 457200"/>
              <a:gd name="textAreaTop" fmla="*/ 18720 h 1676160"/>
              <a:gd name="textAreaBottom" fmla="*/ 16574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46"/>
                  <a:pt x="21600" y="491"/>
                </a:cubicBezTo>
                <a:lnTo>
                  <a:pt x="21600" y="21109"/>
                </a:lnTo>
                <a:cubicBezTo>
                  <a:pt x="21600" y="21355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قوس متوسط أيسر 6"/>
          <p:cNvSpPr/>
          <p:nvPr/>
        </p:nvSpPr>
        <p:spPr>
          <a:xfrm>
            <a:off x="2209680" y="1676520"/>
            <a:ext cx="381240" cy="1600200"/>
          </a:xfrm>
          <a:custGeom>
            <a:avLst/>
            <a:gdLst>
              <a:gd name="textAreaLeft" fmla="*/ 111960 w 381240"/>
              <a:gd name="textAreaRight" fmla="*/ 381600 w 381240"/>
              <a:gd name="textAreaTop" fmla="*/ 15840 h 1600200"/>
              <a:gd name="textAreaBottom" fmla="*/ 15843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5"/>
                  <a:pt x="0" y="429"/>
                </a:cubicBezTo>
                <a:lnTo>
                  <a:pt x="0" y="21171"/>
                </a:lnTo>
                <a:cubicBezTo>
                  <a:pt x="0" y="2138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طبيق على مثال سك العمل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المعرفي للمجال الأو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4.57/0.43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90.59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ن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4.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للمجال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8/1.1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81.84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في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كذا بقية المجال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المعرفي في الأداء الكلي للإدار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للأداء الكلي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5/1.02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83.68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في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A6D0-A6C2-49E9-AC0E-E5FD601E010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C163-2515-47D7-84AE-41CC759D007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سلسلة القيمة ل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مصفوفة ا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س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 </a:t>
            </a:r>
            <a:r>
              <a:rPr b="1" lang="ar-SA" sz="2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وهي ذات متغيرات متعددة)</a:t>
            </a:r>
            <a:r>
              <a:rPr b="1" lang="en-US" sz="1600" spc="-1" strike="noStrike">
                <a:solidFill>
                  <a:srgbClr val="af9738"/>
                </a:solidFill>
                <a:latin typeface="AYM Wadiy S_U normal."/>
                <a:ea typeface="PT Bold Heading"/>
              </a:rPr>
              <a:t>)</a:t>
            </a:r>
            <a:r>
              <a:rPr b="1" lang="en-US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</a:t>
            </a: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</a:t>
            </a:r>
            <a:r>
              <a:rPr b="1" lang="ar-SA" sz="37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عادلة المعرفة</a:t>
            </a:r>
            <a:endParaRPr b="0" lang="en-US" sz="37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عرفة = المعلومات (الخبرة </a:t>
            </a:r>
            <a:r>
              <a:rPr b="1" lang="ar-SA" sz="4400" spc="-1" strike="noStrike">
                <a:solidFill>
                  <a:srgbClr val="376092"/>
                </a:solidFill>
                <a:latin typeface="ae_AlMateen"/>
              </a:rPr>
              <a:t>×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هارات</a:t>
            </a:r>
            <a:r>
              <a:rPr b="1" lang="ar-SA" sz="4400" spc="-1" strike="noStrike">
                <a:solidFill>
                  <a:srgbClr val="376092"/>
                </a:solidFill>
                <a:latin typeface="ae_AlMateen"/>
              </a:rPr>
              <a:t> ×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اتجاه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70B6-2ACF-465B-AA63-779DAE2A6D5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وسيلة شرح مستطيلة مستديرة الزوايا 2"/>
          <p:cNvSpPr/>
          <p:nvPr/>
        </p:nvSpPr>
        <p:spPr>
          <a:xfrm>
            <a:off x="7696080" y="3505320"/>
            <a:ext cx="2057400" cy="2133360"/>
          </a:xfrm>
          <a:prstGeom prst="wedgeRoundRectCallout">
            <a:avLst>
              <a:gd name="adj1" fmla="val -57888"/>
              <a:gd name="adj2" fmla="val -71004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معرفة التي يمكن تدوينها بصورة فعلية بواسطة الفرد في وظيفته، والمعبر عنها بلغة مفهومة والتي تم أحرازها وفهمها فهماً كاملا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وسيلة شرح مع سهم إلى الأعلى 5"/>
          <p:cNvSpPr/>
          <p:nvPr/>
        </p:nvSpPr>
        <p:spPr>
          <a:xfrm>
            <a:off x="5867280" y="2209680"/>
            <a:ext cx="1828800" cy="838440"/>
          </a:xfrm>
          <a:prstGeom prst="upArrowCallout">
            <a:avLst>
              <a:gd name="adj1" fmla="val 24985"/>
              <a:gd name="adj2" fmla="val 24993"/>
              <a:gd name="adj3" fmla="val 25000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صري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وسيلة شرح مستطيلة مستديرة الزوايا 10"/>
          <p:cNvSpPr/>
          <p:nvPr/>
        </p:nvSpPr>
        <p:spPr>
          <a:xfrm>
            <a:off x="4952880" y="3505320"/>
            <a:ext cx="2057400" cy="2133360"/>
          </a:xfrm>
          <a:prstGeom prst="wedgeRoundRectCallout">
            <a:avLst>
              <a:gd name="adj1" fmla="val -46990"/>
              <a:gd name="adj2" fmla="val -106986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معرفة المتحصل عليها من خلال الاكتشاف أو الملاحظ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وسيلة شرح مستطيلة مستديرة الزوايا 11"/>
          <p:cNvSpPr/>
          <p:nvPr/>
        </p:nvSpPr>
        <p:spPr>
          <a:xfrm>
            <a:off x="2590920" y="3505320"/>
            <a:ext cx="2057400" cy="2133360"/>
          </a:xfrm>
          <a:prstGeom prst="wedgeRoundRectCallout">
            <a:avLst>
              <a:gd name="adj1" fmla="val -31893"/>
              <a:gd name="adj2" fmla="val -109819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براعة اليدوية والعقلية، والقدرات المختل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وسيلة شرح مستطيلة مستديرة الزوايا 12"/>
          <p:cNvSpPr/>
          <p:nvPr/>
        </p:nvSpPr>
        <p:spPr>
          <a:xfrm>
            <a:off x="304920" y="3513240"/>
            <a:ext cx="2057400" cy="2133360"/>
          </a:xfrm>
          <a:prstGeom prst="wedgeRoundRectCallout">
            <a:avLst>
              <a:gd name="adj1" fmla="val -9671"/>
              <a:gd name="adj2" fmla="val -108606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هي التصرفات التي يتميز بها الفرد في المواقف الخاصة والتي تنشأ من الافتراضات الأساسية والعبادات والقيم التي يؤمن ب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وسيلة شرح مع سهم إلى الأعلى 9"/>
          <p:cNvSpPr/>
          <p:nvPr/>
        </p:nvSpPr>
        <p:spPr>
          <a:xfrm>
            <a:off x="838080" y="2209680"/>
            <a:ext cx="4876920" cy="838440"/>
          </a:xfrm>
          <a:prstGeom prst="upArrowCallout">
            <a:avLst>
              <a:gd name="adj1" fmla="val 24992"/>
              <a:gd name="adj2" fmla="val 24990"/>
              <a:gd name="adj3" fmla="val 25000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ضمنية ( الكامن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سلسلة القيم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بر سلسلة القيمة للمعرفة من خصائص المنظمات كثيفة المعرفة، لأنها تعتبر جزءًا ضرورياً من عملية صناعة المعرفة          ( أنظر الشكل التالي)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E5EF-C27E-4CEE-B998-36BD8AEE557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خطط انسيابي: مهلة 3"/>
          <p:cNvSpPr/>
          <p:nvPr/>
        </p:nvSpPr>
        <p:spPr>
          <a:xfrm>
            <a:off x="838080" y="3200400"/>
            <a:ext cx="1454400" cy="1447920"/>
          </a:xfrm>
          <a:prstGeom prst="flowChartDelay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رس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رؤ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هد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استراتي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خماسي 4"/>
          <p:cNvSpPr/>
          <p:nvPr/>
        </p:nvSpPr>
        <p:spPr>
          <a:xfrm>
            <a:off x="2282760" y="3200400"/>
            <a:ext cx="2822760" cy="144792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60" y="0"/>
                </a:lnTo>
                <a:lnTo>
                  <a:pt x="21600" y="10800"/>
                </a:lnTo>
                <a:lnTo>
                  <a:pt x="1606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طوير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توضيح المخزون المتاح من المعرف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تحديد الاحتياجات من المعرف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خماسي 8"/>
          <p:cNvSpPr/>
          <p:nvPr/>
        </p:nvSpPr>
        <p:spPr>
          <a:xfrm>
            <a:off x="4626000" y="3200400"/>
            <a:ext cx="2155680" cy="144792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47" y="0"/>
                </a:lnTo>
                <a:lnTo>
                  <a:pt x="21600" y="10800"/>
                </a:lnTo>
                <a:lnTo>
                  <a:pt x="1434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نشر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PT Bold Heading"/>
              </a:rPr>
              <a:t>(انتقا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مشارك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خماسي 9"/>
          <p:cNvSpPr/>
          <p:nvPr/>
        </p:nvSpPr>
        <p:spPr>
          <a:xfrm>
            <a:off x="6324480" y="3200400"/>
            <a:ext cx="1986120" cy="1447920"/>
          </a:xfrm>
          <a:custGeom>
            <a:avLst/>
            <a:gdLst>
              <a:gd name="textAreaLeft" fmla="*/ 0 w 1986120"/>
              <a:gd name="textAreaRight" fmla="*/ 1986480 w 1986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727" y="0"/>
                </a:lnTo>
                <a:lnTo>
                  <a:pt x="21600" y="10800"/>
                </a:lnTo>
                <a:lnTo>
                  <a:pt x="1372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طبيق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مخطط انسيابي: مهلة 10"/>
          <p:cNvSpPr/>
          <p:nvPr/>
        </p:nvSpPr>
        <p:spPr>
          <a:xfrm>
            <a:off x="7918560" y="3200400"/>
            <a:ext cx="1454040" cy="1447920"/>
          </a:xfrm>
          <a:prstGeom prst="flowChartDelay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قي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تقد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رابط بشكل مرفق 6"/>
          <p:cNvCxnSpPr/>
          <p:nvPr/>
        </p:nvCxnSpPr>
        <p:spPr>
          <a:xfrm flipH="1">
            <a:off x="612000" y="3924000"/>
            <a:ext cx="8769960" cy="1486440"/>
          </a:xfrm>
          <a:prstGeom prst="bentConnector3">
            <a:avLst>
              <a:gd name="adj1" fmla="val -2602"/>
            </a:avLst>
          </a:prstGeom>
          <a:ln w="381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235" name="رابط بشكل مرفق 12"/>
          <p:cNvCxnSpPr/>
          <p:nvPr/>
        </p:nvCxnSpPr>
        <p:spPr>
          <a:xfrm flipH="1" flipV="1" rot="5400000">
            <a:off x="39960" y="4609440"/>
            <a:ext cx="1372320" cy="229320"/>
          </a:xfrm>
          <a:prstGeom prst="bentConnector3">
            <a:avLst>
              <a:gd name="adj1" fmla="val 100918"/>
            </a:avLst>
          </a:prstGeom>
          <a:ln w="38160">
            <a:solidFill>
              <a:srgbClr val="ceb9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مما لا شك فيه أن أي نمط من أنماط إدارة المعرفة يبحث في سلسلة القيم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للمعرفة ينبغي أن يبنى على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عنصرين هامين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هما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ضمان أن العمالة ذات القيمة العالية للمعرفة ليس لديهم الرغبة في ترك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نظم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ضرورة التأكد من أن المعرفة الضمنية والمتوفرة بكثرة يمكن توضيحها من خلال العملية التجسيدية، وإمكانية الوصول إليها عن طريق المنظمة مثل المعلومات تماماً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مكن تحديد 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مقياس لنشاط سلسلة القيمة للمعرفة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ي أي مجال تمتلك المنظمة معرفة أفضل أكثر من منافسيها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متلاك دليل/ قاعدة بيانات على الحاسب الآلي لتوضيح أين تتوافر المعرفة في منظمتن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E743-1C07-4D21-A11A-15611380E4F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أنشطة سلسلة القيم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حديد الحاجة للمعرفة.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ذلك من خلال عاملين هما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أي أنواع المعرفة الضرورية لتحقيق استراتيجية الش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ستخدام عمليات ذات إجراءات منت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حديد المعرفة المتاحة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ذلك من خلال عاملين هم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أي المجالات لديها معرفة أفضل من المنافس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وفر دليل وقواعد بيانات على الحاسب وأين ه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طوير المعرفة.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 عاملين هم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متلاك إجراءات رسمية لتطوير المعرفة مثل برامج التطوير والتدري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أمكانية توفير المعرفة من الخارج في حالة الحاجة إلى ذلك بغض النظر عن التك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العمليات الوظيفية لسلسلة القيمة للمعرفة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242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93560" y="1573200"/>
            <a:ext cx="8918640" cy="46324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4935-EF19-4F5A-B7BF-70368D03154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صفوف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بر مصفوفة المعرفة أحد الوسائل التي تساعد المنظمة على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صنيف المعرف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إمكانية اكتشاف فجوة المعرفة ( الفرق السالب بين المستوى الفعلي والمستوى المرغوب فيه من المعرفة)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تكون مصفوفة المعرفة من عنصرين أساسيين هما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جال المعرفي. ( توصيف محدد للمعرفة في ضوء الرسالة والرؤية والأهداف والإستراتيج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جال الوظيفي.( الربط بين مجالات المعرفة والعنصر البشري وعنصر الموهبة البشر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Mohammad Ahmed Algezawy</cp:lastModifiedBy>
  <dcterms:modified xsi:type="dcterms:W3CDTF">2011-10-19T06:48:19Z</dcterms:modified>
  <cp:revision>136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