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924-6E58-4832-8B8D-B1517574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96B-F6BF-4C5D-99B6-E1D35036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B600-29BC-4C64-AE81-0C81E20C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B9C5-02FF-4474-8BA0-C041A751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1C6C-E97E-4605-A495-C41AED90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D255-30A7-4A2E-8253-EE533354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59E8-87E2-4E67-8A40-AAD051E9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5A77-90F9-4621-B700-EB369F85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B091-F751-4AA6-9DFD-E189F866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8403-120A-4FEA-B69C-B4758FFA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62EB-192D-455E-8371-BB22B442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BBA-8BF4-4EED-A25A-CE2C7F46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FA44-74C7-48E7-BC16-0E9A751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0484-9317-46F1-99E4-ED999340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F682-5DD0-4C2C-ADDB-DC421CD9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9982-E226-4DBD-BBDF-B9452B0F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0568-BAF0-40EA-BE83-4C328BDA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9EC-AD1C-49E1-844F-134DD3C0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6B11-3BE5-4FE2-9FD8-96E21A1F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836-17FB-4724-971E-80CB53AF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132-D63C-4FD8-BF7A-5348A4CA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B8A8-47D2-4038-9EBC-71B26371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C8B-4C84-4EC9-8832-FA74B058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4C94-D832-4433-B4F0-7AAFC1C3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F696-A367-440B-AF31-B1C471C359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241C-B474-40D2-A6BB-ADD18F3ECE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68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مرونة العرض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عرض متكافئ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يساوي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771640" y="3105000"/>
            <a:ext cx="122400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56000" y="353700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0" y="450864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0" y="3789360"/>
            <a:ext cx="0" cy="684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5624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376000" y="378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76360" y="3573360"/>
            <a:ext cx="1043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ccecff"/>
                </a:solidFill>
                <a:latin typeface="Arial"/>
              </a:rPr>
              <a:t>المقصود بالمرونة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8560" y="1599840"/>
            <a:ext cx="84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ساسية أو مدى الاستجابة لشيء م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سعريه: مدى تأثر الكميه المعروضة للتغير في السعر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ات في الكمية المعروضة نتيجة تغير الثمن قد تكون كبيرة أو ضئيلة . فلا بد مقياس لمعرفة مدى التجاوب بين الكميات المعروضة من سلعة والتغيرات في ثمنه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عروض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عروض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تغير النسبي في الكمية المعروضة = ــــــــــــــــــــــــــــ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احسب مرونة العرض على سلعة التفاح إذا كان سعر التفاح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6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والكمية المعروض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وعند انخفاض السعر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4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انخفضت الكمية المعروض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7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 – 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أولاً: عرض عديم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لا تتغير الكميه المعروضة مهما 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صف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3033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19640" y="4653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11280" y="3860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080" y="360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76360" y="3465360"/>
            <a:ext cx="97164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864440" y="3249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نيا: عرض لا نهائي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هما تغيرت الكميه المعروضة فلا ي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6360" y="3465360"/>
            <a:ext cx="17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00360" y="3500280"/>
            <a:ext cx="0" cy="1044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لثا: عرض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أكبر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g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411280" y="4508640"/>
            <a:ext cx="28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627280" y="3213000"/>
            <a:ext cx="2449440" cy="61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4365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00360" y="3573360"/>
            <a:ext cx="0" cy="971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388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19640" y="3429000"/>
            <a:ext cx="0" cy="1116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5332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410920" y="357336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411280" y="339264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عرض غير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عروضة أقل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l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095640" y="2744640"/>
            <a:ext cx="504720" cy="15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3284640"/>
            <a:ext cx="34920" cy="12589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1640" y="360828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448000" y="3608280"/>
            <a:ext cx="900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410920" y="3284640"/>
            <a:ext cx="1008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jdi</cp:lastModifiedBy>
  <dcterms:modified xsi:type="dcterms:W3CDTF">2008-04-02T07:40:4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