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C1FD-62AF-437F-A2B8-F9133B53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AFB-B488-460E-A6E7-5E7021CA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6F7-DDA0-41FC-A82F-EE330A30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5544-0FB5-444C-BB15-C3DC17A3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5A1A-0F81-4BDC-AA08-0530626E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7B54-08A5-4114-8C28-7A689A91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D5A6-D382-4C8F-82D7-AF1872E8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64A5-766E-42ED-A6AF-A13F0ED2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B006-C817-4DB2-A747-0A743F2A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247C-AA95-429F-894D-C35DE56E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7284-DB86-4DF6-8A0C-CE2EAD62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EFFB-B0BD-4513-AC54-76A5B510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8CD1-3146-4CE0-AE92-D83FF16F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8C84-832F-4564-9EBE-2DA2434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8220-B8F7-47E9-B269-FB1D6BCA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0634-FF5E-4297-9E59-61BAC887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6228-2DC4-413F-B152-5DB43397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BB7-4F63-482E-972C-B91FE075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1A5-B78C-4690-91FB-F0A6E38A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422-D814-41D6-ADC3-B2BB66D4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427-13BC-4DF8-A905-FA605A4A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2EE-4B92-4443-80E6-D220ADB3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3FB-FF69-44EE-8CC0-A3601F07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40E-1802-40EA-B95F-E348E9D1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64EA-7400-470A-BF29-AF35B0DBDCE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8B93-4C69-44AF-BB82-714C71131E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6836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(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مرونة الطلب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طلب غير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أقل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l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95640" y="2852640"/>
            <a:ext cx="792000" cy="162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3608280"/>
            <a:ext cx="34920" cy="90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11640" y="3284640"/>
            <a:ext cx="36360" cy="1260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2410920" y="3573000"/>
            <a:ext cx="108108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2448000" y="3249360"/>
            <a:ext cx="900000" cy="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رابعاً: طلب متكافئ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يساوي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3068640"/>
            <a:ext cx="1079640" cy="11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92360" y="3860640"/>
            <a:ext cx="34920" cy="61308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24360" y="4545000"/>
            <a:ext cx="4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0" y="3537000"/>
            <a:ext cx="36720" cy="10080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1320" y="4545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2376000" y="3789000"/>
            <a:ext cx="108108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2376000" y="3573000"/>
            <a:ext cx="863640" cy="3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 u="sng">
                <a:solidFill>
                  <a:srgbClr val="ccecff"/>
                </a:solidFill>
                <a:uFillTx/>
                <a:latin typeface="Arial"/>
              </a:rPr>
              <a:t>مرونة نقطة الوسط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طلوب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مرونة نقطة الوسط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لكن ماذا لو انعكست الحالة فالكمية الأولى أصبحت الثانية والثانية أصبحت الأولى والثمن انعكس كذلك.  ولذلك لا بد من حساب نقطة الوسط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التغير النسبي في الكمية المطلوبة = ــــــــــــــــــــــــــــ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+  ك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ـــــــــــــــــــــــــــــــــــــــــ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+ س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ــــــــــــــــــــــــــــــــــــــــ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</a:rPr>
              <a:t> انظر المثال في الكتاب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المثال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31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استخرج مرونة الطلب للسلعة أ إذا كانت الكمية المطلوبة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00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وحدة عند السعر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دينار للوحدة وأن الكمية المطلوبة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1500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وحدة عند السعر 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</a:rPr>
              <a:t> دينار للوحدة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قيس مرونة الطلب التقاطعية مدى استجابة الكمية المطلوبة من السلعة (أ) للتغير في ثمن السلع (ب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ورياضيا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التغير النسبي في الكمية المطلوبة للسلعة أ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التغير النسبي في ثمن السلعة 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رونة الطلب التقاطعي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 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1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وتوضح لنا مرونة الطلب التقاطعية العلاقة بين السلع البديلة والسلع المكمل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ثال:  احسب مرونة الطلب التقاطعية للسلعتين البرتقال والموز إذا علمت أن ارتفاع سعر الموز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أدى إلى زيادة الكمية المطلوبة من البرتقال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 </a:t>
            </a: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احسب مرونة الطلب التقاطعية للسلعتين الشاي والسكر إذا علمت أن ارتفاع سعر السكر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أدى إلى انخفاض الكمية المطلوبة من الشاي بنس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% 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ccecff"/>
                </a:solidFill>
                <a:latin typeface="Arial"/>
              </a:rPr>
              <a:t>المقصود بالمرونة</a:t>
            </a:r>
            <a:r>
              <a:rPr b="0" lang="ar-SA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8560" y="1599840"/>
            <a:ext cx="84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ساسية أو مدى الاستجابة لشيء م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سعريه: مدى تأثر الكميه المطلوبة للتغير في السعر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الداخلية: مدى تأثر الكميه المطلوبة للتغير في الدخل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ات في الكمية المطلوبة في الكمية المطلوبة نتيجة تغير الثمن قد تكون كبيرة أو ضئيلة . فلا بد مقياس لمعرفة مدى التجاوب بين الكميات المطلوبة من سلعة والتغيرات في ثمنها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تقيس مدى استجابة التغير في الكمية المطلوبة للتغير في الدخل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ورياضيا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التغير النسبي في الدخ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انظر المثال ص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86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-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8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رونة الطلب الدخلي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لاحظ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159192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إشارة السالبة: معناها أن السلعة رديئة. لأن المستهلك خفض من الكمية المطلوبة عند ارتفاع دخل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إشارة الموجبة: معناها أن السلعة عاديه. لأن المستهلك زاد من الكمية المطلوبة عند ارتفاع دخل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محددات مرونة الطلب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252360" y="134136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أولا: مدى وجود بديل للسلعة</a:t>
            </a: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 </a:t>
            </a:r>
            <a:r>
              <a:rPr b="0" lang="ar-SA" sz="4400" spc="-1" strike="noStrike" u="sng">
                <a:solidFill>
                  <a:srgbClr val="ffcc66"/>
                </a:solidFill>
                <a:uFillTx/>
                <a:latin typeface="Verdan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إذا وجد بديل جيد للسلعة (دجاج ، لحم) كانت المرونة مرتفعه لان أي ارتفاع بسيط في السلعة سيؤثر على الكمية المطلوبة عنها والانتقال إلى السلعة البديلة الأخر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ثانياً: مدى ضرورة السلعة للمستهل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كلما كانت السلعة ضرورية كان الطلب قليل المرونة فإذا ارتفع السعر فان التغير في الكميه المطلوبة سيكون قليلا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ثالثاً: حجم نصيب السلعة في الدخل الكلي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إذا كان نصيب السلعة من الدخل قليل كان الطلب قليل المرونة والعكس صحيح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ecff"/>
                </a:solidFill>
                <a:latin typeface="Arial"/>
              </a:rPr>
              <a:t>رابعاً: حجم دخل المستهل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4000" spc="-1" strike="noStrike">
                <a:solidFill>
                  <a:srgbClr val="ffffff"/>
                </a:solidFill>
                <a:latin typeface="Verdana"/>
              </a:rPr>
              <a:t>كلما كان دخل المستهلك مرتفعا كلما كان الطلب قليل المرونة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ccecff"/>
                </a:solidFill>
                <a:latin typeface="Arial"/>
              </a:rPr>
              <a:t>قياس المرونة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تقاس المرونة بقسمة التغير النسبي في الكمية المطلوبة على التغير في الثم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التغير النسبي في الكمية المطلوب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مرونة =    ـــــــــــــــــــــــــــــــــــــ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التغير النسبي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التغير النسبي في الكمية المطلوبة = ــــــــــــــــــــــــــــ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ك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–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النسبي في الثمن =  ــــــــــــــــــــــ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                                س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احسب مرونة الطلب على سلعة التفاح إذا كان سعر التفاح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6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والكمية المطلوبة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وعند انخفاض السعر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4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شا ارتفعت الكمية المطلوب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5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 1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 – 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- 5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27280" y="4797360"/>
            <a:ext cx="1476360" cy="11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602136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السالب دلالة على العلاقة العكس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مثال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  سلعة ما سعرها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وش والكميه المطلوبة منها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00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كغم ارتفع سعرها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2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قروش وانخفضت الكميه المطلوبة إلى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9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كغم احسب مرونة الطلب وما نوع المرونة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حل:                               =              = 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2,5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6624720" y="42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4168800"/>
            <a:ext cx="35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537000"/>
            <a:ext cx="33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 – 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 – 12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26360" y="4092480"/>
            <a:ext cx="11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5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ــــــــــــــ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- 20 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727280" y="4797360"/>
            <a:ext cx="1476360" cy="11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6021360"/>
            <a:ext cx="11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السالب دلالة على العلاقة العكسي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أولاً: طلب عديم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لا تتغير الكميه المطلوبة مهما تغير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= صف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303372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19640" y="4653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11280" y="386064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080" y="36082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376360" y="3465360"/>
            <a:ext cx="971640" cy="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64440" y="32497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نيا: طلب لا نهائي المرونة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مهما تغيرت الكميه المطلوبة فلا يتغير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76360" y="3465360"/>
            <a:ext cx="176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274464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00360" y="3500280"/>
            <a:ext cx="0" cy="104472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ccecff"/>
                </a:solidFill>
                <a:latin typeface="Arial"/>
              </a:rPr>
              <a:t>أنواع المرونة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ثالثا: طلب مرن</a:t>
            </a:r>
            <a:r>
              <a:rPr b="0" lang="ar-SA" sz="4400" spc="-1" strike="noStrike">
                <a:solidFill>
                  <a:srgbClr val="66ccff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تغير في الكمية المطلوبة أكبر من التغير في الثم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رسم البياني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المرونة &gt; 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2997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50864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56000" y="3213000"/>
            <a:ext cx="172872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28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450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00360" y="3573360"/>
            <a:ext cx="0" cy="971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9880" y="461628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59280" y="34653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40600" y="465300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ك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410920" y="3573000"/>
            <a:ext cx="1258920" cy="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410920" y="3392640"/>
            <a:ext cx="613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78600" y="3521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40000" y="3176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س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ajdi</cp:lastModifiedBy>
  <dcterms:modified xsi:type="dcterms:W3CDTF">2008-03-30T14:42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