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projctor.wav" ContentType="audio/x-wav"/>
  <Override PartName="/ppt/media/clap.wav" ContentType="audio/x-wav"/>
  <Override PartName="/ppt/media/carbrake.wav" ContentType="audio/x-wav"/>
  <Override PartName="/ppt/media/ricochet.wav" ContentType="audio/x-wav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98B-C3F7-439D-B743-E2037F2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619-F396-46C4-B494-80EACF4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C01-7065-4955-B9B7-87AC5447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9FF-DB8F-4314-A6E9-21DD6EBB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9DE-2899-4A94-9692-58C2B484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B408-7526-4C18-8ECF-74F0A82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F47-E9C4-453A-8627-3645BD6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6A52-ED17-493F-8EE8-CC614D9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B6C8-4CA6-4A7E-A1B9-D60415F9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648-6A6A-4C01-9863-844C95A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C3CC-2434-4432-B00B-5024358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8A2-E2CA-410C-A20D-16B83D75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FB23-86A1-462B-B706-C94EF41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331-6996-4F65-8626-18976ED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CF5-7256-4622-A8A4-6B76C26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3C9-F2BA-429E-BFBA-FCF77400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2C8-EEA9-4BC2-9290-68EFD0CB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DC5-CA1D-49B2-840E-E5C707C4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D1A-EE88-4B77-8982-AC7FB0F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119-4AFA-47B4-B68F-DD9F09E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493-E9E7-4C28-8931-7342452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E4-E09A-49AE-9C40-7B51997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72E-A6B2-4D98-B281-9E760CC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417-36A0-4E15-B9C6-1A00BA1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AD9-64FC-46E2-883D-DB60ED87A3E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B96-C119-48D6-9A69-4E95F179C3F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أفعال الخمسة</a:t>
            </a:r>
            <a:br>
              <a:rPr sz="7200"/>
            </a:b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ـا هـي 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جزم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676520"/>
            <a:ext cx="2438280" cy="990360"/>
          </a:xfrm>
          <a:prstGeom prst="downArrowCallout">
            <a:avLst>
              <a:gd name="adj1" fmla="val 61556"/>
              <a:gd name="adj2" fmla="val 61550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95480"/>
            <a:ext cx="9144000" cy="39625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م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ذاكر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قبل الاختبار بوقت كافٍ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ا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غير الحق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200" spc="-1" strike="noStrike">
                <a:solidFill>
                  <a:srgbClr val="ffcc66"/>
                </a:solidFill>
                <a:latin typeface="Times New Roman"/>
              </a:rPr>
              <a:t>مثال معرب</a:t>
            </a:r>
            <a:endParaRPr b="0" lang="en-US" sz="1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 u="sng">
                <a:solidFill>
                  <a:srgbClr val="ff0000"/>
                </a:solidFill>
                <a:uFillTx/>
                <a:latin typeface="Times New Roman"/>
              </a:rPr>
              <a:t>لا تتخلفوا عن الدرس</a:t>
            </a:r>
            <a:br>
              <a:rPr sz="10600"/>
            </a:b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لا</a:t>
            </a: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 :حرف نهي وجزم</a:t>
            </a:r>
            <a:br>
              <a:rPr sz="10600"/>
            </a:b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تخلفوا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 :فعل مضارع مجزوم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بـ ( لا ) وعلامة جزمه حذف النون و واو الجماعة ضمير متصل مبني في محل رفع فاع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20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ـ </a:t>
            </a:r>
            <a:r>
              <a:rPr b="0" lang="ar-SA" sz="8000" spc="-1" strike="noStrike">
                <a:solidFill>
                  <a:srgbClr val="ff0000"/>
                </a:solidFill>
                <a:latin typeface="Times New Roman"/>
              </a:rPr>
              <a:t>الأفعال الخمسة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: هي كل فعل مضارع اتصل بآخر ه ألف الاثنين أو واو الجماعة أو ياء المخاطب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cc66"/>
                </a:solidFill>
                <a:latin typeface="Times New Roman"/>
              </a:rPr>
              <a:t>علامة رفع الأفعال الخمسة ثبوت النون   وعلامة نصبها وجزمها حذف النون .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</a:rPr>
              <a:t>يكون الضمير</a:t>
            </a:r>
            <a:r>
              <a:rPr b="0" lang="ar-SA" sz="7200" spc="-1" strike="noStrike">
                <a:solidFill>
                  <a:srgbClr val="ffcc66"/>
                </a:solidFill>
                <a:latin typeface="Times New Roman"/>
              </a:rPr>
              <a:t> :( ألف الاثنين ، و واو الجماعة ،وياء المخاطبة ) في محل رفع فاعل ،أو نائب فاعل ، أو اسم لـ ( كان ) أو إحدى أخواتها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كت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شر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cc66"/>
                </a:solidFill>
                <a:latin typeface="Times New Roman"/>
              </a:rPr>
              <a:t>كيف تعرب الأفعال الخمسة ؟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رفع الأفعال الخمسة بثبوت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5248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743200"/>
            <a:ext cx="7239240" cy="3809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طالب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اكر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دروسهما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تِ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ح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نصب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828800"/>
            <a:ext cx="2438280" cy="1066680"/>
          </a:xfrm>
          <a:prstGeom prst="downArrowCallout">
            <a:avLst>
              <a:gd name="adj1" fmla="val 57152"/>
              <a:gd name="adj2" fmla="val 57146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048120"/>
            <a:ext cx="8382240" cy="35049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جتمع الطالبان كي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كرا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درس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الحق خير ل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01:47Z</dcterms:created>
  <dc:creator/>
  <dc:description/>
  <dc:language>en-US</dc:language>
  <cp:lastModifiedBy>Arabic</cp:lastModifiedBy>
  <dcterms:modified xsi:type="dcterms:W3CDTF">2006-02-19T13:16:01Z</dcterms:modified>
  <cp:revision>29</cp:revision>
  <dc:subject>قواعد اللغة العربية</dc:subject>
  <dc:title>الأفعال الخمسة</dc:title>
</cp:coreProperties>
</file>