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projctor.wav" ContentType="audio/x-wav"/>
  <Override PartName="/ppt/media/clap.wav" ContentType="audio/x-wav"/>
  <Override PartName="/ppt/media/carbrake.wav" ContentType="audio/x-wav"/>
  <Override PartName="/ppt/media/ricochet.wav" ContentType="audio/x-wav"/>
  <Override PartName="/ppt/media/cashreg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094-B584-4D4C-8D95-13BF1245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BA1-1DE9-4639-9C2A-47702380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63C-5F94-45B9-BB89-301D64F2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E69-0C49-4A14-88D9-CF05A168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13ED-FDE1-436B-BC89-8C1AFCCD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96DE-F796-4225-BD38-E0D3EBFD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EB36-7131-4CE4-A7CE-0CE2C8CC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39A7-A66B-47E5-88F1-4063C453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0594-7F9F-4FB4-A9E8-A12B5D3B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FA8A-DC79-47DE-BDB8-E897E1EE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7E43-3CB6-4467-86D0-33FC9C6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A3A-80C3-4F9D-8DAC-16798605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645D-AB2C-4F69-8808-A0AB8977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105C-1FF4-4F25-9212-9FACC72E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A25C-905C-4456-A357-8F336DF8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78BF-16BD-4580-8563-A22758AC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9887-5A33-4E02-AC20-A26A4E06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3A2-7E44-4647-9FFD-60463259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09C-0DDB-4FEB-A820-B034243F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2C6-DD9E-4E79-AB34-55DDC75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AC4-1C85-40CB-957F-2A7F1180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3C4-F260-4399-B0E1-959593B6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C9F-D4BF-4BCD-A232-E3B5A7F0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FAE-F07A-45D1-B06F-DE5598A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C9A4-295F-4356-8D11-E38F9A5E00B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3DEC-C0DC-4461-A90B-388502E7B9D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أفعال الخمسة</a:t>
            </a:r>
            <a:br>
              <a:rPr sz="7200"/>
            </a:b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ـا هـي ؟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جزم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676520"/>
            <a:ext cx="2438280" cy="990360"/>
          </a:xfrm>
          <a:prstGeom prst="downArrowCallout">
            <a:avLst>
              <a:gd name="adj1" fmla="val 61556"/>
              <a:gd name="adj2" fmla="val 61550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95480"/>
            <a:ext cx="9144000" cy="396252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م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ذاكرا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قبل الاختبار بوقت كافٍ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ا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غير الحق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200" spc="-1" strike="noStrike">
                <a:solidFill>
                  <a:srgbClr val="ffcc66"/>
                </a:solidFill>
                <a:latin typeface="Times New Roman"/>
              </a:rPr>
              <a:t>مثال معرب</a:t>
            </a:r>
            <a:endParaRPr b="0" lang="en-US" sz="1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 u="sng">
                <a:solidFill>
                  <a:srgbClr val="ff0000"/>
                </a:solidFill>
                <a:uFillTx/>
                <a:latin typeface="Times New Roman"/>
              </a:rPr>
              <a:t>لا تتخلفوا عن الدرس</a:t>
            </a:r>
            <a:br>
              <a:rPr sz="10600"/>
            </a:b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لا</a:t>
            </a: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 :حرف نهي وجزم</a:t>
            </a:r>
            <a:br>
              <a:rPr sz="10600"/>
            </a:b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تخلفوا</a:t>
            </a: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 :فعل مضارع مجزوم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بـ ( لا ) وعلامة جزمه حذف النون و واو الجماعة ضمير متصل مبني في محل رفع فاعل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800" spc="-1" strike="noStrike">
                <a:solidFill>
                  <a:srgbClr val="ffcc66"/>
                </a:solidFill>
                <a:latin typeface="Times New Roman"/>
              </a:rPr>
              <a:t>الخلاصة</a:t>
            </a:r>
            <a:endParaRPr b="0" lang="en-US" sz="20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ـ </a:t>
            </a:r>
            <a:r>
              <a:rPr b="0" lang="ar-SA" sz="8000" spc="-1" strike="noStrike">
                <a:solidFill>
                  <a:srgbClr val="ff0000"/>
                </a:solidFill>
                <a:latin typeface="Times New Roman"/>
              </a:rPr>
              <a:t>الأفعال الخمسة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: هي كل فعل مضارع اتصل بآخر ه ألف الاثنين أو واو الجماعة أو ياء المخاطبة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cc66"/>
                </a:solidFill>
                <a:latin typeface="Times New Roman"/>
              </a:rPr>
              <a:t>علامة رفع الأفعال الخمسة ثبوت النون   وعلامة نصبها وجزمها حذف النون .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5867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</a:rPr>
              <a:t>يكون الضمير</a:t>
            </a:r>
            <a:r>
              <a:rPr b="0" lang="ar-SA" sz="7200" spc="-1" strike="noStrike">
                <a:solidFill>
                  <a:srgbClr val="ffcc66"/>
                </a:solidFill>
                <a:latin typeface="Times New Roman"/>
              </a:rPr>
              <a:t> :( ألف الاثنين ، و واو الجماعة ،وياء المخاطبة ) في محل رفع فاعل ،أو نائب فاعل ، أو اسم لـ ( كان ) أو إحدى أخواتها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كت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شر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cc66"/>
                </a:solidFill>
                <a:latin typeface="Times New Roman"/>
              </a:rPr>
              <a:t>كيف تعرب الأفعال الخمسة ؟</a:t>
            </a:r>
            <a:endParaRPr b="0" lang="en-US" sz="117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رفع الأفعال الخمسة بثبوت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752480"/>
            <a:ext cx="2438280" cy="914400"/>
          </a:xfrm>
          <a:prstGeom prst="downArrowCallout">
            <a:avLst>
              <a:gd name="adj1" fmla="val 66669"/>
              <a:gd name="adj2" fmla="val 66663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743200"/>
            <a:ext cx="7239240" cy="38098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طالب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اكر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دروسهما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تِ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ح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نصب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828800"/>
            <a:ext cx="2438280" cy="1066680"/>
          </a:xfrm>
          <a:prstGeom prst="downArrowCallout">
            <a:avLst>
              <a:gd name="adj1" fmla="val 57152"/>
              <a:gd name="adj2" fmla="val 57146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048120"/>
            <a:ext cx="8382240" cy="35049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جتمع الطالبان كي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كرا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درس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الحق خير ل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20:01:47Z</dcterms:created>
  <dc:creator/>
  <dc:description/>
  <dc:language>en-US</dc:language>
  <cp:lastModifiedBy>Arabic</cp:lastModifiedBy>
  <dcterms:modified xsi:type="dcterms:W3CDTF">2006-02-19T13:16:01Z</dcterms:modified>
  <cp:revision>29</cp:revision>
  <dc:subject>قواعد اللغة العربية</dc:subject>
  <dc:title>الأفعال الخمسة</dc:title>
</cp:coreProperties>
</file>