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126-F780-4C6F-9CFD-928F23E5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81A-E844-4EA1-B900-32843538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83D-978A-4C02-B200-C7A467B3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C52-D051-47D7-A633-4899C0D7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B5A-2D36-4851-BFD9-01F80EF5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0F25-9801-4C09-8C4A-68AD035F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A852-0F97-448C-B456-BC3787B5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5133-7694-4190-AECB-6AE46F3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34EE-0E3C-4F33-8456-6D114EA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9BE2-2F54-401C-A33B-7BD4104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72C-6042-4D54-B77A-8D5C568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DEB-56F0-47D6-BABC-D34C7A3B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F301-38BC-48BA-B645-596F52DE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B094-0347-4141-BB62-C9A425A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8A9-C56B-405D-BB19-26F33FB2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7BF-A3B2-4445-9932-ED7EA3F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125C-83CA-4D6E-B268-BA7CA119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28D-E5CA-4D26-9F40-AF94A253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E03-DF8C-43D5-A45E-D0CA91AA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FB9-0421-4EF0-B674-2B38D5E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EB6-9D2D-48AB-A85B-5AB069EF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773-A133-4472-B12D-5B349B9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858-1B82-4458-8127-A0D8E63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ECB-622E-47D8-8D84-617D5162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7DD-4377-4B6D-A512-41584977D8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DDC1-469D-4106-9EC1-1FC3FE28E0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INTRODUC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CYTOLO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abnormal cyt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rina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strointestinal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fluids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Needle Aspiratio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PRACTICAL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 labora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of fixatives and preserv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and fixation of specim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1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2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on-neoplastic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eoplastic gynecological cytology 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urinary tract, GIT, and body effusions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ientific study of cells obtained from tissues or body secretions to identify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YP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ampling techniques, cytology is classified into the follow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foliat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ras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piration Cytolog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FOLIAT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pontaneous shedding of cells derived from the lining of an organ into a ca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ents of the sample are derived from several 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vaginal smear, sputum, urine, CSF,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terial is collected spontaneously or by a syringe or a cotton swa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BRAS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s are obtained directly from the surface of the target of intere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taken by scraping, brushing, or wa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cervical scraper, endoscopy, and gastric lav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can be obtained from superficial or deep les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PIRATION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obtained from solid tissues that are not connected to a hollow visc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edle with or without a syringe is u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, safe, rapid, cost effective, and require no special clinical ski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rtually every organ in the body is accessible to this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SIC PRINCIPLES OF CYTOLOGIC DIAGNOSI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ytologic diagnosis must be based on the entire clinical evidence available, rather than on changes in individual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intain satisfactory results, the uniformity of the technical methods employed is impor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very important to acquire a thorough knowledge of normal cells originating from a given source before attempting diagno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ing structural and functional cell changes in health and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quality control is generated by careful follow-up of patients and constant referral to tissue evid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THEORY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xation and preserv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ods of prepar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ins and staining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methods of coll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normal and functional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7:36:46Z</dcterms:created>
  <dc:creator>user</dc:creator>
  <dc:description/>
  <dc:language>en-US</dc:language>
  <cp:lastModifiedBy>user</cp:lastModifiedBy>
  <dcterms:modified xsi:type="dcterms:W3CDTF">2008-12-19T20:07:03Z</dcterms:modified>
  <cp:revision>56</cp:revision>
  <dc:subject/>
  <dc:title>INTRODUCTION</dc:title>
</cp:coreProperties>
</file>