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903-585D-4AFE-9845-1BBC43208B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EB7-73CE-4F4A-A719-B27F1F6D5B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B66-0B3F-45D9-96C0-74B0F63B1F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48B-88ED-48EB-90D2-82CB55EFF6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13F0-74D9-4D4F-8E98-68CEC960E9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93B0-0625-4666-B3AE-2126A7BE5F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3651-6DF3-4FE9-96A0-ECE03B7078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A3F2-BB1B-48D8-86D2-0588EDB699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EB12-695E-49A8-BF40-B978EF7990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8AA-475B-46A5-BC03-9CD68E64D7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1FB-5659-4D60-8E2C-7DEF652A24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3DBE-9FC7-4205-9716-415E485771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806-3438-42DE-8AAB-F036F1AC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775-DA44-4E67-B64E-70C5C00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4CC-E6F8-4AB4-8694-F55BA053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D68-81AE-42F2-BAE0-13C7F805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14E-5C43-4979-AF2E-B0FDF5C8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ED3B-3766-4720-B9C7-1A3EB0FF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3B7C-D656-45AA-8CDA-3C89AA6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5443-7406-4A6C-AF5F-C3DAAE59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14F0-09AA-4359-9FB4-167E111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B552-AAB5-4454-92A6-7FF2ED16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7C49-CF1E-4296-9F48-15845CA5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5A0-F88F-4043-B089-6DA13170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B8BE-468A-4B2B-825E-7625A67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7B24-6910-4EDE-B37F-C1AFBC1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C44A-3C75-4AF3-BE23-9CDF065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11F3-C32E-44DA-B6A0-27372BCA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D828-8D13-4F2D-A489-F1F5C016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E04F-2C3F-47B1-B31D-A6810D25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9B45-2CF9-4761-81D4-ED00246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520E-BF5D-4F0D-9DB6-1DE93AA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F210-C4B0-48B3-A2D7-6B4EFFC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9CAD-8A82-4276-9CFB-051256C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F4E-EF3B-4F55-B5AB-3ED1B598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8CE0-675F-4D25-83CE-0797723A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DD75-DCE0-484D-B3EC-3B7AA590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CEC7-FEF6-4419-83C0-BDA10FB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84FE-7CA5-4F62-A3F4-5B55D71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CEDE-52C4-40E6-8313-7A14C3E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C0C9-5B1E-406F-98DA-38557FE6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13E0-B1BA-4900-9696-010AE7C5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56D-A3D4-46CB-9F47-1496BC15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F01-CF4F-4E04-B24D-06B9148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C01-D74B-40B4-A0A5-DAB4F1FB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D13-99BD-43EA-A9E8-CAD2BF6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789-2E49-4012-9CE6-7795765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248-5B82-4DCC-9C44-58BFB0ED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C59-AD66-4C1B-A858-E83C2A8B183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صورة 7" descr="normal slid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D847-2CF3-4317-B7EE-E29E6D4ABD7E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صورة 7" descr="normal slid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E467-545D-440D-BBBE-6EB0EBFCA7E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3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itle 1"/>
          <p:cNvSpPr/>
          <p:nvPr/>
        </p:nvSpPr>
        <p:spPr>
          <a:xfrm>
            <a:off x="-428760" y="378612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تذوق الأدب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د. عادل عثمان الهاد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EG" sz="13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الأول </a:t>
            </a:r>
            <a:br>
              <a:rPr sz="1900"/>
            </a:br>
            <a:r>
              <a:rPr b="1" lang="ar-EG" sz="10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 - 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تي تعيق التَّذوُّق الأدب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غلبة الحسّ النقدي ( سيطرة العقل النقد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الصبر والأناة أو الاستجابة لمؤثرات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التهيؤ النفسي ( اضطراب النفس والمزاج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نقياد لقناعات وأهواء ساب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لحاح في سرعة الوصول لنتائج تذوقية ( تدخل الآخرين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لة أو انخفاض المخزون الثقاف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غلبة الجانب الفكري وضعف الحس العاطفي الفعَّ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ترحات تمكن من تفادي عوائق التذو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وية الاستعداد الفطري وتنمية موهبة الذوق لدى المتلق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هد ملكة التذوق بالتهذيب والتدريب على النصوص الرفي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عمق النظرة التأملية للعمل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ليل النص الأدبي إلى عناصره لتسهيل فه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تناول نصوص يتوافر فيها الانسجام والتراب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حاطة بكل جوانب النص ومؤلفه وظروفه المختلفة ذات الأث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طة تربوية تسهم في تطوير الذوق الأدب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راءة النص ّ قراءة جيدة ومتأنية وصولا لفهمه والارتباط بمعاني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ختيار نصوص يتوافر فيها الجمال الموسيقي وعمق الفكرة  وقوة العاطفة  وسهولة الألفا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ث المتلقي( الطالب) على معايشة النص والتحدث عبره مع مبدعه واستحسان ابداعه ومناقشته ونقده وبيان مواضع القصو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فيز الطلاب على جمع المعلومات المتعلقة بالنص وصاحب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صائح لتشجيع حاسَّة التذوق عند الطلا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ضرورة الربط بين موضوعات القراءة والأد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رك مجال للطالب لقراءة النص وفهمه قبل مبادرة المعلم بالش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فيز الطلاب على شرح النص وإبداء الآراء النقدية حول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يل إلى أسئلة الموازنة والمقارنة والبعد عن السطح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جيع الطلاب على حفظ النصوص التي يجدون نحوها ميل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معرفة مدى استيعاب الطلاب وقدرتهم التذوقية يفضل أن تكون الاختبارات من خلال نصوص مشابهة لم تتم دراس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صورة 3" descr="SLIDE 2.JPG"/>
          <p:cNvPicPr/>
          <p:nvPr/>
        </p:nvPicPr>
        <p:blipFill>
          <a:blip r:embed="rId1"/>
          <a:srcRect l="0" t="0" r="14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376092"/>
                </a:solidFill>
                <a:latin typeface="AYM Wadiy S_U normal."/>
              </a:rPr>
              <a:t>المحاضرة الأول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مستطيل 5"/>
          <p:cNvSpPr/>
          <p:nvPr/>
        </p:nvSpPr>
        <p:spPr>
          <a:xfrm>
            <a:off x="3000600" y="4214880"/>
            <a:ext cx="334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مفهوم الذوق والتذوُّ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حاضرة الأ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Calibri"/>
              </a:rPr>
              <a:t>مفهوم الذوق والتذوُّق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تعريف اللغ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عريف الاصطل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ملكة أو حاسَّة فنية لمَّ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التقييم الدقيق لعناصر النص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خبرة تنتج من التجربة وطول النظر والتأ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استجابة وجدانية للقيم الجم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تقدير صحيح ومتكامل للعمل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ية التذوق الأدب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دايات الأولى للتذوق في التراث الأدبي العرب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داية التذوق متزامنة مع ظهور الأد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ذوق والتذوق عند بعض الأعل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اقة التذوق بالنق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همية التذوق للمبدع والمتلق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الذوق ومكوناته ومصاد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اصر الذوق ه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العاطفة  ـ العقل   ـ الحس والشعور ـ الثقافة و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000000"/>
                </a:solidFill>
                <a:latin typeface="Calibri"/>
              </a:rPr>
              <a:t>* مصادر تكوين الذوق 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فطرة السليمة فهو ملكة تولد مع الإنسان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اكتساب عن طريق التعليم والتدريب ومخالطة الصفوة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عقل المتزن والعاطفة المتوقدة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قسام الذوق وأنواع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أول 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سلم      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سق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*التقسيم الثان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ايجابي 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سلبي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ثالث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عام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خاص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أعم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رابع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فطري العادي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مثقف المتمرِّ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مساعدة على تنمية الذوق وتطو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طلاع الواسع على نصوص الأدب الجيد وتنمية ملكة الحف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ادة النظر في الأشباه والنظائر من النصوص ومقارن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إتقان علوم اللغة المختلف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عرف على أمثلة توضح الذوق عند اكتمال عناصر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مثلة تبين الذوق اللمَّاح عند اكتمال عناصره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قول الشاع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تمنانا   ليلقانا  بقوم    تخالُ بيَاضَ لأْمِهمُ السَّراب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فقد لاقيتنا فرأيت حربا   عوانا تمنع الشيخَ الشَّراب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قول الشاع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وقالوا خُراسان أقصى ما يُراد بن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                        ثُمَّ القفول فقد جئنا خُراسان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وقول الآخ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سالت عليه شِعابُ الحيِّ حين دع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                       أنصاره  بوجوهٍ  كالدنان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مؤثرة في اختلاف الذ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زمان ( العص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جنس البشري الذي يشكل في مجموعه ذوقا مؤثراً ( الذوق الجماع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تربية ( الأسرة والتعليم والتنشئة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مزاج الخاص أو مكونات الشخصية الفردية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14:45Z</dcterms:created>
  <dc:creator>amohmad</dc:creator>
  <dc:description/>
  <dc:language>en-US</dc:language>
  <cp:lastModifiedBy>msarhan</cp:lastModifiedBy>
  <dcterms:modified xsi:type="dcterms:W3CDTF">2009-11-04T10:30:25Z</dcterms:modified>
  <cp:revision>35</cp:revision>
  <dc:subject/>
  <dc:title>المحاضرة الأولى</dc:title>
</cp:coreProperties>
</file>