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ECA-F81D-481B-AAC5-189709FEDC3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AB2B-A930-45DA-BEF3-3D3B6111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0CAF-2184-4BA6-A860-5C3231A85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2130-0139-4B56-95C4-D7099BA8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8A34-EEA1-48EA-B07F-A4F17BC1B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984A-3F8E-4729-BA04-A7D29364E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D6EB-C756-4655-8EDD-D68334E43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9D28-FDC0-480B-B0AD-FC67ECD07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A8EA-AF5A-466A-83EE-9686C7FE7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8195-E3AB-48D8-B6EB-952D2B7E4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FB79-9E07-4B3A-8422-DEFC43A29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D416-65B7-4254-B692-4B86262DE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E15D-9E03-4DE5-94A0-2CDD13E6FC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50F5-742E-4045-9A57-E97BF7E88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68AD-C817-42F5-9568-40F231DEF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8F3E-A864-49FB-9063-D7BA956082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1C91-A3BB-4EF4-B251-519461E418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7049-D00B-49CD-ACFC-6F3DFB44E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006A-7579-4A28-889D-A1D748590D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7C2-63DE-4DDE-A99C-8151A97D7D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804-19F0-464D-B743-FF6779ED45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62B-2605-4522-BA54-029DB4979B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895-89B3-46FA-A5F3-E7EE0B998F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28F-9061-44BB-95F7-8F160E49E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AF03-CC8C-4B48-8D6D-0BDA30E88C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877-B04C-4B23-A309-D388BC3C63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FF9-F52F-47C8-AEDC-AC4DEDDF2B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278-4063-4FC7-B698-8000A2A5DC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1C9-93CC-457A-8E38-146EEA46E4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295-BF0C-4812-AB0F-62EE6D8D01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EFA-2854-4784-8CAA-6DD8D2E4DA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9ED-5EC6-41FA-AC96-7B300F370D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863CF-E980-4848-A01A-8F76F778CA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E1031-1F2C-4D93-A0CB-E1DC2475D6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C218-7788-4717-B480-B23D40D7A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1148-1AE4-4F49-95AB-38F4D03811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913A-3B2C-49D8-AE8D-308F92E33D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5DC3-991B-42D3-A501-0BC26A559C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A713-F17A-4134-BF38-8DE7C02613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F95A-7C94-4EE5-839C-EBC2D20A3B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3F361-5E9A-48AA-98CD-60E2E759DA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D8228-0C5A-4FF4-890B-D7FE12004D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DFBF7-0C48-46B7-8E5A-EFF196310E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9A2A-F2ED-4934-A62F-144F6DD060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960D1-4E82-45C7-A1B0-2E4F99B43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E760-889D-4393-8E11-206922212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4341-90FC-446D-B0D5-4C4B5B1E1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C078-1E73-474E-A60D-59CB47CF1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01D4-64FE-4B25-A555-C638121A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1D6D-0E30-4089-99B2-4FA09738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866F-7F2C-4758-BAD6-C19C22D6E5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FB41-3B24-41E3-86B9-3C0A3072E93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75A9-C012-423F-8E91-1FE4D526F5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CC6-4F22-4EC5-A6F0-4448492161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F1BA-4030-40DA-AC2B-F1AED137E7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F906-DAE2-410C-94F5-41B3ADAE26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معايير نوعان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كمية يمكن التعبير عنها في 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زيادة معدل الإنتاج بــ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3000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وحدة، تخفيض زمن الانتظار إلى ساعة واحدة في إدارة الجوازات للحصول على جواز سفر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نوعية لا يمكن التعبير عنها ب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تحسين جودة استقبال العملاء ضمن الخدمات الفندقي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A32-9EDA-41A8-A1D3-3F694F993C2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قياس الأداء الفعل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يتمثل في القياس الدقيق والفعلي لما تم فعلا في الواقع من إنجاز على مستوى معين (الأقسام، الأفراد، المنظمة ...)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غالبا ما يكون القياس كميا (وفي بعض الحالات قد يكون نوعيا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7A1-02DB-4D3C-8D1E-12AEEA3026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مقارنة النتائج بالمعايير و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16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تمثل هذه المرحلة في مقارنة ما تم فعلا بالمعايير والأهداف المحددة مسبق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ستهدف هذه المقارنة معرفة مستوى الإنجاز بالنسبة للمنتظ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نتيجة هذه المرحلة قد تكو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9E6-7B02-46AA-AF99-DAB5CC901E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رابط مستقيم 5"/>
          <p:cNvSpPr/>
          <p:nvPr/>
        </p:nvSpPr>
        <p:spPr>
          <a:xfrm>
            <a:off x="5410080" y="3733920"/>
            <a:ext cx="0" cy="2057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رابط كسهم مستقيم 7"/>
          <p:cNvCxnSpPr/>
          <p:nvPr/>
        </p:nvCxnSpPr>
        <p:spPr>
          <a:xfrm flipH="1" flipV="1">
            <a:off x="4495320" y="37335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8" name="رابط كسهم مستقيم 8"/>
          <p:cNvCxnSpPr/>
          <p:nvPr/>
        </p:nvCxnSpPr>
        <p:spPr>
          <a:xfrm flipH="1" flipV="1">
            <a:off x="4495320" y="4800240"/>
            <a:ext cx="9151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9" name="رابط كسهم مستقيم 9"/>
          <p:cNvCxnSpPr/>
          <p:nvPr/>
        </p:nvCxnSpPr>
        <p:spPr>
          <a:xfrm flipH="1" flipV="1">
            <a:off x="4495320" y="57909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0" name="مربع نص 7"/>
          <p:cNvSpPr/>
          <p:nvPr/>
        </p:nvSpPr>
        <p:spPr>
          <a:xfrm>
            <a:off x="304920" y="350532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دنى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ربع نص 8"/>
          <p:cNvSpPr/>
          <p:nvPr/>
        </p:nvSpPr>
        <p:spPr>
          <a:xfrm>
            <a:off x="304920" y="4495680"/>
            <a:ext cx="415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مطابقة الإنجاز ل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ربع نص 9"/>
          <p:cNvSpPr/>
          <p:nvPr/>
        </p:nvSpPr>
        <p:spPr>
          <a:xfrm>
            <a:off x="152280" y="54864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حسن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اتخاذ الإجراءات التصحيح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ا فائدة من الرقابة إن لم تؤدي إلى تصحيح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في المنظمة تسعى الرقابة إلى تصحيح الأخطاء والانحرافات وهذا بالاهتمام بكل أنواع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8468-7349-4675-8A93-AD22E7F9AF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أنواع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ستو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موعد اجرائ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صد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جهة القائمة بالرقا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0902-971B-4E2C-A60E-102A018A653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9660-11A4-4051-AEBB-A986C3AE7B3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riangolo isoscele 8"/>
          <p:cNvSpPr/>
          <p:nvPr/>
        </p:nvSpPr>
        <p:spPr>
          <a:xfrm>
            <a:off x="1071720" y="1643040"/>
            <a:ext cx="7358040" cy="428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sellaDiTesto 22"/>
          <p:cNvSpPr/>
          <p:nvPr/>
        </p:nvSpPr>
        <p:spPr>
          <a:xfrm>
            <a:off x="3048120" y="2209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إستراتيج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sellaDiTesto 21"/>
          <p:cNvSpPr/>
          <p:nvPr/>
        </p:nvSpPr>
        <p:spPr>
          <a:xfrm>
            <a:off x="3000240" y="3786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هيكل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nettore 1 19"/>
          <p:cNvSpPr/>
          <p:nvPr/>
        </p:nvSpPr>
        <p:spPr>
          <a:xfrm>
            <a:off x="3200400" y="3429000"/>
            <a:ext cx="307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ttore 1 16"/>
          <p:cNvSpPr/>
          <p:nvPr/>
        </p:nvSpPr>
        <p:spPr>
          <a:xfrm>
            <a:off x="2133720" y="4724280"/>
            <a:ext cx="5286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20"/>
          <p:cNvSpPr/>
          <p:nvPr/>
        </p:nvSpPr>
        <p:spPr>
          <a:xfrm>
            <a:off x="1571760" y="4857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مالية                  الرقابة على العمل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إستراتيج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فاعلية المنظمة في إطارها الكلي والأعمال والوظائف الرئيسي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هيكلية: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ركز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على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كيفية انجاز كافة عناصر الهيكل التنظيمي ل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مهام و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وظائف للوصول إلى أهدافها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تعلق بالرقابة على الموارد المالية للمنظم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رقابة العمليات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رقابة عمليات تحويل الموارد والمدخلات إلى منتجات في شكل سلع أو خدمات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.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E40-EDAC-4B24-BFB1-CDABA8902D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موعد اجرائها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قبل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التأكد من ان الموارد والاتجاهات صحيحة قبل ان يبدأ التنفيذ (مثل الاختيار الجيد للعاملين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تزامنة مع التنفيذ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ركز على ما يحدث اثناء تنفيذ العمل والانجاز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(مثال: التكنولوجية المستخدمة في مراقبة سائقي الشاحن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بعد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تركز على المخرجات او العمل بعد تنفيذه وانتهائه (مثال: فهم رأي الزبائن بعد حصولهم على السلعة او الخدمة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6F64-DD81-45E2-AA6F-6AB40E20ADB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صد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داخل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عبارة عن رقابة نابعة من ذات الفرد بحيث يمارس رقابة ذاتية على سلوكه و تصرفات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خارج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الرقابة التي تمارس من قبل المشرفين والمدراء على سلوكيات وتصرفات 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1CF-6A70-43D5-AAF5-ABC0ECFFB4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جهة القائمة ب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داخل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عبارة عن فرد (او جهة) يمارس العملية الرقابية على انشطة المنظمة في اطار نظام الرقابة الداخلي للمنظمة (مثال: نظام الرقابة المالية الداخلي الذي يراقب العمليات المال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خارج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فرد او هيئة من خارج المنظمة يمارس العملية الرقابية بناء على عقد مبرم معها او بتخويل من القانون (مثال: مكاتب الاستشارات 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rnest &amp; Young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التي تقوم بأداء خدمات الرقابة المالية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6A4-5A0D-462F-802D-CA2AE5F9AE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حادية عشر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قابة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796-BA64-4442-8AE7-0FACE7553AF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جال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مادية 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مارس على الموارد المادية للعمل (مثال: المخزون او التجهيز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بشر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العاملين في منظمة الأعمال سواء ما يتعلق بالتعيين أو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تدريب أو الأجو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علومات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جميع ما يرتبط بالمعلومات في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المتعلقة بالجوانب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627-8A77-4097-A4C7-23048C735F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44BB-514A-46CA-8299-6E7EB002CC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5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يهدف هذا الفصل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الرقابة والعملية الرقابية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e46c0a"/>
                </a:solidFill>
                <a:latin typeface="Tw Cen MT"/>
              </a:rPr>
              <a:t>مراحل الرقاب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أنواع الرقابة في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منظ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DA97-E0CF-4798-ADB3-6AEF4F5E6FA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عملية الرقا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ا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هداف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مراحل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أنواع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D6B-08CC-4DD8-B9D7-14400E0DCE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600200"/>
            <a:ext cx="910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600" spc="-1" strike="noStrike">
                <a:solidFill>
                  <a:srgbClr val="e46c0a"/>
                </a:solidFill>
                <a:latin typeface="Arial"/>
              </a:rPr>
              <a:t>هي مجموعة من الأنشطة التي تهدف إلى جعل الخطط والنتائج منسجمة مع التوقعات والمعايير المستخدمة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e46c0a"/>
                </a:solidFill>
                <a:latin typeface="Calibri"/>
              </a:rPr>
              <a:t>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E7C-D740-4955-8522-ECA37A3EDD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عملية الرقاب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ar-QA" sz="4400" spc="-1" strike="noStrike">
                <a:solidFill>
                  <a:srgbClr val="e46c0a"/>
                </a:solidFill>
                <a:latin typeface="Arial"/>
              </a:rPr>
              <a:t>هي عبارة عن عمليات مستمرة لقياس الأداء واتخاذ الإجراءات لضمان النتائج المرغو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6C9-075D-4D19-9E05-18DED06477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</a:t>
            </a:r>
            <a:r>
              <a:rPr b="1" lang="ar-SA" sz="4400" spc="-1" strike="noStrike">
                <a:solidFill>
                  <a:srgbClr val="11488b"/>
                </a:solidFill>
                <a:latin typeface="Calibri"/>
              </a:rPr>
              <a:t>هداف</a:t>
            </a: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تكيف مع تغيرات البيئة (استباق تغيرات البيئة المعقد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قليل تراكم الأخطاء (معالجة الانحرافات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مواكبة والانسجام مع التعقيد التنظيمي (بازدياد حجم المنظمة تزداد اهمية الرقاب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خفيض التكاليف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.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D50-5BDA-4DB1-9E4F-97F3B0DA2BB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 مراحل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ضمن العملية الرقابية هناك أربعة مرا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1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تحديد الأهداف والمعايير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قياس الأداء الفعلي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3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مقارنة النتائج بالمعايير والأهداف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4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تخاذ الإجراءات التصحيحي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0B38-2726-4630-86DC-C5E2823FFD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- </a:t>
            </a: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تحديد الأهداف والمعايي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يس تحديد الأهداف والمعايير من مهام الرقابة، بل هو من مه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التخطيط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كن الرقابة تعتمد على الأهداف والمعايير اعتمادا كليا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لمعيار هو مستوى معين قد يكون رقما، أو حالة نوعية تسعى المنظمة الوصول إليه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09C-9340-4A27-8084-FF3A748613E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user</cp:lastModifiedBy>
  <dcterms:modified xsi:type="dcterms:W3CDTF">2010-12-09T04:34:51Z</dcterms:modified>
  <cp:revision>135</cp:revision>
  <dc:subject/>
  <dc:title>Slide 1</dc:title>
</cp:coreProperties>
</file>