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9247-9295-432E-AB7F-D4ED73D7217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8851-C283-4E50-BBB3-19C34525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7313-96C7-475D-8A07-5916787A9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0611-5E26-4F32-92ED-431CA7D71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FE73-25C1-4A2C-9B78-2F27F6793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894C-EF88-451C-9EB4-E31297DB9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6F9A-959C-4449-B4A2-6E021EE44F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0716-04D9-4B93-A148-C2A2448573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CF51-C341-4A58-AF08-7772F72DC0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D588-4C1E-4740-8971-95AC40AB3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E121-CD92-4598-8E25-C40D904A2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3142-C62E-4282-8C52-2E7651A87B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956F-8653-4552-ABAA-F392F2829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5AA9-3EC5-4B1A-BF32-69449B50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1553-99F9-4A97-8576-057AFE3347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94E4-7B18-4311-A029-3240DB8423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AED6-D338-4869-8068-CF6B3FEB5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4466-D65D-407C-8816-B34CEA6CD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D1CF-B6ED-4F15-B85E-4F9A8EED4F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3ED-4BAA-448B-B964-DC42688C7C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FD7-3080-4177-AE09-08AA26249D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218-1B2D-4B82-B1DD-E0AA8E7DA8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0DB-3C80-4FE9-B798-4B783BA7B1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0F3-0579-4F9E-A513-112E92D2F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A5C2-0B63-4789-AA32-630EBE12BB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1C2-857D-4921-BEB5-547A9D7AA0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1FC-3799-40F3-A3DC-3BB54A3FB4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0D2-B4CF-4678-A246-E5200540C2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078-5362-4CAB-A4B2-5CB45B230A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18B-A74C-41EE-B756-D7F64AB64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C3B-BEB5-4942-B20F-15FC9FBD11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5F3-C576-42E5-9621-EB96436F25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39FE-37BE-448B-9730-409FAAE8C5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32BDE-188A-45F2-BD91-E5FE55A661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2146-8EC1-4211-8E41-AE75E2DED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7838-F134-4F2F-956E-857440F357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9016D-6C2B-43B9-ADD2-FC4FEA1C8A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44E6E-98CB-4F02-979F-860F08A450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07333-75AC-4FF0-9620-93D342281D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091E4-8F29-46B5-9E9B-E7042934C5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60F57-EF07-4263-9980-539D76EE44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9868-421C-4AA0-A691-7E895AB64F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F589-18CE-4881-935B-316EF18E24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C36B5-543E-4C4A-909B-B8351077F8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DBAF-EFE7-4811-BF95-A84058E03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611B-3F70-44B4-A360-809A3224B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D578-B12B-4589-AB9A-2C71F8FF8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3D40-E3ED-4091-BDB8-21370835E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F102-02FE-437A-A8EA-412BA1939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965C-E39D-4F08-810E-B2DA7CEEC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C0D2-BD0E-420F-89E6-C6B4FD44F5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3B4-BCA1-4449-BF97-266E4F31BAA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03C-2A15-4CBD-B09E-7150A56698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20C-E64C-424F-B7FF-19D03050A96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ymedina.com/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franchising.it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8C7-4243-4EE0-B481-69DBA234110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E212-AC5D-4D30-8BB8-BE9C9C67B3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عائ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amily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تلك الأعمال الصغيرة التي تمتلك من طرف افراد عائلة واحدة لتوفير مصدر رزق لها (محلات تجارية، صيدليات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منز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ome-Based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مارس في المنزل ومملوكة مباشرة من قبل فرد أ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أكث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3542-1BFC-47A1-9024-894349163D4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عايير تصنيف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CAA-A62F-4AFB-BA9D-FA16FE72FA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0120" y="1785960"/>
          <a:ext cx="7120080" cy="3627360"/>
        </p:xfrm>
        <a:graphic>
          <a:graphicData uri="http://schemas.openxmlformats.org/drawingml/2006/table">
            <a:tbl>
              <a:tblPr/>
              <a:tblGrid>
                <a:gridCol w="3560760"/>
                <a:gridCol w="355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عيار عدد 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دو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فراد 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مريك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ملكة العربية السعو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ـ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طان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تحاد الاورو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اليز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جزائ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جالات نشاط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توزيع بكافة أشكالها (مثل تجارة الجملة والتجزئة والنقل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خدمات الأخرى غير المادية (مثل الخدمات الطبية، المطاعم، التنظيف، 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بناء (البناء، الكهرباء 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تصنيع (مثل الحرفيين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41A8-489F-4145-AB12-E1D027EB14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همي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لق وظائف (في الكثير من الدول هي المحرك الاقتصادي الاساسي لخلق الوظائف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مصدر للإبداع التكنولوجي (تلعب دور كبير في تحسين وابتكار المنتجات وعمليات انتاجية جديدة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نافسة (تلعب دور ايجابي لخلق ودفع روح المنافسة في السوق وهذا يعد شيئ ايجابي للمستهلك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شباع حاجات المجتمع وقطاع الأعمال (مثل صناعة الجواهر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C7CE-CF38-4AF0-AB08-8C41AA5F7F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بادرة عبر الانترنت و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لقد فتح الانترنت آفاقا كبيرة أمام المبادرة في إطار الأعمال، فهناك الكثير من الأعمال الناجحة التي كانت بفضل جهود عدد قليل من الأفراد (مثل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Google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،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-Bay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يمكنكم مراجعة موقع انترنت هذه منظمة الأعمال الصغيرة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ymedina.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كمثال لمبادرات ناجحة في مجال الخدمات السياحة عبر الانترن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B35-BB2B-4AAF-B4E1-6CFD8892AF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نجاح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فكرة جيد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طة واضح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جاعة وجرأة في التنفيذ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تباع إستراتيجية إبداعية قادرة على خلق ميزات تنافسية للمشروع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شخيص جزء من السوق الذي لم يخدم بشكل جيد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7F7F-6DEE-4F9D-994F-3D46EFE5B6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فشل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خبر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تجرب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إستراتيجية واضحة ل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قيادة الواعية للمحيط البيئ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رقابة مالية غير كاف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قلة الالتزام با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D26-8A11-4FCB-9905-87C691C0BAE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آليات إقام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بدء بعمل جديد تماما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راء 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نشاط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قائم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غيير اختصاص 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شراكة مع الآخرين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متياز </a:t>
            </a:r>
            <a:r>
              <a:rPr b="1" lang="it-IT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ranchising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(</a:t>
            </a:r>
            <a:r>
              <a:rPr b="0" lang="it-CH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nfofranchising.it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FD2-8D7D-4D7C-A102-DE13B043520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شخصيات ناجحة  بدأت من أعمال صغي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189-281A-447F-B2E0-A1C0DF6617B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239724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11"/>
          <p:cNvSpPr/>
          <p:nvPr/>
        </p:nvSpPr>
        <p:spPr>
          <a:xfrm>
            <a:off x="304920" y="3962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Microsoft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65760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5"/>
          <p:cNvSpPr/>
          <p:nvPr/>
        </p:nvSpPr>
        <p:spPr>
          <a:xfrm>
            <a:off x="5105520" y="396252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ergey Brin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 Lar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Google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611-3156-4BDA-A81C-6D38092EE9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74312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5"/>
          <p:cNvSpPr/>
          <p:nvPr/>
        </p:nvSpPr>
        <p:spPr>
          <a:xfrm>
            <a:off x="228600" y="4343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nzo Ferrari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t3.gstatic.com/images?q=tbn:Ia63lG06pgZcBM:http://kingdom.com.sa/sysadmin/NewsManagment/articlefiles/280-HRH%2520Prince%2520Alwaleed%2520bin%2520Talal,%2520Apr%252009.JPG"/>
          <p:cNvPicPr/>
          <p:nvPr/>
        </p:nvPicPr>
        <p:blipFill>
          <a:blip r:embed="rId2"/>
          <a:stretch/>
        </p:blipFill>
        <p:spPr>
          <a:xfrm>
            <a:off x="6629400" y="1600200"/>
            <a:ext cx="1847880" cy="277164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5"/>
          <p:cNvSpPr/>
          <p:nvPr/>
        </p:nvSpPr>
        <p:spPr>
          <a:xfrm>
            <a:off x="5562720" y="44197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6c0a"/>
                </a:solidFill>
                <a:latin typeface="Arial"/>
              </a:rPr>
              <a:t>Al-Walīd bin Ṭal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ثانية عشرة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يادة </a:t>
            </a:r>
            <a:br>
              <a:rPr sz="5400"/>
            </a:b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والمشروعات الصغير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9D2-8C6C-4586-99A0-10769878C4B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54D-1D63-44B3-ACED-3996E1AF9D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6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هدف هذ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ه المحاضرة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مبادر والريادة والمشروعات الصغير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خصائص الشخصية المبادرة اوالرائد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معايير تصنيف الأعمال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070-D9D0-4523-8DD4-6298DAC207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هوم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خصائص الشخصية المبادر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اهيم خاطئة عن الشخصية المباد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نواع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عايير تصنيف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جالات نشاط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المبادرة عبر الانترنت و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سباب نجاح وفشل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25BC-3D5A-472B-9997-B3C26995C0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هوم المبادرات الخاصة </a:t>
            </a:r>
            <a:r>
              <a:rPr b="1" lang="it-IT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Entrepreneurship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 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ي خصائص وسلوكات تتعلق بالابتداء بعمل والتخطيط له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وتنظيمه وتحمل  مخاطره والإبداع في إدارت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376092"/>
                </a:solidFill>
                <a:latin typeface="Times New Roman"/>
                <a:cs typeface="Times New Roman"/>
              </a:rPr>
              <a:t>المبادر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هو فرد يتمتع بقدرات على تحمل المخاطر ورؤية الفرص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التخطيط والإدارة الإبداعية لعمل خاص ب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86A-E944-40F2-A804-738CE131DD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خصائص الشخصية المباد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التحكم الذاتي والاعتقاد بأن مصيرهم يحددونه بأنفسهم ويحبون الاستقلال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متعون بطاقة عمل هائلة ويعملون بجد واجتهاد ومثابرة ورغبة بالتميز والنجاح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شعرون بالحاجة إلى تحقيق انجازات متميز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سعون وراء تحقيق أهداف فيها نسبة كبيرة من التحد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9E3-CDB8-497E-A897-DF964A9DEC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قبلون حالات الغموض ويتحملون المخاط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ثقة عالية بالنفس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ت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حلون بالصب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ستقلالية وعدم الاتكال على الغي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تقبل الفشل ومن ثم تصحيح الأخطاء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CC0F-EAD0-4FD8-903B-AD551B1494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اهيم خاطئة عن الشخصية المبادرة 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ولدون بموهب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خص مغام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ال هو مفتاح نجاح المباد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اب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حمل شهادة جامع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E92-E734-4DBF-B020-7EB749FBC2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نواع المبادرات الخاص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-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عمال الصغيرة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mal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مشروع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يمتلك ويدار من قبل فرد أو أفراد معدودين وبشكل مستقل ويعمل فيه عدد قليل من العاملين ولا يهيمن بأي شكل من الأشكال على القطاع الذي ينشط في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إعمال الصغيرة جدا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</a:rPr>
              <a:t>Micro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وجد في مكان واحد ويعمل فيها اقل من خمسة أفراد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غالبا ما تكون أعمالا حرف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795-3576-4F7B-8CC3-06AD8E31A4E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kfu</cp:lastModifiedBy>
  <dcterms:modified xsi:type="dcterms:W3CDTF">2010-12-12T13:17:52Z</dcterms:modified>
  <cp:revision>152</cp:revision>
  <dc:subject/>
  <dc:title>Slide 1</dc:title>
</cp:coreProperties>
</file>