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EB32-E8C5-4F88-B25D-607D9ACF7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1175-13C2-4C51-98AE-82929251A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4908-FF67-49AF-BC8B-2FA79240E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97C2-D973-4991-985C-1EB6BAE6B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C882-21C1-4007-A595-DA40211203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DDAD-DD61-49EB-94B7-9B23DAD24D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26EF-A2B0-4880-915F-8EC69BAC37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5345-B1BF-41EC-8ABD-8F0EDF4A6C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D300-93C8-44D6-A60B-ED24EDCCF9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1C9D-F360-4976-905F-A7FDFDE3F3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4398-643F-42FE-A29F-6CFB3D605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4715-8179-4BF6-81C4-F1D6CED89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BC54-80C5-4B05-A4E8-6A12F4E81F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39CA-FD53-4B37-87A9-C9B0EB6AA4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38AC-497F-40D4-BFDA-63501B04C9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ADC33-3855-4596-ACE8-A908F7D709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9F62-3810-4374-98BC-CE61C89361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182-C1B0-4F34-9BD2-630E65BB63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FF9-23D8-4C99-B7C8-13879D1C7E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4EF-FC1E-4743-9DF3-F1F8AF1D1D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84E-1E48-4C82-B1CA-0199C11008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AE0-3D4B-4E94-8795-32798E56E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C36E-9364-4714-91D2-6D3568D975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67C-B2F1-457A-94CC-28498B132E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179-C6B2-4E90-B7AA-ABB35F7184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C31-97A9-4B69-B718-5BCA309BA2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B12-400A-4136-B4B1-484C3CBA12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FF6-48CF-4BFD-A2DC-BF3E639230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1AB-CA15-429B-82FC-52FA17D75B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B53-6659-48D9-8149-14E79A1570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6F69E-CF63-4FBA-8CE6-C800190C0A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F5C4B-7D8E-42E6-8AFE-10EA2A3A83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C0457-B665-4206-A96F-1CB1FE469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B97A-BB30-4B21-8EBF-64FBED7ECD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C17D6-B8EA-4F33-8CD2-7840B5BCC7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A1B3B-F69A-4D12-A2C5-D485F0DC03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C39A4-C458-487F-B7FC-5DE4210E85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1593E-00D7-463D-8190-C7C988FA0B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2E24B-0763-4D7A-A08B-FB6B972B78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8EBB1-F404-414F-99B2-9972251E11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6CA71-76B1-40B3-A0AC-CBE73AA4F4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4B445-749D-46F6-AEFF-B9EFA3483C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D9D0E-62D8-4CE2-8663-AE9BCFC20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FD27-EEBD-46DC-8B22-6EBF63936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D3B7-9074-47CF-B364-CA8793DD9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87D1-935E-4762-BCD3-521AC4504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55BF-DCB7-46FB-9E30-00878A29C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EE9C-60F1-43D3-A93C-FFD7CF9E5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C76A-7136-44A8-B691-104B4BA83C6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778A-176A-481B-9D41-3B27DA9A174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669-3048-49A7-8659-872B8AE4AFF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B85D-EF9A-4E49-9A97-03631D14D80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A040-3575-4323-ACB2-5BB7BE15618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4A0A-E13A-4731-9C2E-F4AD61F9B22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are subordinating conjunctions that we use to make complex senten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finish my homewo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go to b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soon 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s soon 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ve been doing my homewo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i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came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’t go to bed until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d a sandwic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was doing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3CEC-16DB-48C8-B1EC-AB0EDFF6825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lthou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finished his homework, h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n’t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finish your homework, you c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not go to b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ish your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go to b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finish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CFA1-3348-458E-AD61-64B59E00683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ordination = Subordinat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the following 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Francisco gets a shopping cart. Then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simple sente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Francisco gets a shopping cart, and then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ound sent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Francisco gets a shopping cart before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lex sent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entences 1 and 2 and 3 have the same meaning. 1 = 2 = 3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B0DB-1DAB-43BB-81E8-3233F63CE05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6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ordination = Subordinat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exampl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tarted to rain.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tarted to rain, so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it started to rain,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entences 1 and 2 and 3 have the same meaning. 1 = 2 = 3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FDBD-F013-44AB-9BDF-87700912517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023240" y="22096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2 simple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7552800" y="320040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8313120" y="41148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ich is the best way to rewrite the following sentence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Cut the tomato and the onion. After that, put them in the bowl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t the tomato and onion before you put them in the bow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t the tomato and onion after you put them in the bow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the tomato and the onion in the bowl before you cut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D3B6-8251-4A14-9286-766CB3365DD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061000" y="358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ich is the best way to rewrite the following sente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 because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, so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, but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like healthy food, so they don’t buy junk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like healthy food, but they don’t buy junk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87EC-44EC-4853-BBAA-54F9F8BC8E6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8461800" y="3733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best sub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al hated school ______ he always got good gr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B4DF-9396-434C-B61F-5334FDE8E38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2670480" y="4648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best sub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ila cleaned her room ______ her mother got home from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0E9D-1723-4A67-9C1C-8111AF7C260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365560" y="39625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e whether each sentence is simple, compound, or comple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a began planning her summer vacation in Dece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left the play early, I missed the surprise e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ya was invited to a party,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wants to buy a new outf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570C-CBEA-4B33-961B-1D04EC9FDE3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290124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369520" y="44197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2980440" y="54864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ison finished playing the video game, she shut down the compu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aning of this poem is difficult to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and his brother went fishing last weekend,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caught lots of f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6DB7-ADE0-43A0-80CE-16E810ED6CB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341320" y="22096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76788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4961520" y="44956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2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FB2F-67DA-4579-9937-8D1950DC880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708A-0CE0-4D50-92C4-844796CC3E7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76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lex Sentence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عقدة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35E8-B000-40DB-A9F2-BD14C66DA4E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clause is a group of words that contains a subject and a verb. (= simple sent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are two kinds of clauses in Englis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ependent clauses: </a:t>
            </a: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جملة مستقل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. Dependent clauses:(also called a fragment) </a:t>
            </a: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جملة تاب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..because 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E0D9-5978-44E6-B27F-8AFF411403C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dependent clause ha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ir and expresses a complete thought. (It is just another name for a simple sent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rai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ung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Ahm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lay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otball with his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Leil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tch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ie on 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36BA-DC5D-432F-B6E4-C4231306EA1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ependent clause is an independent clause with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ordinating conjunction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أدوات تكوين الجمل المعقدة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uch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ecause, after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wasn’t hungr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mad played football with his friend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ila watched a movie on TV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6390-E131-44E2-8F30-70ABBCCD7E4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pendent clau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NOT express a complete thought, so it is NOT a sentence by itsel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only a fragment. It MUST be joined to an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result is a complex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We didn’t go the pa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I wasn’t hungr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ecause I had a big break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Ahmad played football with his friend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fter he did his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fore Leila watched a movie on TV,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she helped her mother in the kitc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se four sentences are called complex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C7FB-484F-45C9-B1FB-52250C6C1E5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394000" y="2133720"/>
            <a:ext cx="623232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Becau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294bd9"/>
                </a:solidFill>
                <a:latin typeface="Times New Roman"/>
                <a:ea typeface="Arial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58a034"/>
                </a:solidFill>
                <a:latin typeface="Times New Roman"/>
                <a:ea typeface="Arial"/>
              </a:rPr>
              <a:t>wan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Arial"/>
              </a:rPr>
              <a:t>to have fu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228760" y="4876920"/>
            <a:ext cx="668664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bd9"/>
                </a:solidFill>
                <a:latin typeface="Times New Roman"/>
                <a:ea typeface="Arial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58a034"/>
                </a:solidFill>
                <a:latin typeface="Times New Roman"/>
                <a:ea typeface="Arial"/>
              </a:rPr>
              <a:t>w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Arial"/>
              </a:rPr>
              <a:t>to the beach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446160" y="4114800"/>
            <a:ext cx="120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806560" y="4038480"/>
            <a:ext cx="1403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1041480" y="3352680"/>
            <a:ext cx="1585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ubordin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on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3"/>
          <p:cNvSpPr/>
          <p:nvPr/>
        </p:nvSpPr>
        <p:spPr>
          <a:xfrm rot="5400000">
            <a:off x="5917680" y="2349360"/>
            <a:ext cx="380880" cy="528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7080 h 5283000"/>
              <a:gd name="textAreaBottom" fmla="*/ 5155920 h 528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6166"/>
                </a:lnTo>
                <a:cubicBezTo>
                  <a:pt x="10800" y="6997"/>
                  <a:pt x="5400" y="7828"/>
                  <a:pt x="0" y="7828"/>
                </a:cubicBezTo>
                <a:cubicBezTo>
                  <a:pt x="5400" y="7828"/>
                  <a:pt x="10800" y="8659"/>
                  <a:pt x="10800" y="9490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4"/>
          <p:cNvSpPr/>
          <p:nvPr/>
        </p:nvSpPr>
        <p:spPr>
          <a:xfrm flipH="1">
            <a:off x="3137040" y="4648320"/>
            <a:ext cx="1648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5"/>
          <p:cNvSpPr/>
          <p:nvPr/>
        </p:nvSpPr>
        <p:spPr>
          <a:xfrm>
            <a:off x="1486080" y="2590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6"/>
          <p:cNvSpPr/>
          <p:nvPr/>
        </p:nvSpPr>
        <p:spPr>
          <a:xfrm>
            <a:off x="1486080" y="2590920"/>
            <a:ext cx="1155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0"/>
          <p:cNvSpPr/>
          <p:nvPr/>
        </p:nvSpPr>
        <p:spPr>
          <a:xfrm rot="16174800">
            <a:off x="5538600" y="86760"/>
            <a:ext cx="306360" cy="5615280"/>
          </a:xfrm>
          <a:custGeom>
            <a:avLst/>
            <a:gdLst>
              <a:gd name="textAreaLeft" fmla="*/ 195840 w 306360"/>
              <a:gd name="textAreaRight" fmla="*/ 306360 w 306360"/>
              <a:gd name="textAreaTop" fmla="*/ 135000 h 5615280"/>
              <a:gd name="textAreaBottom" fmla="*/ 5480280 h 561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6984"/>
                </a:lnTo>
                <a:cubicBezTo>
                  <a:pt x="10800" y="7815"/>
                  <a:pt x="5400" y="8646"/>
                  <a:pt x="0" y="8646"/>
                </a:cubicBezTo>
                <a:cubicBezTo>
                  <a:pt x="5400" y="8646"/>
                  <a:pt x="10800" y="9477"/>
                  <a:pt x="10800" y="10308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408280" y="3124080"/>
            <a:ext cx="2067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t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4205880" y="5791320"/>
            <a:ext cx="2219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complex sentence has one independent clause and one (or more) dependent clau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We didn’t go the park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I wasn’t hungry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because I had a big breakf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Ahmad played football with his friend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fter he did his home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Leila helped her mother in the kitche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fore she watched a movie on T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 can change the order of clauses in a complex sent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we didn’t go the pa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 had a big breakfa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I wasn’t hung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fter Ahmad did his homewo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he played football with his frie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fore Leila watched a movie on T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she helped her mother in the kitch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the dependent clause comes first, use comma (,) 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A33E-5687-44B0-A375-396C2403568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09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10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6:09Z</dcterms:modified>
  <cp:revision>282</cp:revision>
  <dc:subject/>
  <dc:title>Slide 1</dc:title>
</cp:coreProperties>
</file>