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10F6-0724-4EC7-B3B3-E55DBE5AA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B124-6F06-4B0E-96F7-23FDADDA4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EC85-520A-4327-B545-00438F5FE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4914-C644-402B-89AA-11C7A677F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E27F-57ED-4038-B22B-E8621CED96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9E2C-511F-4B86-9EC0-90ADBA9CF1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2F69-BA9B-4F10-96A5-8A65982F6B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06D4-3E34-43B5-9183-0EF69F4AD8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D4B8-7B43-4605-AA2D-1B4760A7FE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5ED0-8347-4C8B-A3D5-5A9B611C94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9CE2-75E1-4A68-A075-12BE55D99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1716-F9BC-42FF-B2B2-0E02F5358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47A7-15D7-471D-A7C3-A79D650BB5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C78D-6F21-4048-B118-76266395C7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1D51A-7600-41C8-BFAB-CD8E0F47D8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7C8E-4E41-4647-B2C1-38D458D55B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E9CA5-DEC0-4084-93A5-B97F3E0823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BED-976E-4149-9B62-3E34C5C92D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C3D-C00E-4994-9679-308971C206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B66-1629-4FC9-B69E-A3C24A0AAA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9AD-2C96-43FC-B8E7-47DA261CBD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E01-FE6E-414D-A800-2BB336145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B3ED-9177-433E-BFE7-70625933E5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B2D-1C97-4BEB-82D9-45F81346B0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06A-93CD-4708-BA11-C4F9F56480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15C-EE99-4D43-9CE1-8FDFC9F931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0D8-CF37-457A-B147-2A642BD18B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63B-A5AC-4BC5-9EAC-D35870520A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446-51F8-4E6E-A6AB-4C1DF19281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BE1-C895-4856-9B1D-40C180B072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BE5CB-4E33-416A-BA8D-D01CB22323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8F9E8-3B37-4256-A468-F68F7CB716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2281B-D2B7-466B-9039-3C95A8833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7E50-4719-450E-A1E2-BC303A7674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BEF69-DE1F-44D3-A57D-8DB058C4D2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CB19B-BB5C-48AE-BF80-D1FC0ED3CD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8F9A9-CC05-4FF3-B3FA-152D5FE908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C88A6-2782-4A97-AAB5-F9E11E9EF9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1BFB7-6A74-4F01-8342-D04675A2B8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F3DB1-26DD-44D8-8C90-255CB787DD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67471-0C30-423B-80B0-F1C5A657E0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8BBC3-2ECF-4488-9468-E52B7E3790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E0127-E80E-464D-9196-A086F6DFB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5B6A-1C8C-44F6-AAA4-E709A52F4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5730-A396-4EDB-B157-84F0665D0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211E-AA01-4210-AB58-32858D1A8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1FB3-4217-47E1-85A7-A4B481C82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55ED-7227-408D-BBC9-C5DD04B5E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9FE5-10C9-42AE-BF72-0E1807698B0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F1E3-30FE-4B37-A676-7A865289C5C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12AC-53AB-4BEE-A05E-8D59B0FD616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928-EACD-43A3-81B0-013ACAB41EF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5CE8-9433-489D-B334-0F174F61584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DBBE-B0B4-491E-86BA-8C75AD699C9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ple sentence can have a verb in any tense (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o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mall on the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hopp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mall last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ill sh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mall next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4ED-F430-4033-8534-FAAB5F82862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ound Sentence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الجملة المركّ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ound sentence is two simple sentences connected by a comma and a co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entenc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simpl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52A5-715D-42A0-AFA2-45FA34E5D85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962520" y="3733920"/>
            <a:ext cx="9144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6172200" y="4800600"/>
            <a:ext cx="27432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rdinating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000000"/>
                </a:solidFill>
                <a:latin typeface="Calibri"/>
              </a:rPr>
              <a:t>حروف العط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7"/>
          <p:cNvCxnSpPr>
            <a:stCxn id="226" idx="3"/>
          </p:cNvCxnSpPr>
          <p:nvPr/>
        </p:nvCxnSpPr>
        <p:spPr>
          <a:xfrm>
            <a:off x="4876920" y="4610160"/>
            <a:ext cx="1296000" cy="41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Straight Arrow Connector 9"/>
          <p:cNvCxnSpPr/>
          <p:nvPr/>
        </p:nvCxnSpPr>
        <p:spPr>
          <a:xfrm flipH="1">
            <a:off x="2590560" y="4190040"/>
            <a:ext cx="762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0" name="Oval 10"/>
          <p:cNvSpPr/>
          <p:nvPr/>
        </p:nvSpPr>
        <p:spPr>
          <a:xfrm>
            <a:off x="1066680" y="4952880"/>
            <a:ext cx="17528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mad is a scientis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travels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orks in Damma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lives in Al-Ah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didn’t study for the tes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failed the ex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year we will go to the beach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will stay at h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83A1-6E68-41B5-97EE-E094E0B4747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676520"/>
          <a:ext cx="6603840" cy="185400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cal 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rdinating Conj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. The sentences can be positive or nega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is a teacher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is sister is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doesn’t like music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opposite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likes ar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1C98-EA7F-494B-B85A-217ACB70C87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that express alternatives or cho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Friday, they go to a m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visit som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a </a:t>
            </a: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rea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My friend and his sister work a lot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, s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don’t go out very 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1904-16FC-4D87-B754-68D9B1A790A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 the correct coordinating conjunction. Us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nd, or, but, or 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We are going to have spaghetti for dinner, _______ we are going to have ice cream for dess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It is my birthday, _______ I have to go to work. I wish that I could stay home and rela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Would you like to play tennis, ______ would you like to go to the golf 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It is raining, ______ she is wearing a rainco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5C6A-E398-408C-B419-D307BEA7CF9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329160" y="2057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20364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727880" y="36576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18200" y="4419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It is cold outside, ______ we can’t go swi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I’m hungry, _______ I don’t have time to 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I enjoy opera, _______ I like the bal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She’s a trustworthy friend, _______ I tell her my secr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I want to go to school, _______ I don’t have enough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We can go to the movies, _______ we can rent a vide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03AA-B7AC-4D86-9035-E11A11B1B99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5108760" y="4572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49928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205080" y="2666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899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661200" y="1676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495648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 and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, and,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, and their mother is watching them quiet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 and,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9EF4-2E2B-4C09-94BB-78CF2F3E61B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804200" y="4572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contains a compound subj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and Maria watch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atches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ia watches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atches a movie and plays tennis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7426-754E-4344-8153-FFBDA47A9E0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614080" y="2666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words and for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ningful stat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ways us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ression of time at the end of the sent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goes / to school / every morning / And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ndy goes to school every mor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05C-45DF-4470-9EC3-3138BD8C7FE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0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1F12-BE44-43D9-A110-4D7AFCA5DEB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take / photos / they / every 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take photos every Mon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goes / every day / she / 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 goes to school every 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football / Eric / after school / pl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ic plays football after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C02C-BDCB-4C1A-9EDC-D8B7DF2237D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is making / he / at the moment /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 is making breakfast at the mo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to the club / the girls / go / on Satur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girls go to the club on Saturda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o'clock / school / at / 8 / st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ool starts at 8 o'clo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Tuesday / the boys / their bikes / ride / e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boys ride their bikes every Tues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E17E-125D-4160-9885-3CADEFD481F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I / home / going / am /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am going home 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) Simon / on Fridays / the dishes / w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on washes the dishes on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) are / questions / we / answering / the /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are answering the questions 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3DE8-B42B-4059-9C6C-91E53433660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849F-6BA3-4761-A29E-C4D3475DD72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80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محاضرات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هي مواد مساندة من خارج الكتاب لكنها مطلوبة في الاختبار ومه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محاضرة رقم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ستكون عبارة عن نماذج أسئلة للتدريب على الاختبار النهائ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CA4-3095-4F5C-AC1A-E953623698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ound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 with expressions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EB08-9788-483F-8020-803AB49B638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Types of sentences</a:t>
            </a:r>
            <a:br>
              <a:rPr sz="44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three main types of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simple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بسيط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ound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رك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lex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عق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5E1-2DEB-4FC8-AB5A-66A5CE61FBC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 sentence can be very short, consisting of a simple subject and a simple predic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from lecture 9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1" lang="ar-LB" sz="2800" spc="-1" strike="noStrike">
                <a:solidFill>
                  <a:srgbClr val="ff0000"/>
                </a:solidFill>
                <a:latin typeface="Calibri"/>
              </a:rPr>
              <a:t>المبتدأ</a:t>
            </a:r>
            <a:r>
              <a:rPr b="1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PREDICATE</a:t>
            </a:r>
            <a:r>
              <a:rPr b="1" lang="ar-LB" sz="2800" spc="-1" strike="noStrike">
                <a:solidFill>
                  <a:srgbClr val="009900"/>
                </a:solidFill>
                <a:latin typeface="Calibri"/>
              </a:rPr>
              <a:t>الخبر</a:t>
            </a:r>
            <a:r>
              <a:rPr b="1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roommat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ost his ke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fami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ves in an apart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n’t like warm milk or cold coff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n’t have class on Tuesd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D690-A096-497B-AC9A-3B575E6F59F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 sentence can have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ound subjec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from lecture 9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mother and my fa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peak and write English we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brother, sister, and m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peak and write English we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hmad and his sister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ve and work in Jedda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hmad and Al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tched TV and had dinner at h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A06E-FAB9-42BD-9357-F88E4CB83CF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sentence can b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declar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(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تقريري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terrogative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 (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استفهامي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You can shop at the mall on weeke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 you shop at the mall on weeken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Francisco cleaned his room for 2 ho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 Francisco clean his room for 2 ho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6D19-3CAB-4C77-BBD6-17212F71A11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mple sentence can be an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exclamation 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(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صيغة التعجب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a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imperative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(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صيغة الأمر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Help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lease hold the b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is a wonderful gif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clever you a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07ED-4D64-434F-8649-AC33DA4D0FA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9:37Z</dcterms:modified>
  <cp:revision>278</cp:revision>
  <dc:subject/>
  <dc:title>Slide 1</dc:title>
</cp:coreProperties>
</file>