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AE92-92B4-4E8A-9F73-144DAF020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31E0-FEBC-4A7F-9E32-8C66842C6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01AE-2B94-4208-BC01-03D825AC5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D7FF-33AB-45A3-9DBE-C578BB6C6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1AC57-596E-475D-A899-64D983A1A1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018E-9B74-4641-9CDC-D350E8E949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1A50-59CE-4A56-B2BF-B9DD92C7FD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E7AB-C818-4F24-B005-C0669CEE06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8F55-8E07-4D54-9A7F-1CC59C83C1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A42C-2AB5-4B24-BA14-2184053F15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ABD6-7400-4526-AB4D-6694F43A93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0CB0-A0F7-4B4D-84B2-A62FEB1E1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1E69-91FA-4EC4-B6EE-AA56B16EA8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6FEE-AF44-4258-8792-F68FBFD6E8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528F-7C37-41E3-843D-B9972A5635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7012-B7B3-42D8-902C-182F05529B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A7DC-3B03-44A8-AE55-C127B88274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380-E1FA-40F3-BFF9-B4B294D562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793-CD4A-4379-8C2F-BA249FC288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ECF-1D8A-4E8C-831E-3A82F99EE9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B5C-4E18-4EBB-BF59-40A84B30F2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53B-7914-4362-9C06-8966CFD43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2FF6-D958-46A2-B34F-2A5458FAF8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BD0-1560-4D9B-913B-685E34FBB6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0BF-44F9-4B4F-98FA-5FC2357E53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FA4-4B09-41A0-8E56-48E7141F98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BDC-8F6B-4274-82B0-B76D01A70A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392-355B-49E3-A8A6-8CC7A0BFB3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E5D-97FF-4073-9463-8256F2964A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267-DE82-435A-A25B-12065C037A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92CD1-F2E4-4E8E-B159-5C1941D023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92E97-EDDA-499B-96F9-7C33E3D47C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AA0A3-870C-4542-A47F-C6B867BFB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846C-5B88-4253-8D16-70968BC224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E4355-C9E8-4A4F-9AA2-FAFED4C3FF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85811-C5C6-4E07-9250-A089BA5756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F723C-5488-439E-A780-8673E59BA5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80C6B-4632-4D87-97B5-F89F9CF847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FF938-DE4D-4674-9F76-A278F3D8B0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06840-0DBB-4E2C-A08F-C3237DD49D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252BF-0D10-4642-B0CA-D33209C352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BFA2D-4774-4992-8768-F3467E7478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3CE77-A9EB-471B-915C-9D86B8DCF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BD7E-7C71-44AE-9048-93347AF86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AC62-ADB5-4526-9840-A359F0CED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BEF3-2600-4237-8B4F-270D912C4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ADA7-FB76-4117-A1B3-C838B4954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6D25-428B-41A6-ACD1-D3DC216DB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9D0F-D029-437C-9EA4-C302262EC49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E982-6CF4-4F2E-ACA5-FCD384775A8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6BB8-0926-4DBF-9B13-B1C7D9C667D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B833-CD4C-4889-A687-E53E55D6632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5795-8CD2-4B12-BD73-0E637AB4B8C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664-21B0-4B5F-82CC-87D0B8DE87C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omma Splice</a:t>
            </a:r>
            <a:br>
              <a:rPr sz="3200"/>
            </a:br>
            <a:r>
              <a:rPr b="0" lang="ar-LB" sz="3200" spc="-1" strike="noStrike">
                <a:solidFill>
                  <a:srgbClr val="376092"/>
                </a:solidFill>
                <a:latin typeface="Calibri"/>
              </a:rPr>
              <a:t>أخطاء العطف: استخدام فاصلة بين جملتين كاملتين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ma splice is two simple sentences incorrectly joined with a comma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ome peopl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oth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ref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gs.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Francisco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lea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r room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first test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second on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sy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B47D-B5D9-4618-9164-55CCAD7AA23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rrecting Comma Splices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كيفية تصحيح الخطأ السابق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ays to fix comma spl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period (.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eople like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s prefer dog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second one was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With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eople like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prefer do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second one was eas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53F9-7456-46A5-A865-229C149D671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mma splice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rammartips.homestead.com/splice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epts.dyc.edu/learningcenter/owl/exercises/comma_splices_ex2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E2C9-B0FD-421C-8BC8-591CB3FC21D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Run-on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rammar.ccc.commnet.edu/Grammar/cgi-shl/quiz.pl/run-ons_add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epts.dyc.edu/learningcenter/owl/exercises/run-ons_ex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BD53-75EC-4584-B057-1D501C5622C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comma spl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and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.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76BA-3EED-4A4F-A780-8C0BC106AD3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8080560" y="2895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comma spl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watch TV, but my childre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like garlic. I don’t like o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like garlic, I don’t like o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watch TV. My childre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2EFF-6F13-46F5-A907-F7D5C98A63A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7166160" y="358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following sentence as either a comma splice, a run-on, or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, and 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 sp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-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27BC-4F00-4404-82A4-8EFCB1B6C53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365560" y="4648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following sentence as either a comma splice, a run-on, or cor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you like to play tennis, would you like to go to the golf cour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 sp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0BCC-EE24-46FE-9675-04FFE51EC34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508560" y="38862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ompound sentences with Conjunctive Adverbs</a:t>
            </a:r>
            <a:br>
              <a:rPr sz="3200"/>
            </a:br>
            <a:r>
              <a:rPr b="0" lang="ar-LB" sz="3200" spc="-1" strike="noStrike">
                <a:solidFill>
                  <a:srgbClr val="376092"/>
                </a:solidFill>
                <a:latin typeface="Calibri"/>
              </a:rPr>
              <a:t>العطف باستخدام ظروف العطف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the following t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BB09-FDD3-4CAF-95BF-21319B9C3ED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3000" y="2133720"/>
          <a:ext cx="6603840" cy="347976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ordinating conjun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حروف العط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Conjunctive 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</a:t>
                      </a:r>
                      <a:r>
                        <a:rPr b="1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ظروف العط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ar-L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furthermore</a:t>
                      </a:r>
                      <a:r>
                        <a:rPr b="0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Mor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n 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How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Neverth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Ther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As a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otherw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Compound sentences with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ordinating Conjunctions 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&amp;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njunctive Adverb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aining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is wearing a raincoa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ainin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as a res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is wearing a rainco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hungr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have time to 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hungr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howeve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don’t have time to 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1D0E-0C0C-4C25-B61A-58F1ABF6E0F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1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: More about the Compound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1D9-82E9-4512-B5AC-B6504430D95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Compound sentences with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ordinating Conjunctions 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&amp;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njunctive Adverb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in additio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to work hard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will get f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to work hard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otherwis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will get f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63C0-61E5-4022-B0DE-38C902D2693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njunctive Adverb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nglishexercises.org/makeagame/viewgame.asp?id=1565#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ebhome.broward.edu/~dshaw/handouts/Pointers%20(Conjunctive%20Adverbs)%20Exercise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E7D5-48D0-404A-B23B-290C33ECCB5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, so,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 so,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 so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, so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F0B2-A754-484A-9D12-192A005EC41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7090200" y="3733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 however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; however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; however,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 however,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358-DB49-4AA7-B344-F2A95E282C0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746800" y="4572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99EB-F101-41EF-83A7-8CE553A4C6D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8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ound sentence: Re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 Spl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nctive Ad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12C2-DD36-4C18-8B62-C37DA74D5AC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ound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ound sentence is two simple sentences connected by a comma and a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entenc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simpl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52C8-3D6D-431D-8E9F-5F760B17E42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962520" y="3733920"/>
            <a:ext cx="9144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172200" y="4800600"/>
            <a:ext cx="27432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Coordinating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7"/>
          <p:cNvCxnSpPr>
            <a:stCxn id="205" idx="3"/>
          </p:cNvCxnSpPr>
          <p:nvPr/>
        </p:nvCxnSpPr>
        <p:spPr>
          <a:xfrm>
            <a:off x="4876920" y="4610160"/>
            <a:ext cx="1296000" cy="41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Straight Arrow Connector 9"/>
          <p:cNvCxnSpPr/>
          <p:nvPr/>
        </p:nvCxnSpPr>
        <p:spPr>
          <a:xfrm flipH="1">
            <a:off x="2590560" y="4190040"/>
            <a:ext cx="762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9" name="Oval 10"/>
          <p:cNvSpPr/>
          <p:nvPr/>
        </p:nvSpPr>
        <p:spPr>
          <a:xfrm>
            <a:off x="1066680" y="4952880"/>
            <a:ext cx="17528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. The sentences can be positive or nega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is a teacher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is sister is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doesn’t like music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opposite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likes ar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BEE-0279-4ADC-9B0D-ACEABA78D79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that express alternatives or cho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Friday, they go to a m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visit som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a </a:t>
            </a: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rea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My friend and his sister work a lot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, s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don’t go out very 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1AE2-12DD-41B1-A298-097C493AF3C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Run-ons</a:t>
            </a:r>
            <a:br>
              <a:rPr sz="2800"/>
            </a:br>
            <a:r>
              <a:rPr b="0" lang="ar-LB" sz="2800" spc="-1" strike="noStrike">
                <a:solidFill>
                  <a:srgbClr val="376092"/>
                </a:solidFill>
                <a:latin typeface="Calibri"/>
              </a:rPr>
              <a:t>أخطاء العطف: جملتان متصلتان دون علامة ترقيم أو حرف عطف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un-on is two simple sentences incorrectly joined with no coordinating conjunction and no com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Francis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orked out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lea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r room.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first test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fficult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second on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sy.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5F67-0E89-407A-A10E-F367B43E324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rrecting run-ons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كيفية تصحيح الخطأ السابق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ways to fix run-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period (.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second one was ea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ith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second one was ea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DB63-21EC-4953-B827-9AB32591F64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run-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and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.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C63B-FBE4-4A32-B44E-FE406B2BB63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928280" y="2362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6:47Z</dcterms:modified>
  <cp:revision>282</cp:revision>
  <dc:subject/>
  <dc:title>Slide 1</dc:title>
</cp:coreProperties>
</file>