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8A66-0698-4AC2-9D66-CD8448AF2C5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E62E-CE91-4DA8-942D-23EF267E7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D60A-E7B8-4D72-8EEE-716E4C424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7BEE-CF3F-4F9E-984A-DD98F8946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-Eg Strategy (De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4B07-E765-4EEE-8196-446257FA6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8DA8-878C-4356-8486-992A2B59A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7A02-E0D3-4D00-8F36-557C9B116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0E93-DC9E-450E-80DC-8E51E7935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A78C-D790-4B7B-8A67-8E485672DD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8185-3B33-4A57-866A-BE4775F074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8D43-1972-4AD5-A736-DF32127D08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C54A-EC1C-4345-ADB2-4F90E53A90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F5EA-15A4-4C4A-9A6A-CC269F6793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8101-A131-4ED7-8F2C-13435BB29F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4AED-BB92-4E3E-B29F-5EC9C29A3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C845-ABF3-46AD-BE40-94152A509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C3DE-CAA5-4DDC-8E19-B6F51C5C2C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D497-0E3D-4D44-90A0-010BDC8637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0287-4DEB-453C-9122-D61B678B41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1372-E714-40CE-9776-678DFAD85D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6ABE-BC22-47AE-AC73-03F7F74824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00D-1818-4CDC-B77D-743AB0D85B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A97-0EC2-4D50-B012-5525C22DDC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709-2394-497A-BD58-7E1A3A7514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10F-CDD3-49E5-8F13-7408DA1C0E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D27-B0AD-4B3E-98D5-E929F7C41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E164-4CC4-4845-B2F6-5AF4275436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A0A-3BC8-42CA-A7C0-A9D9CD7F2D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FB9-4FAC-46CA-9957-B3FA05F8CF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2E5-7AF4-4B9D-91F8-E995DE0D13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1AD-F1E8-4716-BB42-4F30EBC6B3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2BA-1E09-4BED-B785-7118263C43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5B3-96B7-40CB-9AFD-ECC80F7FBB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B63-C132-4CE2-8A93-24E2A75C4A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5C5CE-99D3-459F-A699-60CEE3FF12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BF3DC-9194-4F38-809E-5FCE0A1903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0C8C8-27F0-4FDF-93DA-B671D9591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E9FE-0666-44D5-9676-36452AE5A1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DE6C5-E70E-43E8-B4BA-D4723727E4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FE02D-E9E7-4481-9423-B51894E018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EBBBA-961A-45D8-8F86-8807DED467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A522B-3685-4AC4-B54D-3A7B734E43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A14B5-EF0F-43BD-912C-3E9301BF43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7D2A0-0B48-4DA2-B8CD-8736D147D7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CC54D-6B87-4217-8508-D36DC0E2C1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61A3D-38E6-4538-8A2F-D026DA75F7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565F1-40AE-43B6-A2E5-BFA94CB304E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7B6F1-BAC3-46EE-8C22-E5841A36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F864-FB57-4B3B-A42F-D343121C769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C48485-174C-4412-888D-ED55C408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5B1F4-C93F-4DBC-82A4-62800FF9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E97AB3-5FEA-4AB9-A203-630F440F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C0AFD-3DA6-4FEF-9D4A-09F99F0E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B2521-EEBA-4C32-9093-AFDB8C1D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EF3D5-8F34-441B-8F88-34AB1476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346B6-80C5-4C8D-8621-F4E6E261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96751-970B-4D95-8F90-DB6C2763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5A618-9FDF-4563-90A3-16C74A81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57C2A-3F51-4D84-9202-C450C00B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7892-E025-49F8-A21A-57EE382203E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D96F1B-BBBC-4520-86B3-17509600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89A1E0-C35D-4CE8-BC90-F3891069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CF0DD-CF43-49F8-A52D-EBE5F209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657F5-CC94-49BF-B617-BEC30642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77EB8-A4AB-4CF8-A900-49EE2AA4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DE271B-6A86-4D48-98A2-6606EA6A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7F0D3-6090-4675-AF27-A0486B95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A89F2-78BB-470D-8D93-1CA119E9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B1176-9271-47F1-9925-FDC1BA09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7D1C5-4781-4D57-8CDF-E69B01F9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83F4-9DB7-4FE2-9A9D-1DDF9295998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F7F99-1D59-4E75-854A-8F953D77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9003D-A86A-4ADC-8CBC-234A28EE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2B0F4-E17B-4BBB-9092-D65E4B62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5D67-4B33-4E77-A2AF-B9AA712DB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455C-EAD1-43C9-B5E4-BBA37D7CF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B730-2FC6-4AD7-A5DD-9C5958A9392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B5A2-8B8F-422C-AE34-6A82B3F376E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C9B0-FCCD-401A-82CD-A65FE3B1F63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D04A-F465-4613-B95F-3E73A528BBC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8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5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6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7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9A61-5AAE-4BDF-9B6F-62EC216CB8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3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8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9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0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6654-7343-47AB-B6D1-0599FAF2BF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1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2107-500D-4126-8E62-738A4E01426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90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33FC-417F-4800-A0D8-81904D9595F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43040" y="2362320"/>
            <a:ext cx="553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47680" y="2514600"/>
            <a:ext cx="544824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mouse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und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ings: mouse +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: one i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der is a preposi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603840" y="3505320"/>
            <a:ext cx="255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BD07336_"/>
          <p:cNvPicPr/>
          <p:nvPr/>
        </p:nvPicPr>
        <p:blipFill>
          <a:blip r:embed="rId1"/>
          <a:stretch/>
        </p:blipFill>
        <p:spPr>
          <a:xfrm>
            <a:off x="6356520" y="3809880"/>
            <a:ext cx="2055600" cy="154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HH00865_"/>
          <p:cNvPicPr/>
          <p:nvPr/>
        </p:nvPicPr>
        <p:blipFill>
          <a:blip r:embed="rId2"/>
          <a:stretch/>
        </p:blipFill>
        <p:spPr>
          <a:xfrm>
            <a:off x="5861160" y="2514600"/>
            <a:ext cx="3136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412920" y="2057400"/>
            <a:ext cx="87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 list of the most common prepos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0">
            <a:hlinkClick r:id="rId1" action="ppaction://hlinksldjump"/>
          </p:cNvPr>
          <p:cNvSpPr/>
          <p:nvPr/>
        </p:nvSpPr>
        <p:spPr>
          <a:xfrm>
            <a:off x="9282240" y="5746680"/>
            <a:ext cx="185760" cy="370080"/>
          </a:xfrm>
          <a:custGeom>
            <a:avLst/>
            <a:gdLst>
              <a:gd name="textAreaLeft" fmla="*/ 11880 w 185760"/>
              <a:gd name="textAreaRight" fmla="*/ 173880 w 185760"/>
              <a:gd name="textAreaTop" fmla="*/ 11880 h 370080"/>
              <a:gd name="textAreaBottom" fmla="*/ 358200 h 370080"/>
            </a:gdLst>
            <a:ahLst/>
            <a:rect l="textAreaLeft" t="textAreaTop" r="textAreaRight" b="textAreaBottom"/>
            <a:pathLst>
              <a:path w="21600" h="42991">
                <a:moveTo>
                  <a:pt x="0" y="0"/>
                </a:moveTo>
                <a:lnTo>
                  <a:pt x="21600" y="0"/>
                </a:lnTo>
                <a:lnTo>
                  <a:pt x="21600" y="42991"/>
                </a:lnTo>
                <a:lnTo>
                  <a:pt x="0" y="42991"/>
                </a:lnTo>
                <a:close/>
              </a:path>
              <a:path fill="lightenLess" w="21600" h="42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91">
                <a:moveTo>
                  <a:pt x="21600" y="0"/>
                </a:moveTo>
                <a:lnTo>
                  <a:pt x="21600" y="42991"/>
                </a:lnTo>
                <a:lnTo>
                  <a:pt x="20200" y="41591"/>
                </a:lnTo>
                <a:lnTo>
                  <a:pt x="20200" y="1400"/>
                </a:lnTo>
                <a:close/>
              </a:path>
              <a:path fill="darkenLess" w="21600" h="42991">
                <a:moveTo>
                  <a:pt x="21600" y="42991"/>
                </a:moveTo>
                <a:lnTo>
                  <a:pt x="0" y="42991"/>
                </a:lnTo>
                <a:lnTo>
                  <a:pt x="1400" y="41591"/>
                </a:lnTo>
                <a:lnTo>
                  <a:pt x="20200" y="41591"/>
                </a:lnTo>
                <a:close/>
              </a:path>
              <a:path fill="lighten" w="21600" h="42991">
                <a:moveTo>
                  <a:pt x="0" y="42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91"/>
                </a:lnTo>
                <a:close/>
              </a:path>
              <a:path fill="darken" w="21600" h="42991">
                <a:moveTo>
                  <a:pt x="3794" y="14489"/>
                </a:moveTo>
                <a:lnTo>
                  <a:pt x="17806" y="21496"/>
                </a:lnTo>
                <a:lnTo>
                  <a:pt x="3794" y="28502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2514600"/>
          <a:ext cx="7429320" cy="358128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  <a:gridCol w="928800"/>
                <a:gridCol w="928440"/>
                <a:gridCol w="928800"/>
                <a:gridCol w="928800"/>
                <a:gridCol w="928440"/>
                <a:gridCol w="928800"/>
              </a:tblGrid>
              <a:tr h="70956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 (exce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ro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w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ain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334" name="Picture 12" descr="MCj02869460000[1]"/>
          <p:cNvPicPr/>
          <p:nvPr/>
        </p:nvPicPr>
        <p:blipFill>
          <a:blip r:embed="rId1"/>
          <a:stretch/>
        </p:blipFill>
        <p:spPr>
          <a:xfrm>
            <a:off x="7264440" y="1981080"/>
            <a:ext cx="2363760" cy="21672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907920" y="2209680"/>
            <a:ext cx="767736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izza in the oven is mi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>
            <a:hlinkClick r:id="rId2" action="ppaction://hlinksldjump"/>
          </p:cNvPr>
          <p:cNvSpPr/>
          <p:nvPr/>
        </p:nvSpPr>
        <p:spPr>
          <a:xfrm>
            <a:off x="74304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806560" y="4419720"/>
            <a:ext cx="16513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478800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676908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4" descr="MCj01981640000[1]"/>
          <p:cNvPicPr/>
          <p:nvPr/>
        </p:nvPicPr>
        <p:blipFill>
          <a:blip r:embed="rId3"/>
          <a:stretch/>
        </p:blipFill>
        <p:spPr>
          <a:xfrm rot="20387400">
            <a:off x="247680" y="2438280"/>
            <a:ext cx="18986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247680" y="2133720"/>
            <a:ext cx="75121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irl by the door is my sist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07316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97180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95288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693432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4" descr="MCPE05891_0000[1]"/>
          <p:cNvPicPr/>
          <p:nvPr/>
        </p:nvPicPr>
        <p:blipFill>
          <a:blip r:embed="rId1"/>
          <a:stretch/>
        </p:blipFill>
        <p:spPr>
          <a:xfrm>
            <a:off x="7346880" y="2057400"/>
            <a:ext cx="19605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74304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412920" y="2209680"/>
            <a:ext cx="75117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runners raced around the track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07316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97180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495288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693432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RUNNERS5"/>
          <p:cNvPicPr/>
          <p:nvPr/>
        </p:nvPicPr>
        <p:blipFill>
          <a:blip r:embed="rId1"/>
          <a:stretch/>
        </p:blipFill>
        <p:spPr>
          <a:xfrm>
            <a:off x="7512120" y="1905120"/>
            <a:ext cx="191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743040" y="2286000"/>
            <a:ext cx="8172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look again at the sentences you practiced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zz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ven is 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oor is my si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nners raced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898640" y="1981080"/>
            <a:ext cx="610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825480" y="4114800"/>
            <a:ext cx="8089920" cy="12366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se are prepositional phrases. Prepositional phrases start with a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preposi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end with the </a:t>
            </a:r>
            <a:r>
              <a:rPr b="0" lang="en-US" sz="2500" spc="-1" strike="noStrike">
                <a:solidFill>
                  <a:srgbClr val="009900"/>
                </a:solidFill>
                <a:latin typeface="Arial"/>
              </a:rPr>
              <a:t>object of a preposi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743040" y="2057400"/>
            <a:ext cx="8420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repositional phr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chose a book from the lib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2889360" y="380988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se a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2889360" y="464832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 from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889360" y="548640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from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MCj00889800000[1]"/>
          <p:cNvPicPr/>
          <p:nvPr/>
        </p:nvPicPr>
        <p:blipFill>
          <a:blip r:embed="rId1"/>
          <a:stretch/>
        </p:blipFill>
        <p:spPr>
          <a:xfrm>
            <a:off x="7429680" y="1905120"/>
            <a:ext cx="193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prepositional ph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sat with my m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2889360" y="380988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a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889360" y="464832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2889360" y="548640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with my 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0" descr="MCj02899660000[1]"/>
          <p:cNvPicPr/>
          <p:nvPr/>
        </p:nvPicPr>
        <p:blipFill>
          <a:blip r:embed="rId1"/>
          <a:stretch/>
        </p:blipFill>
        <p:spPr>
          <a:xfrm>
            <a:off x="5861160" y="2133720"/>
            <a:ext cx="31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write longer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bought a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my cla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ught a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my cla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ught a book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bout flow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C1D9-77F3-49CA-9AC3-915179D3177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3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Building Sentences: Prepositional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1A09-0D66-468C-A957-EE9A1A5A046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the English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bout prepositions in the English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0031-56C7-4F4E-9975-DD879A1B6A2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epositional phrases of place</a:t>
            </a:r>
            <a:br>
              <a:rPr sz="4400"/>
            </a:b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الجار والمجرور للدلالة على المكان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epositional phrases of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o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 the des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oom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cross from the bathroo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ry’s bedro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like to si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on the chai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next to the wind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lothe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n the bag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under the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7EA3-2621-4DC0-BE1F-AE9242E95BD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epositional phrases of time</a:t>
            </a:r>
            <a:br>
              <a:rPr sz="4400"/>
            </a:b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الجار والمجرور للدلالة على الزمان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positional phrases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w my friend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before the t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play tenn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fter 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sually have a big breakfa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in the mor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ther came back from Mecc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t mid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D236-999F-4DD5-B452-039C8F61C6A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 presentat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lideshare.net/diana.koscik/prepositional-phrases-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C1F0-91A5-4688-9479-53808F70139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66A5-9E2B-4CA2-88F1-3A1FD884E89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390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uilding a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Prepositional Ph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7B2B-238E-48F7-A29B-7A3DCC7BA43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بناء الجمل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uilding a sentenc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ntence is a group of words which starts with a capital letter and ends with a full stop (.), question mark (?) or exclamation mark (!). A sentence contains or implies a predicate and a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4512-E1E8-4E83-8541-DEED55D4962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s can conta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s 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فاع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objects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مفعول به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bject in a sentence is generally the person or thing carrying out an action.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The o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sentence is involved in an action but does not carry it out, the object comes after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verb</a:t>
            </a:r>
            <a:r>
              <a:rPr b="0" lang="ar-LB" sz="3200" spc="-1" strike="noStrike">
                <a:solidFill>
                  <a:srgbClr val="00b0f0"/>
                </a:solidFill>
                <a:latin typeface="Calibri"/>
              </a:rPr>
              <a:t>الفعل</a:t>
            </a:r>
            <a:r>
              <a:rPr b="0" lang="ar-LB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boy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limbed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 tre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371C-C32F-4A25-A39B-4ECD6667E2C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say more about the subject (the boy) or the object (the tree), you can add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jective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نعت، صفة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: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ou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oy climbe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say more about how he climbed the tree you can use an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dverb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ظرف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: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ou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oy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quick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imbe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4C1B-0DC8-4F27-8DFE-B10CD93CE35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ntence becomes more interesting as it gives the reader or listener more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a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repositional phrase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جار ومجر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 The young boy quickly climbed a tall tre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the gard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81CB-6D97-47C9-8DFB-8BC4FD2419D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1"/>
          <p:cNvSpPr/>
          <p:nvPr/>
        </p:nvSpPr>
        <p:spPr>
          <a:xfrm>
            <a:off x="1073160" y="1940040"/>
            <a:ext cx="8089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position is a part of speech that shows a relationship between two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tion (on, under, in)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مكان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(before, after, during)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زمان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ion (from, toward, to)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اتجاه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5842080" y="51116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Text Box 1027"/>
          <p:cNvSpPr/>
          <p:nvPr/>
        </p:nvSpPr>
        <p:spPr>
          <a:xfrm>
            <a:off x="577800" y="2286000"/>
            <a:ext cx="5200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28"/>
          <p:cNvSpPr/>
          <p:nvPr/>
        </p:nvSpPr>
        <p:spPr>
          <a:xfrm>
            <a:off x="141120" y="2514600"/>
            <a:ext cx="60026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mouse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ings: mouse +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: one i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 is a preposi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29"/>
          <p:cNvSpPr/>
          <p:nvPr/>
        </p:nvSpPr>
        <p:spPr>
          <a:xfrm>
            <a:off x="5943600" y="3581280"/>
            <a:ext cx="2146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30"/>
          <p:cNvGrpSpPr/>
          <p:nvPr/>
        </p:nvGrpSpPr>
        <p:grpSpPr>
          <a:xfrm>
            <a:off x="6108840" y="2590920"/>
            <a:ext cx="2310840" cy="2625120"/>
            <a:chOff x="6108840" y="2590920"/>
            <a:chExt cx="2310840" cy="2625120"/>
          </a:xfrm>
        </p:grpSpPr>
        <p:pic>
          <p:nvPicPr>
            <p:cNvPr id="321" name="Picture 1031" descr="HH00865_"/>
            <p:cNvPicPr/>
            <p:nvPr/>
          </p:nvPicPr>
          <p:blipFill>
            <a:blip r:embed="rId1"/>
            <a:stretch/>
          </p:blipFill>
          <p:spPr>
            <a:xfrm>
              <a:off x="6191280" y="3200040"/>
              <a:ext cx="2228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032" descr="BD07336_"/>
            <p:cNvPicPr/>
            <p:nvPr/>
          </p:nvPicPr>
          <p:blipFill>
            <a:blip r:embed="rId2"/>
            <a:stretch/>
          </p:blipFill>
          <p:spPr>
            <a:xfrm>
              <a:off x="6108840" y="2590920"/>
              <a:ext cx="1972080" cy="147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5:02Z</dcterms:modified>
  <cp:revision>284</cp:revision>
  <dc:subject/>
  <dc:title>Slide 1</dc:title>
</cp:coreProperties>
</file>