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B69-CC1F-473F-AD71-227709F2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27E-EF19-4B29-AF58-7E142F69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2F0-612B-4E86-B684-DAAEB40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446-2E5E-47EA-8DF4-D3DBFC2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C7B3-8B14-4E66-B646-28DDAC42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9E6-5137-4F2C-9E73-E4D58296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579C-CD62-4224-9413-7D84D582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73FE-AE0A-46E2-88CE-B779CCD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5B1-097A-4954-98CB-121E119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E112-0F6D-4E93-B2FA-9111B59D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DB98-45F7-4DDC-AB7B-5CE6803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BC8-D9BF-4C03-A4A7-E8A3DBBC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1B1-12D4-4898-B4C5-A9AE18A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E8B-A1E9-4528-8A1E-56A493C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B2E-EBA0-4B7A-8DAF-B31C003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E6B-D160-4167-A6AB-03C5AC5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CC8-5742-4FF6-89E8-D05A3608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E73-D6A7-47BD-8167-E20BDFF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A04-B281-47E9-8B70-0D38CE08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21A-E847-4145-BACE-1D2A8F7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F5B-7F94-41DB-8B85-5D85600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075-CAEF-4160-93B9-BD204E9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801-22E1-49AF-95F6-5C0213D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791-C5BB-4F28-8383-FAC1E5A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120A-72C9-4729-904C-D5F2EB60D2E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C76-0CB6-4E0F-9BDC-F2DAAF46F40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and Web P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B83-2916-46C2-B80E-C416926605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676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76440" y="4267080"/>
            <a:ext cx="54482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2CA-2AD3-46CE-8711-DA4B26166F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can contain other types of media besides text and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embedded in a page using an IMG tag (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mg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&lt;h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re is no closing tag so it ends with a s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G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RC specifies the location of the im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T specifies alternate text that is displayed if the image fails to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4381560" cy="218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355284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968-E692-4624-AC30-062CEB6C7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lists organize item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l&gt;…&lt;/u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unordered list;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ol&gt;…&lt;/o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ordered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li&gt;…&lt;/l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list i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287352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4276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47A-E2FB-4BBE-B5A1-5265A90F6A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tyle attribute can be used to format the list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3097080"/>
            <a:ext cx="5105520" cy="35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4099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902-91E8-45EB-92B1-A2ACB79E7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aligned into rows and columns using a TABLE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he tab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a row within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able data within a row (i.e., a column ent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0080" y="2666880"/>
            <a:ext cx="52484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987800"/>
            <a:ext cx="4114800" cy="17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0ED-8407-4B63-BAB6-E9A7E9134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with Bord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rders can be added to tables using the border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eric value assigned to the attribute specifies thic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503856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4599000"/>
            <a:ext cx="4838760" cy="20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FBF-30EC-47D6-B252-D85D453AC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for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167652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bles are commonly used to align elements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an image is aligned to the left of som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77224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5448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958-C5DA-49D3-8EBF-6849BA0F8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&amp;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is a text document that contains additional formatting information in the HyperText Markup Language (HTM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ML specifies formatting within a page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its simplest form, a tag is a word or symbol surrounded by brackets (&lt;&gt;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52C-0458-49FB-90DA-FE455AD7D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Ta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d tags in a Web p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entire HTML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information that the browser uses to control the look of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can contain a title for the browser window, 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ODY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the text that will appear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29280" y="4267080"/>
            <a:ext cx="46861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486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2AB-7EA3-4A70-B756-2124F375C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El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gs and the text they enclose form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TITL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HEAD element (which contains a nested TITLE el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148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HTML elements have opening and closing tags, but no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!-- demo1.html    Dave Reed --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COMMENT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ment is ignored by the browser (it does not appear in the rendered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used by the page developer to document page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3EF-C8CA-4EF5-ADCB-397FBCCAD4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Layo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e space (extra spaces, tabs and blank lines) are ignored by th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llows the browser to adjust the text to the windo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ontrol some of the text layout using HTM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RAGRAPH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p&gt;…&lt;/p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specifies text surrounded by blank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REAK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auses text to be displayed on a new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amp;nbsp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ymbol forces a space to appear in th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4087800"/>
            <a:ext cx="4267440" cy="182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6280" y="3429000"/>
            <a:ext cx="4095720" cy="31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077-9D77-4125-88A8-CA92F2DC4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large document, it is useful to divide the text into sections and then provide each with a heading describing the content that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1&gt; … &lt;/h1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top-level heading (large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2&gt; … &lt;/h2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sub-heading (slightly smaller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6&gt; … &lt;/h6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smallest sub-h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HORIZONTAL-RULE element </a:t>
            </a: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&lt;hr /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raws a dividing lin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headings and other elements are left-justifie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hange the alignment of an element by adding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ttribu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qualifies the appearance of th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h1 style="text-align:center"&gt; Centered Heading 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p style="text-align:right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is paragraph is right justified. Each line will be shif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o line up at the right marg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811-F2CD-4408-9AC8-F491C01F9B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 element groups multiple elements, so can be formatt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53200" y="2514600"/>
            <a:ext cx="3638520" cy="322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958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B60-E17A-46FB-AD0D-E59468848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nt Format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formatted in a variety of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ld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&gt; … &lt;/b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italics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&gt; … &lt;/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underlined 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&gt; … &lt;/u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red text is enclosed in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pan style="color:????"&gt; … &lt;/sp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olors can be used (e.g., red, green, orange, light blue, 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560052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125880"/>
            <a:ext cx="386712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14C-1E48-46C6-9A7D-58EBCE7B4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per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or jus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a connection to another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a link appears as underlined text in the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on the link, the corresponding page is retrieved and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link is specified using ANCHOR tags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that appears within the tags is displayed as the link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st have an HREF attribute that specifies the associated We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http://www.creighton.edu"&gt;Creighton University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personal.html"&gt;Local Page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browser displays links underlined and i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not yet been visited are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previously been visited are 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609-3D0C-469D-B694-B4FBF870F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2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