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BC5-7206-4498-B70C-3A5231F7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125-0BBF-4BF0-A8BF-CED076C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F27-F7A1-421A-8575-2F8E382C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2FE-DB8B-4B65-8E90-1DC838BD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9DF0-2A6C-4552-8BC5-2520A78C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61B8-6645-4465-86D9-D116D0B0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3E18-C09D-4FB3-A44B-FA05622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FD2-8F26-4066-A1E3-7874F23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7D05-5CE9-463A-AD90-0CFB0B6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73F-1227-4669-AE59-3E7187D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3FB2-F3A4-4D89-A052-B972810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9B5-1772-4A3F-A99F-27C52889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F0DA-BD9E-4C18-8C88-30DB71E9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AFA-18D9-4B9D-A4CB-BBD5203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D528-80E6-4956-B087-911C62D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A10-B33D-49ED-ACFF-D1AB240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3B00-BC4A-442C-9B07-E9E36AC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2A1-1899-464E-AB6B-04E1AED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9DC-8D4D-40D5-919C-9F49DF1F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478-AD01-4ABE-B5F0-B176118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65B-86C3-4337-B49B-D04037A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1A8-B195-4B28-A19E-EAC02D0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109-FDF9-431B-AD0C-A0D4E19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EB1-7B3D-45E5-AE51-991069D3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CA8-38DA-456B-A3B9-89757E6FF21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38F4-00AD-4B08-BC3B-C9518E09D32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r>
              <a:rPr b="0" lang="en-US" sz="3400" spc="-1" strike="noStrike">
                <a:solidFill>
                  <a:srgbClr val="ff9900"/>
                </a:solidFill>
                <a:latin typeface="Tw Cen MT Condensed Extra Bold"/>
              </a:rPr>
              <a:t> </a:t>
            </a: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 and the W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41CF-5B07-4BC3-8E26-90AE24BA37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cket Switch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packet-switching network, messages to be sent over the network are first broken into small piece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packets are sent independently to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DA3-5E54-4697-89B7-60A52CFEDD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dvantages of Packe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ding information in smaller units increases the efficient use of conne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messages can't monopolize the conn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limiting call lengths at a pay phone to limit wai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tting packets independently allows the network to react to failures or network cong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uters (special-purpose computers that direct the flow of messages) can recognize failures or congestion and reroute the packet around trouble ar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king the message into packets can improve reli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the packets are transmitted independently, it is likely that at least part of the message will arrive (even if some failures occur within the networ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at the destination can recognize which packets are missing and request retransmis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46F-0F0C-4708-9FE7-C3D2AD850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tocols and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allows different types of computers from around the world to commun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possible because the computing community agreed upon commo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sets of rules that describe how communication takes plac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wo central protocols that control Internet communication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mission Control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Protoco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protocols rely on each computer having a unique identifier (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P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y: street address + zip code provide unique address for your house/d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sing this address, anyone in the world can send you a l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P address is a number, written as a dotted sequence such as 147.134.2.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computer is assigned an IP address by its Internet Service Provider (IS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ISPs (e.g., AOL, most colleges) maintain a pool of IP addresses and assign them dynamically to computers each time they 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CA6-1ABC-45F6-8F8F-E8F45A273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CP/IP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 Control Protocol (TC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s the method by which messages are broken down into packets and then reassembled when they reach their final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Protocol (I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cerned with labeling the packets for delivery and controlling the packets’ paths from sender to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962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8B9-23C4-4222-BFA2-DEDF1C9C6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outers and D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relies on special purpose computers in the net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ou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puters that receive packets, access the routing information, and pass the packets on toward their de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omain name server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computers that store mappings between domain names and IP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omain nam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hierarchical names for computers (e.g., bluejay.creighton.edu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y are much easier to remember and type than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main name servers translate the names into their corresponding IP addre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896000" cy="28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B4C-5111-4F75-852B-2D0AE8BD0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th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multimedia environment in which documents can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mlessly linked over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osed by Tim Berners-Lee at the European Laboratory for Particle Physics (CERN) in 198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to facilitate sharing information among researchers located all over Europe and using different types of computer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276720"/>
            <a:ext cx="3581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rners-Lee's design of the Web integrated two key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(documents with interlinked text and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b pages can contain images and links to 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stributed nature of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ges can be stored on machines all across the Internet, known as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eb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ical connections between pages are independent of physical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3733920"/>
            <a:ext cx="4338720" cy="20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166-A9C1-44F9-8F86-1558DC111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Timelin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0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produced working prototypes of a Web server and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1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rners-Lee made his software available for free over the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3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arc Andreesen and Eric Bina of the University of Illinois’ National Center for Supercomputing Association (NCSA), wrote the first graphical browser:  Mosa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-282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aic integrated text, image &amp; links, made browsing more intui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19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4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reesen founded Netscape, which marketed the Netscape Naviga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5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icrosoft released Internet Explor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browser wars begin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999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net Explorer becomes the most popular browser (~90% of market in 2002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2006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ozilla Firefox (Netscape descendent) grows in popularity, IE share drops to 8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329000"/>
            <a:ext cx="3657600" cy="13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2005, Google indexed more than 8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ources estimated more than 25 billion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809880" cy="2658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6156360"/>
            <a:ext cx="3352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436-0D44-4B53-A973-6F953CC183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ow the Web 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Internet communications, the Web relies on protocols to ensure that pages are accessible to any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Markup Language (HTML) defines the form of Web page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yperText Transfer Protocol (HTTP) defines how messages exchanged between browsers and servers are format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 a URL specifies that the HTTP protocol is to be used in communicating with the serv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efix is NOT used for local file access since no server communication is necess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91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fficiency reasons, browsers will sometime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ch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ages/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void redundant downloads, the browser will store a copy of a page/image on the hard drive (along with a time st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xt time the page/image is requested, it will first check the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a copy is found, it sends a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dition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quest to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sentially: "send this page/image only if it has been changed since the timestamp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server copy has not changed, the server sends back a brief message and the browser simply uses the cached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37B-594E-4A0B-8B6F-60C09E4C0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Inter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traces its roots back to the early 1960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T professor J.C.R. Licklider published a series of articles describing a “Galactic Network” of communicating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2, Licklider became head of computer research at the U.S. Department of Defense’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anced Research Project Agency (AR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67, Licklider hired Larry Roberts to design and implement his vision of a Galactic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384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(precursor to the Internet) became a reality in 19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nected computers at four universities: UCLA, UCSB, SRI, and Ut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employed dedicated cables, buried under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ata transfer rate was 56K bits/sec, roughly the same as dial-up services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RPANet demonstrated that researchers at different sites could communicate, share data, and run software remo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C0D-2F36-43FE-B3E4-77AEB422F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ARPANet was intended to connect only military installations and universities participating in governme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71, 18 sites were connected; most used Interface Message Processors (IMPs) which allowed up to 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tes labeled with a T utilized Terminal Interface Processors (TIPs), which allowed up to 64 terminal connections at the si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9720" y="3325680"/>
            <a:ext cx="5200560" cy="29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94E-6009-4D0C-802C-BBD519E7C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PA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1980, close to 100 sites were connected to the ARPA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tellite connections provided links to select cities outside the continental U.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495520"/>
            <a:ext cx="69343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C9B-9AB8-43BA-8C4B-E39290421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SFNe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80s, the ARPANet experienced an astounding growth spu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 such as email, newsgroups, and remote logins were attractive to all colleges and univers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1984, the ARPANet encompassed more than 1,000 si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ommodate further growth, the National Science Foundation (NSF) became involved with the ARPANet in 198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SF funded the construction of high-speed transmission lines that would form the backbone of the expanding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805200"/>
            <a:ext cx="4343400" cy="27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552-F814-496D-B698-5192C1A4B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"Internet"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“Internet” was coined in recognition of the similarities between the NSFNet and the interstate highway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ckbone connections provided fast communications between principal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inter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nected to the backbone were slower transmission lines that linked secondary destination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state highw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connections were required to reach individual computers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ous to city and neighborhood roa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gnizing that continued growth would require significant funding and research, the government decided in the mid 90s to privatize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of the network’s hardware was turned over to telecommunications companies and research organizations (e.g., AT&amp;T, Verizon, Qwest, Spri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arch and design are administered b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net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7315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Al Gore did not INVENT the Internet,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nor did he ever claim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he sponsored legislation in the late 1980s to support growth and expan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CAA-B2FB-49BF-90DE-4CCFAB80C8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Socie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ociety is an international nonprofit organization (founded in 1992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aintains and enforces standards, ensuring that all computers on the Internet are able to communicate with each 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also organizes committees that propose and approve new Internet-related technologies and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3243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98F-4626-4169-8FA7-2F3DE688E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Grow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til recently, the Internet more than doubled in size every 1 or 2 yea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 has this trend slowed?  will it continu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22760" cy="4353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91320" y="61722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F0A-1E28-42E0-B352-5ED1E66DD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ribute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sign of the ARPANet was influenced by the ideas of Paul Baran, a researcher at the RAND Instit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an proposed 2 key ideas: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stributed networ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cket-switc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ARPANet was funded by the Dept of Defense for commun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such, it needed to be resistant to attack or mechanical fail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0C0-CF05-4307-8C71-C3935815B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5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