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BFD-3AAC-4252-BEEC-3D7D7A67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451-4840-4347-B007-08665032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72DA-9378-41E8-9179-F1FEBE8B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47C-979A-48DB-9C5B-8FCD5657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9EE6-058A-4CBF-BA3F-B073E01C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C736-0D5B-4D9E-8FB7-1DF5119F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75E0-866C-499C-8E20-6842BF5A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9CEB-61B5-47C1-9F1F-29D2633A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E4F1-634F-45E9-B603-C267A92B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260E-570F-4F46-956B-3041F3B4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EAF2-D7C1-4C42-A874-3E1B3CFC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2E0A-2751-4EE5-B6A6-C8FC8CE0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1161-4A9E-4759-AAC8-C489EF2A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8E9E-1104-4B27-80AF-92B695E7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3890-E8DB-4C33-83D1-4F4E3E3D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6B91-3D1E-4AF6-8648-37DAE90E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6E99-69AC-4046-81AC-9B7F9042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EF74-3BA2-4509-B3B4-65EC1D1B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40C-13B3-47D2-AD4E-0BD30142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059-1767-4168-A464-587FDD5D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298-B4D8-4757-B6C6-48F06B3D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A5B1-F227-453B-BFF0-74667B3F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CC8-B113-4BC6-89D0-B6CCC04B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012-77A2-43DF-89D1-CD70618C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EDB1-5F62-41AA-AE10-1CA0AA841A55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C921-0AB4-4D13-9D02-C071AE8F3099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pter 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avaScript Numbers and Expres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B6DA-D932-4B65-BD17-BA1BE139B4F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version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74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 that the prompt has a default value of 3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657600" y="1295280"/>
            <a:ext cx="4952880" cy="2421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657600" y="3809880"/>
            <a:ext cx="4952880" cy="24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20C-7232-4C54-95D8-BDC5081CE7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mon Patter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tasks that we will consider have the same basic for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mpt the user for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re them in variab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form some calculation(s) using those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play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 surprisingly, there is a pattern to the co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script type="text/javascript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1 = prompt("PROMPT MESSAGE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1 = parseFloat(number1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2 = prompt("PROMPT MESSAGE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2 = parseFloat(number2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N = prompt("PROMPT MESSAGE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N = parseFloat(numberN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answer = SOME EXPRESSION INVOLVING number1, …, numberN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MESSAGE INVOLVING answer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4F4-9CA1-4788-A837-F78BF914F7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edefined Func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provides an extensive library of predefined mathematical fun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h.sqr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urns the square root of a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h.sqrt(9)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urns the maximum of two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h.max(3.2, 1.8)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3880" y="3211560"/>
            <a:ext cx="5943600" cy="326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344-E404-4623-9BDE-38FE626974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ster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668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could be modified to test a variety of fun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6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ange the function call in the p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6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6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ter various inputs and observe the corresponding outpu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352680" y="1355760"/>
            <a:ext cx="4876920" cy="2378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4876920" cy="237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195-E4DA-4243-8527-AC8FDE2204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ther Useful Func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th.pow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ises a number to a pow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pow(2, 10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urier New"/>
              </a:rPr>
              <a:t>1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 102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pow(2, -1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urier New"/>
              </a:rPr>
              <a:t>-1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 0.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pow(9, 0.5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urier New"/>
              </a:rPr>
              <a:t>0.5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 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505320"/>
            <a:ext cx="8229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th.rando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tes a random number in the range [0…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this function has no inputs; it returns a different number each 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random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0.330085256267488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random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0.2133359558239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random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0.89750017377582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B26-FC69-4602-AEC0-90D7FED541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rrors and Debugg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computer jargon, the term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ug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fers to an error in a progra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rocess of systematically locating and fixing errors i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ebugg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ree types of errors can occu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yntax erro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ypographic err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omitting a quote or misspelling a function na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the browser catches these, they are usually "easy" to identify and fi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un-time erro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ccur when operations are applied to illegal 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attempting to multiply a string or divide by z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so caught by the browser, which either produces an error message or else returns a special value (string multiplication produce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aN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for 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 a Numbe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"; division by zero produce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finity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gic erro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laws in the design or implementation of a progr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ever your program produces the wrong res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they are not caught by the browser (the program is legal, just not what you wanted), logic errors are hardest to identif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4864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ful technique for identifying bugs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agnostic write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various intervals in the code, write out the values of key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can then isolate at what point the program is going w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A56-3820-436F-97B9-1A25ED0B71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 Typ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ch unit of information processed by a computer belongs to a general category or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ata typ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string, number, Boolean (either true or fals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ch data type is associated with a specific set of predefined operators that may be used by programmers to manipulate values of that typ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we have seen string concatenation via 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ly, standard operators are predefined for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 (+), subtraction (-), multiplication (*), division (/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ables can be assigned various kinds of numerical values, including mathematical expressions formed by applying operators to numb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n expression appears on the right-hand side, the expression is evaluated and the resulting value is assigned to the variable on the left-hand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ord = "howdy" + " doo";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"howdy doo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50/4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4952880"/>
            <a:ext cx="1219320" cy="45720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5867280"/>
            <a:ext cx="1219320" cy="45720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4839-FA81-45FF-B943-DE3680C06B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ariables and Express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ilarly, expressions can appear in write stat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parentheses can be used to make sub-expression grouping explic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cument.write(3 + 7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rit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cument.write("The sum of is " + (3 + 7)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rit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The sum is 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657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a variable appears in an expression, the value currently assigned to that variable is substitu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3880" y="4495680"/>
            <a:ext cx="5867640" cy="17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9725-10E3-4276-85CB-9B64B729C3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Number Represent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ful facts about JavaScript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improve readability, very large or very small number are displayed in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cientific notation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e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resents the valu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e24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 </a:t>
            </a: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2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0000000000000000000000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971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avaScript stores all numbers in memory cells of a fixed size (64 bi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a result, only a finite number of values can be repres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e308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represented, b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e309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treated a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fi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e-32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represented, b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e-324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treated a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724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ven within the range 1e-323 . . . 1e309, not all numbers can be repres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 that between any two numbers lie infinitely more number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avaScript can represent approximately 17 significant dig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.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.9999999999999999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represented exac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.99999999999999999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rounded up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2A39-7F9B-48AF-961B-E68B0A9606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ixed Express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JavaScript, the + operator serves two purpo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pplied to numbers, + means add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pplied to strings, + means concate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about a mixed expression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743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applied to a string and a numb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ber is converted to a string (effectively, by placing quotes around it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 string concatenation is perfor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4267080"/>
            <a:ext cx="3962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expressions involving + are evaluated left-to-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can have consequences in the way mixed expressions are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DVICE: always use parentheses to group nested sub-expre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657600" cy="5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0" y="4343400"/>
            <a:ext cx="4114800" cy="176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56C0-E605-44E2-BBE1-52691FC040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mpting for Numb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cial care must be taken when prompting the user for number val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lways returns a string, even if the user enters only dig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if the user enters 500 at a prompt, then the value "500" is return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myNumber = prompt("Enter a number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One more is " + (myNumber + 1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user entered 12 at the prompt, what would be displayed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4290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message displayed would be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One more is 121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WH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809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2" marL="1051560" indent="-2102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mpt return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12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which is stored i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arenthesized sub-expressi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myNumber + 1)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is evaluated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this is a mixed expression, the number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is converted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1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n concate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result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121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is then concatenated to the end o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One more is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needed is a mechanism for converting strings of digits into nu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"500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00, "1.314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1.314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is accomplished in JavaScript using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B077-DA8F-40B4-9BAD-7F2E3A26E6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unc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mathematics,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 mapping from inputs to a single out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the absolute value function maps one number to anoth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5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, -2.4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2.4, 17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17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ly,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maps strings of digits to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500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00, "1.314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1.314, "0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33720" y="2340000"/>
                <a:ext cx="23619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|</m:t>
                          </m:r>
                          <m:r>
                            <m:t xml:space="preserve">n</m:t>
                          </m:r>
                          <m:r>
                            <m:t xml:space="preserve">|</m:t>
                          </m:r>
                        </m:e>
                        <m:e/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f n </m:t>
                                          </m:r>
                                          <m:r>
                                            <m:t xml:space="preserve">≥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 0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n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f n </m:t>
                                          </m:r>
                                          <m:r>
                                            <m:t xml:space="preserve">&lt;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 0  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457200" y="411480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rom a programmer's view, a function is a "unit of computational abstractio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re is some computation required to calculate the output given the input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JavaScript function encapsulates that computation and hides the 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does not need to know how the function works, only how to apply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ying a function to inputs is known a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alling the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utput of a function call is known as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3293-8038-409C-87B1-54C01E01C6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arseFlo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function call can appear anywhere in a JavaScript expre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expression is evaluated, the return value for that call is substitu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myNumber = prompt("Enter a number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myNumber = parseFloat(myNumber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One more is " + (myNumber + 1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statement prompts the user and stores their input (sa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12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i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statement call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o convert the string to a number 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 and then reassigns that number back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statement uses the number valu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12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o display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One more is 1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4197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, the following is not an error (but probably not what was intend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myNumber = prompt("Enter a number", "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parseFloat(myNumb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One more is " + (myNumber + 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l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returns a number, but nothing is done with that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the only way to change the value of a variable is via an assignment stat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512E-D68D-42ED-A665-5A2B8DAEED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mperature Convers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ollowing page prompts the user for a temperature (in Fahrenheit), stores the input as a number, then converts that temperature to Celsi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705720" cy="400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75D-C3A9-4B7D-B900-9E1C05B94B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3:4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