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9CC-7086-4089-A6F4-AC7C917D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A7C-3A51-46E6-9FB1-B6F53A0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3D9-F17A-430F-A56E-86B3B0D4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646-8FC9-48B3-9EB6-1260EE0B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A0E-06BD-4FF1-988E-6E2CF6F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65E-8DC6-45DD-B962-D39CDFB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21D2-C18E-43BC-88F2-3845E98B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407-8843-4DBC-A24B-82E7C991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441-2FC0-4132-A3F1-D676F1C2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BACF-82A0-4993-9E0E-A18A85C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F722-28BF-4F4E-B090-81EB4F1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96D-2632-4B7B-80C6-1811CD8F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D21-655B-45C9-807B-2BEC677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395-36B2-40B3-9C90-AF6C8CB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F0E-B351-4522-8120-8A914CE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F109-7049-46B8-AA74-62A62CF0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DED-8FC6-4C9E-BB15-BBE456F3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960-A69B-40D3-AECE-DD036D7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530-E29E-4AFD-BC0A-6C1188FD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E40-CD94-4EC0-922F-36F2DC9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DBD-9DC2-4660-A0BF-DCB84BE2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626-1302-4758-B584-D0BD7AB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890-EF08-440E-BDDA-38531E8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F8E-1157-44E7-B69D-9CC5E690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6A8-D0B1-4D37-B93E-CF7955A14C2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005-5766-49C8-80F1-98D0A2E16B6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tionmaster.com/encyclopedia/Image:Grace-Hopp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istory of Compu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7ADA-C6CF-4D62-81E9-456D31F3CF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5410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VLSI came the rise of personal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5 - Bill Gates &amp; Paul Allen founded 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tes wrote a BASIC interpreter for the first PC (Alt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7 - Steve Wozniak &amp; Steve Jobs founded Ap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nt from Jobs' garage to $120 million in sales by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0 - IBM introduced 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licensed the DOS operating system to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4 - Apple countered with Macinto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roduced the modern GUI-based OS (which was mostly developed at Xer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5 - Microsoft countered with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67280" y="1457280"/>
          <a:ext cx="2895840" cy="2691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chest People in the World (Forbes.com, 3/8/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 Gat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6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ren Buff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los Slim Helu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9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var Kampra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3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 Lakshmi Mitta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aul All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7985160" y="605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800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80's - object-oriented programming beg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ed a new approach to program design which views a program as a collection of interacting software objects that model real-world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alltalk (Kay, 1980), C++ (Stroustrup, 1985), Java (Sun, 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254-DF02-4C16-8BC3-374938C7E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5: Parallelism/Network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8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test generation of computers is still hotly deba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new switching technologies, but changes in usage have occur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-end machines (e.g. Web servers) can have multiple CPU'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7, highly parallel Deep Blue beat Kasparov in a chess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3, successor Deep Junior played Kasparov to a dra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352680"/>
            <a:ext cx="5105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computers today are net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to the 1969 ARP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inly used by government &amp; universities until the   late 80s/early 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was invent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igned to allow physics researchers to share data and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popular until 1993 when Marc Andreessen developed a graphical browser (Mos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essen would go on to found Netscape, and Internet Explorer soon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3530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6926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6DF-C170-4F2D-AC6F-308A636CF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4027320"/>
            <a:ext cx="5867640" cy="1839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culating devices have been around for millennia (e.g., abacus ~3,000 B.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"computing technology" traces its roots to the 16-17th centu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"Scientific Revolution", people like Kepler, Galileo, and Newton viewed the natural world as mechanistic and understan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led to technological advances &amp;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415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simple mechanical calculating devices to powerful modern computers, computing technology has evolved through technological breakth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B88-A8FB-47A3-A469-0FE09018F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: Mechanical Compute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50440"/>
            <a:ext cx="8142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642 – Pascal built a mechanical calculating ma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mechanical gears, a hand-crank, dials and kno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similar machines follow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971800"/>
            <a:ext cx="693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05 – the first programmable device was Jacquard's l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m wove tapestries with elaborate, programmable 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ttern was represented by metal punch-cards, fed into the 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the loom, it became possible to mass-produce tapestries, and even reprogram it to produce different patterns simply by changing the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880" y="4724280"/>
            <a:ext cx="79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800's – Babbage designed his "analytical engin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s design expanded upon mechanical calculators, but was programmable via punch-cards (similar to Jacquard's lo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bbage's vision described the general layout of modern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 never completed a functional machine – his design was beyond the technology of the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29560" y="1371600"/>
            <a:ext cx="185724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26360" y="2819520"/>
            <a:ext cx="13762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D11-51FC-4466-B4C2-B6C2AD58F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90 – Hollerith invented tabulating machin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for tabulating 1890 U.S. Census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Jacquard's loom and Babbage's analytical engine, it stored data on punch-cards, and could sort and tabulate using electrical pi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Hollerith's machine, census data was tabulated in 6 weeks (vs. 7 years for the 1880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lerith's company would become IB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591000"/>
            <a:ext cx="57913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30's – several engineers independently built "computers" using electromagnetic re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electromagnetic relay is physical switch, which can be opened/closed via electrical curr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use (Nazi Germany) – his machines were destroyed in WW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anasoff (Iowa State) – built a partially-working machine with his grad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bitz (Bell Labs) – built the MARK I computer that followed the designs of Bab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capabilities by modern standards: could store only 72 numbers, required 1/10 sec to add, 6 sec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, 100 times faster than previous technolog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654360"/>
            <a:ext cx="1863720" cy="24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1600" cy="19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194-0231-4403-954C-23B9C94B9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: Vacuum Tub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40's – vacuum tubes replaced rel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cuum tube is a light bulb containing  a partial vacuum to speed electron 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cuum tubes could control the flow of electricity faster than relays since they had no moving p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Lee de Forest in 19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124080"/>
            <a:ext cx="5322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40's – hybrid computers using vacuum tubes and relays we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LOSSUS (19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"electronic computer", built by the British govt. (based on designs by Alan Tu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to decode Nazi communications during the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was top-secret, so did not influence other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NIAC (19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publicly-acknowledged "electronic computer", built by Eckert &amp; Mauchly (UPe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ined 18,000 vacuum tubes and 1,500 re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ighed 30 tons, consumed 140 k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94040"/>
            <a:ext cx="3047760" cy="237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998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820-955D-4E8F-887A-59C1A3449B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9560" y="2666880"/>
            <a:ext cx="839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n Neumann popularized the idea of a "stored program"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stores both data and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 executes by loading program instructions from memory and executing them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 allow for interaction with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rtually all modern machines follow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9680" indent="-2156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note: same basic design as Babb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SSUS and ENIAC were not general purpose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enter input using dials &amp; knobs, paper t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o perform a different computation, needed to re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08680" y="3809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5105520"/>
            <a:ext cx="839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was still difficult and ted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machine had its own machine language, 0's &amp; 1's corresponding to the settings of physical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's, assembly languages replaced 0's &amp; 1's with mnemonic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6BA-8571-409C-9FE3-F10ED6EA55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2: Transisto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50's – transistors began to replace tub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nsistor is a piece of silicon whose conductivity can be turned on and off using an electric curr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performed the same switching function of vacuum tubes, but were smaller, faster, more reliable, and cheaper to mass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Bardeen, Brattain, &amp; Shockley in 1948 (earning them the 1956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some historians claim the transistor was the most important invention of the 20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962520"/>
            <a:ext cx="762012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became commercial as cost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were designed to make programming more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TRAN (1957, Backus at IB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P (1959, McCarthy at 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SIC (1959, Kemeny at Dartmou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BOL (1960,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urray-Hopper at D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industry grew as businesses could affor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nd use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ckert-Mauchly (1951), DEC (195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BM became market force in 1960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Grace Hopper (January 198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676760"/>
            <a:ext cx="1407960" cy="164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81960" y="1219320"/>
            <a:ext cx="198576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D78-5D10-45C0-BF18-9BB3EED43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3: Integrated Circuit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600" y="1434960"/>
            <a:ext cx="58165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60's - integrated circuits (IC) were p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yce and Kilby independently developed techniques for packaging transistors and circuitry on a silicon chip (Kilby won the 2000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dvance was made possible by miniaturization &amp; improved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ass-producing useful circui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1 – Intel marketed the firs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process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4004, a chip with all the circuitry for a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4880" y="4324320"/>
            <a:ext cx="8251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60's saw the rise of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: an operating system is a collection of programs that manage peripheral devices and other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60's, operating systems enabled time-sharing, where users share a computer by swapping jobs in an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computers became affordable to small businesses, specialized programming languages were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51080" indent="-2160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cal (1971, Wirth),  C (1972, Ritch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190960" cy="14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21862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A5A-90F7-4FB1-91E2-EF603EC47A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 1970's - Very Large Scale Integration (VLS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the late 1970's, manufacturing advances allowed placing hundreds of thousands of transistors w/ circuitry on a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"very large scale integration" resulted in mass-produced microprocessors and other useful IC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omputers could be constructed by simply connecting powerful IC's and peripheral devices, they were easier to make and more affor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35304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641520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Intel Research. “Silicon—Moore’s Law.” Octo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199-7F42-429C-B84F-F603C436DE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