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5B7-6E51-473A-8703-A9C76C5C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E8A-D5F4-42C6-A21A-92486987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7CFE-51A6-4B6B-BF2A-40551F4B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E3A4-9FA6-4BC7-9079-7AD9E322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16FE-6692-41C6-A739-5A71E730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620E-7180-4E7F-B802-91D553E2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546D-5DEA-4839-82ED-795BA061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14B9-5216-45BA-AA52-21BC9F61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DA64-B73D-4738-B221-3188145F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8E3F-F8BA-4728-B668-C1DBF5B0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AD09-6B3F-4719-80F4-97F38B00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4EB-CFFF-4B75-B64E-9AE7EDFF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2A74-948C-4AAB-B781-A200D9B5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38E2-1A35-4253-8D0E-D388EF46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1D9A-4380-43C2-83B0-39723364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1A2A-110B-49CE-A5AB-2D93B25C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EC30-365E-44A3-B7A1-8EE69BF1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848-95A7-4366-884D-02C34B1A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C60-6B89-4AE1-B71D-24DF5979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4263-10F3-4265-9231-03DF7F13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3E7-ED8F-4452-B4CC-3ED39B4B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7C1-94E2-44BD-BBF0-ECA381A8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A91-BA91-45C9-B534-1878209D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5907-032F-4913-BC9F-2D8E083F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DF3D-AA56-4966-A06C-08F4486BC8A5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29A0-95AC-4A82-A238-BE7E643ACDF1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TML and Web Pag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95AA-946E-49A1-A955-440A037A059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yperlink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567684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476440" y="4267080"/>
            <a:ext cx="54482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E22-D544-4140-9854-28BBACD213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m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pages can contain other types of media besides text and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ages are embedded in a page using an IMG tag (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img /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to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br /&gt;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&lt;hr /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re is no closing tag so it ends with a s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G 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RC specifies the location of the im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T specifies alternate text that is displayed if the image fails to 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95680" y="3809880"/>
            <a:ext cx="4381560" cy="2183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3552840" cy="24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81F-6E82-43F9-A856-356C1C9AB7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is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371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ML lists organize items in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ul&gt;…&lt;/ul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n unordered list;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ol&gt;…&lt;/ol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n ordered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li&gt;…&lt;/li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 list it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29200" y="2873520"/>
            <a:ext cx="3962520" cy="2917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427680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436-518C-441B-A37F-C95CF57678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ist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37160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style attribute can be used to format the list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181480" cy="1214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9480" y="3097080"/>
            <a:ext cx="5105520" cy="352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486400" y="3429000"/>
            <a:ext cx="3409920" cy="217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BE14-B082-4AC9-876B-BD6A614C5B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ab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can be aligned into rows and columns using a TABLE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able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table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apsulate the tabl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r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tr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apsulate a row within th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d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td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apsulate table data within a row (i.e., a column entry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00080" y="2666880"/>
            <a:ext cx="5248440" cy="26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505320" y="4987800"/>
            <a:ext cx="4114800" cy="17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F7E-F27C-4D41-9C06-587E16F33E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ables with Bord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371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rders can be added to tables using the border 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eric value assigned to the attribute specifies thickn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5038560" cy="265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00400" y="4599000"/>
            <a:ext cx="4838760" cy="202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6BA-CCC4-4509-8B2E-A7FBA055F8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ables for Alignmen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1676520"/>
            <a:ext cx="2057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bles are commonly used to align elements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an image is aligned to the left of som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772240" cy="307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14600" y="4419720"/>
            <a:ext cx="5448240" cy="206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358-35B5-4949-AC52-EE4CC43ED5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TML &amp; Web P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recall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Web page is a text document that contains additional formatting information in the HyperText Markup Language (HTM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ML specifies formatting within a page using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a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its simplest form, a tag is a word or symbol surrounded by brackets (&lt;&gt;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038560" cy="34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063-E388-4C3D-A2EA-0E5D300FEA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TML Tag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d tags in a Web pag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tml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html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the entire HTML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HEAD section (enclosed between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ead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head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contains information that the browser uses to control the look of the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HEAD can contain a title for the browser window, enclosed between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itle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ODY section (enclosed between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body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body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contains the text that will appear in the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229280" y="4267080"/>
            <a:ext cx="4686120" cy="1933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3486240" cy="19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FC2-BEEA-4211-B867-A1683BB4B0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TML El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gs and the text they enclose form a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itle&gt; Title of the Page &lt;/title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is a TITL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itle&gt; Title of the Page 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a HEAD element (which contains a nested TITLE ele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1148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HTML elements have opening and closing tags, but no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!-- demo1.html    Dave Reed --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is a COMMENT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comment is ignored by the browser (it does not appear in the rendered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ents are used by the page developer to document page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381A-B75F-43A0-BFAE-C523FD70AB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xt Layo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ite space (extra spaces, tabs and blank lines) are ignored by the brow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allows the browser to adjust the text to the window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can control some of the text layout using HTML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ARAGRAPH element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p&gt;…&lt;/p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specifies text surrounded by blank 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REAK element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br /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causes text to be displayed on a new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amp;nbsp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ymbol forces a space to appear in th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4087800"/>
            <a:ext cx="4267440" cy="182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6280" y="3429000"/>
            <a:ext cx="4095720" cy="319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897F-4586-4B6B-9688-2B71F55133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eadings &amp; Alignmen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 large document, it is useful to divide the text into sections and then provide each with a heading describing the content that fo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1&gt; … &lt;/h1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 top-level heading (large and bo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2&gt; … &lt;/h2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 sub-heading (slightly smaller and bo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6&gt; … &lt;/h6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the smallest sub-he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HORIZONTAL-RULE element </a:t>
            </a:r>
            <a:r>
              <a:rPr b="0" lang="en-US" sz="1600" spc="-1" strike="noStrike">
                <a:solidFill>
                  <a:srgbClr val="0099ff"/>
                </a:solidFill>
                <a:latin typeface="Verdana"/>
              </a:rPr>
              <a:t>&lt;hr /&gt;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raws a dividing line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809880"/>
            <a:ext cx="82296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y default, headings and other elements are left-justified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change the alignment of an element by adding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ttribut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t qualifies the appearance of th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h1 style="text-align:center"&gt; Centered Heading &lt;/h1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p style="text-align:right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This paragraph is right justified. Each line will be shif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to line up at the right marg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5F4-4EB7-4EF4-9283-AE727213F0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eadings &amp; Alignment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371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V element groups multiple elements, so can be formatt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53200" y="2514600"/>
            <a:ext cx="3638520" cy="3225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469584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E909-106A-4E8C-8BFE-CF4EFED301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ont Formatt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can be formatted in a variety of 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old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b&gt; … &lt;/b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, italics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i&gt; … &lt;/i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, underlined 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u&gt; … &lt;/u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lored text is enclosed in </a:t>
            </a: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&lt;span style="color:????"&gt; … &lt;/spa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 colors can be used (e.g., red, green, orange, light blue, dark b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5600520" cy="27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00600" y="3125880"/>
            <a:ext cx="386712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535-FA86-4085-985D-C948905D9E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yperlin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371600"/>
            <a:ext cx="8381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yperlin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or just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in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is a connection to another Web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default, a link appears as underlined text in the p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clicks on the link, the corresponding page is retrieved and displa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link is specified using ANCHOR tags </a:t>
            </a: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&lt;a&gt;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that appears within the tags is displayed as the link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st have an HREF attribute that specifies the associated Web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a href="http://www.creighton.edu"&gt;Creighton University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a href="personal.html"&gt;Local Page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browser displays links underlined and in 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default, links whose pages have not yet been visited are 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default, links whose pages have previously been visited are pur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721-6EB0-40A4-A658-C921B136F1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2:28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