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626-16C3-46AF-91E6-116A438D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E5B-68D4-4BD4-A28D-DAB52F56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8AF-BD74-48EB-9E53-77F4E46C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360-01F3-4BE9-B057-8D43A373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6E13-7818-4ED5-A0CE-70AE040A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1FA8-77A4-44CE-B645-ADEDED73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D750-3CAD-4265-A938-193B00A3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50D9-C766-4B76-800F-680A7036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D242-26EB-43DF-87BD-DB873D1B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759F-6A60-46DF-BC26-50929E8A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B237-F50E-4710-B416-D9655FF8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F08-9710-460D-9457-9D290059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5279-2360-473B-88A6-692FAD5D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BD0D-167D-4844-B765-589EEF68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AF8B-24B0-4CAB-ACBD-6883B3AC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7798-CF90-4BE9-AA4A-69719371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55F8-6BE5-4043-AE56-97D9D300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67B-5A75-4B51-A3F7-3D022AFA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0C5-2B8F-4210-88BD-65D4F1A1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EFF-E564-4449-8653-E2926010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C7F-2FC6-4886-BAFD-81BDF92B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8B9-4DEC-4391-99E6-17CF305E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1C2-8156-45CE-85D7-25F4983D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EDE-55E4-4E7D-A950-991FAF4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B748-31F0-4F43-BF80-784E0A19F51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0948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C5B8-FB64-437A-ABF0-08B19FAADCE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Bas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3D80-01DA-4583-803F-0C6D9A9905B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mory capacity is usually specified in by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collection of 8 bits – so can represent a range of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256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collections of bytes can be specified using prefi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2513160"/>
            <a:ext cx="6543720" cy="1144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4237200"/>
            <a:ext cx="82296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 byte is sufficient to represent a single character, can think of memory in terms of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kilobyte can store a few paragraphs (roughly 1 thousand character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gabyte can store a book (roughly 1 million charac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gigabyte can store a small library (roughly 1 billion charac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erabyte can store a book repository (roughly 1 trillion charac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A41-CFDA-42D2-92E1-806DC88B55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computers use a combination of memory types, each with its own performance and cost characteristic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in 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or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imary 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is fast and expens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is stored as electric signals in circuitry, used to store active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is volatile – data is lost when the computer is turned of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Random Access Memory (RAM), cach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condary 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slower but cheap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different technologies (magnetic signals on hard disk, reflective spots on C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is permanent – useful for storing long-term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hard disk, floppy disk, compact disk (CD), flash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674352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899-BFEB-44E4-B0D7-46328A2AEE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-end computers tend to hav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re main memory to allow for quick access to more data and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re secondary memory to allow for storing more long-term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3048120"/>
            <a:ext cx="1389240" cy="1023840"/>
          </a:xfrm>
          <a:prstGeom prst="leftArrow">
            <a:avLst>
              <a:gd name="adj1" fmla="val 50000"/>
              <a:gd name="adj2" fmla="val 339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487656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867-9863-48BB-99CB-A28EF5B6E0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/Output (I/O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put devic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w the computer to receive data and instructions from external 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keyboard, mouse, track pad, microphone,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utput devic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w the computer to display or broadcast its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monitor, speaker, prin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4686480"/>
            <a:ext cx="1198440" cy="952200"/>
          </a:xfrm>
          <a:prstGeom prst="leftArrow">
            <a:avLst>
              <a:gd name="adj1" fmla="val 50000"/>
              <a:gd name="adj2" fmla="val 314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487656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BF0-CEDF-406A-915F-F22360CF4E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oft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hysical components of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rograms that execute on the hard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software program is a sequence of instructions for the computer (more specifically, for the CPU) to carry out in order to complete some tas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ord processing (Microsoft Word, Corel WordPerfec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image processing (Adobe Photoshop, Macromedia Flash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eb browsing (Internet Explorer, Mozilla Firefo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5867280"/>
            <a:ext cx="1371600" cy="6858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780000"/>
            <a:ext cx="3962160" cy="27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011-8FCA-43B5-816F-0D283B6437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perating Syste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O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erating System (OS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a collection of programs that controls how the             CPU, memory, and I/O devices work toge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ontrols how data and instructions are loaded and executed by the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organizes and manages files and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oordinates the CPU, memory, and I/O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modern OS's utilize a Graphical User Interface (GUI) to make interacting with the computer ea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I's utilize windows, icons, menus, and poin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95840" y="3657600"/>
          <a:ext cx="345744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3657600"/>
                    <a:ext cx="345744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961920" y="3657600"/>
          <a:ext cx="3519720" cy="25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1920" y="3657600"/>
                    <a:ext cx="351972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22F-85E9-4D03-AB9B-83F74943F6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Quick Net &amp; Web Overview 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is a vast, international network of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hysical connections between computers vary, but the overall effect is that computers around the world can communicate and share re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net traces its roots back to 1969, when the U.S. government sponsored the first long-distance computer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ing with only 4 computers, the network would eventually evolve into today's Interne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886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orld Wide Web is a collection of software that spans the Internet and enables the interlinking of documents and re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asic idea for the Web was proposed by Tim Berners-Lee in 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s system interlinked documents (including multimedia elements such as images and sound clips)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rough the use of well-defined rules, or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tocol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at define how they are formatted, documents could be shared across networks on various types of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E30-1801-4C49-8AEB-34980BC14B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 ≠ World Wide Web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4308120"/>
            <a:ext cx="807732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could exist without the Web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did, in fact, for many years (applications included email and news group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eb couldn't exist without the Inter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net is the hardware that stores and executes the Web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189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9E3-D710-45B6-8DE8-BDCC1AC96A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iewing a Web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b p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text document that contains additional formatting information in a language called HTML (HyperText Markup Langua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b brows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program that accesses a Web page, interprets its content, and displays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03856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677-C899-465A-8919-DB6B886950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eb Address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b server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an Internet-enabled computer that stores Web pages and executes software for providing access to the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you request a Web page, the browser sends a request over the Internet to the appropriat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erver locates the specified page and sends it back to your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pages require uniform names to locate and identify them unique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page is assigned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Uniform Resource Locator (URL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RL's are commonly referred to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eb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fferent parts of the Web address provide information for locating the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09680" y="4191120"/>
            <a:ext cx="4724640" cy="16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1E8-70E1-49A0-B7DB-024521DBE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at is a Computer?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mput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device that receives, stores, and processes inform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fferent types of computers have different characteristic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uper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owerful but expensive; used for complex computations (e.g., weather forecasting, engineering design and model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esktop 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ess powerful but affordable; used for a variety of user applications (e.g., email, Web browsing, document process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aptop 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ilar functionality to desktops, but mob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almtop 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ortable, but limited applications and screen s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5943600" cy="23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5E0-B150-45BE-83CA-74B38746A4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iewing Local Web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Web browser can be used to view pages stored on the sam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go through the File menu to select the local page, 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nter the File location in the address box (without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efi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feature is handy when developing Web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create a Web page and view it in the browser before uploading to a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5257800" cy="29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05B-175B-43F2-BB18-D71E878D9A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sktop Specifica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3716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 a computer can be conf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les materials contain highly technical information and computer jarg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specs describe two computer systems for sale in January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ktop 1 is a low-end system, inexpensive but with limited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ktop 2 is a high-end system, uses the latest technology so expens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876920" cy="34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98C-BDEB-453C-8D94-13F893FF08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ardware vs. Soft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hard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hysical components of a computer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monitor, keyboard, mouse, hard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soft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rograms that execute on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ord processing program, Web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3352680"/>
            <a:ext cx="152280" cy="2286000"/>
          </a:xfrm>
          <a:custGeom>
            <a:avLst/>
            <a:gdLst>
              <a:gd name="textAreaLeft" fmla="*/ 0 w 152280"/>
              <a:gd name="textAreaRight" fmla="*/ 5508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4267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57913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581976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487692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911-A87B-4326-990B-206F1A9BA3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Desktop Hard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66"/>
          <a:stretch/>
        </p:blipFill>
        <p:spPr>
          <a:xfrm>
            <a:off x="1447920" y="1447920"/>
            <a:ext cx="6352920" cy="47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A86-9864-40AD-9042-08466E6ED6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on Neumann Architectu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7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hough specific components may vary, virtually all modern computers have the same underlying stru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nown as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med after computer pioneer, John von Neumann, who popularized the design in the early 1950'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von Neumann architecture identifies 3 essential compon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put/Output Devices (I/O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llow the user to interact with the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mor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tores information to be processed as well as programs (instructions specifying the steps necessary to complete specific task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ral Processing Unit (CP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rries out the instructions to process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4390920"/>
            <a:ext cx="585792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6E7-7692-4494-9EE8-07F09B582E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entral Processing Unit (CPU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is the "brains" of the computer, responsible for controlling its inner work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de of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ircuitry –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lectronic components wired together to control the flow of electrical sign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ircuitry is embedded in a small silicon chip, 1-2 inches squ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pite its small size, the CPU is the most complex part of a comput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CPU circuitry can have 100's of millions of individual component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ercial examples: Intel Core 2 Duo, AMD Athlon, Motorola PowerPC G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9200" y="3913200"/>
            <a:ext cx="2514600" cy="225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52480" y="3809880"/>
            <a:ext cx="293868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ACE-D7E3-4433-8B85-92A5EAAE1B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works by repeatedly fetching a program instruction from memory and executing that i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vidual instructions are very simple (e.g., add two numbers, or copy this da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lex behavior results from incredible spe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2.53 GHz Celeron D processor can execute 2.53 billion instructions per seco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2.93 GHz Core 2 Duo processor can execute 2.93 billion instructions per seco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3200400"/>
            <a:ext cx="1371600" cy="4572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487656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70C-2B40-4A21-A5A1-9403C057C8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the part of the compu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t stores data and progr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computers ar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git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vices, meaning they store and process informatio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nary digi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(bi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s are commonly represented as either 0 or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s are the building block of digital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grouping bits together, large ranges of values can be represen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3664080"/>
            <a:ext cx="8305560" cy="243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775-0AA9-46C2-B2B0-348D26143C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1:5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