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20C-511A-4140-8094-4F75404D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E51-76EA-403B-A473-0E9E5564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FCC-6A84-4DF6-B13B-E0643FC2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12A-8021-4178-A85E-5A0206EF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C238-4F44-4712-8304-41D0FB01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7696-F568-4A28-AF23-9D7615F1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E279-F8F5-49B6-914E-68E87D1E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DAB-082C-4827-9636-63ABB39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00B6-B0ED-4642-A295-EFEF326A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AE8B-A39D-4C18-8A42-1A1E689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84EA-280A-4FE1-AE91-813DBBD3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BC0-C764-443B-BAB6-FB1DFC33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8CF-7E84-43D9-8947-CA52BAB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6F2-D45D-41A4-A6EE-DAFD11E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C5E4-84E1-46B5-881E-8590260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8D86-0757-4456-9C1B-63897F13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92A-1E0F-4A3F-8462-1A33E1A6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6F5-47A9-4A65-9A3C-C9CD24E6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40F-CE22-4382-B6E2-A73A89A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ABB-5669-4BE5-AAC6-B82EC85B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B5B-EF67-4034-B488-DC39D135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DF4-BA6C-4BBA-8CE8-ABDBF84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EED-3188-4A7C-8EE4-CD4C89DD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11F-C0CB-464C-A465-B17D9F8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D2FB-478B-4CB6-B7A7-883CFFD8089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094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BA9-4AF0-45D1-8E8A-C5BEAA76DE3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Bas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AE5-5C64-444E-9B4C-9B38F6CCC4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ory capacity is usually specified in by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collection of 8 bits – so can represent a range of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56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collections of bytes can be specified using prefi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513160"/>
            <a:ext cx="6543720" cy="1144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423720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byte is sufficient to represent a single character, can think of memory in terms of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kilobyte can store a few paragraphs (roughly 1 thousand character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gabyte can store a book (roughly 1 m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igabyte can store a small library (roughly 1 b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rabyte can store a book repository (roughly 1 trillion charac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672-32CE-4422-99BE-CD18BDFDD4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use a combination of memory types, each with its own performance and cost characterist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in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im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is fast and expensi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is stored as electric signals in circuitry, used to store active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volatile – data is lost when the computer is turned of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Random Access Memory (RAM), cac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condary 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slower but cheap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different technologies (magnetic signals on hard disk, reflective spots on C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is permanent – useful for storing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hard disk, floppy disk, compact disk (CD), flash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67435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AAD-E5A7-4F3F-80F8-FAA75387E9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-end computers tend to hav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main memory to allow for quick access to more data and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re secondary memory to allow for storing more long-term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37E-B0EC-41CD-8E63-F0F2643B4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(I/O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receive data and instructions from external 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keyboard, mouse, track pad, microphone, sc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utput devic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the computer to display or broadcast its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s: monitor, speaker, pri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798-8B94-437E-89E6-233F04D3C2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hard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oftware program is a sequence of instructions for the computer (more specifically, for the CPU) to carry out in order to complete some ta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(Microsoft Word, Corel WordPerfec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mage processing (Adobe Photoshop, Macromedia Flash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b browsing (Internet Explorer, Mozilla Firefo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5867280"/>
            <a:ext cx="1371600" cy="6858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780000"/>
            <a:ext cx="3962160" cy="27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599-9AD1-4C80-A008-286832CEE5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ating System (OS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 collection of programs that controls how the             CPU, memory, and I/O devices work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ntrols how data and instructions are loaded and executed by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rganizes and manages files and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oordinates the CPU, memory, and I/O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modern OS's utilize a Graphical User Interface (GUI) to make interacting with the computer ea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I's utilize windows, icons, menus, and poin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95840" y="3657600"/>
          <a:ext cx="345744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3657600"/>
                    <a:ext cx="345744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61920" y="3657600"/>
          <a:ext cx="3519720" cy="25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1920" y="3657600"/>
                    <a:ext cx="351972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410-B689-4E11-893F-3D452FDA0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Quick Net &amp; Web Overview 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is a vast, international network of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hysical connections between computers vary, but the overall effect is that computers around the world can communicate and share re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back to 1969, when the U.S. government sponsored the first long-distance computer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ing with only 4 computers, the network would eventually evolve into today's Interne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886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orld Wide Web is a collection of software that spans the Internet and enables the interlinking of documents and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asic idea for the Web was propos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s system interlinked documents (including multimedia elements such as images and sound clips)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ough the use of well-defined rules, 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toco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at define how they are formatted, documents could be shared across networks on various types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47A-D16A-429C-81D8-B294D03B07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 ≠ World Wide Web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4308120"/>
            <a:ext cx="807732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ternet could exist without the Web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did, in fact, for many years (applications included email and news group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couldn't exist without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is the hardware that stores and executes the Web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189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1A3-D5A1-4955-9D98-922C281183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a Web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p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text document that contains additional formatting information in a language called HTML (HyperText Markup Langu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brows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program that accesses a Web page, interprets its content, and displays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385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DE9-44B1-4DC7-852F-6FCD185E7B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eb Address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b server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an Internet-enabled computer that stores Web pages and executes software for providing access to the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quest a Web page, the browser sends a request over the Internet to the appropriat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erver locates the specified page and sends it back to your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pages require uniform names to locate and identify them uniqu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page is assign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niform Resource Locator (URL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RL's are commonly referred to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fferent parts of the Web address provide information for locating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09680" y="4191120"/>
            <a:ext cx="4724640" cy="16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89A-3552-45A3-989B-BACC1E4532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at is a Computer?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device that receives, stores, and processes inform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 types of computers have different characterist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uper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werful but expensive; used for complex computations (e.g., weather forecasting, engineering design and model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sk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ess powerful but affordable; used for a variety of user applications (e.g., email, Web browsing, document process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p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ilar functionality to desktops, but mob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lmtop compute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ortable, but limited applications and screen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42A-F036-4242-88A6-E00045665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iewing Local Web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eb browser can be used to view pages stored on the sam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go through the File menu to select the local page, 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nter the File location in the address box (withou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ef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feature is handy when developing Web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create a Web page and view it in the browser before uploading to a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257800" cy="29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69E-2427-4842-B118-D86423FC33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ktop Specifica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 computer can be conf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les materials contain highly technical information and computer jarg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specs describe two computer systems for sale in January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1 is a low-end system, inexpensive but with limited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ktop 2 is a high-end system, uses the latest technology so expens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0FC-C53D-4DCC-B378-AED50A8B9C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 vs. 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onitor, keyboard, mouse, hard dr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, Web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487692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890-30D7-4D0F-9CED-F570BF781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Desktop 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F82-BFB8-4C21-9C59-12C2C7B22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on Neumann 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hough specific components may vary, virtually all modern computers have the same underlying stru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med after computer pioneer, John von Neumann, who popularized the design in the early 1950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von Neumann architecture identifies 3 essential compon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put/Output Devices (I/O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ow the user to interact with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ores information to be processed as well as programs (instructions specifying the steps necessary to complete specific task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2664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rries out the instructions to process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4390920"/>
            <a:ext cx="58579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0B1-EFD2-49ED-A20F-AD03228BA2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entral Processing Unit (CPU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the "brains" of the computer, responsible for controlling its inne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de o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ry –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lectronic components wired together to control the flow of electrical sig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ircuitry is embedded in a small silicon chip, 1-2 inches squ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pite its small size, the CPU is the most complex part of a comput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PU circuitry can have 100's of millions of individual compon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rcial examples: Intel Core 2 Duo, AMD Athlon, Motorola PowerPC G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3913200"/>
            <a:ext cx="2514600" cy="225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52480" y="3809880"/>
            <a:ext cx="29386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E18-D657-43CC-B161-AEE26AA93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works by repeatedly fetching a program instruction from memory and executing tha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al instructions are very simple (e.g., add two numbers, or copy this da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behavior results from incredible sp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53 GHz Celeron D processor can execute 2.5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2.93 GHz Core 2 Duo processor can execute 2.93 billion instructions per seco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0040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87656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81D-789F-4B68-BBB5-C1D7FBF13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the part of the compu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stores data and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ar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vices, meaning they store and process informatio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dig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(bi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commonly represented as either 0 or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s are the building block of digital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grouping bits together, large ranges of values can be represen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3664080"/>
            <a:ext cx="8305560" cy="243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D59-BF38-4AF8-BDD0-20FE84139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1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