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977-C740-4BF0-ACA3-FED79D13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CFE-87C7-421D-8805-6D7FAB40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40A-95BC-4442-92D3-5B59E333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5D0-7B40-4E05-9BD4-6C8A5088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6A1-9641-4B40-A31B-D10F2E26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CA78-12C0-4D9D-88E9-F93FAA30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EF91-8B3A-4138-ACB1-2F8CFB5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5D8A-52F7-413C-8D3D-0F5190D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C9E7-DB69-498D-A90F-8E781ACC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5D17-5E99-433D-B52C-7FC37C63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826-406D-4980-8978-0D41BAB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3CE-036B-43B8-BAB9-D81271B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1D95-7468-4B78-A96F-7F14C60F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2A7C-FAF4-45AC-B371-A0F0590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D24B-1B75-489F-8B83-E019B13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6F1B-2477-4F22-AA5D-FB8EE137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A4FC-3ABC-453A-B6F3-B6436373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369-2C5B-4EFF-9F28-F8F48D8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6EC-F8A8-429C-BF28-0C33A99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EDD-8F9E-4299-B2E0-4589D9CA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965-429A-40B0-85A1-3B0A0204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0D9-0710-414E-AAFD-3479A16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F0C-86A5-48C9-BCCE-E04D46B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C21-FC67-47AD-BC9F-C4EB05D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D6D-F8BE-41B6-969B-1B68967874C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606-20D4-43BE-ACE9-D9EFEC8F7AF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nd Dynamic Web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FD96-CE39-406B-8750-B7DBCAEE4A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yntax Erro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rror in the format of an HTML or JavaScript statements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yntax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syntax errors are ignored by the brows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sspelling an HTML tag na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JavaScript syntax errors will generate an error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is example is illegal since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string is broken across line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unterminated string lite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The value of x is " 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ields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rror: missing ) after argument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CC5-CB2F-45BD-89D5-A3F55F2A72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JavaScript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variable name can be any sequence of letters, digits, and underscores (but must start with a let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id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tempInFahr   SUM   current_age   Sum2Date  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alid: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2hotforU   salary$   two words   "sum_to_date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names are case sensitive, so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treated as different variab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71560" y="3809880"/>
            <a:ext cx="56199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944-8D51-4599-978D-B18A249476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&amp; Memory Cel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keep track of the values that variables represent by associating each variable with a specific piece of memory,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JavaScript assignment is execute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entered by the user (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Dave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is stored in a memory cell associated with the variab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rst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future reference to the variable name evaluates to the value stored in its associated memory ce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1049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395-B3B4-4469-8E21-9B00B6590D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ce you create a variable, you can repeatedly assign values to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y the most recent value is retained 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 to prompt the user for two different fo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only one food is needed at a time, we can reuse the same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172200" cy="31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794-12A9-4EAB-9A86-AE0785387B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54200"/>
            <a:ext cx="24386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favorite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2048040"/>
            <a:ext cx="469584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29000" y="4417920"/>
            <a:ext cx="4686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0C9-0606-406F-8A15-9404E00F8F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using Variabl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food = prompt("What is your least favorite food?", 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Your least favorite food is " + food + "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54200"/>
            <a:ext cx="2438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econd pair of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ores the user's least favorite food (overwriting the old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s that food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4552920" cy="2220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EC3-4911-416A-B791-EE731A4335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mpts with Defaul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prompts have been of the for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 it makes sense to provide default values for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a string literal instead of "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string will appear in the prompt box when it app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wants to accept the default value, can just click 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11480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suppose we wanted to create a page that displays a verse of the children's song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ld MacDonald had a F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age should be able to display any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ccomplish this by prompting the user for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pecify default values so that it is easy to display a common 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animal = prompt("Enter a kind of animal:", "co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sound = prompt("What kind of sound does it make?", "mo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BC8-CD77-4E8A-B002-8121A1B6EB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prompts the user for the animal and sound ("cow" and "moo", by default), then displays a verse using those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br /&gt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gs are embedded to break the output onto separate l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40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E7D-7356-4DA2-8E54-A55F8B6CB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fault values automatically appear in the prompt box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click OK to accept the defa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176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ype new values into the promp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029200" cy="24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502920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437-A8A1-4114-8513-ED496EEA5E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ld MacDonald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714760"/>
            <a:ext cx="5800680" cy="37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52680" y="1379520"/>
            <a:ext cx="5295960" cy="25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767-222A-4920-848C-90CFA119D9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atic vs. Dynamic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eb page uses HTML tags to identify page content and formatting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can produce onl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atic p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c pages look the same and behave in the same manner each time they are loaded into a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98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1995, researchers at Netscape developed JavaScript, a language for creating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ynamic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pages with JavaScript can change their appearan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er time (e.g., a different image each time that a page is loaded),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sponse to a user’s actions (e.g., typing, mouse clicks, and other input meth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904-5C7A-460A-9B77-49E6EF27B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izing Chan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we have used variables to store values read in via promp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common use is to store values used repeatedly in a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we wanted to change the spelling of the refrain in Old MacDonal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"E-I-E-I-O"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"Eeyigh-Eeyigh-Oh"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is, would need to find and update all occurrences in the 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1240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could use a variable to store the ref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-I-E-I-O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w, to update the value in the entire verse, simply must change the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= "Eeyigh-Eeyigh-Oh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&lt;p&gt;Old MacDonald had a farm, " + 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document.write("And on that farm he had a " + animal + ", "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refrain + ".&lt;br /&gt;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99ff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390-C0CD-4CE1-A9ED-2B71C38052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ming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ing language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a language for specifying instructions that a computer can 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a programming language specifies a particular action that the computer is to carry o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changing an image or opening a window when a button is click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rogramming languages are gener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pular languages include C++, Java, J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was defined for a specific purpose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dding dynamic content to Web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add JavaScript statements to a Web page using the HTML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Courier New"/>
              </a:rPr>
              <a:t>&lt;script type="text/javascript"&gt; . . . 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rowser displays the page, any statements inside the SCRIPT tags are executed and the result is dis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E6A-FBC7-4627-AAD2-29BA2E23F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Dynami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low is a simple Web page with dynamic cont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ynamic content can be mixed with static HTML cont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demonstrates two types of JavaScript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asks the user for input and stores that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tatement that writes text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3316320"/>
            <a:ext cx="6172200" cy="32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A98-5C0D-451F-B95E-71AB1DE7CD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assignment statement involv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parate window is opened with a text box for the user to ent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is done typing, he/she can click on the OK butt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firstName = prompt("Please enter your nam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OK is clicked, the text entered is assigned to 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name used to symbolize a dynam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sed to store the text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492444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66B-90B9-4266-809B-AF379F9BE8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ment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n assignment statement using a promp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VARIABLE = prompt("PROMPT MESSAGE", "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riable name can vary depending on the task at h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is used to store the user's first name, s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meaningful 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mpt message that appears in the window can likewise ch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"Please enter your name" tells the user what is exp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48120" cy="236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349-C801-4480-8090-EB8D45A99D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 write statement is executed by the brow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essage specified in the statement is written into the HTML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can inclu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literal – text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combination of strings and variables, connected via '+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document.write("&lt;p&gt;Hello " + firstName +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, welcome to my Web page.&lt;/p&gt;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variable is encountered, the browser substitutes the value currently assigned to that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1C8-E07D-47E4-AF52-7A6AA7712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rite Statement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eneral form of a write statement 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MESSAGE TO BE DISPLAYED " + VARIABL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 MORE MESSAGE" + ..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the statement can be broken across lines, as long as no string literal is split (i.e., the beginning and ending quotes of a string must be on same lin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ieces of the message are displayed in sequence, with no spaces in betw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spaces, you have to enter them in the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4610160" cy="22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981-BC7A-4017-A3C7-33C89B8D6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ormatte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output produced by a write statement is embedded 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displays this output just as it does any other te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xt contains HTML tags, the browser will interpret the tags and format the text according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document.write("&lt;p&gt;Hello &lt;i&gt;" + firstName +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                   </a:t>
            </a:r>
            <a:r>
              <a:rPr b="0" lang="en-US" sz="1600" spc="-1" strike="noStrike">
                <a:solidFill>
                  <a:srgbClr val="0099ff"/>
                </a:solidFill>
                <a:latin typeface="Courier New"/>
              </a:rPr>
              <a:t>"&lt;/i&gt;, welcome to my Web page.&lt;/p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ing the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rstNam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Dave"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would execute the statement to 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Hello &lt;i&gt;Dave&lt;/i&gt;, welcome to my Web page.&lt;/p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would be displayed by the browser 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lo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a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welcome to my Web pag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25B-D10E-4D57-85D8-FC20629CC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2:0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