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0.png" ContentType="image/png"/>
  <Override PartName="/ppt/media/image13.wmf" ContentType="image/x-wmf"/>
  <Override PartName="/ppt/media/image8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8795-D682-4A06-AEB8-5FD87688E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C425-4930-4AF1-86A9-382B7DFE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7A55-FEFF-400A-958B-CEF0519EA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5058-8A40-494B-A1F9-0DC1F61B2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963C-334E-4182-9F79-AF3E73776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BD6F-F730-4584-B113-8C38ABA4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E90A-8F99-4A3E-A1BF-2523E8D1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29A6-4848-4430-A2B5-0A454483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A352-3346-42AE-A04F-FFBEC50C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7CD2-2C63-400E-8BF5-6A5A1E86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B3CC-4870-411F-8FD0-0F5F845F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3736-BFEF-400D-88F1-9E31C9C8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B071-C799-4A4E-976A-A258A600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7B5D-B151-4077-9356-B1EF4916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369C-37D5-4B00-97C5-B5711F62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98F9-8412-438A-87B9-219BA3E4E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3EFF2-42AF-46BE-BD7E-823081480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1E03-53DD-4003-9B0C-6773079A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24C0-F066-42F0-A3E6-6267D6C0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EF08-4B0D-4DB3-8E1E-A3B5DCD0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8EF1-0B4D-4519-8972-23256A8F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6DAA-62E5-446F-9758-4EC2C70B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F475-89F8-4F17-98DA-3DFCA2EF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5B98-C08C-4D3C-953D-99E449BC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E1E3-6CF1-4897-9F97-9DFF55469B61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0948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CB1C-3C57-4319-9F53-1C09886D2B0D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hapter 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uter Basi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1BA9-ED63-4517-8DA0-CFB1C4A68FA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emory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mory capacity is usually specified in by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byt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a collection of 8 bits – so can represent a range of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= 256 valu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rge collections of bytes can be specified using prefix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19320" y="2513160"/>
            <a:ext cx="6543720" cy="1144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57200" y="4237200"/>
            <a:ext cx="8229600" cy="16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nce a byte is sufficient to represent a single character, can think of memory in terms of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kilobyte can store a few paragraphs (roughly 1 thousand character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megabyte can store a book (roughly 1 million characte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gigabyte can store a small library (roughly 1 billion characte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terabyte can store a book repository (roughly 1 trillion characte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1872-18E3-4514-B3D5-1541C584BD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emory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dern computers use a combination of memory types, each with its own performance and cost characteristic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main memor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(or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primary memor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is fast and expensiv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 is stored as electric signals in circuitry, used to store active da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emory is volatile – data is lost when the computer is turned off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amples: Random Access Memory (RAM), cach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econdary memor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s slower but cheap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 different technologies (magnetic signals on hard disk, reflective spots on C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emory is permanent – useful for storing long-term da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amples: hard disk, floppy disk, compact disk (CD), flash driv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19320" y="4191120"/>
            <a:ext cx="6743520" cy="195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4CFE-557F-45D7-8C03-8297C5C98C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emory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igher-end computers tend to hav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re main memory to allow for quick access to more data and progra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re secondary memory to allow for storing more long-term da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553080" y="3048120"/>
            <a:ext cx="1389240" cy="1023840"/>
          </a:xfrm>
          <a:prstGeom prst="leftArrow">
            <a:avLst>
              <a:gd name="adj1" fmla="val 50000"/>
              <a:gd name="adj2" fmla="val 339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4876560" cy="341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1F7D-FBC0-473E-87F1-8ADF574CFF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put/Output (I/O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input devic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llow the computer to receive data and instructions from external sour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amples: keyboard, mouse, track pad, microphone, scann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output devic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llow the computer to display or broadcast its resul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amples: monitor, speaker, prin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6477120" y="4686480"/>
            <a:ext cx="1198440" cy="952200"/>
          </a:xfrm>
          <a:prstGeom prst="leftArrow">
            <a:avLst>
              <a:gd name="adj1" fmla="val 50000"/>
              <a:gd name="adj2" fmla="val 3146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447920" y="3124080"/>
            <a:ext cx="4876560" cy="341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AEE0-C1A8-447A-9C61-64503E28E8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oftwar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: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hard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efers to the physical components of comput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oft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efers to the programs that execute on the hardwa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software program is a sequence of instructions for the computer (more specifically, for the CPU) to carry out in order to complete some tas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word processing (Microsoft Word, Corel WordPerfect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image processing (Adobe Photoshop, Macromedia Flash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Web browsing (Internet Explorer, Mozilla Firefox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6172200" y="5867280"/>
            <a:ext cx="1371600" cy="6858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780000"/>
            <a:ext cx="3962160" cy="277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17DE-7327-4DB2-A4A5-4281481D9F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Operating System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O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perating System (OS)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s a collection of programs that controls how the             CPU, memory, and I/O devices work togeth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controls how data and instructions are loaded and executed by the CP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organizes and manages files and director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coordinates the CPU, memory, and I/O de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st modern OS's utilize a Graphical User Interface (GUI) to make interacting with the computer eas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UI's utilize windows, icons, menus, and point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695840" y="3657600"/>
          <a:ext cx="3457440" cy="26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5840" y="3657600"/>
                    <a:ext cx="3457440" cy="26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961920" y="3657600"/>
          <a:ext cx="3519720" cy="25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61920" y="3657600"/>
                    <a:ext cx="3519720" cy="25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D76F-9551-4967-8C70-634AFE70EB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Quick Net &amp; Web Overview 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ternet is a vast, international network of comput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physical connections between computers vary, but the overall effect is that computers around the world can communicate and share resour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ternet traces its roots back to 1969, when the U.S. government sponsored the first long-distance computer net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rting with only 4 computers, the network would eventually evolve into today's Internet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38862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World Wide Web is a collection of software that spans the Internet and enables the interlinking of documents and resour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basic idea for the Web was proposed by Tim Berners-Lee in 19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is system interlinked documents (including multimedia elements such as images and sound clips) over the 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rough the use of well-defined rules, or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rotocol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that define how they are formatted, documents could be shared across networks on various types of compu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8BE7-BAD3-4D39-B77B-3BFE61190E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 ≠ World Wide Web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120" y="4308120"/>
            <a:ext cx="807732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ternet could exist without the Web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d did, in fact, for many years (applications included email and news group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Web couldn't exist without the Interne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ternet is the hardware that stores and executes the Web softw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189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146D-104C-4B80-AC40-35DA7B290E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Viewing a Web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Web pa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s a text document that contains additional formatting information in a language called HTML (HyperText Markup Languag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Web browse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s a program that accesses a Web page, interprets its content, and displays the pa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057400" y="2819520"/>
            <a:ext cx="5038560" cy="346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D0F9-2C53-4201-A11E-FE1CF09BB15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Web Address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Web server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s an Internet-enabled computer that stores Web pages and executes software for providing access to the pag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you request a Web page, the browser sends a request over the Internet to the appropriate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erver locates the specified page and sends it back to your compu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b pages require uniform names to locate and identify them uniquel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ach page is assigned 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Uniform Resource Locator (URL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RL's are commonly referred to as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Web address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ifferent parts of the Web address provide information for locating the p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09680" y="4191120"/>
            <a:ext cx="4724640" cy="169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E98A-DE8B-4311-BC48-2D61DB9920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What is a Computer?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mpute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s a device that receives, stores, and processes informatio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fferent types of computers have different characteristic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upercomputers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powerful but expensive; used for complex computations (e.g., weather forecasting, engineering design and modeling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desktop computers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less powerful but affordable; used for a variety of user applications (e.g., email, Web browsing, document processing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laptop computers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similar functionality to desktops, but mobi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almtop computers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portable, but limited applications and screen siz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76520" y="4038480"/>
            <a:ext cx="5943600" cy="238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4005-EF87-4F15-B4FB-AE52B37E54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Viewing Local Web Pag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Web browser can be used to view pages stored on the same compu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go through the File menu to select the local page, 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enter the File location in the address box (without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prefix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feature is handy when developing Web pag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create a Web page and view it in the browser before uploading to a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133720" y="3276720"/>
            <a:ext cx="5257800" cy="299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98BD-0996-4C39-8DCE-86876564BE7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esktop Specification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371600"/>
            <a:ext cx="8229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urchasing a computer can be confu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les materials contain highly technical information and computer jarg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following specs describe two computer systems for sale in January,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sktop 1 is a low-end system, inexpensive but with limited fea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sktop 2 is a high-end system, uses the latest technology so expens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057400" y="3124080"/>
            <a:ext cx="4876920" cy="341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0439-700C-4560-85D9-6FB0B36CF5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Hardware vs. Softwar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term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hard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efers to the physical components of a computer syste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monitor, keyboard, mouse, hard driv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term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soft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efers to the programs that execute on the compu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word processing program, Web brows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3352680"/>
            <a:ext cx="152280" cy="2286000"/>
          </a:xfrm>
          <a:custGeom>
            <a:avLst/>
            <a:gdLst>
              <a:gd name="textAreaLeft" fmla="*/ 0 w 152280"/>
              <a:gd name="textAreaRight" fmla="*/ 55080 w 1522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77120" y="4267080"/>
            <a:ext cx="190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rdware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579132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77120" y="5819760"/>
            <a:ext cx="190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ftware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371600" y="3124080"/>
            <a:ext cx="4876920" cy="341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727E-C2E7-4DE6-A1D1-32C705B988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mmon Desktop Hardwar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66"/>
          <a:stretch/>
        </p:blipFill>
        <p:spPr>
          <a:xfrm>
            <a:off x="1447920" y="1447920"/>
            <a:ext cx="6352920" cy="475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A1DD-6665-4D62-B00F-7C21F5CE88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von Neumann Architectur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7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though specific components may vary, virtually all modern computers have the same underlying structu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2664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known as the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von Neumann architectur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2664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amed after computer pioneer, John von Neumann, who popularized the design in the early 1950'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von Neumann architecture identifies 3 essential compon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2664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Input/Output Devices (I/O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llow the user to interact with the compu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2664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Memor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stores information to be processed as well as programs (instructions specifying the steps necessary to complete specific task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2664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entral Processing Unit (CPU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arries out the instructions to process 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600200" y="4390920"/>
            <a:ext cx="585792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109E-B5F3-4810-A3B6-F7F270E826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entral Processing Unit (CPU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CPU is the "brains" of the computer, responsible for controlling its inner work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de of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ircuitry –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electronic components wired together to control the flow of electrical signa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ircuitry is embedded in a small silicon chip, 1-2 inches squ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spite its small size, the CPU is the most complex part of a computer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CPU circuitry can have 100's of millions of individual component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mercial examples: Intel Core 2 Duo, AMD Athlon, Motorola PowerPC G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29200" y="3913200"/>
            <a:ext cx="2514600" cy="2259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752480" y="3809880"/>
            <a:ext cx="2938680" cy="227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C1D6-E120-42D4-A213-9F208F9E76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PU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0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CPU works by repeatedly fetching a program instruction from memory and executing that instr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dividual instructions are very simple (e.g., add two numbers, or copy this dat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lex behavior results from incredible spe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2.53 GHz Celeron D processor can execute 2.53 billion instructions per seco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2.93 GHz Core 2 Duo processor can execute 2.93 billion instructions per seco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6400800" y="3200400"/>
            <a:ext cx="1371600" cy="457200"/>
          </a:xfrm>
          <a:prstGeom prst="leftArrow">
            <a:avLst>
              <a:gd name="adj1" fmla="val 50000"/>
              <a:gd name="adj2" fmla="val 7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447920" y="3124080"/>
            <a:ext cx="4876560" cy="341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2E08-6777-4EFD-A091-FA67550B59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emor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memor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s the part of the comput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at stores data and progra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dern computers are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igital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devices, meaning they store and process information as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binary digit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(bit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its are commonly represented as either 0 or 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its are the building block of digital 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grouping bits together, large ranges of values can be represent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3520" y="3664080"/>
            <a:ext cx="8305560" cy="243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49C8-1590-400C-A737-D3075DB92E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01:5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