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7B7-EBA4-474E-962B-BF6071E8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8D1-29CD-468B-88FC-B06A4551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DF4-1F67-4153-B038-CFAE5D74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B45-1E8F-4BE1-9B7B-62CFA4F5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CB15-BAC9-4ACD-A3FE-B0B45A5D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36B4-379B-4202-BD70-314B2675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2891-75C1-4F9A-A0A6-3C0C88B3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50C2-EA0E-47DD-A9E5-FE88474C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4569-0542-42F4-8D44-904213E2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8A38-BF23-401A-9DE1-4F1CB4CA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6321-855D-464F-A9E1-2EB55931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412-AECA-469E-9EC6-C977E745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BFFF-E468-4FCB-81FF-78FC3956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8DB3-A4C1-4F38-87F1-74D0897E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BC41-A5A3-420D-982D-6F2373A3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53AF-BCCA-424C-AA67-B0696D94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5611-5C6E-4414-ACB6-B26771A2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FCB-4CE4-468C-8821-3BF88C4E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99B-206B-4382-A0D8-2648814C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FE5-D8B7-4E45-98CF-6C19C768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8BB-4CA7-4569-97C4-3AAB918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166-4D41-40C0-ABE8-DBF96562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E3A-C2B1-4642-A51D-CB24FF9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856-62F3-46A5-A9FB-8BE12D31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DED7-40AD-4FC9-82C3-E55709A8D708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3616-1278-4228-B3B0-D8B96797553A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r>
              <a:rPr b="0" lang="en-US" sz="3400" spc="-1" strike="noStrike">
                <a:solidFill>
                  <a:srgbClr val="ff9900"/>
                </a:solidFill>
                <a:latin typeface="Tw Cen MT Condensed Extra Bold"/>
              </a:rPr>
              <a:t> </a:t>
            </a: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ternet and the We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D564-3A64-4364-B55C-FC446BA94A3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acket Switch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 packet-switching network, messages to be sent over the network are first broken into small pieces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cke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packets are sent independently to their final de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391"/>
          <a:stretch/>
        </p:blipFill>
        <p:spPr>
          <a:xfrm>
            <a:off x="1066680" y="2590920"/>
            <a:ext cx="6820200" cy="37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58E-F846-4C1A-B1F8-629AA5A0CC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dvantages of Packe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nding information in smaller units increases the efficient use of conne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ge messages can't monopolize the conn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y: limiting call lengths at a pay phone to limit wai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mitting packets independently allows the network to react to failures or network cong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uters (special-purpose computers that direct the flow of messages) can recognize failures or congestion and reroute the packet around trouble are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eaking the message into packets can improve reli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the packets are transmitted independently, it is likely that at least part of the message will arrive (even if some failures occur within the networ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at the destination can recognize which packets are missing and request retransmis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1B1-2AA8-43B3-9CEF-52FC06EE5C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tocols and Address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allows different types of computers from around the world to communic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possible because the computing community agreed upon commo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tocol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sets of rules that describe how communication takes plac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wo central protocols that control Internet communication ar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ransmission Control Protocol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C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ternet Protocol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812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se protocols rely on each computer having a unique identifier (known as 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P addres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y: street address + zip code provide unique address for your house/d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using this address, anyone in the world can send you a le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P address is a number, written as a dotted sequence such as 147.134.2.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computer is assigned an IP address by its Internet Service Provider (IS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ISPs (e.g., AOL, most colleges) maintain a pool of IP addresses and assign them dynamically to computers each time they 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822-74DC-4EAC-8DC4-FCE11234A5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CP/IP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mission Control Protocol (TC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s the method by which messages are broken down into packets and then reassembled when they reach their final de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Protocol (I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cerned with labeling the packets for delivery and controlling the packets’ paths from sender to recipi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9626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04A-C974-4A4E-9A4B-2DF8B0AA9A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outers and D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relies on special purpose computers in the net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out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omputers that receive packets, access the routing information, and pass the packets on toward their de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omain name server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e computers that store mappings between domain names and IP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omain name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re hierarchical names for computers (e.g., bluejay.creighton.edu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y are much easier to remember and type than IP addre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main name servers translate the names into their corresponding IP addre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3598920"/>
            <a:ext cx="4896000" cy="28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162-1CDF-49B1-8B11-FCCE620D64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story of the Web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orld Wide Web is a multimedia environment in which documents can 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mlessly linked over the Inter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osed by Tim Berners-Lee at the European Laboratory for Particle Physics (CERN) in 198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igned to facilitate sharing information among researchers located all over Europe and using different types of computers and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276720"/>
            <a:ext cx="3581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rners-Lee's design of the Web integrated two key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ypertext (documents with interlinked text and med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b pages can contain images and links to other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stributed nature of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ges can be stored on machines all across the Internet, known as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Web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gical connections between pages are independent of physical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267080" y="3733920"/>
            <a:ext cx="4338720" cy="20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670-4066-446A-A28B-AF387757C5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eb Timelin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0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erners-Lee produced working prototypes of a Web server and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1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erners-Lee made his software available for free over the Intern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3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arc Andreesen and Eric Bina of the University of Illinois’ National Center for Supercomputing Association (NCSA), wrote the first graphical browser:  Mosa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19880" indent="-282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aic integrated text, image &amp; links, made browsing more intui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19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4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reesen founded Netscape, which marketed the Netscape Navigat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5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icrosoft released Internet Explore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browser wars begin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9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net Explorer becomes the most popular browser (~90% of market in 2002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2006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ozilla Firefox (Netscape descendent) grows in popularity, IE share drops to 8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329000"/>
            <a:ext cx="3657600" cy="137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2005, Google indexed more than 8 billion Web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sources estimated more than 25 billion Web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809880" cy="2658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48320" y="6156360"/>
            <a:ext cx="3352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“Internet Domain Survey.” Internet Software Consortium, July 200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Netcraft Web Server Survey.” Netcraft, July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E0F-7D46-4CDE-BB21-D9FA464538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ow the Web Wor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ke Internet communications, the Web relies on protocols to ensure that pages are accessible to any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yperText Markup Language (HTML) defines the form of Web page cont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yperText Transfer Protocol (HTTP) defines how messages exchanged between browsers and servers are format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efix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n a URL specifies that the HTTP protocol is to be used in communicating with the serv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efix is NOT used for local file access since no server communication is necess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1911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fficiency reasons, browsers will sometime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ach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ages/im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avoid redundant downloads, the browser will store a copy of a page/image on the hard drive (along with a time stam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ext time the page/image is requested, it will first check the 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a copy is found, it sends a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ndition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request to th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sentially: "send this page/image only if it has been changed since the timestamp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server copy has not changed, the server sends back a brief message and the browser simply uses the cached 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631-29E3-4E56-AC2F-6464FAFF3B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story of Interne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Internet is a vast, international network of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traces its roots back to the early 1960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T professor J.C.R. Licklider published a series of articles describing a “Galactic Network” of communicating compu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62, Licklider became head of computer research at the U.S. Department of Defense’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dvanced Research Project Agency (AR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67, Licklider hired Larry Roberts to design and implement his vision of a Galactic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0384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ARPANet (precursor to the Internet) became a reality in 19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onnected computers at four universities: UCLA, UCSB, SRI, and Ut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employed dedicated cables, buried under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ata transfer rate was 56K bits/sec, roughly the same as dial-up services to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RPANet demonstrated that researchers at different sites could communicate, share data, and run software remo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86F-189A-43C6-AE50-62FE7E7038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PANe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ARPANet was intended to connect only military installations and universities participating in governme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1971, 18 sites were connected; most used Interface Message Processors (IMPs) which allowed up to 4 terminal connections at the si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tes labeled with a T utilized Terminal Interface Processors (TIPs), which allowed up to 64 terminal connections at the si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9720" y="3325680"/>
            <a:ext cx="5200560" cy="291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E7A-F133-420D-95C7-62306F5926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PANet Grow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1980, close to 100 sites were connected to the ARPA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tellite connections provided links to select cities outside the continental U.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2495520"/>
            <a:ext cx="6934320" cy="40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262-66FD-42FA-90AB-B479462ED1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SFNe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early 1980s, the ARPANet experienced an astounding growth spu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 such as email, newsgroups, and remote logins were attractive to all colleges and univers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1984, the ARPANet encompassed more than 1,000 si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ccommodate further growth, the National Science Foundation (NSF) became involved with the ARPANet in 198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SF funded the construction of high-speed transmission lines that would form the backbone of the expanding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0" y="3805200"/>
            <a:ext cx="4343400" cy="279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FBD-10B1-4754-8516-C79B5D0690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"Internet"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 “Internet” was coined in recognition of the similarities between the NSFNet and the interstate highway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ckbone connections provided fast communications between principal destinations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ous to interstate highw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nected to the backbone were slower transmission lines that linked secondary destinations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ous to state highw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cal connections were required to reach individual computers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ous to city and neighborhood roa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ognizing that continued growth would require significant funding and research, the government decided in the mid 90s to privatize th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 of the network’s hardware was turned over to telecommunications companies and research organizations (e.g., AT&amp;T, Verizon, Qwest, Sprin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search and design are administered by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ternet 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657600"/>
            <a:ext cx="7315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Al Gore did not INVENT the Internet,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nor did he ever claim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he sponsored legislation in the late 1980s to support growth and expand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A91-6F85-48CA-83E1-EA757CFA2A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 Socie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Society is an international nonprofit organization (founded in 1992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maintains and enforces standards, ensuring that all computers on the Internet are able to communicate with each oth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also organizes committees that propose and approve new Internet-related technologies and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32432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577-C31E-4B87-AD04-982D184E30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 Grow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til recently, the Internet more than doubled in size every 1 or 2 yea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y has this trend slowed?  will it continu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2822760" cy="4353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791320" y="61722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“Internet Domain Survey.” Internet Software Consortium, July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389-6FA3-45BD-A570-740006AAA5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stributed Networ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esign of the ARPANet was influenced by the ideas of Paul Baran, a researcher at the RAND Institu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ran proposed 2 key ideas: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istributed network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acket-switch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ARPANet was funded by the Dept of Defense for commun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such, it needed to be resistant to attack or mechanical fail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50600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0B4-A5D1-4D56-B72D-8C0EF571C2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2:5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