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42F6B-C77D-41FC-A1B9-002B22F6C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8574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9151D-A324-4170-B945-32A2AD5EF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9C6B9-9CA4-4787-AA0B-5E8FEB25C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75A6F-E22F-4925-9230-53C684878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CEBEB-2F16-4F61-ABC0-9EB0E9B3E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9F554-25A3-41F6-B4EC-AE3466E29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AC6B6-CCC0-469F-A302-6BB6D25D3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68362-C221-44DB-AE57-08132C5F8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889EC-00EE-4361-8AFF-E932834ED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6840" y="30456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5A876-24AC-4024-97DC-C040851EA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15DEE-77D0-4279-80A4-6360147AC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A7DA4-5363-433A-8829-0B9425BDB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00016-A9FA-4F1D-8DA0-1FFA923B4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9C121-FC5D-4411-9AFF-BF154D35C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8574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3C15E-1A59-4AF0-B8F8-04D6107BB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6CD80-C0DD-4C53-9C9B-676FE5173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23967-869C-4873-860B-B1302BAD9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926D1-0D54-4C31-ADB1-63B5E6407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9F2AA-DB45-45FF-881A-B66EFFD24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B09B7-A7CB-488F-9CC1-5A4E4889D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6840" y="30456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CD847-8CB5-4DEB-B632-446256FE7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2C6B2-6399-484D-B4F7-F67FF6E6A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7579B-C695-4AF4-81EB-F9B90E519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ACA4C-A0F6-425A-8A03-9FC6C9BB1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Click to edit the title text format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343080" indent="-343080">
              <a:spcBef>
                <a:spcPts val="601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343080" indent="-343080"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34C80-1CE6-48E2-BE0A-311B3A484F15}" type="slidenum">
              <a:rPr b="0" lang="en-US" sz="1400" spc="-1" strike="noStrike">
                <a:solidFill>
                  <a:srgbClr val="ff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066680"/>
            <a:ext cx="83818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" descr=""/>
          <p:cNvPicPr/>
          <p:nvPr/>
        </p:nvPicPr>
        <p:blipFill>
          <a:blip r:embed="rId2"/>
          <a:stretch/>
        </p:blipFill>
        <p:spPr>
          <a:xfrm>
            <a:off x="8077320" y="152280"/>
            <a:ext cx="610920" cy="838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563868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Tw Cen MT Condensed Extra Bold"/>
              </a:rPr>
              <a:t>Click to edit the title text format</a:t>
            </a:r>
            <a:endParaRPr b="0" lang="en-US" sz="4000" spc="-1" strike="noStrike">
              <a:solidFill>
                <a:srgbClr val="ff9900"/>
              </a:solidFill>
              <a:latin typeface="Tw Cen MT Condensed Extra Bol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A30D2-9F70-4BC5-8B04-20C1B40BDCB8}" type="slidenum">
              <a:rPr b="0" lang="en-US" sz="1400" spc="-1" strike="noStrike">
                <a:solidFill>
                  <a:srgbClr val="ff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8600" y="3886200"/>
            <a:ext cx="2870280" cy="1191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098880" y="3886200"/>
            <a:ext cx="2870280" cy="119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969160" y="3886200"/>
            <a:ext cx="2869920" cy="119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6264360" y="609480"/>
            <a:ext cx="2435040" cy="304812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51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00"/>
              </a:spcBef>
              <a:buClr>
                <a:srgbClr val="ff0000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594360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9900"/>
                </a:solidFill>
                <a:latin typeface="Tw Cen MT Condensed Extra Bold"/>
              </a:rPr>
              <a:t>A Balanced Introduction to Computer Science, 2/E</a:t>
            </a:r>
            <a:br>
              <a:rPr sz="3800"/>
            </a:br>
            <a:br>
              <a:rPr sz="1500"/>
            </a:br>
            <a:r>
              <a:rPr b="0" lang="en-US" sz="2400" spc="-1" strike="noStrike">
                <a:solidFill>
                  <a:srgbClr val="ff9900"/>
                </a:solidFill>
                <a:latin typeface="Tw Cen MT Condensed Extra Bold"/>
              </a:rPr>
              <a:t>David Reed, Creighton University</a:t>
            </a:r>
            <a:br>
              <a:rPr sz="3400"/>
            </a:br>
            <a:r>
              <a:rPr b="0" lang="en-US" sz="3400" spc="-1" strike="noStrike">
                <a:solidFill>
                  <a:srgbClr val="ff9900"/>
                </a:solidFill>
                <a:latin typeface="Tw Cen MT Condensed Extra Bold"/>
              </a:rPr>
              <a:t> </a:t>
            </a:r>
            <a:r>
              <a:rPr b="0" lang="en-US" sz="2100" spc="-1" strike="noStrike">
                <a:solidFill>
                  <a:srgbClr val="ff9900"/>
                </a:solidFill>
                <a:latin typeface="Tw Cen MT Condensed Extra Bold"/>
              </a:rPr>
              <a:t>©2008 Pearson Prentice Hall</a:t>
            </a:r>
            <a:br>
              <a:rPr sz="2100"/>
            </a:br>
            <a:r>
              <a:rPr b="0" lang="en-US" sz="2100" spc="-1" strike="noStrike">
                <a:solidFill>
                  <a:srgbClr val="ff9900"/>
                </a:solidFill>
                <a:latin typeface="Tw Cen MT Condensed Extra Bold"/>
              </a:rPr>
              <a:t>ISBN 978-0-13-601722-6</a:t>
            </a:r>
            <a:endParaRPr b="0" lang="en-US" sz="2100" spc="-1" strike="noStrike">
              <a:solidFill>
                <a:srgbClr val="ff9900"/>
              </a:solidFill>
              <a:latin typeface="Tw Cen MT Condensed Extra Bol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295280" y="4419720"/>
            <a:ext cx="64771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hapter 3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Internet and the Web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E7E7A-F209-4F05-BF02-D158247CA415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Packet Switching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 a packet-switching network, messages to be sent over the network are first broken into small pieces known as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packet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se packets are sent independently to their final destina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391"/>
          <a:stretch/>
        </p:blipFill>
        <p:spPr>
          <a:xfrm>
            <a:off x="1066680" y="2590920"/>
            <a:ext cx="6820200" cy="3789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C5065-169D-41AB-983F-24CB80299EC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Advantages of Packet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nding information in smaller units increases the efficient use of connection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-38088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arge messages can't monopolize the connec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-38088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analogy: limiting call lengths at a pay phone to limit waitin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ansmitting packets independently allows the network to react to failures or network conges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-38088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outers (special-purpose computers that direct the flow of messages) can recognize failures or congestion and reroute the packet around trouble area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breaking the message into packets can improve reliability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-38088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nce the packets are transmitted independently, it is likely that at least part of the message will arrive (even if some failures occur within the network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-38088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oftware at the destination can recognize which packets are missing and request retransmiss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2EF06-E4D5-4CA1-8F0E-F62C25B6F3D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Protocols and Addresse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Internet allows different types of computers from around the world to communicat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-3808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s is possible because the computing community agreed upon common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protocols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(sets of rules that describe how communication takes place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-3808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two central protocols that control Internet communication are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257480" indent="-343080">
              <a:lnSpc>
                <a:spcPct val="80000"/>
              </a:lnSpc>
              <a:spcBef>
                <a:spcPts val="524"/>
              </a:spcBef>
              <a:buClr>
                <a:srgbClr val="ff0000"/>
              </a:buClr>
              <a:buSzPct val="65000"/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Transmission Control Protocol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TCP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)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257480" indent="-343080">
              <a:lnSpc>
                <a:spcPct val="80000"/>
              </a:lnSpc>
              <a:spcBef>
                <a:spcPts val="524"/>
              </a:spcBef>
              <a:buClr>
                <a:srgbClr val="ff0000"/>
              </a:buClr>
              <a:buSzPct val="65000"/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Internet Protocol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457200" y="3581280"/>
            <a:ext cx="82296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se protocols rely on each computer having a unique identifier (known as an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IP address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analogy: street address + zip code provide unique address for your house/do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76520" indent="-30492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using this address, anyone in the world can send you a le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n IP address is a number, written as a dotted sequence such as 147.134.2.8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ach computer is assigned an IP address by its Internet Service Provider (ISP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ome ISPs (e.g., AOL, most colleges) maintain a pool of IP addresses and assign them dynamically to computers each time they conne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E9BA5-64DF-4F72-A8DE-89BB54728BB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TCP/IP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ansmission Control Protocol (TCP)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ontrols the method by which messages are broken down into packets and then reassembled when they reach their final destina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ternet Protocol (IP)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oncerned with labeling the packets for delivery and controlling the packets’ paths from sender to recipien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057400" y="3200400"/>
            <a:ext cx="4962600" cy="334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6950B-9FD8-4ABB-806E-DBE8F17B935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Routers and DN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Internet relies on special purpose computers in the network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routers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are computers that receive packets, access the routing information, and pass the packets on toward their destina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domain name servers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re computers that store mappings between domain names and IP address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00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domain names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are hierarchical names for computers (e.g., bluejay.creighton.edu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y are much easier to remember and type than IP address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00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omain name servers translate the names into their corresponding IP address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2057400" y="3598920"/>
            <a:ext cx="4896000" cy="2878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A1585-7A4B-4ABA-A09D-CE91681D0A9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History of the Web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World Wide Web is a multimedia environment in which documents can b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mlessly linked over the Interne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-38088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roposed by Tim Berners-Lee at the European Laboratory for Particle Physics (CERN) in 1989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-38088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esigned to facilitate sharing information among researchers located all over Europe and using different types of computers and softwar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"/>
          <p:cNvSpPr/>
          <p:nvPr/>
        </p:nvSpPr>
        <p:spPr>
          <a:xfrm>
            <a:off x="457200" y="3276720"/>
            <a:ext cx="358128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Berners-Lee's design of the Web integrated two key ide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95360" indent="-3808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ypertext (documents with interlinked text and medi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343080">
              <a:lnSpc>
                <a:spcPct val="100000"/>
              </a:lnSpc>
              <a:spcBef>
                <a:spcPts val="300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eb pages can contain images and links to other p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95360" indent="-3808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distributed nature of the Inter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343080">
              <a:lnSpc>
                <a:spcPct val="100000"/>
              </a:lnSpc>
              <a:spcBef>
                <a:spcPts val="300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ages can be stored on machines all across the Internet, known as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Web ser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343080">
              <a:lnSpc>
                <a:spcPct val="100000"/>
              </a:lnSpc>
              <a:spcBef>
                <a:spcPts val="300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ogical connections between pages are independent of physical lo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4267080" y="3733920"/>
            <a:ext cx="4338720" cy="2001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F3DB2-70C0-421B-BB52-387479EACF8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Web Timeline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2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Verdana"/>
              </a:rPr>
              <a:t>1990: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Berners-Lee produced working prototypes of a Web server and brows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6238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62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Verdana"/>
              </a:rPr>
              <a:t>1991: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Berners-Lee made his software available for free over the Interne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6238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62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Verdana"/>
              </a:rPr>
              <a:t>1993: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Marc Andreesen and Eric Bina of the University of Illinois’ National Center for Supercomputing Association (NCSA), wrote the first graphical browser:  Mosaic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1019880" indent="-28296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saic integrated text, image &amp; links, made browsing more intuitiv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10198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Verdana"/>
            </a:endParaRPr>
          </a:p>
          <a:p>
            <a:pPr marL="62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Verdana"/>
              </a:rPr>
              <a:t>1994: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Andreesen founded Netscape, which marketed the Netscape Navigator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6238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62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Verdana"/>
              </a:rPr>
              <a:t>1995: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Microsoft released Internet Explorer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the browser wars begin!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6238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62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Verdana"/>
              </a:rPr>
              <a:t>1999: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Internet Explorer becomes the most popular browser (~90% of market in 2002)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6238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62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Verdana"/>
              </a:rPr>
              <a:t>2006: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Mozilla Firefox (Netscape descendent) grows in popularity, IE share drops to 80%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4876920" y="4329000"/>
            <a:ext cx="3657600" cy="137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 2005, Google indexed more than 8 billion Web pa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other sources estimated more than 25 billion Web pa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762120" y="4114800"/>
            <a:ext cx="3809880" cy="265896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648320" y="6156360"/>
            <a:ext cx="335268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Verdana"/>
              </a:rPr>
              <a:t>(“Internet Domain Survey.” Internet Software Consortium, July 2006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i="1" lang="en-US" sz="800" spc="-1" strike="noStrike">
                <a:solidFill>
                  <a:srgbClr val="000000"/>
                </a:solidFill>
                <a:latin typeface="Verdana"/>
              </a:rPr>
              <a:t>Netcraft Web Server Survey.” Netcraft, July 2006.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C59E6-9B2C-4D2C-811D-4BC010CC2DE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How the Web Work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ke Internet communications, the Web relies on protocols to ensure that pages are accessible to any compute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yperText Markup Language (HTML) defines the form of Web page conten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yperText Transfer Protocol (HTTP) defines how messages exchanged between browsers and servers are formatte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00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prefix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in a URL specifies that the HTTP protocol is to be used in communicating with the server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00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prefix is NOT used for local file access since no server communication is necessar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"/>
          <p:cNvSpPr/>
          <p:nvPr/>
        </p:nvSpPr>
        <p:spPr>
          <a:xfrm>
            <a:off x="457200" y="4191120"/>
            <a:ext cx="838188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or efficiency reasons, browsers will sometimes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cache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pages/ima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o avoid redundant downloads, the browser will store a copy of a page/image on the hard drive (along with a time stam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next time the page/image is requested, it will first check the cach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300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f a copy is found, it sends a 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conditional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request to th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ssentially: "send this page/image only if it has been changed since the timestamp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f the server copy has not changed, the server sends back a brief message and the browser simply uses the cached cop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D8A89-B43A-4533-B216-DECED7515D0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History of Internet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recall: the Internet is a vast, international network of computer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Internet traces its roots back to the early 1960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IT professor J.C.R. Licklider published a series of articles describing a “Galactic Network” of communicating compute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 1962, Licklider became head of computer research at the U.S. Department of Defense’s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Advanced Research Project Agency (ARPA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 1967, Licklider hired Larry Roberts to design and implement his vision of a Galactic Network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"/>
          <p:cNvSpPr/>
          <p:nvPr/>
        </p:nvSpPr>
        <p:spPr>
          <a:xfrm>
            <a:off x="457200" y="4038480"/>
            <a:ext cx="830592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ARPANet (precursor to the Internet) became a reality in 196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t connected computers at four universities: UCLA, UCSB, SRI, and Uta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t employed dedicated cables, buried undergrou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data transfer rate was 56K bits/sec, roughly the same as dial-up services tod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ARPANet demonstrated that researchers at different sites could communicate, share data, and run software remotel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E32D3-D68F-4A0B-97F2-79E23468CFB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ARPANet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ARPANet was intended to connect only military installations and universities participating in government project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y 1971, 18 sites were connected; most used Interface Message Processors (IMPs) which allowed up to 4 terminal connections at the sit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tes labeled with a T utilized Terminal Interface Processors (TIPs), which allowed up to 64 terminal connections at the sit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809720" y="3325680"/>
            <a:ext cx="5200560" cy="2914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3D835-F68C-4C79-A184-53E9EB34DDB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ARPANet Growth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by 1980, close to 100 sites were connected to the ARPANe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atellite connections provided links to select cities outside the continental U.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066680" y="2495520"/>
            <a:ext cx="6934320" cy="4048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2FD5D-7783-452E-A02D-6CC317E99EF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NSFNet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 the early 1980s, the ARPANet experienced an astounding growth spur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 such as email, newsgroups, and remote logins were attractive to all colleges and universiti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y 1984, the ARPANet encompassed more than 1,000 sit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o accommodate further growth, the National Science Foundation (NSF) became involved with the ARPANet in 1984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NSF funded the construction of high-speed transmission lines that would form the backbone of the expanding network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286000" y="3805200"/>
            <a:ext cx="4343400" cy="2792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73068-45B8-466F-8AA7-E46A0030028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"Internet"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term “Internet” was coined in recognition of the similarities between the NSFNet and the interstate highway system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ackbone connections provided fast communications between principal destinations,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analogous to interstate highway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onnected to the backbone were slower transmission lines that linked secondary destinations,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analogous to state highway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ocal connections were required to reach individual computers,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analogous to city and neighborhood road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"/>
          <p:cNvSpPr/>
          <p:nvPr/>
        </p:nvSpPr>
        <p:spPr>
          <a:xfrm>
            <a:off x="457200" y="487692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recognizing that continued growth would require significant funding and research, the government decided in the mid 90s to privatize the Inter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ontrol of the network’s hardware was turned over to telecommunications companies and research organizations (e.g., AT&amp;T, Verizon, Qwest, Sprint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esearch and design are administered by the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Internet Socie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657600"/>
            <a:ext cx="731520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ote: Al Gore did not INVENT the Internet,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 nor did he ever claim 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he sponsored legislation in the late 1980s to support growth and expand ac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2A258-EFB7-43CC-807D-F0F9E1728E0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Internet Society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ternet Society is an international nonprofit organization (founded in 1992)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t maintains and enforces standards, ensuring that all computers on the Internet are able to communicate with each oth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t also organizes committees that propose and approve new Internet-related technologies and softwar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2362320" y="3048120"/>
            <a:ext cx="4324320" cy="3429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0C93E-F767-49FB-8013-CDFE5E91B6E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Internet Growth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153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ntil recently, the Internet more than doubled in size every 1 or 2 years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hy has this trend slowed?  will it continue?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895480" y="2209680"/>
            <a:ext cx="2822760" cy="435312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5791320" y="617220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Verdana"/>
              </a:rPr>
              <a:t>(“Internet Domain Survey.” Internet Software Consortium, July 2006.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C8E44-3815-4713-9009-1DF84FDAF00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Distributed Network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design of the ARPANet was influenced by the ideas of Paul Baran, a researcher at the RAND Institut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aran proposed 2 key ideas: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distributed network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packet-switchin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recall: the ARPANet was funded by the Dept of Defense for communication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s such, it needed to be resistant to attack or mechanical failur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838080" y="3352680"/>
            <a:ext cx="7506000" cy="2997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4BF74-C1F2-4A88-B9CA-0795038E04A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davir2</cp:lastModifiedBy>
  <dcterms:modified xsi:type="dcterms:W3CDTF">2007-09-12T22:02:56Z</dcterms:modified>
  <cp:revision>2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