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75B-9245-4255-B15C-1F716264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277-D4A9-4B30-88D0-F81C2CA2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D34-6FAC-44B3-89C6-85319E90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217-EA10-4E93-8592-84C65229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D68E-BC19-476F-842C-A54D85E4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8E42-5686-4943-99BF-FA346211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2511-8A86-41A8-9161-C7FBD036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C059-3359-42FA-873F-6177F0FC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6DEA-205B-4F0E-A619-13BBFCF8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84AB-B6BA-45E2-B560-6F1EB88E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AD0A-30D8-4849-B5DB-658E35C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751-8DA8-4D39-A2B7-8F95296C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9B3B-BFA6-42BB-A976-4CB9CA0D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8621-CC42-4D4C-BB95-C21CBEF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BB12-457B-466A-AB30-B015773E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BB16-5465-435E-A6BC-780357E8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7104-867C-4CEB-A5E7-D26ED013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63D-D507-4CA7-8061-E447B3FF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0D1-BE67-410B-9794-40974D74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176-58FA-4424-8726-5B9822F1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02F-245E-4087-BE6A-B2ACE7C4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70B-EB0D-4514-8BCE-72981358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19D-7BE5-4B55-8462-83D0FC92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153-A8D4-48DF-9AB0-CBCE2B8A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B491-F574-42AE-9C61-53950CDC3ED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AFDB-878E-48F9-9FA0-946507B9717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ML and Web P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B4BB-242B-4EF2-8B59-4EECBC1BF6E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yperlink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67684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76440" y="4267080"/>
            <a:ext cx="54482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84D-27B4-4B1B-9B3F-818460C5C1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pages can contain other types of media besides text and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ges are embedded in a page using an IMG tag (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img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r /&gt;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&lt;h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re is no closing tag so it ends with a s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G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RC specifies the location of the im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T specifies alternate text that is displayed if the image fails to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95680" y="3809880"/>
            <a:ext cx="4381560" cy="2183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355284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49E-2101-45E4-AED7-26091BF67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i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 lists organize item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ul&gt;…&lt;/u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n unordered list;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ol&gt;…&lt;/o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n ordered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li&gt;…&lt;/li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list it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29200" y="2873520"/>
            <a:ext cx="3962520" cy="2917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42768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17B-FD4D-4C6F-9D21-5EC0BC79D0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ist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37160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tyle attribute can be used to format the list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181480" cy="1214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480" y="3097080"/>
            <a:ext cx="5105520" cy="352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486400" y="3429000"/>
            <a:ext cx="3409920" cy="21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CE5-1FD8-4E96-8421-F16F90B3E4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can be aligned into rows and columns using a TABLE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ab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ab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the tab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r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r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a row within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apsulate table data within a row (i.e., a column entry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00080" y="2666880"/>
            <a:ext cx="524844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05320" y="4987800"/>
            <a:ext cx="4114800" cy="17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8DF-1BE1-48F6-88C0-410379CF56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 with Bord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371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rders can be added to tables using the border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eric value assigned to the attribute specifies thick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5038560" cy="265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4599000"/>
            <a:ext cx="4838760" cy="20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A57-A126-4AE1-9C68-332BD399D4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ables for Align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167652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bles are commonly used to align elements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an image is aligned to the left of som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772240" cy="30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5448240" cy="20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D3B-CB2E-481D-BA35-5134257D7D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&amp; Web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eb page is a text document that contains additional formatting information in the HyperText Markup Language (HTM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ML specifies formatting within a page usin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a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its simplest form, a tag is a word or symbol surrounded by brackets (&lt;&gt;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385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91A-D20A-4463-A748-FF5235B704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Ta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d tags in a Web pa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tm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tml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the entire HTML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HEAD section (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ea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ead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ontains information that the browser uses to control the look of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HEAD can contain a title for the browser window, 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ODY section (enclosed between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od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body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ontains the text that will appear in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29280" y="4267080"/>
            <a:ext cx="4686120" cy="1933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348624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E00-5D2A-43B1-861B-61DB11B5B5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TML El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gs and the text they enclose form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 Title of the Page &lt;/title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is a TITL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title&gt; Title of the Page 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a HEAD element (which contains a nested TITLE el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1148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HTML elements have opening and closing tags, but no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!-- demo1.html    Dave Reed --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is a COMMENT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comment is ignored by the browser (it does not appear in the rendered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nts are used by the page developer to document page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C41-6B2F-493A-A783-F55FD14A53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Layo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ite space (extra spaces, tabs and blank lines) are ignored by th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llows the browser to adjust the text to the window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control some of the text layout using HTML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ARAGRAPH element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p&gt;…&lt;/p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specifies text surrounded by blank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REAK element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causes text to be displayed on a new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amp;nbsp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ymbol forces a space to appear in th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4087800"/>
            <a:ext cx="4267440" cy="182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6280" y="3429000"/>
            <a:ext cx="4095720" cy="319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389-C5A0-4F9E-8EB0-17F450396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eadings &amp; Align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 large document, it is useful to divide the text into sections and then provide each with a heading describing the content that fo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1&gt; … &lt;/h1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top-level heading (large and bo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2&gt; … &lt;/h2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a sub-heading (slightly smaller and bo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h6&gt; … &lt;/h6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close the smallest sub-h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HORIZONTAL-RULE element </a:t>
            </a:r>
            <a:r>
              <a:rPr b="0" lang="en-US" sz="1600" spc="-1" strike="noStrike">
                <a:solidFill>
                  <a:srgbClr val="0099ff"/>
                </a:solidFill>
                <a:latin typeface="Verdana"/>
              </a:rPr>
              <a:t>&lt;hr /&gt;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raws a dividing line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8098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default, headings and other elements are left-justifie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change the alignment of an element by adding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ttribu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qualifies the appearance of th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h1 style="text-align:center"&gt; Centered Heading &lt;/h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p style="text-align:right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his paragraph is right justified. Each line will be shif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o line up at the right marg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062-F885-4C31-AE8A-DD21AECC6B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eadings &amp; Align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371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V element groups multiple elements, so can be formatt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53200" y="2514600"/>
            <a:ext cx="3638520" cy="322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69584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988-2D30-4626-A8B5-0F0DCCB7C7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ont Format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can be formatted in a variety of 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ld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b&gt; … &lt;/b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italics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i&gt; … &lt;/i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underlined  (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u&gt; … &lt;/u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ored text is enclosed in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span style="color:????"&gt; … &lt;/sp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olors can be used (e.g., red, green, orange, light blue, dark b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560052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00600" y="3125880"/>
            <a:ext cx="386712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BD4-63D1-4D63-85DD-3F954068AA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yperlin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yperlin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or jus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is a connection to another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a link appears as underlined text in the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on the link, the corresponding page is retrieved and dis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link is specified using ANCHOR tags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a&gt;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that appears within the tags is displayed as the link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st have an HREF attribute that specifies the associated Web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a href="http://www.creighton.edu"&gt;Creighton University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&lt;a href="personal.html"&gt;Local Page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browser displays links underlined and in co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links whose pages have not yet been visited are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default, links whose pages have previously been visited are pur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0CB-85BC-480E-9718-9201A2E4C1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2:2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