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92D2-2AFF-4A64-BAFD-F36A800F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7FDE-EC91-4746-A010-B28CC4B7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7A21-AB89-4117-A7CC-DE54F3CB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83F-07D3-4A63-8C6E-EBBB4B7C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409A-E70B-4A61-A733-A9BEB02A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95E9-97D0-46EE-8D9B-D1AE7533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61F9-B107-4D82-B03D-AD4BF129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3C68-71FD-434B-98F3-C9CA79AE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55BD-04DE-4903-80A7-7770FFAC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7600-07FF-411B-A26C-F56C1E16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166D-ED12-4CA2-B135-AE36838B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1F0F-AFD4-43AD-820A-1A1EDA57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9CE2-4AB5-4A9D-92F6-798DD89B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5C4C-E0F9-4A84-967F-6EC1CE07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20F6-8565-44DA-B80B-7D11449E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7FB1-11B0-4D86-8B1A-EB8B20FC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E95D-0F0F-41DC-8A1F-B0EF22AC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AA96-ABCD-4E46-BA14-F9A38AE1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282B-2A9F-44A4-9119-5D07E9D6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AAF-092D-496E-AA61-222AD694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D406-7DCD-4777-B781-C590153E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434F-C027-4267-B145-961F9391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403-DF21-4329-8952-C9DC43B0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F1E-7C8D-493B-9621-AC5F1B9A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2038-B031-4EBB-8E05-6F477AE18BF8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144B-5621-4D30-ABBA-D5FAE6EC8700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pter 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avaScript Numbers and Express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1E07-C0A1-4D65-9D4A-9D8DD4BF2C5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nversion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74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 that the prompt has a default value of 3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657600" y="1295280"/>
            <a:ext cx="4952880" cy="2421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657600" y="3809880"/>
            <a:ext cx="4952880" cy="24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3D1A-90E1-4D7D-AD02-48F82B5FB8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mon Patter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tasks that we will consider have the same basic for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mpt the user for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ore them in variab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form some calculation(s) using those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play the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 surprisingly, there is a pattern to the co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script type="text/javascript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number1 = prompt("PROMPT MESSAGE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number1 = parseFloat(number1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number2 = prompt("PROMPT MESSAGE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number2 = parseFloat(number2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numberN = prompt("PROMPT MESSAGE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numberN = parseFloat(numberN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answer = SOME EXPRESSION INVOLVING number1, …, numberN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MESSAGE INVOLVING answer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/script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BCD5-1284-460A-A8BA-D053C9366D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edefined Funct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provides an extensive library of predefined mathematical fun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th.sqr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urns the square root of a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th.sqrt(9)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urns the maximum of two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th.max(3.2, 1.8)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23880" y="3211560"/>
            <a:ext cx="5943600" cy="326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1CC0-2206-4ED2-8AF4-2B3DA0E947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ester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668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page could be modified to test a variety of fun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64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ange the function call in the p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6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64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ter various inputs and observe the corresponding outpu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352680" y="1355760"/>
            <a:ext cx="4876920" cy="2378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352680" y="3886200"/>
            <a:ext cx="4876920" cy="237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5661-BF67-49AA-960E-B8880D2895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ther Useful Funct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th.pow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ises a number to a pow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pow(2, 10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urier New"/>
              </a:rPr>
              <a:t>1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 102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pow(2, -1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urier New"/>
              </a:rPr>
              <a:t>-1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 0.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pow(9, 0.5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urier New"/>
              </a:rPr>
              <a:t>0.5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 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505320"/>
            <a:ext cx="8229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th.rando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tes a random number in the range [0…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this function has no inputs; it returns a different number each c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random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0.330085256267488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random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0.2133359558239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random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0.89750017377582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60E-6EF6-47E1-AFDA-AE1FD43422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rrors and Debugg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computer jargon, the term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ug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fers to an error in a progra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rocess of systematically locating and fixing errors i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ebugg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ree types of errors can occu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yntax erro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ypographic err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omitting a quote or misspelling a function na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the browser catches these, they are usually "easy" to identify and fi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un-time erro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ccur when operations are applied to illegal 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attempting to multiply a string or divide by ze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so caught by the browser, which either produces an error message or else returns a special value (string multiplication produce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aN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for 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 a Numbe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"; division by zero produce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finity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gic error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laws in the design or implementation of a progr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ever your program produces the wrong res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they are not caught by the browser (the program is legal, just not what you wanted), logic errors are hardest to identif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4864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ful technique for identifying bugs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iagnostic write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various intervals in the code, write out the values of key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can then isolate at what point the program is going w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61D5-4563-45BC-A528-8F09D12CC2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 Typ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ch unit of information processed by a computer belongs to a general category or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ata typ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string, number, Boolean (either true or fals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ch data type is associated with a specific set of predefined operators that may be used by programmers to manipulate values of that typ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we have seen string concatenation via +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ly, standard operators are predefined for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 (+), subtraction (-), multiplication (*), division (/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riables can be assigned various kinds of numerical values, including mathematical expressions formed by applying operators to numb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n expression appears on the right-hand side, the expression is evaluated and the resulting value is assigned to the variable on the left-hand s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2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ord = "howdy" + " doo";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"howdy doo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= 50/4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4952880"/>
            <a:ext cx="1219320" cy="45720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5867280"/>
            <a:ext cx="1219320" cy="45720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F59B-89F7-4DA1-B74F-1EF4AFE291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ariables and Express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milarly, expressions can appear in write stat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parentheses can be used to make sub-expression grouping explici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cument.write(3 + 7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rit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cument.write("The sum of is " + (3 + 7)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rit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The sum is 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6576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a variable appears in an expression, the value currently assigned to that variable is substitu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3880" y="4495680"/>
            <a:ext cx="5867640" cy="17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EF74-DA1E-47A8-A44E-5B5FFD504B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Number Represent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ful facts about JavaScript nu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improve readability, very large or very small number are displayed in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cientific notation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e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resents the valu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e24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 </a:t>
            </a: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2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0000000000000000000000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971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avaScript stores all numbers in memory cells of a fixed size (64 bi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a result, only a finite number of values can be repres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e308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n be represented, b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e309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treated a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fi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e-32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n be represented, b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e-324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treated a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4724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ven within the range 1e-323 . . . 1e309, not all numbers can be repres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 that between any two numbers lie infinitely more number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avaScript can represent approximately 17 significant digi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.,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.9999999999999999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n be represented exac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.99999999999999999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rounded up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10A-8789-40DC-9A57-8BBEC8AC28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ixed Express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JavaScript, the + operator serves two purpo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pplied to numbers, + means add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pplied to strings, + means concate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about a mixed expression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743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applied to a string and a numb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umber is converted to a string (effectively, by placing quotes around it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 string concatenation is perfor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4267080"/>
            <a:ext cx="3962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expressions involving + are evaluated left-to-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can have consequences in the way mixed expressions are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DVICE: always use parentheses to group nested sub-expre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3657600" cy="5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0" y="4343400"/>
            <a:ext cx="4114800" cy="176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FB02-40A7-4F4A-A41D-202C6DCA0A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mpting for Numb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ecial care must be taken when prompting the user for number val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all th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lways returns a string, even if the user enters only dig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if the user enters 500 at a prompt, then the value "500" is return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myNumber = prompt("Enter a number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One more is " + (myNumber + 1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user entered 12 at the prompt, what would be displayed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4290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message displayed would be 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One more is 121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WH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3809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2" marL="1051560" indent="-21024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mpt return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12"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which is stored i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y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arenthesized sub-expressio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myNumber + 1)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is evaluated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this is a mixed expression, the number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is converted to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1"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n concate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result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121"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is then concatenated to the end of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One more is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is needed is a mechanism for converting strings of digits into nu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"500"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00, "1.314"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1.314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is accomplished in JavaScript using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AAF4-95FF-485E-8A30-ED9D1CB2A9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unct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mathematics,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 mapping from inputs to a single outp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the absolute value function maps one number to anoth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5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, -2.4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2.4, 17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17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ly,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maps strings of digits to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500"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00, "1.314"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1.314, "0"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33720" y="2340000"/>
                <a:ext cx="23619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|</m:t>
                          </m:r>
                          <m:r>
                            <m:t xml:space="preserve">n</m:t>
                          </m:r>
                          <m:r>
                            <m:t xml:space="preserve">|</m:t>
                          </m:r>
                        </m:e>
                        <m:e/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f n </m:t>
                                          </m:r>
                                          <m:r>
                                            <m:t xml:space="preserve">≥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 0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n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f n </m:t>
                                          </m:r>
                                          <m:r>
                                            <m:t xml:space="preserve">&lt;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 0  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457200" y="411480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rom a programmer's view, a function is a "unit of computational abstractio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re is some computation required to calculate the output given the input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JavaScript function encapsulates that computation and hides the det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does not need to know how the function works, only how to apply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ying a function to inputs is known a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alling the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utput of a function call is known as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turn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A3F-2863-4AA4-A45B-85570D5451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arseFlo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function call can appear anywhere in a JavaScript expres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expression is evaluated, the return value for that call is substitu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myNumber = prompt("Enter a number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myNumber = parseFloat(myNumber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One more is " + (myNumber + 1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statement prompts the user and stores their input (sa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12"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i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y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statement call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o convert the string to a number 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 and then reassigns that number back to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y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statement uses the number valu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12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o display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One more is 1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4197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, the following is not an error (but probably not what was intend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myNumber = prompt("Enter a number", "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parseFloat(myNumb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One more is " + (myNumber + 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l to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returns a number, but nothing is done with that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the only way to change the value of a variable is via an assignment stat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63F7-67E6-4B42-9215-ABA9642F98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emperature Convers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ollowing page prompts the user for a temperature (in Fahrenheit), stores the input as a number, then converts that temperature to Celsiu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705720" cy="400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AC54-238B-45B6-8BD8-E7598706D1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3:4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