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1D4-99CA-464F-BF01-58487ABB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FF5-D406-4091-B49F-F9EA4AB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93A-D539-47A8-9322-3D34581A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2B0-424D-42B5-9C26-B9479C9A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B09-9746-4883-BE62-730F3B36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F43D-84E3-47A6-8BCA-DF94A04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D480-4F31-47AD-AC56-6E6E3E3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D2E-FFBF-4E0C-A62F-A170034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96B6-10AB-475C-BD4F-B92BD7FC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EC68-8540-4D31-8BC9-51B3AC02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96A6-EAA2-47E1-93AC-EC632EB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C55-8D62-4DB0-A48B-89D861F3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323-16BD-48BB-9E99-CDF3465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CB33-8C59-4DE1-B413-812D44B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C1B-32FD-4B3E-826C-9AA8D53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4298-5E0A-4B80-B18C-010C0F63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946-5139-4305-B6AC-4E450B2F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C7E-95F3-402D-9B6F-FC17CF2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585-6806-4A70-ACEA-09F599F3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4E6-3D6A-4F8D-8B0E-044C8132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4F-3E02-49CC-AFE6-D3D9D22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5AC-0C6C-464B-AC2E-DCE39D2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978-DBC8-4169-B7A2-668CB01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99F-3974-492C-9760-BC35440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A6F1-CECF-4C6E-94B0-A9CB9EE1DCD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825-49ED-4C26-A7C0-032BA10C5D2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nd Dynamic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C3BA-D81E-41CA-A1B7-684ABDA678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yntax Erro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rror in the format of an HTML or JavaScript statements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yntax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syntax errors are ignored by the brows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sspelling an HTML tag na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JavaScript syntax errors will generate an error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is example is illegal since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string is broken across lin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unterminated string lit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e value of x is " 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missing ) after argument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CE5-DC81-4E61-83B1-25FA8127B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JavaScript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variable name can be any sequence of letters, digits, and underscores (but must start with a let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id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tempInFahr   SUM   current_age   Sum2Date  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alid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2hotforU   salary$   two words   "sum_to_date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names are case sensitive, so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treated as different vari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1560" y="3809880"/>
            <a:ext cx="56199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9F3-BD96-4BEF-A143-4C2CAC656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&amp; Memory Cel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keep track of the values that variables represent by associating each variable with a specific piece of memory,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JavaScript assignment is execute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entered by the user (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Dave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is stored in a memory cell associated with the 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future reference to the variable name evaluates to the value stored in its associated memory ce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049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BA5-1344-45CA-B570-658A71A030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ce you create a variable, you can repeatedly assign values to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y the most recent value is retained 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 to prompt the user for two different fo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only one food is needed at a time, we can reuse the same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31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788-4295-4D8B-9DFF-592D0DBB0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54200"/>
            <a:ext cx="24386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favorite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48040"/>
            <a:ext cx="469584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4417920"/>
            <a:ext cx="4686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581-21AE-4ED6-9155-A553719E7C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least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least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54200"/>
            <a:ext cx="243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cond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least favorite food (overwriting the old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4552920" cy="222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436-0351-4637-BF24-B628ECAA4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s with Defaul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prompts have been of the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 it makes sense to provide default values for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a string literal instead of "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string will appear in the prompt box when it app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wants to accept the default value, can just click 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ed to create a page that displays a verse of the children's song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ld MacDonald had a 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age should be able to display any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ccomplish this by prompting the user for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default values so that it is easy to display a common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imal = prompt("Enter a kind of animal:", "co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ound = prompt("What kind of sound does it make?", "mo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257-CF1D-4E83-A97D-9B7921267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prompts the user for the animal and sound ("cow" and "moo", by default), then displays a verse using those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gs are embedded to break the output onto separate l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40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358-5517-422D-AF0B-E468D3A2BA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values automatically appear in the prompt box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click OK to accept the defa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 new values into the promp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029200" cy="24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50292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EF6-AB0D-46D1-AD8D-5A66FB579F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714760"/>
            <a:ext cx="580068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52680" y="1379520"/>
            <a:ext cx="529596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A6F-3ECA-4941-A5D3-AC179715A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atic vs. Dynamic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uses HTML tags to identify page content and formatting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can produce onl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atic p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c pages look the same and behave in the same manner each time they are loaded into a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1995, researchers at Netscape developed JavaScript, a language for creating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ynamic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pages with JavaScript can change their appearan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er time (e.g., a different image each time that a page is loaded)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sponse to a user’s actions (e.g., typing, mouse clicks, and other input meth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541-DBC5-4C77-8689-7343397F1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izing Chan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we have used variables to store values read in via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common use is to store values used repeatedly in a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we wanted to change the spelling of the refrain in Old MacDonal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"E-I-E-I-O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"Eeyigh-Eeyigh-Oh"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is, would need to find and update all occurrences in the 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124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could use a variable to store the ref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-I-E-I-O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w, to update the value in the entire verse, simply must change the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eyigh-Eeyigh-Oh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2C6-4C3B-4CC9-B361-6E77B0A53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ming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language for specifying instructions that a computer can 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a programming language specifies a particular action that the computer is to carry 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changing an image or opening a window when a button is click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rogramming languages are gener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pular languages include C++, Java, J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was defined for a specific purpose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dding dynamic content to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dd JavaScript statements to a Web page using the HTML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cript type="text/javascript"&gt; . . . 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rowser displays the page, any statements inside the SCRIPT tags are executed and the result is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B27-5F0C-4D11-BFAC-9F882226EC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Dynami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low is a simple Web page with dynamic cont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ynamic content can be mixed with static HTML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demonstrates two types of JavaScript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asks the user for input and stores that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writes text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3316320"/>
            <a:ext cx="6172200" cy="32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7B3-3AE9-48F2-872C-7A4F14353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assignment statement involv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parate window is opened with a text box for the user to ent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is done typing, he/she can click on the OK butt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OK is clicked, the text entered is assigned to 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name used to symbolize a dynam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sed to store the text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492444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39B-AEC0-4275-9F01-8FC32FB37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n assignment statement using a promp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riable name can vary depending on the task at h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is used to store the user's first name, s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meaningful 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mpt message that appears in the window can likewis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"Please enter your name" tells the user what is exp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48120" cy="23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8FC-9548-46DC-980B-BD2D04A54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 write statement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specified in the statement is written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can inclu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literal – text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bination of strings and variables, connected via '+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Hello " + firstName +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, welcome to my Web page.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variable is encountered, the browser substitutes the value currently assigned to that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20A-7F22-4E23-800D-4D6A231E3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 write statemen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MESSAGE TO BE DISPLAYED " + VARIABL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 MORE MESSAGE" + ..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the statement can be broken across lines, as long as no string literal is split (i.e., the beginning and ending quotes of a string must be on same li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ieces of the message are displayed in sequence, with no spaces in betw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spaces, you have to enter them in the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B52-91B9-4FF4-A9F8-B66D140CC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rmatte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utput produced by a write statement is embedded 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displays this output just as it does any oth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xt contains HTML tags, the browser will interpret the tags and format the text according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&lt;p&gt;Hello &lt;i&gt;" + firstNam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&lt;/i&gt;, welcome to my Web page.&lt;/p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ing the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rstNam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Dave"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would execute the statement to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ello &lt;i&gt;Dave&lt;/i&gt;, welcome to my Web page.&lt;/p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would be displayed by the browser 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a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elcome to my Web pa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69C-7149-428D-B9B9-634F63BFAC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