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EE27-3ACF-4506-8E43-934965F5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58EE-C0AD-45B3-A7B8-78934014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3BC3-C9A0-4026-B630-449B3C0B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A562-D6CE-4554-B966-73D0F957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AF2D-11AC-4EA4-BF98-23481CA4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54FB-DDCD-4C2B-909D-752A73F8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327F-4682-44C2-9198-E97266B1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A52A-8899-49B8-A6CA-2F2A9213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B2BA-A711-4406-A707-698EFC80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56A6-833D-4E01-A6DD-B554E61E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28E1-7809-4223-B1F2-B24FA18E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B323-1430-4BDA-A901-A1E90E7F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58B1-FBEE-4D53-9BA9-3CD9AEDF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206A-BA20-43C5-B18D-144C8103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6B86-A46F-42C8-8B9F-531CAEF4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96C4-0B4C-4056-A258-6A69A2E0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31FC-C2C0-4538-A82E-C716AB7F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E31F-4068-49E1-A904-C6819446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A366-F808-443C-899C-B5B8C56E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4A8D-1D14-4BF7-B2EA-AE548CAC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542A-59F7-4D71-B201-48467CB6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974A-DC89-4E96-8750-93583FA4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A914-BE5E-452A-A4D1-D190BFA6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4945-E0FF-4781-8359-E428BF9F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C22D-84A7-4AA2-9163-97E4CF84D9F0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B82C-6DA9-43D2-8ECE-FC3AC7F65DC7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ationmaster.com/encyclopedia/Image:Grace-Hopper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pter 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History of Comput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7109-1BAD-451E-AE43-2E02666D874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4: VLSI (cont.)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447920"/>
            <a:ext cx="5410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106200" indent="-106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th VLSI came the rise of personal comp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975 - Bill Gates &amp; Paul Allen founded Microsof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tes wrote a BASIC interpreter for the first PC (Alta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977 - Steve Wozniak &amp; Steve Jobs founded App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nt from Jobs' garage to $120 million in sales by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176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980 - IBM introduced P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crosoft licensed the DOS operating system to IB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984 - Apple countered with Macintos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roduced the modern GUI-based OS (which was mostly developed at Xero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985 - Microsoft countered with Window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867280" y="1457280"/>
          <a:ext cx="2895840" cy="2691000"/>
        </p:xfrm>
        <a:graphic>
          <a:graphicData uri="http://schemas.openxmlformats.org/drawingml/2006/table">
            <a:tbl>
              <a:tblPr/>
              <a:tblGrid>
                <a:gridCol w="28958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chest People in the World (Forbes.com, 3/8/0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ill Gates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6 bill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rren Buffe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2 bill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los Slim Helu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9 bill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gvar Kamprad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3 bill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 Lakshmi Mittal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2 bill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. 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Paul Allen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 bill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7985160" y="6051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480060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106200" indent="-106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980's - object-oriented programming beg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resented a new approach to program design which views a program as a collection of interacting software objects that model real-world ent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malltalk (Kay, 1980), C++ (Stroustrup, 1985), Java (Sun, 199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251A-57E5-4A60-BF94-8FA2A475C9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620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5: Parallelism/Networks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781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latest generation of computers is still hotly debat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 new switching technologies, but changes in usage have occur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-end machines (e.g. Web servers) can have multiple CPU'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97, highly parallel Deep Blue beat Kasparov in a chess mat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2003, successor Deep Junior played Kasparov to a dra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3352680"/>
            <a:ext cx="51055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106200" indent="-106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st computers today are networ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net traces its roots to the 1969 ARPA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inly used by government &amp; universities until the   late 80s/early 9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71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Web was invented by Tim Berners-Lee in 19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signed to allow physics researchers to share data and 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 popular until 1993 when Marc Andreessen developed a graphical browser (Mosa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16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reessen would go on to found Netscape, and Internet Explorer soon fol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3353040" cy="2355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0880" y="5692680"/>
            <a:ext cx="3353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“Internet Domain Survey.” Internet Software Consortium, July 200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Netcraft Web Server Survey.” Netcraft, July 2006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7A92-F3F3-4F7A-96DA-1A01D961EB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istory of comput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3880" y="4027320"/>
            <a:ext cx="5867640" cy="18399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lculating devices have been around for millennia (e.g., abacus ~3,000 B.C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rn "computing technology" traces its roots to the 16-17th centur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part of the "Scientific Revolution", people like Kepler, Galileo, and Newton viewed the natural world as mechanistic and understand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led to technological advances &amp; innov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34152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rom simple mechanical calculating devices to powerful modern computers, computing technology has evolved through technological breakthroug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0ED5-73A2-47EB-9C75-97F28BF4A1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620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0: Mechanical Computers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50440"/>
            <a:ext cx="81421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642 – Pascal built a mechanical calculating ma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d mechanical gears, a hand-crank, dials and knob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similar machines follow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2971800"/>
            <a:ext cx="69343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24000" indent="-32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805 – the first programmable device was Jacquard's l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loom wove tapestries with elaborate, programmable patte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pattern was represented by metal punch-cards, fed into the lo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ing the loom, it became possible to mass-produce tapestries, and even reprogram it to produce different patterns simply by changing the 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4880" y="4724280"/>
            <a:ext cx="7947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24000" indent="-32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 1800's – Babbage designed his "analytical engin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s design expanded upon mechanical calculators, but was programmable via punch-cards (similar to Jacquard's lo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bbage's vision described the general layout of modern comp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 never completed a functional machine – his design was beyond the technology of the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29560" y="1371600"/>
            <a:ext cx="1857240" cy="1362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326360" y="2819520"/>
            <a:ext cx="137628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22D-D778-4549-8B7C-0FFFF806AC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0 (cont.)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5943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890 – Hollerith invented tabulating machin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igned for tabulating 1890 U.S. Census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 to Jacquard's loom and Babbage's analytical engine, it stored data on punch-cards, and could sort and tabulate using electrical pi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ing Hollerith's machine, census data was tabulated in 6 weeks (vs. 7 years for the 1880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llerith's company would become IB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591000"/>
            <a:ext cx="579132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24000" indent="-32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930's – several engineers independently built "computers" using electromagnetic re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electromagnetic relay is physical switch, which can be opened/closed via electrical curr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use (Nazi Germany) – his machines were destroyed in WW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anasoff (Iowa State) – built a partially-working machine with his grad 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bitz (Bell Labs) – built the MARK I computer that followed the designs of Babb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1600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50000"/>
              <a:buFont typeface="Wingdings" charset="2"/>
              <a:buChar char=""/>
              <a:tabLst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capabilities by modern standards: could store only 72 numbers, required 1/10 sec to add, 6 sec to 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160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0000"/>
              <a:buFont typeface="Wingdings" charset="2"/>
              <a:buChar char=""/>
              <a:tabLst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ill, 100 times faster than previous technolog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781680" y="3654360"/>
            <a:ext cx="1863720" cy="2441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400800" y="1295280"/>
            <a:ext cx="2271600" cy="19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8B2A-A3CC-4B97-A020-0946BB4517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1: Vacuum Tubes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5181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 1940's – vacuum tubes replaced rel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vacuum tube is a light bulb containing  a partial vacuum to speed electron fl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cuum tubes could control the flow of electricity faster than relays since they had no moving pa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nted by Lee de Forest in 190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3124080"/>
            <a:ext cx="532296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24000" indent="-32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940's – hybrid computers using vacuum tubes and relays were bui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53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53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COLOSSUS (194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56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rst "electronic computer", built by the British govt. (based on designs by Alan Tur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56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d to decode Nazi communications during the 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56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mputer was top-secret, so did not influence other resear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56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2653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ENIAC (194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56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rst publicly-acknowledged "electronic computer", built by Eckert &amp; Mauchly (UPen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56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ined 18,000 vacuum tubes and 1,500 rel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56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ighed 30 tons, consumed 140 kwat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91320" y="3794040"/>
            <a:ext cx="3047760" cy="2378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9986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DDF2-8414-4EB9-B60C-27B2C26542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39560" y="2666880"/>
            <a:ext cx="83995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24000" indent="-32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on Neumann popularized the idea of a "stored program" comp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14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ory stores both data and progra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14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entral Processing Unit (CPU) executes by loading program instructions from memory and executing them in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14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put/Output devices allow for interaction with the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14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14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irtually all modern machines follow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14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von Neumann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9680" indent="-21564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(note: same basic design as Babb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1 (cont.)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9956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LOSSUS and ENIAC were not general purpose compu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uld enter input using dials &amp; knobs, paper tap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 to perform a different computation, needed to reconfig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908680" y="3809880"/>
            <a:ext cx="2168640" cy="1062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5105520"/>
            <a:ext cx="8399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24000" indent="-3240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ming was still difficult and tedi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machine had its own machine language, 0's &amp; 1's corresponding to the settings of physical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50's, assembly languages replaced 0's &amp; 1's with mnemonic n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stead of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10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AE0B-7D88-4DE7-B29C-7750781B05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2: Transistors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579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 1950's – transistors began to replace tub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transistor is a piece of silicon whose conductivity can be turned on and off using an electric curr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y performed the same switching function of vacuum tubes, but were smaller, faster, more reliable, and cheaper to mass produ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nted by Bardeen, Brattain, &amp; Shockley in 1948 (earning them the 1956 Nobel Prize in physic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some historians claim the transistor was the most important invention of the 20th centu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3962520"/>
            <a:ext cx="7620120" cy="22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24000" indent="-32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s became commercial as cost drop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igh-level languages were designed to make programming more natu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TRAN (1957, Backus at IB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P (1959, McCarthy at M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SIC (1959, Kemeny at Dartmout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BOL (1960,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Murray-Hopper at DO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mputer industry grew as businesses could afford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nd use comp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1600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ckert-Mauchly (1951), DEC (195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1600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BM became market force in 1960'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Grace Hopper (January 1984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676760"/>
            <a:ext cx="1407960" cy="1647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681960" y="1219320"/>
            <a:ext cx="1985760" cy="259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A8FA-B164-489B-8CCA-C2028D7D56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3: Integrated Circuits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7600" y="1434960"/>
            <a:ext cx="58165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 1960's - integrated circuits (IC) were produc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yce and Kilby independently developed techniques for packaging transistors and circuitry on a silicon chip (Kilby won the 2000 Nobel Prize in physic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advance was made possible by miniaturization &amp; improved manufactu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owed for mass-producing useful circuit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971 – Intel marketed the first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microprocesso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 4004, a chip with all the circuitry for a calcula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34880" y="4324320"/>
            <a:ext cx="82519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24000" indent="-32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960's saw the rise of Operating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call: an operating system is a collection of programs that manage peripheral devices and other re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60's, operating systems enabled time-sharing, where users share a computer by swapping jobs in and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3440" indent="-2718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computers became affordable to small businesses, specialized programming languages were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51080" indent="-2160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scal (1971, Wirth),  C (1972, Ritch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553080" y="1371600"/>
            <a:ext cx="2190960" cy="1441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553080" y="2895480"/>
            <a:ext cx="21862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DC87-0CCE-402A-9B68-DD8936331A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Generation 4: VLSI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te 1970's - Very Large Scale Integration (VLS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the late 1970's, manufacturing advances allowed placing hundreds of thousands of transistors w/ circuitry on a chi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"very large scale integration" resulted in mass-produced microprocessors and other useful IC'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ce computers could be constructed by simply connecting powerful IC's and peripheral devices, they were easier to make and more afford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666880" y="3276720"/>
            <a:ext cx="3353040" cy="3181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666880" y="6415200"/>
            <a:ext cx="335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Intel Research. “Silicon—Moore’s Law.” October 2006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2056-63F4-4E5E-AB69-8EFB24FC08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12:34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