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38C-1F6A-4B5D-9279-30CCD785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F87-4BC5-4F07-A8A9-20F2A15D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883-53AD-4F44-80DC-696302FF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5AB-A3BA-4499-AA22-50135BE7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5FE4-50F6-4DA5-BA70-B45FE2A8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3124-A4E1-492E-A717-2EB408C1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CBE2-0DFF-4002-ACC7-C96C66D9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1C79-C56C-4502-88AB-2BCB181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84EE-FB5A-4DAD-B551-06DBCC3C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1125-5863-4298-A0A6-AB528D47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1BBD-6A76-415E-B42A-0083EF6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A01-1FDB-4395-B5AB-F164F04B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28EE-F7B7-45A7-8202-9F374FB4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4C2F-EF76-41F6-9894-8D8BC9EA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7E8D-EAE6-4E08-B443-24239328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78F0-87B7-428F-8ED7-140430FC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198D-5085-4224-A103-B315EC8F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C9C-04DF-4152-BFDB-50DBDED1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A91-3D6E-4312-BE2F-61938DC0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920-5D60-4DD0-AFF4-DF423942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369-F908-4A7C-BABD-AFDFA7D1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938-DFFA-458E-93A1-F140542E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9E0-F49C-4529-B991-3780A319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65D-8A7B-4FFB-899C-8B75C3A1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08B5-E6F1-4876-95E8-0B01A1F5747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C493-5DC8-438A-AA84-26094CBE2A0B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vaScript Numbers and Expres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F7EC-5731-4832-B2AB-459E2B5509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versio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74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at the prompt has a default value of 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57600" y="1295280"/>
            <a:ext cx="4952880" cy="242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4952880" cy="24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49A-17B8-430B-BC57-9E3219F9A3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Patter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tasks that we will consider have the same basic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mpt the user for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 them in varia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form some calculation(s) using those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play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surprisingly, there is a pattern to the c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script type="text/javascript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1 = prompt("PROMPT MESSAGE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1 = parseFloat(number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2 = prompt("PROMPT MESSAGE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2 = parseFloat(number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N = prompt("PROMPT MESSAGE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N = parseFloat(number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answer = SOME EXPRESSION INVOLVING number1, …, numberN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MESSAGE INVOLVING answer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498-78CF-48E2-9077-8CD215E1B8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edefined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provides an extensive library of predefined mathematical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urns the square root of a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sqrt(9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urns the maximum of two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max(3.2, 1.8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3211560"/>
            <a:ext cx="5943600" cy="32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565-FEF0-4D55-BD3D-415DA7FBD3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ster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668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could be modified to test a variety of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6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nge the function call in the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6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6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ter various inputs and observe the corresponding outpu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52680" y="1355760"/>
            <a:ext cx="4876920" cy="2378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4876920" cy="23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2ED-07D0-4C5B-817D-0B62F44E44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ther Useful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h.pow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ises a number to a pow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pow(2, 10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102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pow(2, -1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urier New"/>
              </a:rPr>
              <a:t>-1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0.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pow(9, 0.5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urier New"/>
              </a:rPr>
              <a:t>0.5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50532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h.rand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tes a random number in the range [0…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this function has no inputs; it returns a different number each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random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330085256267488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random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213335955823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random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89750017377582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1C8-406E-4563-82C5-AE44F0BF31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rrors and Debugg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mputer jargon, the term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ug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fers to an error in a progr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rocess of systematically locating and fixing errors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ebug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ree types of errors can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ntax erro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ypographic err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omitting a quote or misspelling a function n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 browser catches these, they are usually "easy" to identify and fi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un-time erro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ccur when operations are applied to illegal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attempting to multiply a string or divide by z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so caught by the browser, which either produces an error message or else returns a special value (string multiplication produc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for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 a Numbe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"; division by zero produc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finit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 erro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laws in the design or implementation of a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ever your program produces the wrong res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y are not caught by the browser (the program is legal, just not what you wanted), logic errors are hardest to identif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486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technique for identifying bugs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agnostic write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various intervals in the code, write out the values of key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then isolate at what point the program is going w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364-5C6B-4653-B126-E35C4707A8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 Typ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ch unit of information processed by a computer belongs to a general category or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ata typ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string, number, Boolean (either true or fal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ch data type is associated with a specific set of predefined operators that may be used by programmers to manipulate values of that typ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e have seen string concatenation via 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ly, standard operators are predefined for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 (+), subtraction (-), multiplication (*), division (/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s can be assigned various kinds of numerical values, including mathematical expressions formed by applying operators to numb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n expression appears on the right-hand side, the expression is evaluated and the resulting value is assigned to the variable on the left-hand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ord = "howdy" + " doo"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"howdy doo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50/4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4952880"/>
            <a:ext cx="1219320" cy="4572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5867280"/>
            <a:ext cx="1219320" cy="4572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ED5-549D-4A60-BA0C-5FA283CF17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and Express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ly, expressions can appear in write 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parentheses can be used to make sub-expression grouping explic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.write(3 + 7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ri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.write("The sum of is " + (3 + 7)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ri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he sum is 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657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variable appears in an expression, the value currently assigned to that variable is substit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4495680"/>
            <a:ext cx="5867640" cy="17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BFA-F1EC-45B6-973E-A358165145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umber Represent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facts about JavaScript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improve readability, very large or very small number are displayed in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cientific notation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e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resents the valu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e24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000000000000000000000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971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stores all numbers in memory cells of a fixed size (64 bi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a result, only a finite number of values can be re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308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represented, b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309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reated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fi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-32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represented, b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-32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reated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within the range 1e-323 . . . 1e309, not all numbers can be re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between any two numbers lie infinitely more number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can represent approximately 17 significant dig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.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9999999999999999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represented exac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99999999999999999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rounded u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B4B-CBAA-45CB-9A0D-4A449CA9D4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ixed Express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JavaScript, the + operator serves two purpo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pplied to numbers, + means ad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pplied to strings, + means concate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about a mixed expressio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3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pplied to a string and a numb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 is converted to a string (effectively, by placing quotes around it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 string concatenation is perfo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267080"/>
            <a:ext cx="3962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expressions involving + are evaluated left-to-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have consequences in the way mixed expressions are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DVICE: always use parentheses to group nested sub-expre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76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4114800" cy="176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22C-A53F-4890-8BFF-90F1D8D7A1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mpting for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cial care must be taken when prompting the user for number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lways returns a string, even if the user enters only dig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if the user enters 500 at a prompt, then the value "500" is retur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rompt("Enter a number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One more is " + (myNumber + 1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user entered 12 at the prompt, what would be displayed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4290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essage displayed would be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One more is 121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809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mpt return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2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which is stored i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arenthesized sub-expressi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myNumber + 1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s evaluated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is is a mixed expression, the number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s converted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n concat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esult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21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s then concatenated to the end o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One more is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needed is a mechanism for converting strings of digits into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"500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00, "1.314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.314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accomplished in JavaScript using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D81-649B-4B34-A574-D07F0BCEA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mathematics,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mapping from inputs to a single 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absolute value function maps one number to anot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5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, -2.4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2.4, 17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7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ly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maps strings of digits to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500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00, "1.314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.314, "0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33720" y="2340000"/>
                <a:ext cx="23619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|</m:t>
                          </m:r>
                          <m:r>
                            <m:t xml:space="preserve">n</m:t>
                          </m:r>
                          <m:r>
                            <m:t xml:space="preserve">|</m:t>
                          </m:r>
                        </m:e>
                        <m:e/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f n </m:t>
                                          </m:r>
                                          <m:r>
                                            <m:t xml:space="preserve">≥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n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f n </m:t>
                                          </m:r>
                                          <m:r>
                                            <m:t xml:space="preserve">&lt;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0  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457200" y="41148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om a programmer's view, a function is a "unit of computational abstrac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e is some computation required to calculate the output given the inpu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JavaScript function encapsulates that computation and hides the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does not need to know how the function works, only how to apply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ying a function to inputs is known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alling the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utput of a function call is known as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BBB-9BEE-48B7-9BBC-7F64225047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arseFlo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function call can appear anywhere in a JavaScript expre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expression is evaluated, the return value for that call is substitu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rompt("Enter a number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arseFloat(myNumber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One more is " + (myNumber + 1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statement prompts the user and stores their input (sa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2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i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statement call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o convert the string to a number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and then reassigns that number back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statement uses the number valu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1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o display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One more is 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4197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, the following is not an error (but probably not what was inten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rompt("Enter a number", 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parseFloat(myNumb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One more is " + (myNumber + 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l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returns a number, but nothing is done with that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the only way to change the value of a variable is via an assignment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430-4D60-4379-A233-917CA107F6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mperature Convers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page prompts the user for a temperature (in Fahrenheit), stores the input as a number, then converts that temperature to Celsi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705720" cy="40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F09-EDD7-4852-8D56-E95E8BDB63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3:4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