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65F-94A5-4CDE-879F-453D2029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921-94BF-4627-8D2D-D6E6761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F18-E642-455E-9FB7-B2674694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BF9-1B9A-40F8-AFCD-75D31123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005-037D-4FEB-86CE-B87FECB8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5012-D76A-4828-A432-C7E8BE36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D72F-1BC5-4F7C-8620-65939EC1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16AB-875E-4405-BA59-31FB661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8FB0-B53A-49F7-B1EA-5A905E23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4C41-D4B2-4488-99A6-C322E40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E29-743F-4CEC-B16F-3657B8F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8C6-969A-40FB-A5A6-88FE0D00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09EC-8CEE-4BE2-9235-06ADFA3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BE3-5F46-4EF7-93F1-4EBE264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763-D4F4-468E-A2AA-5CB6D6C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9D7-0714-4EF4-84F4-169E30E4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9581-8FC3-4FCA-AAEB-2841A58D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791-E67D-4501-8B7D-D82E5557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2D3-CFD1-451E-B774-1C1278B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AE3-B8F0-4CCE-B32A-8850668B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B37-F6D1-4304-B94F-10CD493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696-F40A-4EFD-A72D-59A23BC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E1B-E022-4921-ADFF-D398F4D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334-5661-4545-91C2-E8AC232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0A5A-76B7-462E-9F71-5E3ECC228D9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208-8C49-4F13-BCB3-DE5CDA700D9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nd Dynamic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C6AD-78BE-4DB3-80CE-73E433F56E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yntax Erro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rror in the format of an HTML or JavaScript statements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yntax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syntax errors are ignored by the brows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sspelling an HTML tag na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JavaScript syntax errors will generate an error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is example is illegal since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string is broken across lin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unterminated string lit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e value of x is " 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missing ) after argument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4DA-0D75-4224-A1C6-1A1E855C06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JavaScript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variable name can be any sequence of letters, digits, and underscores (but must start with a let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id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tempInFahr   SUM   current_age   Sum2Date  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alid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2hotforU   salary$   two words   "sum_to_date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names are case sensitive, so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treated as different vari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1560" y="3809880"/>
            <a:ext cx="56199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55A-B1B8-436A-A7D6-68BC0DD4C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&amp; Memory Cel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keep track of the values that variables represent by associating each variable with a specific piece of memory,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JavaScript assignment is execute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entered by the user (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Dave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is stored in a memory cell associated with the 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future reference to the variable name evaluates to the value stored in its associated memory ce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049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35B-5F55-4A75-8305-9C5C82CB3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ce you create a variable, you can repeatedly assign values to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y the most recent value is retained 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 to prompt the user for two different fo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only one food is needed at a time, we can reuse the same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31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4EA-B87C-4266-A037-64C4CED28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54200"/>
            <a:ext cx="24386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favorite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48040"/>
            <a:ext cx="469584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4417920"/>
            <a:ext cx="4686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93D-25A4-4F92-B5B0-E7AD08383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least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least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54200"/>
            <a:ext cx="243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cond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least favorite food (overwriting the old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4552920" cy="222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2D7-04F4-4B9A-A2BA-B8761D74E1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s with Defaul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prompts have been of the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 it makes sense to provide default values for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a string literal instead of "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string will appear in the prompt box when it app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wants to accept the default value, can just click 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ed to create a page that displays a verse of the children's song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ld MacDonald had a 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age should be able to display any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ccomplish this by prompting the user for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default values so that it is easy to display a common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imal = prompt("Enter a kind of animal:", "co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ound = prompt("What kind of sound does it make?", "mo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47D-49C3-473F-BB55-F2AE2C1EF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prompts the user for the animal and sound ("cow" and "moo", by default), then displays a verse using those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gs are embedded to break the output onto separate l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40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7DE-C142-4FBD-B6F9-C047A1CAB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values automatically appear in the prompt box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click OK to accept the defa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 new values into the promp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029200" cy="24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50292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BA0-BFFF-4815-8041-F2328C48DC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714760"/>
            <a:ext cx="580068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52680" y="1379520"/>
            <a:ext cx="529596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287-4C9A-4712-AAD1-6A9305D50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atic vs. Dynamic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uses HTML tags to identify page content and formatting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can produce onl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atic p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c pages look the same and behave in the same manner each time they are loaded into a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1995, researchers at Netscape developed JavaScript, a language for creating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ynamic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pages with JavaScript can change their appearan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er time (e.g., a different image each time that a page is loaded)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sponse to a user’s actions (e.g., typing, mouse clicks, and other input meth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D77-CE63-4D49-96DA-4D1B70055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izing Chan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we have used variables to store values read in via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common use is to store values used repeatedly in a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we wanted to change the spelling of the refrain in Old MacDonal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"E-I-E-I-O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"Eeyigh-Eeyigh-Oh"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is, would need to find and update all occurrences in the 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124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could use a variable to store the ref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-I-E-I-O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w, to update the value in the entire verse, simply must change the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eyigh-Eeyigh-Oh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094-D424-4D43-97E1-D59D3F230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ming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language for specifying instructions that a computer can 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a programming language specifies a particular action that the computer is to carry 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changing an image or opening a window when a button is click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rogramming languages are gener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pular languages include C++, Java, J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was defined for a specific purpose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dding dynamic content to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dd JavaScript statements to a Web page using the HTML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cript type="text/javascript"&gt; . . . 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rowser displays the page, any statements inside the SCRIPT tags are executed and the result is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899-018B-47BF-90E5-15AB0289E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Dynami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low is a simple Web page with dynamic cont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ynamic content can be mixed with static HTML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demonstrates two types of JavaScript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asks the user for input and stores that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writes text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3316320"/>
            <a:ext cx="6172200" cy="32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C8F-DC37-4C86-874F-86E87A7C0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assignment statement involv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parate window is opened with a text box for the user to ent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is done typing, he/she can click on the OK butt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OK is clicked, the text entered is assigned to 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name used to symbolize a dynam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sed to store the text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492444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10D-2199-463A-A7F1-1443454AA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n assignment statement using a promp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riable name can vary depending on the task at h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is used to store the user's first name, s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meaningful 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mpt message that appears in the window can likewis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"Please enter your name" tells the user what is exp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48120" cy="23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BDC-8D03-4A24-8D93-0E44EF7B7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 write statement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specified in the statement is written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can inclu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literal – text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bination of strings and variables, connected via '+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Hello " + firstName +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, welcome to my Web page.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variable is encountered, the browser substitutes the value currently assigned to that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398-93A3-4124-9D9A-C2E380B9E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 write statemen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MESSAGE TO BE DISPLAYED " + VARIABL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 MORE MESSAGE" + ..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the statement can be broken across lines, as long as no string literal is split (i.e., the beginning and ending quotes of a string must be on same li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ieces of the message are displayed in sequence, with no spaces in betw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spaces, you have to enter them in the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75C-3269-4816-B700-D3D9F3D26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rmatte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utput produced by a write statement is embedded 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displays this output just as it does any oth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xt contains HTML tags, the browser will interpret the tags and format the text according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&lt;p&gt;Hello &lt;i&gt;" + firstNam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&lt;/i&gt;, welcome to my Web page.&lt;/p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ing the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rstNam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Dave"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would execute the statement to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ello &lt;i&gt;Dave&lt;/i&gt;, welcome to my Web page.&lt;/p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would be displayed by the browser 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a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elcome to my Web pa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B55-976C-4665-BA29-187FE6227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