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1AA6-6C95-4B2E-9FD3-C0883126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CE3-B720-4514-99F4-852858BA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ED4E-F2AC-498E-9F82-9F43EC79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0E0-F1E2-4411-BC33-86045E7F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5589-8999-477E-B55F-A874ABA4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F359-CC39-4283-9CB9-FF4084E7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53D4-DD6A-453A-9870-51BA4819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F7E5-8245-4A66-8DD5-42825EBD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3977-3598-47BF-8B25-37617B69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85D4-3D53-478F-A034-000D36FE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09B1-377D-4704-B8E5-D39C5A7A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90F-2649-4B17-A29B-EFD9242A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EC87-7EF5-4FC0-BDB7-518A2786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2E593-2A5E-465F-A547-68F9269F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AD4C-AF8B-4BEA-A741-3A9A17E8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823E-E0A7-4507-BC48-509BA1D5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991E-54C5-44E4-A327-3F43294A3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1BB-7E4D-414D-B3B7-2EE00239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BDD-8788-4463-8450-04734DA2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1D3-C818-4D9F-9413-999966B5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85D1-8C29-435A-ACB0-755F2C53C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5EEF-697E-4634-BF1D-49563713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AE15-5E02-4382-88F4-1F76FFC6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B61-8019-453D-A7D7-61AFC236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ED9F-3FF3-4E18-B81B-4BDD72AAAF71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ABD6-97E6-491C-A6A3-2233DF4FDAD2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ent-Driven P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EBD9-9E3B-4A3A-9893-5BC03E8078A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400440" y="1599840"/>
            <a:ext cx="2590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hrBox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used for in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utton's ONCLICK attribute specifies the code for converting the temperat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elsiusBox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 used for outpu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xt Boxes for Inpu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5867280" cy="423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19640" y="4495680"/>
            <a:ext cx="3162240" cy="204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A14B-2AD1-43F6-9E96-2B29E8646A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put and Outpu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447920"/>
            <a:ext cx="327672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: the same text box can be used for both input and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modify the conversion page to allow for entering a temperature in either box, then convert to the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write a simple page in which the user can enter a number, then double it by clicking a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9880" y="1371600"/>
            <a:ext cx="4924440" cy="2119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9880" y="3809880"/>
            <a:ext cx="4924440" cy="208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1978-0944-4FC6-9BD8-88416A0D1D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xt Area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29528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text area is similar to a text box but it can contain any number of text 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 form of a text area el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textarea name="TEXTAREA_NAME" rows=NUM_ROWS cols=NUM_COLS wrap="virtual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INITIAL_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/textare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AME attribute gives the element a name so that it can be refere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OWS attribute specifies the height (number of text lines) of the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LS attribute specifies the width (number of characters) of the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WRAP attribute ensures that the text will wrap from one line to the nex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stead of running off the edge of the text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nlike a text box, opening and closing tags are used to define a text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text appearing between the tags will be the initial text in the text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wise, the contents of a text area are accessed/assigned in the same w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E8D-59DE-4AD8-8E94-EFCAC14A38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48520" y="1676160"/>
            <a:ext cx="26668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user enters first and last names into text bo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long greeting is constructed using the names and assigned to the text are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76960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put/Output via Text Area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5562720" cy="413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952880" y="4572000"/>
            <a:ext cx="3353040" cy="201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F84-33AB-41F0-A3B9-300EDE3A38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ynamic Im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ust as you can use user-initiated events to change the contents of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xt areas and text boxes, you can also dynamically modify im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img id="faceImg" src="happy.gif" alt="Happy Face" /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uses the image stored in the fil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ppy.g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o appear in the pag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ou can change the image by reassigning its SRC attribu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to the way that text boxes/areas have their VALUE attribute reassign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document.getElementById('faceImg').src = "sad.gif"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lace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ppy.g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t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ad.g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4CA-1EDE-460A-9292-EF71F12AB1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80880"/>
            <a:ext cx="7315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ynamic Image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086600" y="1447560"/>
            <a:ext cx="1828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itially the image is set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ppy.gif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button is clicked, images is assigned a new SRC fi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6543720" cy="3591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648320" y="4419720"/>
            <a:ext cx="3581280" cy="223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5C83-74A0-4291-9429-9CAD7C628C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plifying butt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nctions provide a mechanism for simplifying complex buttons such as th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recall from Chapter 5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unctions minimize the amount of detail that has to be conside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can u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sq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without worrying about how it wor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unctions reduce the length and complexity of c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single call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th.sq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replaces the underlying complex algorith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371600"/>
            <a:ext cx="8305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ider the button from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reetbox.htm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ize of ONCLICK attribute makes the button complex and difficult to 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s, must be careful with nested quotes ("…" vs. '…'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00200" y="1886040"/>
            <a:ext cx="5191200" cy="11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ABD-0280-45A9-90F3-0C9BAAB0F2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4674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imple user-defined function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addition to JavaScript's predefined functions, the user can define new functions in the HEAD section and call them within the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e will explore user-defined functions fully in Chapter 9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now, the following simple form suffices for simplifying butt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00200" y="3048120"/>
            <a:ext cx="6019920" cy="1414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47242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function definition begins with the wor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unc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llowed by its name an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function name should be descriptive of the task being perform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nes beginning wit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re comments that describe the function's 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ents are ignored by the interpreter, but make code more user-re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tatements to be executed when the function is called are placed between the curly br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06B-C8FD-4CA7-84CE-A3DBB9AC07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reeting revisite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43240" y="1371240"/>
            <a:ext cx="2971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code from the button is moved to the user-define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ree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a result, the button is greatly simplifi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5346720" cy="5429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5562720" y="2787480"/>
            <a:ext cx="3352680" cy="2013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943600" y="5105520"/>
            <a:ext cx="2895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GENERAL RULE: if more than one statement is to be associated with a button, define a separate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D43-7554-467F-8AC5-6124187C65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Event-driven P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e popular feature of the Web is its interactive na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you click on buttons to make windows app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you enter credit card information in a form and submit i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ges that respond to user actions such as mouse clicks or form entries are known a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vent-driven p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avaScript code can be combined with HTML elements such as buttons, text fields, and text areas to produce event-driven p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0561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vent handler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n HTML element that can be programmed to respond to a user’s 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implest event handler is a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utton can be associated with JavaScript code that will execute when the button is click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90920" y="5504040"/>
            <a:ext cx="2590560" cy="66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0F5-B5A3-4F8B-AE4B-AD65BC24AB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23888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uttons and Form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371600"/>
            <a:ext cx="8229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 form of a button el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input type="button" value="BUTTON_LABEL" onclick="JAVASCRIPT_CODE" 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YPE attribute of the INPUT element identifies the element to be a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VALUE attribute specifies the text label that appears on th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ONCLICK attribute specifies the action to take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y JavaScript statement(s) can be assigned to the ONCLICK attrib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can be (and frequently is) a call to a JavaScript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3962520"/>
            <a:ext cx="8381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or exampl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input type="button" value="Click for Free Money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                   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onclick="</a:t>
            </a: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alert('Yeah, right.');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" 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predefined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er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unction displays a message in a new 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the message 'Yeah, right.' is displayed at the click of the 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tring can be denoted using either double("…") or single ('…') qu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re, single quotes must be used to avoid confusion with the ONCLICK qu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CA4-9DB5-407E-B954-FDEA187A33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andom Number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the task of generating random nu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rlier, we did this by embedding JavaScript code in SCRIPT t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time the page was loaded in the browser, the code was executed and the random number was written into the HTML text using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ument.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RAWBACK: the user had to reload for each random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TERNATIVE: place a button in the page with associated code for generating and displaying the random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time the user clicks the button, the code for generating and displaying the number is execu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5F8-D0BB-4B11-92B3-CDC66FB794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120" y="1447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the button is clicked, two JavaScript statements are execu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number in the range 1..100 is randomly selec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772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t number is displayed in an alert wind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6858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uckyForm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3075120"/>
            <a:ext cx="5638680" cy="321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91320" y="2286000"/>
            <a:ext cx="3162240" cy="23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0FC9-3AE7-4180-8F12-36CFC05D08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utput via Text Box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button provides a simple mechanism for user interaction in a Web pag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y clicking the button, the user initiates some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ext box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an event-handler that can display text (a word or phras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like an alert window, the text box appears as a box embedded in the p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xt can be written to the box by JavaScript code (i.e., the box displays outpu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952880" y="4286160"/>
            <a:ext cx="381024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r example, we could reimplement the lucky number page using a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ext box containing the random number is embedded in the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n't require the user to close the alert window after each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23960" y="3522600"/>
            <a:ext cx="4000320" cy="296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C3A-D840-43D5-BB80-9A7C6FDEDC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utput via Text Box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523880"/>
            <a:ext cx="8534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 form of a text box elemen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9ff"/>
                </a:solidFill>
                <a:latin typeface="Courier New"/>
              </a:rPr>
              <a:t>&lt;input type="text" id="BOX_NAME" size="NUM_CHARS" value="INITIAL_TEXT" 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YPE attribute of the INPUT element identifies the element to be a text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D attribute gives the element an identifier so that it can be refere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IZE attribute specifies the size of the box (number of characters that f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VALUE attribute specifies text that initially appears in the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19112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display text in a text box, a JavaScript assignment is used to assign to its value 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part of the assignment, must specify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bsolute nam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f the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general form 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document.getElementById('BOX_NAME').value = VALUE_TO_BE_DISPLAYE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7E77-9013-47C4-BBCF-1ADCB2FEFB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400800" y="1295280"/>
            <a:ext cx="2362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button is clicked, the function cal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isplayNumber();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execut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unction generates the random number and assigns it to the text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 a result, each button click yields a new number in the bo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6840" y="456840"/>
            <a:ext cx="7620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ext Box for Displaying Outpu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5638680" cy="380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495680" y="4684680"/>
            <a:ext cx="2705400" cy="20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7389-5F99-40F2-96BE-6B5D00F217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nput via Text Box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 boxes can also be used for receiving user inpu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user can enter text directly into the bo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t text can then be accessed by JavaScript code via the absolute name of the bo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6242"/>
                </a:solidFill>
                <a:latin typeface="Courier New"/>
              </a:rPr>
              <a:t>document.geElementById('BOX_NAME').val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 that the value retrieved from a text box is always a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user enters a number, say 93, then the absolute name will access "93"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ilar to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mp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you must use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o convert the string to its numeric valu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e can revisit our temperature conversion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user enters the Fahrenheit temperature in a text b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t the click of a button, the input is accessed and converted to Celsi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other text box is used to display the converted 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115E-9DAE-44DC-83C9-DF4B59A341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13:0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