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71C3-B7D3-4925-97C4-9DCA498F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4EA8-7ADE-4CC0-93FF-BA5D8B08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BE13-30D7-4E78-A559-F1886399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9891-7453-4FB7-8B5A-67BB74B3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1A85-ECDA-41CB-B275-3876EF4F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FD08-C241-48CF-9247-77EE7644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922F-5EB9-4CF4-B51F-E2C4C647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166D-B9A4-4CBC-9D1B-A6CCF14B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6719-5069-4087-BB8B-6502AC20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098A-DDBA-4826-9DE3-DBAA3880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9444-72B1-48FF-AF46-0D2F006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19F0-50E0-4974-8322-5AD9FB60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01B0-76D5-46DA-8AA5-B05E6083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708E-D5B7-47B9-AB2C-9FBA7728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662C-2D2B-4CE6-BA07-E9F81239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A4A2-063C-4574-A251-39CD2D23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E800-0A5A-4BA7-922A-816229FD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6A48-AB20-4E03-8F9B-753B2EA0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FD1-79AC-48BD-A6E9-B56E6142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96E-5C00-4F51-8F41-71AE3125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DBAF-F6BA-40AC-A17D-4B274E0B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E7F6-CBF8-427F-9F8F-70BE92C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66D-733F-4384-8CAB-34ED147F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C0FB-AD8E-4B9E-9265-3D6184BD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0C6E-7DDA-478F-810D-0563DD3156E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FB5B-96E8-4BDC-B414-948BC726671D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680" y="4419720"/>
            <a:ext cx="6858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straction and User-Defined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8DD5-34B2-4117-A9FC-044C11F562E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claring Local Variab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have seen that variables are useful for storing intermediate steps in a complex compu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in a user-defined function, the programmer is free to create new variables and use them in specifying the function’s compu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by default, new variables used in a function are glob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but what if the same variable name is already used elsewhe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495680"/>
            <a:ext cx="548640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IncomeTax(income, item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income &gt;= 0, itemized &gt;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sults: displays flat tax (13%) due after de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var deduction, taxableIncome,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eduction = Math.max(itemized, 41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axableIncome = Math.max(income - deduction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otalTax = 0.13*taxable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owe $" + totalT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9718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avoid name conflicts, the programmer shoul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ecl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emporary variables to b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variable declaration is a statement that lists all local variables to be used in a function (usually the first statement in a func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   </a:t>
            </a:r>
            <a:r>
              <a:rPr b="0" lang="en-US" sz="1600" spc="-1" strike="noStrike">
                <a:solidFill>
                  <a:srgbClr val="666699"/>
                </a:solidFill>
                <a:latin typeface="Courier New"/>
              </a:rPr>
              <a:t>var LOCAL_1, LOCAL_2, . . ., LOCAL_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05720" y="4572000"/>
            <a:ext cx="22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since these variables are declared as local, they will not affect (or be affected by) any variables with the same names elsewhere in th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D8B-646A-4089-BECF-2592E61F07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 with Retur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splaying results using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cument.wri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e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OK for some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full generality, we need to be able to return an output value, which can then be used in other comput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number = Math.sqrt(9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amountOwed = IncomeTax(38000, 6500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4343400"/>
            <a:ext cx="5105520" cy="20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IncomeTax(income, itemiz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income &gt;= 0, itemized &gt;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turns: flat tax (13%) due after de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var deduction, taxableIncome,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eduction = Math.max(itemized, 41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axableIncome = Math.max(income - deduction, 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totalTax = 0.13*taxable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return totalTa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97180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return statement can be added to a function to specify its output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return statement is reached, the variable or expression is evaluated and its value is returned as the function's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neral form:  </a:t>
            </a:r>
            <a:r>
              <a:rPr b="0" lang="en-US" sz="1600" spc="-1" strike="noStrike">
                <a:solidFill>
                  <a:srgbClr val="666699"/>
                </a:solidFill>
                <a:latin typeface="Courier New"/>
              </a:rPr>
              <a:t>return OUTPUT_VAL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72200" y="4443480"/>
            <a:ext cx="274320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since this function returns the value, it can be used in other computations, e.g., calculate amount owed in 4 pay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payment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ncomeTax(38000, 6500)/4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3731-BAE0-4B1D-BC29-C206B2A559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57440" y="1143000"/>
            <a:ext cx="35053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Newconvert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182880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same computation must be done repeatedly, a function can greatly simplify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77640" indent="-2656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hrToCelsiu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called twice to convert two different temper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593960" cy="628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29200" y="3394080"/>
            <a:ext cx="3933720" cy="23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6BB-85E6-4308-8D3E-639C15993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igning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s do not add any computational power to the langu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definition simply encapsulates other stat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ill, the capacity to define and use functions is key to solving complex problems, as well as to developing reusable co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apsulating repetitive tasks can shorten and simplify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provide units of computational abstraction – user can ignore detai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are self-contained, so can easily be reused in different appl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038480"/>
            <a:ext cx="8305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is it worthwhile to define a fun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a particular computation is complex—meaning that it requires extra variables and/or multiple lines to def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have to perform a particular computation repeatedly within a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defining a function, you must identif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p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mputation to be performed using those inp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utp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EFD4-AE78-405C-89E7-ECAB2E39F81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esign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the task of designing an online Magic 8-bal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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Mattell, Inc.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be able to ask a yes/no type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ceive an answer (presumably, at rando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4648320" cy="3327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257800" y="2819520"/>
            <a:ext cx="335268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uld u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xt area for entering the question (which could be several lines lo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ext box for displaying the answer (which should be sh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536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for initiating the action – which involves calling a function to process the question, select an answer, and display it in the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0A5-EB7D-4D28-B05E-203567DF23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andom.j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-purpose functions can be grouped together in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ibrary is a text file that contains one or more function defin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the functions are defined in the library, that library can be loaded into pages as nee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.g.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ibrary contains useful functions for generating random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5334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load a library of functions in a page, use a special pair of SCRIPT t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type="text/javascript" src="URL_OR_LOCAL_FILENAME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6296040" cy="22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C0FE-3D72-4E65-8138-DFB0F0D18C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Using random.j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page below,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library is accessed via the Web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download the file and store it on your own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n, simply specify the file name in the SRC attribute (the default is that the file is in the same folder as the Web page that includes i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4876920" cy="401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24280" y="3200400"/>
            <a:ext cx="4167360" cy="1620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638680" y="5029200"/>
            <a:ext cx="3200400" cy="1159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note: the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RandomOneOf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function from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random.js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would similarly be useful for the Magic 8-ball  page (in selecting possible answers at rando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75C-61CD-43D0-9E99-6B279F20796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rrors to Avoi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beginning programmers attempt to load a JavaScript code library, errors of two types commonly occur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SCRIPT tags are malformed or the name/address of the library is incorrect, the library will fail to loa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ill not cause an error in itself, but any subsequent attempt to call a function from the library will produ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: Object Expected”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using Internet Explorer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</a:rPr>
              <a:t>Error: XXX is not a function”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(using Firefox), where XXX is the entered na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you use the SRC attribute in a pair of SCRIPT tags to load a code library, you cannot place additional JavaScript code between the ta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nk of the SRC attribute as causing the contents of the library to be inserted between the tags, overwriting any other code that was erroneously placed the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script type="text/javascript" src="FILENAME"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666699"/>
                </a:solidFill>
                <a:latin typeface="Courier New"/>
              </a:rPr>
              <a:t>ANYTHING PLACED IN HERE WILL BE IGNO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script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want additional JavaScript code or another library, you must use another pair of SCRIPT ta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357E-CCEF-4EA3-AF34-8E3A3C97A8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bstrac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straction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 the process of ignoring minutiae and focusing on the big pi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modern life, we are constantly confronted with complex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don't necessarily know how it works, but we know how to use i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ow does a TV work?  a car?  a computer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9718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survive in the face of complexity by abstracting away detai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use a TV/car/computer, it's not important to understand the inner work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ignore unimportant details and focus on those features relevant to using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V has power switch, volume control, channel changer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5720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functions (lik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 provide computational abs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encapsulates some computation &amp; hides the details from the 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only needs to know how to call the function, not how it 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apter 7 introduced simple user-defin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ld encapsulate the statements associated with a button, call the function a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35F-2610-46F5-B443-1BBC5EDE17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 Function Form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write general-purpose functions, we can extend definitions to includ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1) parameters, 2) local variables, and 3) return stat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arameters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re variables that correspond to the function’s inputs (if an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ameters appear in the parentheses, separated by comm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cal variabl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temporary variables that are limited to that function on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require some temporary storage in performing calculations, then declare local variables using the keywor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r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separated by comm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ocal variable exists only while the function executes, so no potential conflicts with other func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turn state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a statement that specifies an output 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ists of the keywor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ollowed by a variable or expre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2076480"/>
            <a:ext cx="5419800" cy="173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C5F6-DCBB-4B05-8F74-D9F51F38B8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Functions with Inpu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of the predefined function we have considered expect at least on inp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kes a number as input, and returns its square root as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(9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kes two numbers as inputs, and returns the maximum as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max(7, 3)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7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nglish, the wor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ameter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fers to some aspect of a system that can be varied in order to control its behavi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JavaScript, a parameter is a variable (declared inside the function's parentheses) whose value is automatically initialized to the corresponding input value when the function is call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meters allow the same function to perform different (but related) tasks when called with different input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9480" y="5052960"/>
            <a:ext cx="4372200" cy="1009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5105520" y="4748040"/>
            <a:ext cx="358128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e call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ChangeImage("happy.gif")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will assign the inpu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"happy.gif"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to the parameter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mgSource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, resulting in the image being assigned to tha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Verdana"/>
              </a:rPr>
              <a:t>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the call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ChangeImage("sad.gif")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will assign the input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"sad.gif"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 to the parameter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mgSource</a:t>
            </a:r>
            <a:r>
              <a:rPr b="0" lang="en-US" sz="1200" spc="-1" strike="noStrike">
                <a:solidFill>
                  <a:srgbClr val="ff0000"/>
                </a:solidFill>
                <a:latin typeface="Verdana"/>
              </a:rPr>
              <a:t>, resulting in the image being assigned to that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B36-AFA6-4527-AD3B-652E9DB0A5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wpics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295280"/>
            <a:ext cx="8305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newpics.html, each button performs a similar task - changing the imag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9880" indent="-2743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ng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ngeIm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suffices for each (using different inpu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6562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614920" y="3014640"/>
            <a:ext cx="3300480" cy="2009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42D4-CA4C-42D4-B732-AD001BEFB2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wmac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1523880"/>
            <a:ext cx="18288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ly, we could redefine oldmac.html from Chapter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858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has 2 inputs: the animal and sound for that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1467000"/>
            <a:ext cx="6019560" cy="518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095880" y="3352680"/>
            <a:ext cx="2919600" cy="1776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0" y="5334120"/>
            <a:ext cx="1828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function can be used to display any verse, given the animal and 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AFC-B6CA-421B-8F29-C2CB6B710B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ultiple Inpu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a function has more than one input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meters in the function definition are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put values in the function call are separated by comm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lues are matched to parameters by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put value in the function call is assigned to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arameter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input value in the function call is assigned to the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parameter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962520"/>
            <a:ext cx="8153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3809880"/>
            <a:ext cx="6567480" cy="25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function OldMacVerse(animal, sou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Assumes: animal and sound are st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Results: displays corresponding Old MacDonald 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OldMacVerse("cow", "moo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OldMacVerse("moo", "cow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743200" y="4114440"/>
            <a:ext cx="67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505320" y="4038120"/>
            <a:ext cx="67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743200" y="4038480"/>
            <a:ext cx="906480" cy="1828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29000" y="4038480"/>
            <a:ext cx="906480" cy="1828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B44E-EA65-4079-802B-AA847738B0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arameters and Local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ameters play an important role in fun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y facilitate the creation of generalized computation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.e., the function defines a formula, but certain values within the formula can differ each time the function is call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ically, a parameter i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ocal variable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ing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t exists only inside its particular fun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function is called, memory cells are allocated for the parameters and each input from the call is assigned to its corresponding parame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ce a parameter has been assigned a value, you can refer to that parameter within the function just as you would any other varia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function terminates, the parameters “go away,” and their associated memory cells are fre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9528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default, variables other than parameters are consider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global,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ning they exist and can be accessed by JavaScript code anywhere in the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: it is possible to use the same name to refer to a local variable and a global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the function, the local variable is acce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utside that function, the global variable is acce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C807-E9BB-4D0E-B5DF-5067704EBE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cal vs. Global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72200" y="1371600"/>
            <a:ext cx="2666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variable names animal and sound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d for parameters in the function definiti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(local variab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d for variables in the BO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(global variab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can think of these as completely separate variables, identifiable via a subscrip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n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OldMacVers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used in the fun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387720" indent="-276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nima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un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ourier New"/>
              </a:rPr>
              <a:t>BODY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re used in the BO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551484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CE7-2AFD-44E6-983E-9A6C30F680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6:16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