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BAD-9593-48B6-BDC3-A449D10F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2AB-409B-4A68-8091-4886F2A6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AF0-2745-4A87-B62B-A1CF9201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AD5-BCE4-4452-9AB9-6B008F6C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9802-6127-422B-983E-AC1E5803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8870-CC1D-4880-BBD2-606EBFC2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6B23-EDDF-48BC-B1B2-E1C68F82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B11D-6A03-485A-ADCE-2CF61FFE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7845-057D-477D-89B0-855DDBC5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9CBA-6C25-425C-BC26-CE640D0A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079-D0C2-4021-B13F-68546AE3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75B-8F93-48D7-ABF1-B7B3072F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6F46-C53C-426B-BE3F-168DCC98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5EF2-46DD-4B2F-AA0E-B8CB484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BBD9-FB54-4E09-9C8C-1BE6534D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C533-F536-4436-B624-2824935D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14B5-4C5C-4676-A8F8-2F9F295C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237-980D-4C0B-AC2F-A8091FC4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70F-2E36-451D-9139-4BD8B6C4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CF8-BA56-4F6E-9C01-EEE15529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647-4F4D-4FA9-91EB-679369DC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061-13F8-40BC-B93A-A22C45D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84A-4D62-4DF1-A01A-25EDE260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8609-2917-4E67-83DE-83FD3869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B401-1CA5-4C5A-A4C9-FEC1C112BA3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FF07-7121-41C2-9B2F-6D9879852B3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4419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Science as a Discip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CF22-B0F9-4471-BF67-BDE6DC294B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and Data Structur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involves developing, analyzing, and implementing algorithms for solving probl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is the process of encoding a message so that it is decipherable only by its intended recipi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esar cipher: shift each letter three down in the alphab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ET TU BRUT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HW WX EUXW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esar cipher is an example o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private-key encry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es on the sender and the recipient sharing a secret k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modern encryption algorithms rely on private key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Digital Encryption Standard (DES) utilizes 56-bit key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48006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55E-B7AC-457D-A8E2-36727F91B3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ublic-Key Encryp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te-key encryption assumes that the sender and the recipient have agreed upon some key ahead of time (which introduces other security ris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itfield Diffie and Martin Hellman propos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ublic-key encry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ign each party a pair of associated keys, one is public and the other is priv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ssage encoded with a public key requires the corresponding private key for decoding, and vice ver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 all secure communications on the Internet use public key encry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for double encryption to also verify the identity of the send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encode messages with your own private key and the recipient’s public key, and decode the message in reve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6553080" cy="19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118-5B25-4197-8864-EDEA70C834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chitectu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methods of organizing hardware components into efficient, reliabl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allel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ltiple processors can sometimes be utilized to share the computational loa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re are costs associated with coordinating the processors and dividing the work, so  not well suited for all tas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ing when parallel processing can be used effectively is a common task for computer archit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Core 2 Duo processor integrates the circuitry for 2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execute two different instructions simultaneously, potentially double execution sp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high-end Web Servers utilize multiple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rvice multiple requests simultaneously by distributing the load among the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57200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ep Blue, IBM's chess playing computer, contained 32 general purpose processors and 512 special-purpose chess 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cessors worked in parallel to evaluate chess moves (could generate and evaluate 200 million chess moves per seco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997, Deep Blue became the first computer to beat a world champion in a chess tourn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4334040"/>
            <a:ext cx="350532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4A1-6589-41F1-8325-769A9E94D0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perating Systems and Net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mechanisms to control the hardware and software components of computer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perating system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diate between hardware and soft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ime-sharing 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ed for multiple users to work on the sam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user is allocated a portion of the processor, and the processor rotates among tasks so rapidly that it appears to be executing tasks simultaneous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tasking – a single user can run multiple programs simultaneous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application is allocated a portion of the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09880"/>
            <a:ext cx="8305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twork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computers to communicate and shar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de area network (WAN) – conn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over long distances (e.g.,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cal area network (LAN) – conn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over short distances (e.g.,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or buil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thernet is a family of technologies for building 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plest form uses broadcasting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88120" y="4191120"/>
            <a:ext cx="194148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EB2-5C7F-4ADF-AEB9-D88E7B3E00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 Engineer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creating effective softwar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projects can encompass millions of lines of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ams of programmers work together to make an integrated wh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ordination and testing are key to successful pro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0292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demand continues to grow, placing pressure on programmers to produce at faster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early, there is a limit to personal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mply adding more programmers does not solve the problem: increasing numbers means increased complexity, and coordination becomes an even bigger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recent years, the adoption of the object-oriented programming methodology has made it easier to reus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71492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870-928E-4439-805B-75162C660C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tificial Intellig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attempts to make computers exhibit human-like characteristics (e.g., the ability to reason and thin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50, Turing predicted intelligent computers by 2000 (still not even clo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progress has been made in many A.I. real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bots in manufactu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pert systems – programs that encapsulate expert knowledge in a specific domain (e.g., for medical diagnosi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ural computing – design of architectures that mimic the br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6248160" cy="242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52E-4A4A-4A8B-BC55-9F24AB9AF7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oinformatic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1727280"/>
            <a:ext cx="3753000" cy="3378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bridges the gap between biology and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cuses on using computers and computer science techniques to solve biological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are integrated with various scientific t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icroscopes connected to computers and digital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are used to model biological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pharmaceutical companies model drug interactions to save time and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are used to store and process large amounts of biological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uman Genome Project stores and provides tools for studying D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0E9-BB02-4AC1-B70B-4BD5B87C28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Ethics of Compu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technology becomes more prevalent in society, computing professionals must ensure that hardware and software are used safely, fairly, and effectiv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3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415-4DF9-4053-86DA-FDAA03C143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“Science”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eople argue that computer science is not a science in the same sense that biology and chemistry 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disciplinary nature of computer science has made it hard to classif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science is the study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more than just machiner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nvolves all aspects of problem solving, inclu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sign and analysis of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ormalization of algorithms as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velopment of computational devices for execu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heoretical study of the power and limitations of compu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ther this constitutes a "science" is a matter of interpre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rtainly, computer science represents a rigorous approach to understanding complex phenomena and problem sol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88F-0F22-4344-8842-2C5B96DC36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cientific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developed by the scientific community for exam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servations and event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cientific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activities carried out by computer scientists follow the scientific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esigning and implementing a large database system requires hypothesizing about its behavior under various conditioning, experimenting to test those hypotheses, analyzing the results, and possibly redesig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ebugging a complex program requires forming hypotheses about where an error might be occurring, experimenting to test those hypotheses, analyzing the results, and fixing the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148440" cy="17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B5F-873B-4EFD-B067-CF27B76D04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tificial Sci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stinction between computer science and natural sciences like biology, chemistry, and physics is the type of systems being stud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tural sciences study naturally occurring phenomena and attempt to extract underlying laws of n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cience study human-made constructs: programs, computers, and computational 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bert Simon coined the phrase "artificial science" to distinguish computer science from the natural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urope, computer science is commonly called "Informatic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hasizes the role of information processing as opposed to machin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 "Algorithmics" has also been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hasizes the role of algorithms and problem sol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related fields study computation from different persp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mputer enginee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es on the design and construction of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ormation systems manage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es on business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3C1-2F22-4367-AF86-B5BDE79478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cience Them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computation encompasses many different types of activities, computer science research is often difficult to classif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ree recurring themes define the discip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348160" cy="38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521-4D85-4884-80BA-278500E6B0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ard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a computer and its supporting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implement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+ memory + 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going research seeks to improve hardware design and organiz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ircuit desig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reate smaller, faster, more energy-efficient chi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crochip manufactur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eek to miniaturize and streamline prod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architec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search methods to increas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hroughpu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he amount of work done in a given time perio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parallel processing – splitting the computation across multiple CP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networking – connecting computers to share information and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E77-A30C-4A04-B3D1-EE556D6E81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 basic software catego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grams that directly control the execution of hardware components (e.g., operating system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velopment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grams that are used as tools in the development of other programs (e.g.  Microsoft.NET, Java SD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pplications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l other programs, which perform a wide variety of tasks (e.g., web browsers, word processors, gam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careers in computer science are related to the design, development, testing, and maintenance of soft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anguage desig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velop and extend programming languages for easier and more efficient sol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gramm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ign and code algorithms for execution on a comput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analys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alyze program designs and manage develop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923-CD4D-4894-9B68-1BCCD1A4B4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oretical computer scientists strive to understand the capabilities of algorithms and computers (deeply rooted in math and formal log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uring machin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abstract computational machine invented by computer pioneer Alan Tur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ists of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otentially infinite tape on which characters can be writ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cessing unit that can read and write on the tape, move in either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ion, and distinguish between a finite number of st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gnificance of the Turing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rogrammable (example below is programmed to distinguish between an even or odd number of a's on the tap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ably as powerful as any modern computer, but simpler so provides a manageable tool for studying comput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572000"/>
            <a:ext cx="205740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Turing used this simpler model to prove there are problems that cannot be solved by any comput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57440" y="4267080"/>
            <a:ext cx="451476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942-F5B0-4985-9349-61663A06B8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ubfields of Computer Sci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62360" y="1295280"/>
            <a:ext cx="3276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science can be divided into subfiel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subfield takes a unique approach to compu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 the common themes of computer science (hardware, software, and theory) influence every sub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628880" cy="5105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6324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Denning, Peter. “Computer Science: The Discipline.” In Encyclopedia of Computer Science, 4</a:t>
            </a:r>
            <a:r>
              <a:rPr b="0" i="1" lang="en-US" sz="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 ed., 2000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3A4-F417-4A55-BEA5-C8785A50B1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8:3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