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7CF6-229F-4761-9619-A3FC95373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C80B-0D90-439D-A61C-B88F8DCA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A32-04D1-4098-96AD-EDFDA7BE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14C-4D22-4964-AF2C-27900894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E70B-C348-4412-8EA6-DAB90C34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9B5B-AFC3-42A2-9C0E-CDC48F34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B985-CFFA-486E-8A6B-6F696827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8E94-1D23-4A16-AF87-CE2CE16F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062C-BAAB-45AF-9729-CC4CAF04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2B04-8588-461D-BA73-E200A72C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65B8-BDC6-46A4-98D7-55B4007C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45C2-E521-4C35-ABAC-849CDFE9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1B6AF-DF82-4BDC-A991-EAA0969B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3D6F-D534-442F-9C2C-CCBA6CD6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4912-DB47-4FE5-9356-4C29F777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740B-AA25-4DF4-BBC2-470E4A0E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2D63-79EA-4B47-BDB5-50AA696B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F34-32CA-4676-851C-C9A8EE17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F88-50BB-4C6D-98D3-E1D5B1A8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B5B-152E-4B98-8E7C-4E8A5769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117-BCF1-4E73-9CF8-4AF27978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319-0492-4506-B9ED-588F7811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15E-BCB1-49EE-8FC1-AA3A564D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C7A7-6F5C-43D9-8E4D-874F70AE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625B-648F-4FEC-97CF-511E26A9A005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C8F0-25FB-46C8-B554-3B4A09351BE4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al Exec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37C9-D74C-4DEF-9AC0-0A7E1AB0F69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ascading If-else Stat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ested if-else structures are known as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ascading if-else statement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because control cascades down the bran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opmost level is evaluated firs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succeeds, then the corresponding statements are executed and control moves to the next statement following the cascading i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fails, then control cascades down to the next if t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general, control cascades down the statement from one test to another until one succeeds or the end of the statement is reach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: nested if-else struct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47920" y="4281480"/>
            <a:ext cx="6629400" cy="20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86B-8EBF-4E83-A533-76E0D51508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 Cleaner Nota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n it is necessary to handle a large number of alternatives, nested if-else statements can become cumbersome and unwield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ltiple levels of indentation and curly braces cause the code to look cluttered make it harder to read/understan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:          nested if statements       vs.   a more readable else-i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5334120" cy="379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5D11-7325-40B8-938B-91FCAF7A89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e Roll Exampl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sider a Web page that simulates the roll of a single di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ll use an image to display the d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ll use a button to initiate the die ro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n the user clicks the button, a random die roll is selected and the corresponding image is display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00200" y="3276720"/>
            <a:ext cx="609588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A6D-B5AD-4D8F-93F2-763330FA139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2880" y="129492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Die Roll Pag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8840" y="22093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I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from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.j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 used to select the random ro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pending on the roll value, the correct image is display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more than two possibilities, a cascading if-else is need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4084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6EC-DE56-48C0-AF3A-3D2626E4C0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Generalizing Cod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te that each case in the cascading if-else follows the same patter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828800"/>
            <a:ext cx="7925040" cy="304884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2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3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if (roll ==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5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5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"http://dave-reed.com/book/Images/die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15628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entire cascading if-else structure could be replaced by the follow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5613480"/>
            <a:ext cx="8077320" cy="6048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document.getElementById('die').sr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                 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"http://dave-reed.com/book/Images/die" + </a:t>
            </a: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roll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+ ".gif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680-4FEC-4BB3-8A98-E0D1F63CD94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unter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software applications, if statements are often used to count occurrences of conditional or user-initiated ev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count the number of times dice rolls come up doub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count the number of times the user guesses a number correct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y variable that is used to record occurrences of an event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un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tially, the counter is set to zero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time the specified action occurs, the counter is incremented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fter a given time period, the value stored in the counter will tell you the number of times the desired event took pla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90720" y="4800600"/>
            <a:ext cx="7467480" cy="69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4FD-9004-4A80-8E67-102BAA79D2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Logical Connectiv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times, simple comparisons between two values may not be adequate to express the conditions under which code should execu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vaScript provides operators for expressing multipart tes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gical AN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&amp;&amp;): represents the conjunction of two th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TEST1 &amp;&amp; TEST2) is true if both TEST1 and TEST2 are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roll1 == 4 &amp;&amp; roll2 == 4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code to be executed when double fours are rol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gical O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||): represents the disjunction of two th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TEST1 || TEST2) is true if either TEST1 or TEST2 are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roll1 == 4 || roll2 == 4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code to be executed when at least one four is rol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ogical NO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!): represents neg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!TEST1) is true only if TEST1 is fal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!(roll1 == 4 || roll2 == 4)) {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// code to be executed when neither roll is a fou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DB27-6BA3-477E-AA4C-EB55F84026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nditional Execu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 far, all of the code you have written has been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unconditionally execut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browser carried out statements in the same set 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contrast, many programming tasks require code that reacts differently under varying circumstances or condi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 student's course grade depends upon his/her aver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an ESP test requires recognizing when a subject guessed righ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the outcome of a game depends upon die rolls or player mo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ditional execu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a program’s ability to execute a statement or sequence of statements only if some condition holds tru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5AB-1E0C-4231-977C-8039EAE408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f Stat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JavaScript, the simplest form of conditional statement is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f statemen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e action is taken if some condition is true, but a different action is taken if the condition is not true (called th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else ca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else case is option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neral form of the if statement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05120" y="3733920"/>
            <a:ext cx="3886200" cy="14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ED6F-5DA8-4DC3-B2AB-FF46E9B3F1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races in If Stat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people prefer braces on separate lines formatted like thi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if (BOOLEAN_TES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STATEMENTS_EXECUTED_IF_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STATEMENTS_EXECUTED_IF_FAL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ither style is acceptable, but be consisten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perly aligning the code (with if-else lining up and statements indented) is central in producing code that is easy to read and modif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chnically, you can omit the braces if there is only one statemen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, THIS IS STRONGLY DISCOURAGED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lead to tricky errors if the code is ever modifi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E3E-CF5A-450F-BDC6-3B74B5FABE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oolean Tes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st that controls an if statement can be any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oolean express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i.e., an expression that evaluates to eithe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oolean tests are formed using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relational operato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ecause they test the relationships between 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495680"/>
            <a:ext cx="8153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boolean test in an if statement determines the code that will be execu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is true, then the code inside the subsequent curly braces will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the test is false, then the code inside the curly braces following the else will exec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2854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e that if the test is false and there is no else case, the program moves on to the statement directly after the 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2857680"/>
            <a:ext cx="2209680" cy="9558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ff"/>
                </a:solidFill>
                <a:latin typeface="Verdana"/>
              </a:rPr>
              <a:t>NOT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ff"/>
                </a:solidFill>
                <a:latin typeface="Verdana"/>
              </a:rPr>
              <a:t>== is for comparis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99ff"/>
                </a:solidFill>
                <a:latin typeface="Verdana"/>
              </a:rPr>
              <a:t>= is for assig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2409840" cy="160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D97-732D-40CC-8F31-231A378365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If Statement Exampl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638680"/>
            <a:ext cx="815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if statement is known as a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ntrol stateme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, since its purpose is to control the execution of other stat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1343160"/>
            <a:ext cx="6781680" cy="412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0E2-5F24-432F-9E06-6946F2B952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Lucida Console"/>
              </a:rPr>
              <a:t>Example within a Page</a:t>
            </a:r>
            <a:endParaRPr b="0" lang="en-US" sz="28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647712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638680" y="3220920"/>
            <a:ext cx="3305160" cy="189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CF9-044E-4491-BCD2-5729946EC0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ccessing Text Field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call that values entered via text boxes/areas are always returned as str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981080"/>
            <a:ext cx="4724280" cy="118908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document.getElementById('age').value &gt;= 18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You are old enough to vote.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Sorry. You are too young to vote.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2149560"/>
            <a:ext cx="3124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ll say that a 2-year old can vote, but a 102-year old can't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564080"/>
            <a:ext cx="5257800" cy="13716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ge = parseFloat(document.getElementById('age').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if (age &gt;= 18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You are old enough to vote.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alert("Sorry. You are too young to vote.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99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24480" y="47322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ll behave as exp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733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you wish to treat a value obtained from a text box or text area as a number, you must use th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seFloa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unction to convert 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1B7-A16B-42D6-97A8-120AD667F1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Nested If Statement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gramming tasks often require code that responds to more than one cond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can be accomplished by nesting one if statement inside of anoth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ample: determining wind-chi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nd-chill is only defined for temperatures less than or equal to 50 degre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itial if test is to determine if it is a valid temperature to calculate wind-chi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nested if statement only executes if the outer test is tr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47920" y="3962520"/>
            <a:ext cx="6553080" cy="253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8364-E3EB-43EF-81C5-BCDBB0539B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8:03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