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4E9A-02D9-4499-A81C-FE2C920B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8384-AAFF-4C26-A844-23554278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0A9E-F0BA-4E5D-8618-27D55E85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FD0-318A-485F-BCED-8ACEC24E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3A6A-EAE4-4BD6-B5F1-403C8E33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95A3-7B37-4DC1-806C-66287CC5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9993-6E3A-4D7D-B7EE-22A7BE7F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45A7-E1D7-45D5-A557-ECF782C7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4FAE-A6E9-430D-B2FF-5B8A25EE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D5E8-660A-401B-AAD0-EB19515D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CE53-3663-470D-A659-D8C689D8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571-4906-48E3-8F08-7497A2DE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9B19-44AC-45E5-B11E-B8E2EF30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95D0-A11F-4DD8-9161-E49164DA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D129-0405-4EFE-91AD-D68A8235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6481-03F6-4479-92DE-9E2F03DC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2EE0-7FBD-47F9-8A6F-6BA9EA4A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C2A-0F04-4458-9F81-3AF691B1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79FE-9B74-4808-A830-53B2FC84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A852-F4FA-4465-9501-B5DC98E8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10A-FFA1-4E46-BDBA-32F6C5D6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487-F5E1-436E-B37A-B928E537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F9E-1D7F-4F11-93EE-8859AB8E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627-67EC-49AF-AD9D-8E279EF3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DDEB-5D59-48EE-9038-54A17B7E32DC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A45A-87DA-4FF2-A863-F41EAE764706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Re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87CD-082B-4815-9D1B-2140734803B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Sound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95280"/>
            <a:ext cx="830592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analog recordings are repeatedly duplicated, small errors that were originally unnoticed begin to propa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gital recordings can be reproduced exactly without any deterio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sound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alog waveforms must be converted to a sequence of discrete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igital sampl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the process in which the amplitude of a wave is measured at regular intervals, and stored as discrete measur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5516640"/>
            <a:ext cx="83059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2860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requent measurements must be taken to ensure high quality (e.g., 44,100 readings per second for a C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s results in massive amounts of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chniques are used to compress the data and reduce file sizes (e.g., MP3, WAV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62000" y="3429000"/>
            <a:ext cx="4743720" cy="191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09C6-58F0-4873-A96D-A531293542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Im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representing im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ages are stored using a variety of formats and compression techniq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implest representation i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itm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tmaps partition an image into a grid of picture elements, cal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ixel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and then convert each pixel into a bit patte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886200"/>
            <a:ext cx="4343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resolu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sharpness or clarity of an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tmaps that are divided into smaller pixels will yield higher resolution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left image is stored using 96 pixels per square inch, and the right image is stored using 48 pixels per square i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left image appears sharp, but has twice the storage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76920" y="1541520"/>
            <a:ext cx="3743280" cy="1811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029200" y="3886200"/>
            <a:ext cx="3581280" cy="22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DEE-E86E-4C3C-A138-08D6C0528E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Image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creating a bitmap of a color image, more than one bit is required to represent each pix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most common system is to translate each pixel into a 24 bit code, known as it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GB valu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8 bits to represent the intensity of each red/green/blue compon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495680"/>
            <a:ext cx="838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on image formats implement various compression techniques to reduce storage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F (Graphics Interchange Form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ssl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rmat, meaning no information is lost in the compres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only used for precise pictures, such as line draw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PEG (Joint Photographic Experts Gro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ss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rmat, so the compression is not fully reversible (but more efficien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only used for photogra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86080" y="2557440"/>
            <a:ext cx="6286320" cy="17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9E1-8A4A-4371-8AED-C1CB527BD0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stinguishing Data Typ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does a computer know what type of value is stored in a particular piece of memor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rt answer: it doesn'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program stores data in memory, it must store additional information as to what type of data the bit pattern repres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us, the same bit pattern might represent different values in different contex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895480" y="3276720"/>
            <a:ext cx="317988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57D8-77DF-44FD-9DA5-190A8CB6A3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nalog vs. Digital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two ways data can be stored electronicall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gnals represent data in a way that is analogous to real lif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gnals can vary continuously across an infinite range of valu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frequencies on an old-fashioned radi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th a d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igita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gnals utilize only a finite set of valu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frequencies on a modern radio with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gital displ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major tradeoff between analog and digital is variability vs. reproduci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alog allows for a (potentially) infinite number of unique signals, but they are harder to reprodu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od for storing data that is highly variable but does not need to be reproduced exact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gital signals limit the number of representable signals, but they are easily remembered and reproduc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od for storing data when reproducibility is paramou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867280" y="2590920"/>
            <a:ext cx="2862360" cy="11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A6F-F9B8-46D8-8C29-3CECE68610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inary Numb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computers save and manipulate data as discrete (digital) val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most effective systems use two distinct binary states for data represen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essence, all data is stored a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inary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the binary number system, all values are represented using only the two binary digits 0 and 1, which are calle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nary represen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verting binary to decim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3047760" cy="1563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362320" y="5181480"/>
            <a:ext cx="3886200" cy="132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73F-90F0-414D-BBD0-A113AF4726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Decimal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 Binary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gorithm for converting from decimal (D) to binary (B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5257800" cy="3228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01992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5AF-C5B0-43BD-9065-49A109216D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Integ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an integer value must be saved on a computer, its binary equivalent can be encoded as a bit pattern and stored digital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ually, a fixed size (e.g., 32 bits) is used for each integer so that the computer knows where one integer ends and another begi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itial bit in each pattern acts as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ign b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0=positive, 1=negativ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gative numbers are represented i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wo’s complement notatio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"largest" bit pattern corresponds to the smallest absolute value (-1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09680" y="3581280"/>
            <a:ext cx="4629240" cy="303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838-5C53-40ED-A85D-84EBDAEF42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Real Numb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real number can be uniquely identified by the two components of its scientific notation (fractional part and the exponen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23.45 =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2345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x 10</a:t>
            </a:r>
            <a:r>
              <a:rPr b="0" lang="en-US" sz="1400" spc="-1" strike="noStrike" baseline="30000">
                <a:solidFill>
                  <a:srgbClr val="ff0000"/>
                </a:solidFill>
                <a:latin typeface="Verdana"/>
              </a:rPr>
              <a:t>-2</a:t>
            </a:r>
            <a:r>
              <a:rPr b="0" lang="en-US" sz="1400" spc="-1" strike="noStrike" baseline="30000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000042 =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4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x 10</a:t>
            </a:r>
            <a:r>
              <a:rPr b="0" lang="en-US" sz="1400" spc="-1" strike="noStrike" baseline="30000">
                <a:solidFill>
                  <a:srgbClr val="ff0000"/>
                </a:solidFill>
                <a:latin typeface="Verdana"/>
              </a:rPr>
              <a:t>-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us, any real number can be stored as a pair of integ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al numbers stored in this format are known a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floating point numb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since the decimal point moves (floats) to normalize the f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ndard formats exist for storing real numbers, using either 32 or 64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4038480"/>
            <a:ext cx="2514600" cy="1910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most programming languages represent integers and reals differ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JavaScript simplifies things by using IEEE double-precision floating point for all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19000" y="3836880"/>
            <a:ext cx="5505480" cy="28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59BD-4458-4AAC-98B1-5EC92704A7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Charac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276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aracters have no natural correspondence to binary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 scientists devised an arbitrary system for representing characters as bit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CII (American Standard Code for Information Interchang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ps each character to a specific 8-bit patte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 that all digits are contiguous, as are lower- and upper-case lett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'0' &lt; '1' &lt; … &lt; '9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'A' &lt; 'B' &lt; … &lt; 'Z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'a' &lt; 'b' &lt; … &lt; 'z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icode is a 16-bit extension to ASCII that supports other langu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86200" y="1405080"/>
            <a:ext cx="4876920" cy="44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ABA-DDC2-4E8D-AD12-1A1AC63E0D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Tex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ings can be represented as sequences of ASCII codes, one for each character in the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114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cific programs may store additional information along with the ASCII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 programming languages will often store the number of characters along with the ASCII c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word processing programs will insert special character symbols to denote formatting (analogous to HTML tags in a Web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296040" cy="9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93F-C837-4511-987D-EF71267039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Soun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s are capable of representing much more than numbers and tex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lex data requires additional techniques and algorith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representing sou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unds are inherently analog signals with a specific amplitudes and frequ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sound waves reach your ear, they cau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eardrum to vibrate, and your brai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prets the vibration as sou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 telephones translate a waveform int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ectrical signals, which are then sent ove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wire and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verted back to sou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 phonographs interpret waveforms stored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grooves of a disk (similar to audio cassett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alog signals cannot be reproduced exactly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 this is not usually a problem since th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uman ear is unlikely to notice smal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consist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59680" y="3352680"/>
            <a:ext cx="2274840" cy="289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7B83-FC4A-44B0-A080-F6C430D704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7:3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