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937-A9B8-4D33-86AB-107D0805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D0A-E75D-4763-A4FC-9A9DDE67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5B9-8D68-4F02-AA90-BA0ED479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E19E-56E4-4AF9-A695-00EB888B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604-BE1F-4173-971E-41D4BA0E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FF2-8E99-4966-8C65-3A0638BD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25FE-FBA1-4900-A129-C9B794DC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F7D0-FEF5-40CE-8EAE-A2B9D31F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690F-412E-4BE7-BBA2-9A4F59B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A5FC-5E55-4907-A5C0-51BD33A8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BB67-F0A0-4A27-A6E4-390B376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66B-D86E-4F8E-A547-5D60244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BEAC-C1CE-4C91-A6BB-D8CBBA09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094E-379B-470F-8775-9E40724F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50CC-B680-4105-8AB3-FC2CC40B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15AF-1AAD-4974-905E-AFE9C73B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0CD8-19B9-47CF-9BE9-D17B8EA3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2A6-3367-4B00-A776-E6858921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A6D-F71C-4D49-8D3F-72C569F0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39C-4BA7-471D-86F9-A66885A6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BEF-79DD-4E20-A44F-5E16AB98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932-DA4C-48B5-924C-F96A6B88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6A3-D37C-4497-AC09-E9CC783E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4AA-BA87-4052-87F5-4F21E2CC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0162-AF10-4FAE-9AD8-313E4FC152E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3F78-29A6-40B0-A122-1B23193EBEC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orithms and Programming Langu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91AE-E3BD-440D-9B67-7E21C3832B6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ING: a common problem in computer science involves storing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aining large amounts of data, and then searching the data f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ula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storage and retrieval are key to many industry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algorithms are necessary to storing and retrieving data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nsider searching a large payroll database for a particular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computer selected entries at random, there is no assurance that the particular record will be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if the record is found, it is likely to take a large amount of ti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ystematic approach assures that a given record will be found, and that it will be found more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commonly used algorithms for searching a list of i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– general purpose, but relatively s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– restricted use, but fa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D75-16B7-497B-95F7-33916CA626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quential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algorithm that involves examining each list item in sequential order until the desired item is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equential search for finding an item in a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at the beginning of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item - if that item is the one you are seeking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it is not the item you are seeking, then go on to the next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reach the end of the list and have not found the item, then it was not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 guarantees that you will find the item if it is in the lis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not very practical for very large databas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orst cas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ou may have to look at every entry in the li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4C3-70BD-40DC-A454-FB9100BEBD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volves continually cutting the desired search list in half until the item is fou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lgorithm is only applicable if the list is order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numbers in increasing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words in alphabetic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binary search for finding an item in an ordered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potential range in which the item could occur is the entir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items remain in the potential range and the desired item has not been found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at the middle entry in the potential r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the item you are looking for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greater than the desired item, then reduce the potential range to those entries lef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less than the desired item, then reduce the potential range to those entries righ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repeatedly cutting the potential range in half, binary search can hone in on the value very quick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59A-849F-4050-B41E-6143542785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753240" cy="29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121932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se you have a sorted list of state names, and want to fin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by examining the middle entry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afte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befor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lef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sired entry i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1DC-8295-4FEE-8927-FBDA3754F5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the item you are looking for is in the last spot in the list (or not in the list at al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result, you will have to inspect and compare every entry in the 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ist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is an O(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you will have to keep halving the list until it gets down to a single en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ch time you inspect/compare an entry, you rule out roughly half the remaining e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ogarithm of the list siz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is an O(log 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7242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ine searching a phone book of the United States (300 million peo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requires at most 300 million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requires at mos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00,000,000)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9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D6A-1BE8-4A47-A527-E0B21BDA6B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wton’s Algorithm for finding the square root of 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 initial approximation of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 approximation isn’t close enough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00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e the approximation using the formula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wApproximation = (oldApproximation + N/oldApproximation)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finding the square root of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57800" y="2695680"/>
            <a:ext cx="2666880" cy="180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4495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analy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ton's Algorithm does converge on the square root because each successive approximation is closer than the previous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since the square root might be a non-terminating fraction it is difficult to define the exact number of steps for 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the difference between the given approximation and the actual square root is roughly cut in half by each successive 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monstrates O(log N)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C10-FE31-45F3-A921-EC079549E6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s all about designing and cod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nded executor is the computer or a program executing on that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re written in programming languages which are more constrained and exact than human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evel of precision necessary to write programs can be frustrating to begin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much easier than it was 50 years ag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y computers (ENIAC) needed to be wired to perform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the advent of the von Neumann architecture, computers could be programmed instead of rew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could be coded as instructions, loaded into the memory of the computer, and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591-1930-4157-9C20-A457EF7AA3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ing languages were known a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machine langu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machine langu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nsists of instructions that correspond directly to the hardware operations of a particular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e., instructions deal directly with the computer’s physical components including main memory, registers, memory cells in CP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low level of abstra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written in bina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ming in machine language is tedious and error pron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de is nearly impossible to understand and debu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rpt from a machine language progra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7619760" cy="18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87A-7017-464B-A78D-9320E949B4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gh-Level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50’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embly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volved from machine langu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ssembly language substitutes words for binary co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ch easier to remember and use words, but still a low level of abstraction (instructions correspond to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late 1950'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igh-level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ere int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allow the programmer to write code closer to the way humans think (as opposed to mimicking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uch more natural way to solve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programs are machine independ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wo high level languages that perform the same task (in JavaScript and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4121280"/>
            <a:ext cx="6934320" cy="25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7F7-EA79-43DD-A404-8D7AF2D975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a high-level language, the programmer is able to reason at a high-level of abs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programs must still be translated into machine language that the     computer hardware can understand/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standard approaches to program transl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-world analogy: translating a speech from one language to ano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provide a real-time trans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rpreter hears a phrase, translates, and immediately speaks the trans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the translation is immedi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if you want to hear the speech again, must interpret all over ag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lat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translates the entire speech off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ranslator takes a copy of the speech, returns when the entire speech is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once translated, it can be read over and over very quick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must wait for the entire speech to be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53B-7178-4B7C-A55E-4008C19A6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entral concept underlying all computation is that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is a step-by-step sequence of instructions for carrying out some ta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can be viewed as the process of designing and implementing algorithms that a computer can carry 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grammer’s job is to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e an algorithm for accomplishing a given objective, the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late the individual steps of the algorithm into a programming language that the compute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724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programming in Java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have written programs that instruct the browser to carry out a particular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the proper instructions, the browser is able to understand and produce the desire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687-4DEF-4E75-AE36-2C32624A5B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peech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pre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8098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lator (compil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1515960"/>
            <a:ext cx="6096240" cy="183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0" y="4175280"/>
            <a:ext cx="53341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257-1C48-432F-85DF-994BFA7B3E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program translation, the interpretation approach relies on a program 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and execute high-level statem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preter reads one high-level statement at a time, immediately translating and executing the statement before processing the next 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is an interpreted langu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28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36E-E9D5-4737-853B-0A806053BE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mpilation approach relies on a program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the entire high-level language program into its equivalent machine-language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machine-language program can be executed directly on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languages used for the development of commercial software employ the compilation technique (C,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7010280" cy="26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98AC-4AC3-40D7-ACD9-21E029BF15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 and 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eoffs between interpretation and compi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results almost immediat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cularly useful for dynamic, interactive features of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executes more slowly (slight delay between the execution of statem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machine-language program that can run directly on the underlying hard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runs very fast after 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compile the entire program before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in large software applications when speed is of the utmost impor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16E-D300-4C40-848A-824ADFAA98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in the Real Wor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5791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 of algorithms is not limited to the domain of comp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cipes for baking cook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irections to your ho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many unfamiliar tasks in life that we could not complete without the aid of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for an algorithm to be effective, it must be stated in a manner that its intended executo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recipe written for a master chef will look different than a recipe written for a college stud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you have already experienced, computers are more demanding with regard to algorithm specifics than any human could b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26360" y="1371600"/>
            <a:ext cx="245556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710-F170-482F-8068-31D4788685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signing &amp; Analyzing Algorithm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steps to solving problems (George Poly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ise a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rry out your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s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2004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finding the oldest person in a room full of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ing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 condition – room full 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al – identify the oldes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erson will give their real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wo people are born on the same day, they a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re is more than one oldest person, finding any one of them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will consider 2 different designs for solving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BED-1B28-4E20-9A62-5EB87ACCF1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1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first person to state his or her name and birthday, then write this information down on a piece of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successive person in lin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person for his or her name and birth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ated birthday is earlier than the birthday on the paper, cross out old information and write down the name and birthday of this per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ach the end of the line, the name and birthday of the oldest person will be written on the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8800" y="3998880"/>
            <a:ext cx="5334120" cy="25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C63-1C9B-4437-853D-5BB18B6023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2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re is more than one person in the line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ve the people pair up (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etc) – if there is an odd number of people, the last person will be without a part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each pair of people to compare their birth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est that the younger of the two leave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re is only one person left in line, that person is the old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3456000"/>
            <a:ext cx="480060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35A-4838-4CE8-A06D-C3C01874E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ing which algorithm is "better" is not always clear cu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depends upon what features are most important to 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want to be sure it works, choose the clearer algorith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are about the time or effort required, need to analyz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1 involves asking each person’s birthday and then comparing it to the birthday written o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time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will als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2 allows you to perform multiple comparisons simultaneous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ime needed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rounds it takes to shrink the line down to one pers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turns out to be the logarithm (base 2) of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increases by the cost of one more compari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962520"/>
            <a:ext cx="853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676840"/>
            <a:ext cx="7086600" cy="975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he words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re similar – do not be confused b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 step-by-step sequence of instructions for carrying out a task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the exponent to which a base is raised to produce a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.g., 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10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= 1024, so log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1024)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22E-F4B5-4A9E-9AB4-174EB4DBF0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problem size is large, performance differenc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drama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assume it takes 5 seconds to compare birthd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1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00 = 5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200 = 1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400 = 2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,000,000 = 5,000,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2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35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5 secon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,000,0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1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2205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B3E-8602-4719-96C1-840E418473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g-Oh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represent an algorithm’s performance in relation to the size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, computer scientists use what i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g-O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N) algorithm requires time proportional to the size of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N) algorithm, doubling the problem size doubles the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log N) algorithm requires time proportional to the logarithm of the problem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log N) algorithm, doubling the problem size adds a constant amount of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d on our previous analys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1 is classified as O(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2 is O(log 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935-A06F-40AD-A319-82516891B5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3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