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87C1-F367-4FB1-BC7C-4BFEB63C9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9B76-1A47-4F89-943A-D6BD07E9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DDF8-B721-4581-8C72-019AAB857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12FE-4492-4CB3-ADD7-F528D5021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BC6F-F830-4E73-A6BB-CC6E00975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D7F5-6865-4585-A875-E50C9B27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4682-0F07-4A25-8290-0027B012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5A32-9570-457E-BEC9-D3F20C3C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F068-CCC0-4EF7-B0CF-25DFABA4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9CCC-C714-4498-94E5-3B44C145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AC54-1B70-427C-B2AA-A3006D47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6920-65B9-4784-A4ED-4B492CE8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275FD-BEF3-4F7C-A57A-6B82777C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48CF-BDEA-4545-B322-77D910D0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8BA5-B4BF-41E7-9A3E-61E29B3F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68DD-159A-49C6-BFA8-98CFC27D2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A1D3-D2A8-4980-9948-14CC43D85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4AF0-1BEA-4BB8-B4DE-5CF28E30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126F-4D7F-4C08-9C1E-8C96F9E1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D457-75C4-4981-8E80-C73A91B8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BFE2-B1FD-4281-944B-1019F7F7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B2AE-0724-4263-966B-0885A035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423F-169D-4963-B2C6-97C08344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BCBF-E035-43F0-8174-63F8DA0C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2137-5631-4188-A60A-6AFB023A7A30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72C1-8955-4184-82D2-50AA4CA806F1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680" y="4419720"/>
            <a:ext cx="6858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apter 9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bstraction and User-Defined Fun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21B8-3893-4AFE-80E5-88718683D26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eclaring Local Variabl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 have seen that variables are useful for storing intermediate steps in a complex compu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thin a user-defined function, the programmer is free to create new variables and use them in specifying the function’s comput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wever, by default, new variables used in a function are glob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but what if the same variable name is already used elsewher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4495680"/>
            <a:ext cx="5486400" cy="206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function IncomeTax(income, itemiz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// Assumes: income &gt;= 0, itemized &gt;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// Results: displays flat tax (13%) due after ded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var deduction, taxableIncome, totalTax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deduction = Math.max(itemized, 41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taxableIncome = Math.max(income - deduction, 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totalTax = 0.13*taxableIn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alert("You owe $" + totalT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2971800"/>
            <a:ext cx="8305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avoid name conflicts, the programmer should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ecl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temporary variables to b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lo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variable declaration is a statement that lists all local variables to be used in a function (usually the first statement in a func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neral form:   </a:t>
            </a:r>
            <a:r>
              <a:rPr b="0" lang="en-US" sz="1600" spc="-1" strike="noStrike">
                <a:solidFill>
                  <a:srgbClr val="666699"/>
                </a:solidFill>
                <a:latin typeface="Courier New"/>
              </a:rPr>
              <a:t>var LOCAL_1, LOCAL_2, . . ., LOCAL_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05720" y="4572000"/>
            <a:ext cx="2209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Verdana"/>
              </a:rPr>
              <a:t>since these variables are declared as local, they will not affect (or be affected by) any variables with the same names elsewhere in the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96ED-ACAA-42AE-9526-AA7C5DE778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Functions with Retur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splaying results using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cument.wri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ler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OK for some func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full generality, we need to be able to return an output value, which can then be used in other comput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666699"/>
                </a:solidFill>
                <a:latin typeface="Courier New"/>
              </a:rPr>
              <a:t>number = Math.sqrt(9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6666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666699"/>
                </a:solidFill>
                <a:latin typeface="Courier New"/>
              </a:rPr>
              <a:t>amountOwed = IncomeTax(38000, 6500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4343400"/>
            <a:ext cx="5105520" cy="206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function IncomeTax(income, itemiz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// Assumes: income &gt;= 0, itemized &gt;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// Returns: flat tax (13%) due after ded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var deduction, taxableIncome, totalTax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deduction = Math.max(itemized, 41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taxableIncome = Math.max(income - deduction, 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totalTax = 0.13*taxableIn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return totalTax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2971800"/>
            <a:ext cx="8305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return statement can be added to a function to specify its output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the return statement is reached, the variable or expression is evaluated and its value is returned as the function's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neral form:  </a:t>
            </a:r>
            <a:r>
              <a:rPr b="0" lang="en-US" sz="1600" spc="-1" strike="noStrike">
                <a:solidFill>
                  <a:srgbClr val="666699"/>
                </a:solidFill>
                <a:latin typeface="Courier New"/>
              </a:rPr>
              <a:t>return OUTPUT_VAL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72200" y="4443480"/>
            <a:ext cx="27432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Verdana"/>
              </a:rPr>
              <a:t>since this function returns the value, it can be used in other computations, e.g., calculate amount owed in 4 pay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payme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IncomeTax(38000, 6500)/4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75EB-46C0-4B1B-ABBD-311DB41883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257440" y="1143000"/>
            <a:ext cx="35053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Newconvert Page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1828800"/>
            <a:ext cx="3581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the same computation must be done repeatedly, a function can greatly simplify the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77640" indent="-2656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re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ahrToCelsiu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called twice to convert two different temper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593960" cy="628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029200" y="3394080"/>
            <a:ext cx="3933720" cy="239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D186-F946-463D-A97F-A51382E3C7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esigning Function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unctions do not add any computational power to the langu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function definition simply encapsulates other stat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ill, the capacity to define and use functions is key to solving complex problems, as well as to developing reusable co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capsulating repetitive tasks can shorten and simplify co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unctions provide units of computational abstraction – user can ignore detai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unctions are self-contained, so can easily be reused in different applic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4038480"/>
            <a:ext cx="8305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is it worthwhile to define a func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a particular computation is complex—meaning that it requires extra variables and/or multiple lines to def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have to perform a particular computation repeatedly within a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defining a function, you must identif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pu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omputation to be performed using those inpu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outpu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0BFD-D765-4CA4-9D60-1A821E49EC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esign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sider the task of designing an online Magic 8-ball</a:t>
            </a:r>
            <a:r>
              <a:rPr b="0" lang="en-U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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Mattell, Inc.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be able to ask a yes/no type ques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ceive an answer (presumably, at random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4648320" cy="3327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257800" y="2819520"/>
            <a:ext cx="3352680" cy="27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uld u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536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text area for entering the question (which could be several lines lo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536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text box for displaying the answer (which should be sho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536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utton for initiating the action – which involves calling a function to process the question, select an answer, and display it in the text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8C59-C4C4-476F-A914-8CCE2EA232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andom.j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neral-purpose functions can be grouped together in 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library is a text file that contains one or more function defini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ce the functions are defined in the library, that library can be loaded into pages as nee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.g.,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.j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library contains useful functions for generating random val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5334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load a library of functions in a page, use a special pair of SCRIPT t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script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type="text/javascript" src="URL_OR_LOCAL_FILENAME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/scrip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371600" y="2971800"/>
            <a:ext cx="6296040" cy="22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137C-A784-4759-82D1-833801D155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Using random.j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the page below,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.j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library is accessed via the Web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can download the file and store it on your own mach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n, simply specify the file name in the SRC attribute (the default is that the file is in the same folder as the Web page that includes it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4876920" cy="401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724280" y="3200400"/>
            <a:ext cx="4167360" cy="16207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638680" y="5029200"/>
            <a:ext cx="3200400" cy="1159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note: the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RandomOneOf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function from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random.js 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would similarly be useful for the Magic 8-ball  page (in selecting possible answers at rando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1734-7C49-4D59-A19B-C6C71089F3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Errors to Avoid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beginning programmers attempt to load a JavaScript code library, errors of two types commonly occur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the SCRIPT tags are malformed or the name/address of the library is incorrect, the library will fail to loa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will not cause an error in itself, but any subsequent attempt to call a function from the library will produ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“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Error: Object Expected”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(using Internet Explorer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“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Error: XXX is not a function”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(using Firefox), where XXX is the entered na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you use the SRC attribute in a pair of SCRIPT tags to load a code library, you cannot place additional JavaScript code between the ta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nk of the SRC attribute as causing the contents of the library to be inserted between the tags, overwriting any other code that was erroneously placed the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script type="text/javascript" src="FILENAME"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666699"/>
                </a:solidFill>
                <a:latin typeface="Courier New"/>
              </a:rPr>
              <a:t>ANYTHING PLACED IN HERE WILL BE IGNO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/script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want additional JavaScript code or another library, you must use another pair of SCRIPT ta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5FF4-18AF-4EBE-9605-1505850BFA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bstrac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bstraction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s the process of ignoring minutiae and focusing on the big pictu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modern life, we are constantly confronted with complex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don't necessarily know how it works, but we know how to use i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how does a TV work?  a car?  a computer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29718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 survive in the face of complexity by abstracting away de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use a TV/car/computer, it's not important to understand the inner work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ignore unimportant details and focus on those features relevant to using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TV has power switch, volume control, channel changer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45720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avaScript functions (lik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th.sqr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provide computational abst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function encapsulates some computation &amp; hides the details from the 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only needs to know how to call the function, not how it 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apter 7 introduced simple user-defin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ld encapsulate the statements associated with a button, call the function a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C461-A84B-4128-850B-965571C81C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General Function Form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write general-purpose functions, we can extend definitions to includ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) parameters, 2) local variables, and 3) return state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re variables that correspond to the function’s inputs (if any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rameters appear in the parentheses, separated by comm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local variable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re temporary variables that are limited to that function on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require some temporary storage in performing calculations, then declare local variables using the keywor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ar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separated by comm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ocal variable exists only while the function executes, so no potential conflicts with other func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eturn statemen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a statement that specifies an output val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ists of the keywor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followed by a variable or express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00200" y="2076480"/>
            <a:ext cx="5419800" cy="173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A5E1-B4EB-43F0-8DF7-0394D93176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Functions with Inpu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st of the predefined function we have considered expect at least on inpu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h.sqr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akes a number as input, and returns its square root as outpu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h.sqrt(9)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h.max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akes two numbers as inputs, and returns the maximum as outpu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h.max(7, 3)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English, the word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arameter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fers to some aspect of a system that can be varied in order to control its behavi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JavaScript, a parameter is a variable (declared inside the function's parentheses) whose value is automatically initialized to the corresponding input value when the function is call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rameters allow the same function to perform different (but related) tasks when called with different input val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9480" y="5052960"/>
            <a:ext cx="4372200" cy="1009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5105520" y="4748040"/>
            <a:ext cx="3581280" cy="21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Verdana"/>
              </a:rPr>
              <a:t>the call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ChangeImage("happy.gif")</a:t>
            </a:r>
            <a:r>
              <a:rPr b="0" lang="en-US" sz="1200" spc="-1" strike="noStrike">
                <a:solidFill>
                  <a:srgbClr val="ff0000"/>
                </a:solidFill>
                <a:latin typeface="Verdana"/>
              </a:rPr>
              <a:t> will assign the input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"happy.gif"</a:t>
            </a:r>
            <a:r>
              <a:rPr b="0" lang="en-US" sz="1200" spc="-1" strike="noStrike">
                <a:solidFill>
                  <a:srgbClr val="ff0000"/>
                </a:solidFill>
                <a:latin typeface="Verdana"/>
              </a:rPr>
              <a:t> to the parameter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imgSource</a:t>
            </a:r>
            <a:r>
              <a:rPr b="0" lang="en-US" sz="1200" spc="-1" strike="noStrike">
                <a:solidFill>
                  <a:srgbClr val="ff0000"/>
                </a:solidFill>
                <a:latin typeface="Verdana"/>
              </a:rPr>
              <a:t>, resulting in the image being assigned to that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Verdana"/>
              </a:rPr>
              <a:t>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Verdana"/>
              </a:rPr>
              <a:t>the call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ChangeImage("sad.gif")</a:t>
            </a:r>
            <a:r>
              <a:rPr b="0" lang="en-US" sz="1200" spc="-1" strike="noStrike">
                <a:solidFill>
                  <a:srgbClr val="ff0000"/>
                </a:solidFill>
                <a:latin typeface="Verdana"/>
              </a:rPr>
              <a:t> will assign the input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"sad.gif"</a:t>
            </a:r>
            <a:r>
              <a:rPr b="0" lang="en-US" sz="1200" spc="-1" strike="noStrike">
                <a:solidFill>
                  <a:srgbClr val="ff0000"/>
                </a:solidFill>
                <a:latin typeface="Verdana"/>
              </a:rPr>
              <a:t> to the parameter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imgSource</a:t>
            </a:r>
            <a:r>
              <a:rPr b="0" lang="en-US" sz="1200" spc="-1" strike="noStrike">
                <a:solidFill>
                  <a:srgbClr val="ff0000"/>
                </a:solidFill>
                <a:latin typeface="Verdana"/>
              </a:rPr>
              <a:t>, resulting in the image being assigned to that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E5D5-17B7-4FDC-B4BB-2E3626587D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Newpics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29528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newpics.html, each button performs a similar task - changing the image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2743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ingl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ngeImag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unction suffices for each (using different inpu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6562800" cy="45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614920" y="3014640"/>
            <a:ext cx="3300480" cy="200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A8D2-EA97-4375-A68E-786F75EAFF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Newmac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0" y="1523880"/>
            <a:ext cx="18288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milarly, we could redefine oldmac.html from Chapter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8584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ldMacVers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has 2 inputs: the animal and sound for that 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3520" y="1467000"/>
            <a:ext cx="6019560" cy="518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095880" y="3352680"/>
            <a:ext cx="2919600" cy="17766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0" y="5334120"/>
            <a:ext cx="1828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function can be used to display any verse, given the animal and s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5821-3C4F-4647-B545-2ACF55DED2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ultiple Inpu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a function has more than one input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rameters in the function definition are separated by comm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put values in the function call are separated by comm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lues are matched to parameters by ord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input value in the function call is assigned to the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parameter in the fun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input value in the function call is assigned to the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parameter in the fun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3962520"/>
            <a:ext cx="8153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3809880"/>
            <a:ext cx="6567480" cy="25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function OldMacVerse(animal, sou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// Assumes: animal and sound are st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// Results: displays corresponding Old MacDonald 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OldMacVerse("cow", "moo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OldMacVerse("moo", "cow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743200" y="4114440"/>
            <a:ext cx="679320" cy="1219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505320" y="4038120"/>
            <a:ext cx="679320" cy="1219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743200" y="4038480"/>
            <a:ext cx="906480" cy="182880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29000" y="4038480"/>
            <a:ext cx="906480" cy="182880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A380-6A48-45F6-80A7-46244BCB38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arameters and Local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rameters play an important role in func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y facilitate the creation of generalized computation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.e., the function defines a formula, but certain values within the formula can differ each time the function is call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chnically, a parameter is 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local variable,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aning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t exists only inside its particular 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the function is called, memory cells are allocated for the parameters and each input from the call is assigned to its corresponding parame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ce a parameter has been assigned a value, you can refer to that parameter within the function just as you would any other vari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the function terminates, the parameters “go away,” and their associated memory cells are fre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4952880"/>
            <a:ext cx="8305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y default, variables other than parameters are considered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global,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aning they exist and can be accessed by JavaScript code anywhere in the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: it is possible to use the same name to refer to a local variable and a global vari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in the function, the local variable is acce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utside that function, the global variable is acce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BC78-D6EC-4C7B-B783-13141529F5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Local vs. Global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72200" y="1371600"/>
            <a:ext cx="266688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re, the variable names animal and sound 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87720" indent="-276840"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d for parameters in the function definition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387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(local variabl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3877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387720" indent="-276840"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d for variables in the BO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387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(global variabl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3877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3877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can think of these as completely separate variables, identifiable via a subscrip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87720" indent="-27684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nima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OldMacVers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oun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OldMacVers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are used in the fun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387720" indent="-27684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nima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BODY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oun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BODY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are used in the BO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5514840" cy="525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AE39-3A51-412F-B2BC-E71B56E039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6:16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