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ADE-EA88-48C0-8DE9-BE6CB8D1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120-C55C-469E-8A0F-513DF7CB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ED0-165C-4346-AD5F-E600363F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80F-F223-47D8-AAC0-0671BDF6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A019-D6D2-4D4C-AE9A-5B085D80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B87F-C75A-4163-AB9F-342A9216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4A4-1FD6-4804-85F8-9B12ECF8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4A04-C3C6-4006-B7A5-2FF82D12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6294-7F53-4579-B2C4-F1D2E793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247F-0623-48DA-92BE-85A8D828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21A9-2A92-4792-9342-D0B77997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C02-222D-4479-8E5C-9BDD90B4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DD7-2E25-44B0-96D0-FCA17F13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9FC-E0C6-42C5-AF48-334D1E6D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2A97-93F9-4EC3-A38E-33A126BC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0262-F0E3-4E40-8ACB-206EE667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E1F2-7EF8-4DD0-8842-8F747D1C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180-B239-4837-8094-194524C4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464-C321-4A10-B169-3E200DA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96A-DBC5-46A2-841A-CB2DBD5D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535-58A0-47B7-9CCB-A11D8A62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2B2-C66A-443F-9E7F-D25575F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2C7-40CD-4E89-B3DF-53D14EA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4DC-2B6C-4CB0-8505-63E6FE7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F68-C47F-40B6-A613-E280785140A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E9A-C567-45AA-B14F-A8E8FCEAFD6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998B-FCBC-4EA4-923D-25EA4D9E44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ascading If-else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sted if-else structur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scading if-else stat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ecause control cascades down the bran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opmost level is evaluated firs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corresponding statements are executed and control moves to the next statement following the cascading 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fails, then control cascades down to the next if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control cascades down the statement from one test to another until one succeeds or the end of the statement is reach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nested if-else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4281480"/>
            <a:ext cx="66294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FA0-9D2C-40AA-9F21-138DACC813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 Cleaner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t is necessary to handle a large number of alternatives, nested if-else statements can become cumbersome and unwiel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ple levels of indentation and curly braces cause the code to look cluttered make it harder to read/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         nested if statements       vs.   a more readable else-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429-C818-4E48-B0EB-0AF3DC05DD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a Web page that simulates the roll of a single d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n image to display the d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 button to initiate the die ro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the button, a random die roll is selected and the corresponding image is display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6095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B4F-F2BE-4865-9DA1-EA09CC4174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12949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used to select the random 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on the roll value, the correct image is display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re than two possibilities, a cascading if-else is nee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084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3E9-7E50-4809-A53D-6706570887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izing Co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each case in the cascading if-else follows the same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828800"/>
            <a:ext cx="7925040" cy="304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5628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ntire cascading if-else structure could be replaced by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613480"/>
            <a:ext cx="8077320" cy="6048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"http://dave-reed.com/book/Images/die" +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+ "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7C7-EF6F-430F-BE83-B181CEB803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ftware applications, if statements are often used to count occurrences of conditional or user-initiated ev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dice rolls come up dou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the user guesses a number corre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that is used to record occurrences of an ev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u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counter is set to zer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specified action occurs, the counter is increment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fter a given time period, the value stored in the counter will tell you the number of times the desired event took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74674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44E-8664-4DC3-B89B-371620E317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gical Connectiv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, simple comparisons between two values may not be adequate to express the conditions under which code should exec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operators for expressing multipart t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A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&amp;&amp;): represents the con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&amp;&amp; TEST2) is true if both TEST1 and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&amp;&amp;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double fours are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||): represents the dis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|| TEST2) is true if either TEST1 or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||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at least one four is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N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!): represents ne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!TEST1) is true only if TEST1 is 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!(roll1 == 4 || roll2 == 4)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neither roll is a fo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6B3-972E-4290-9C3D-607A96D612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of the code you have written has be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nconditionally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carried out statements in the same set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trast, many programming tasks require code that reacts differently under varying circumstances or cond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udent's course grade depends upon his/her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n ESP test requires recognizing when a subject guessed righ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outcome of a game depends upon die rolls or player mo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a program’s ability to execute a statement or sequence of statements only if some condition holds tr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A9E-304E-4AE6-AD2D-5E484AB594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simplest form of conditional statement i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e action is taken if some condition is true, but a different action is taken if the condition is not true (called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lse 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lse case is op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the if statemen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388620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D7E-A329-49B4-8E6C-60B452010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races in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prefer braces on separate lines formatted like th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if (BOOLEAN_TES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ither style is acceptable, but be consist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erly aligning the code (with if-else lining up and statements indented) is central in producing code that is easy to read and mod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you can omit the braces if there is only one 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IS STRONGLY DISCOURAGED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lead to tricky errors if the code is ever mod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D39-7E51-4135-BB65-88D7CFB1BA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oolean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st that controls an if statement can be an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oolean expr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i.e., an expression that evaluates to eith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lean tests are formed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cause they test the relationships between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4956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oolean test in an if statement determines the code that will be exec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true, then the code inside the subsequent curly braces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false, then the code inside the curly braces following the else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if the test is false and there is no else case, the program moves on to the statement directly after the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857680"/>
            <a:ext cx="2209680" cy="95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NO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= is for comparis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 is for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240984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DBA-FBFE-44AC-B5F3-3410A9F5EE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 Examp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63868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ince its purpose is to control the execution of other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43160"/>
            <a:ext cx="6781680" cy="41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528-6D9E-4B46-ABA9-FA608550B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 within a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4771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20920"/>
            <a:ext cx="33051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9C6-4A02-47F4-9C56-9E34BDD62B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Text Fiel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at values entered via text boxes/areas are always returned as str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4724280" cy="118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document.getElementById('age').valu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149560"/>
            <a:ext cx="3124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say that a 2-year old can vote, but a 102-year old can'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564080"/>
            <a:ext cx="5257800" cy="1371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ge = parseFloat(document.getElementById('age').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ag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732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behave as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you wish to treat a value obtained from a text box or text area as a number, you must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to conve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642-7A72-4303-9765-956107AA1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sted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tasks often require code that responds to more than one cond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nesting one if statement inside of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determining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-chill is only defined for temperatures less than or equal to 50 degr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if test is to determine if it is a valid temperature to calculate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sted if statement only executes if the outer test i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65530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675-C6AF-43AD-B918-3DD54D4CD9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0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