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A6E2-8A96-41CA-9F4C-62381E6AA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CDB0-BB60-484E-A961-C446A8B2A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C305-E300-47DD-A4AA-037C93A93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E0D1-790F-4877-8A43-CC1E62F5A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BD17D-1101-4913-B873-C445D1D7C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037C0-5BBC-45C9-A778-E578B87F0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CA0CD-9217-4FEE-85E7-A5823F45D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E4EB7-02F4-4EFD-BCBC-B4134B9ED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6735E-57C1-4DBB-93D5-BB3ABBE10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40E08-763C-422A-8F4C-EA569FA65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6D5BC-86B8-43CA-BB61-FA14D0A6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B455-54A8-4FBE-ACB2-C2231E8C0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71C03-61A4-4EC2-A7B0-5A5F1D687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BEEC2-C67A-47E4-ABB7-14B269AE2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0B9C3-8129-445B-B25C-6FC33A209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BA8B8-E8EA-44AF-B344-06A141136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9FB72-20F2-4ED8-B9F8-021731929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8F9F-9F0A-4CFB-B69C-8A7C2DC40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FC6A-95CC-4C62-BCD3-764093C13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C2B3-3697-4E76-BADC-F7F5DC1CF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2892-D872-40BD-85AB-94BEDA139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C2B1-2567-4E6F-BBB0-12742B46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7A3D-4E89-4715-82AB-99FFB09E6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B5F7-DB7E-4680-8F2A-770E49F6B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2387F-8DB8-4F60-8C6F-6000F310CDBC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066680"/>
            <a:ext cx="8381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8077320" y="152280"/>
            <a:ext cx="610920" cy="83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563868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w Cen MT Condensed Extra Bold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1A6C7-4407-4F25-ADA9-A2BBE4FD72D3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3886200"/>
            <a:ext cx="2870280" cy="119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98880" y="3886200"/>
            <a:ext cx="2870280" cy="11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69160" y="3886200"/>
            <a:ext cx="2869920" cy="119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264360" y="609480"/>
            <a:ext cx="2435040" cy="30481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49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5943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9900"/>
                </a:solidFill>
                <a:latin typeface="Tw Cen MT Condensed Extra Bold"/>
              </a:rPr>
              <a:t>A Balanced Introduction to Computer Science, 2/E</a:t>
            </a:r>
            <a:br>
              <a:rPr sz="3800"/>
            </a:br>
            <a:br>
              <a:rPr sz="1500"/>
            </a:br>
            <a:r>
              <a:rPr b="0" lang="en-US" sz="2400" spc="-1" strike="noStrike">
                <a:solidFill>
                  <a:srgbClr val="ff9900"/>
                </a:solidFill>
                <a:latin typeface="Tw Cen MT Condensed Extra Bold"/>
              </a:rPr>
              <a:t>David Reed, Creighton University</a:t>
            </a:r>
            <a:br>
              <a:rPr sz="3400"/>
            </a:br>
            <a:br>
              <a:rPr sz="12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©2008 Pearson Prentice Hall</a:t>
            </a:r>
            <a:br>
              <a:rPr sz="21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ISBN 978-0-13-601722-6</a:t>
            </a:r>
            <a:endParaRPr b="0" lang="en-US" sz="21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295280" y="4419720"/>
            <a:ext cx="6477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apter 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gorithms and Programming Langua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990F6-5DD7-46E3-861A-CE89E1A9F0C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nother Algorithm Exampl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ING: a common problem in computer science involves storing an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intaining large amounts of data, and then searching the data fo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articular valu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a storage and retrieval are key to many industry applic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arch algorithms are necessary to storing and retrieving data efficientl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consider searching a large payroll database for a particular recor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0024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the computer selected entries at random, there is no assurance that the particular record will be foun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0024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ven if the record is found, it is likely to take a large amount of tim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0024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systematic approach assures that a given record will be found, and that it will be found more efficientl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0024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0024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re are two commonly used algorithms for searching a list of item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quential search – general purpose, but relatively slow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inary search – restricted use, but fa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6913-627C-4D3D-9AE2-7BA280BA86C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equential Search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1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sequential search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is an algorithm that involves examining each list item in sequential order until the desired item is foun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71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71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sequential search for finding an item in a li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87320" indent="-330120"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art at the beginning of the li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87320" indent="-330120"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r each item in the li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44520" indent="-330120">
              <a:spcBef>
                <a:spcPts val="349"/>
              </a:spcBef>
              <a:buClr>
                <a:srgbClr val="ff0000"/>
              </a:buClr>
              <a:buSzPct val="65000"/>
              <a:buFont typeface="Verdan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xamine the item - if that item is the one you are seeking, then you are don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44520" indent="-330120">
              <a:spcBef>
                <a:spcPts val="349"/>
              </a:spcBef>
              <a:buClr>
                <a:srgbClr val="ff0000"/>
              </a:buClr>
              <a:buSzPct val="65000"/>
              <a:buFont typeface="Verdan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it is not the item you are seeking, then go on to the next item in the li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4452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873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reach the end of the list and have not found the item, then it was not in the li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6068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6068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66068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71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quential search guarantees that you will find the item if it is in the list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87320" indent="-33012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t it is not very practical for very large database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87320" indent="-33012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worst case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you may have to look at every entry in the lis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BAB2-AE6A-4CED-B1E3-412215C6073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Binary Search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1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binary search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involves continually cutting the desired search list in half until the item is found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87320" indent="-33012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algorithm is only applicable if the list is ordered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44520" indent="-33012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a list of numbers in increasing ord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44520" indent="-33012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a list of words in alphabetical ord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71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71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binary search for finding an item in an ordered li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87320" indent="-330120"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itially, the potential range in which the item could occur is the entire li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87320" indent="-330120"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s long as items remain in the potential range and the desired item has not been found, repeatedl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44520" indent="-330120">
              <a:spcBef>
                <a:spcPts val="349"/>
              </a:spcBef>
              <a:buClr>
                <a:srgbClr val="ff0000"/>
              </a:buClr>
              <a:buSzPct val="65000"/>
              <a:buFont typeface="Verdan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xamine at the middle entry in the potential ran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44520" indent="-330120">
              <a:spcBef>
                <a:spcPts val="349"/>
              </a:spcBef>
              <a:buClr>
                <a:srgbClr val="ff0000"/>
              </a:buClr>
              <a:buSzPct val="65000"/>
              <a:buFont typeface="Verdan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the middle entry is the item you are looking for, then you are don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44520" indent="-330120">
              <a:spcBef>
                <a:spcPts val="349"/>
              </a:spcBef>
              <a:buClr>
                <a:srgbClr val="ff0000"/>
              </a:buClr>
              <a:buSzPct val="65000"/>
              <a:buFont typeface="Verdan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the middle entry is greater than the desired item, then reduce the potential range to those entries left of the midd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44520" indent="-330120">
              <a:spcBef>
                <a:spcPts val="349"/>
              </a:spcBef>
              <a:buClr>
                <a:srgbClr val="ff0000"/>
              </a:buClr>
              <a:buSzPct val="65000"/>
              <a:buFont typeface="Verdan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the middle entry is less than the desired item, then reduce the potential range to those entries right of the midd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4452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71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y repeatedly cutting the potential range in half, binary search can hone in on the value very quickl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727C-684B-4AAC-BD7C-D3A6E64F79C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Binary Search Exampl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295280" y="3581280"/>
            <a:ext cx="6753240" cy="2960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57200" y="1219320"/>
            <a:ext cx="830592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uppose you have a sorted list of state names, and want to find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Illino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art by examining the middle entry (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Missouri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ince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Missouri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comes after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Illinois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alphabetically, can eliminate it and all entries that appear to the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xt, examine the middle of the remaining entries (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Florida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ince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Florida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comes before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Illinois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alphabetically, can eliminate it and all entries that appear to the lef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xt, examine the middle of the remaining entries (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Illinoi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desired entry is f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2088-AE52-4932-8AA2-7627836622A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earch Analysi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quential searc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the worst case, the item you are looking for is in the last spot in the list (or not in the list at all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 a result, you will have to inspect and compare every entry in the lis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amount of work required is proportional to the list siz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quential search is an O(N) algorith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inary searc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the worst case, you will have to keep halving the list until it gets down to a single ent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ach time you inspect/compare an entry, you rule out roughly half the remaining entr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amount of work required is proportional to the logarithm of the list siz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inary search is an O(log N) algorith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4724280"/>
            <a:ext cx="8534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magine searching a phone book of the United States (300 million peop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quential search requires at most 300 million inspections/comparis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inary search requires at most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o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300,000,000)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= 29 inspections/comparis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99F7-780F-4DAA-9B60-4F395BBAA5C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nother Algorithm Exampl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1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Newton’s Algorithm for finding the square root of 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87320" indent="-330120"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art with an initial approximation of 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87320" indent="-330120"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s long as the approximation isn’t close enough, repeatedl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44520" indent="-330120">
              <a:spcBef>
                <a:spcPts val="300"/>
              </a:spcBef>
              <a:buClr>
                <a:srgbClr val="ff0000"/>
              </a:buClr>
              <a:buSzPct val="65000"/>
              <a:buFont typeface="Verdan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fine the approximation using the formula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2445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ewApproximation = (oldApproximation + N/oldApproximation)/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2445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24452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4452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873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xample: finding the square root of 1024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257800" y="2695680"/>
            <a:ext cx="2666880" cy="1800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57200" y="449568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lgorithm analysi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wton's Algorithm does converge on the square root because each successive approximation is closer than the previous 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owever, since the square root might be a non-terminating fraction it is difficult to define the exact number of steps for converg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general, the difference between the given approximation and the actual square root is roughly cut in half by each successive refin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monstrates O(log N) behavi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6D39-E39D-4329-81E0-362DCE05C61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lgorithms and Programming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gramming is all about designing and coding algorithms for solving problem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intended executor is the computer or a program executing on that comput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structions are written in programming languages which are more constrained and exact than human langua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level of precision necessary to write programs can be frustrating to beginn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t it is much easier than it was 50 years ag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arly computers (ENIAC) needed to be wired to perform comput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ith the advent of the von Neumann architecture, computers could be programmed instead of rewir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-30492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 algorithm could be coded as instructions, loaded into the memory of the computer, and execut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198C-4D65-45D6-9B84-31C106767AC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Machine Languag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first programming languages were known as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 machine languag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a machine languag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consists of instructions that correspond directly to the hardware operations of a particular machin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-30492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.e., instructions deal directly with the computer’s physical components including main memory, registers, memory cells in CPU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-30492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ery low level of abstrac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chine language instructions are written in bina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-30492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gramming in machine language is tedious and error prone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-30492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de is nearly impossible to understand and debu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cerpt from a machine language program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62120" y="4114800"/>
            <a:ext cx="7619760" cy="1887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D5AE-5046-452A-9579-B93723F56C6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High-Level Languag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the early 1950’s,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assembly languag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evolved from machine language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 assembly language substitutes words for binary cod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uch easier to remember and use words, but still a low level of abstraction (instructions correspond to hardware operation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the late 1950's,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high-level languag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were introduc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igh-level languages allow the programmer to write code closer to the way humans think (as opposed to mimicking hardware operation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much more natural way to solve proble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lus, programs are machine independ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wo high level languages that perform the same task (in JavaScript and C++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066680" y="4121280"/>
            <a:ext cx="6934320" cy="2566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6FA0-176D-4844-AA6D-3AB4239BC83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Program Translation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ing a high-level language, the programmer is able to reason at a high-level of abstra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t programs must still be translated into machine language that the     computer hardware can understand/execu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re are two standard approaches to program translation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terpret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pil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al-world analogy: translating a speech from one language to anoth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interpreter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can be used provide a real-time transl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00240" indent="-228600"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interpreter hears a phrase, translates, and immediately speaks the transl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200240" indent="-228600"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VANTAGE: the translation is immedia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200240" indent="-228600"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ISADVANTAGE: if you want to hear the speech again, must interpret all over aga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translator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(or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compiler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) translates the entire speech offlin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00240" indent="-228600"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translator takes a copy of the speech, returns when the entire speech is translat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200240" indent="-228600"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VANTAGE: once translated, it can be read over and over very quickl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200240" indent="-228600"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ISADVANTAGE: must wait for the entire speech to be translat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7ACA-C275-47C3-9D88-D279756D241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lgorithm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central concept underlying all computation is that of the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algorithm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 algorithm is a step-by-step sequence of instructions for carrying out some tas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gramming can be viewed as the process of designing and implementing algorithms that a computer can carry ou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programmer’s job is to: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reate an algorithm for accomplishing a given objective, then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ranslate the individual steps of the algorithm into a programming language that the computer can understan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4724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ample: programming in JavaScri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e have written programs that instruct the browser to carry out a particular ta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iven the proper instructions, the browser is able to understand and produce the desired resul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0E3C-6376-4D05-9C0C-A2095A9FCC4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peech Translation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erpreter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3809880"/>
            <a:ext cx="8229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anslator (compiler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209680" y="1515960"/>
            <a:ext cx="6096240" cy="18367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2286000" y="4175280"/>
            <a:ext cx="5334120" cy="2073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297D-36CA-4DDD-A1C6-4AC2418DD29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nterpreter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r program translation, the interpretation approach relies on a program known as an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interpreter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to translate and execute high-level statement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interpreter reads one high-level statement at a time, immediately translating and executing the statement before processing the next on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JavaScript is an interpreted langua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990720" y="3124080"/>
            <a:ext cx="7467480" cy="28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76AF-2FED-4E6E-81CE-B65C2CB7427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ompiler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compilation approach relies on a program known as a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ompiler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to translate the entire high-level language program into its equivalent machine-language instruc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resulting machine-language program can be executed directly on the comput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ost languages used for the development of commercial software employ the compilation technique (C, C++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219320" y="3581280"/>
            <a:ext cx="7010280" cy="2698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2765-4094-4F3A-B071-B116197203F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nterpreters and Compiler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adeoffs between interpretation and compil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terpret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duces results almost immediatel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articularly useful for dynamic, interactive features of web pa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gram executes more slowly (slight delay between the execution of statement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il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duces machine-language program that can run directly on the underlying hardwa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gram runs very fast after compil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ust compile the entire program before execu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d in large software applications when speed is of the utmost importa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6450-60AE-4947-8E98-7531B8F4A19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lgorithms in the Real World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5791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use of algorithms is not limited to the domain of comput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recipes for baking cook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directions to your hous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re are many unfamiliar tasks in life that we could not complete without the aid of instruc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order for an algorithm to be effective, it must be stated in a manner that its intended executor can understan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-30492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recipe written for a master chef will look different than a recipe written for a college stud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s you have already experienced, computers are more demanding with regard to algorithm specifics than any human could b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3505320"/>
            <a:ext cx="84582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426360" y="1371600"/>
            <a:ext cx="2455560" cy="441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FD2B-FC06-4E0D-95F0-10645DF1117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39152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Lucida Console"/>
              </a:rPr>
              <a:t>Designing &amp; Analyzing Algorithms</a:t>
            </a:r>
            <a:endParaRPr b="0" lang="en-US" sz="28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4 steps to solving problems (George Polya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derstand the proble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vise a pla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rry out your pla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xamine the solu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3200400"/>
            <a:ext cx="84582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AMPLE: finding the oldest person in a room full of peo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derstanding the probl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itial condition – room full of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oal – identify the oldest per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ssum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38360" indent="-2667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person will give their real birth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38360" indent="-2667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two people are born on the same day, they are the same 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38360" indent="-2667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there is more than one oldest person, finding any one of them is ok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-304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e will consider 2 different designs for solving this probl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98F3-758C-44B1-A3AA-89FA687211E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Lucida Console"/>
              </a:rPr>
              <a:t>Algorithm 1</a:t>
            </a:r>
            <a:endParaRPr b="0" lang="en-US" sz="28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1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Finding the oldest person (algorithm 1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87320" indent="-33012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ne up all the people along one wal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87320" indent="-33012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sk the first person to state his or her name and birthday, then write this information down on a piece of pap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87320" indent="-33012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r each successive person in line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44520" indent="-33012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Verdan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sk the person for his or her name and birthda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44520" indent="-33012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Verdan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the stated birthday is earlier than the birthday on the paper, cross out old information and write down the name and birthday of this pers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44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87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n you reach the end of the line, the name and birthday of the oldest person will be written on the pap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828800" y="3998880"/>
            <a:ext cx="5334120" cy="2554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D10B-0092-41E7-8C74-7DF6525D2A3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Lucida Console"/>
              </a:rPr>
              <a:t>Algorithm 2</a:t>
            </a:r>
            <a:endParaRPr b="0" lang="en-US" sz="28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Finding the oldest person (algorithm 2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ne up all the people along one wal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s long as there is more than one person in the line, repeatedl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-30492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Verdan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ave the people pair up (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with 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Verdana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, 3</a:t>
            </a:r>
            <a:r>
              <a:rPr b="0" lang="en-US" sz="1400" spc="-1" strike="noStrike" baseline="30000">
                <a:solidFill>
                  <a:srgbClr val="000000"/>
                </a:solidFill>
                <a:latin typeface="Verdana"/>
              </a:rPr>
              <a:t>rd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with 4</a:t>
            </a:r>
            <a:r>
              <a:rPr b="0" lang="en-US" sz="14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, etc) – if there is an odd number of people, the last person will be without a partn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-30492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Verdan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sk each pair of people to compare their birthday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-30492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Verdan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quest that the younger of the two leave the lin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n there is only one person left in line, that person is the olde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057400" y="3456000"/>
            <a:ext cx="4800600" cy="3230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93E4-E0A5-4440-9BD1-6A857357617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lgorithm Analysi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termining which algorithm is "better" is not always clear cut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depends upon what features are most important to you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-30492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want to be sure it works, choose the clearer algorith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-30492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care about the time or effort required, need to analyze performan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lgorithm 1 involves asking each person’s birthday and then comparing it to the birthday written on the pag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amount of time to find the oldest person is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proportional to the number of peop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double the amount of people, the time needed to find the oldest person will also doub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lgorithm 2 allows you to perform multiple comparisons simultaneousl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time needed to find the oldest person is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proportional to the number of rounds it takes to shrink the line down to one person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-30492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ich turns out to be the logarithm (base 2) of the number of peop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double the amount of people, the time needed to find the oldest person increases by the cost of one more comparis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3962520"/>
            <a:ext cx="8534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66680" y="5676840"/>
            <a:ext cx="7086600" cy="975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52440"/>
                <a:tab algn="l" pos="2505240"/>
                <a:tab algn="l" pos="3757680"/>
                <a:tab algn="l" pos="5010120"/>
                <a:tab algn="l" pos="6262560"/>
                <a:tab algn="l" pos="7515360"/>
                <a:tab algn="l" pos="8767800"/>
                <a:tab algn="l" pos="1002024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the words </a:t>
            </a:r>
            <a:r>
              <a:rPr b="0" i="1" lang="en-US" sz="1400" spc="-1" strike="noStrike">
                <a:solidFill>
                  <a:srgbClr val="ff0000"/>
                </a:solidFill>
                <a:latin typeface="Verdana"/>
              </a:rPr>
              <a:t>algorithm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 and </a:t>
            </a:r>
            <a:r>
              <a:rPr b="0" i="1" lang="en-US" sz="1400" spc="-1" strike="noStrike">
                <a:solidFill>
                  <a:srgbClr val="ff0000"/>
                </a:solidFill>
                <a:latin typeface="Verdana"/>
              </a:rPr>
              <a:t>logarithm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 are similar – do not be confused by th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36520">
              <a:lnSpc>
                <a:spcPct val="100000"/>
              </a:lnSpc>
              <a:tabLst>
                <a:tab algn="l" pos="0"/>
                <a:tab algn="l" pos="1252440"/>
                <a:tab algn="l" pos="2505240"/>
                <a:tab algn="l" pos="3757680"/>
                <a:tab algn="l" pos="5010120"/>
                <a:tab algn="l" pos="6262560"/>
                <a:tab algn="l" pos="7515360"/>
                <a:tab algn="l" pos="8767800"/>
                <a:tab algn="l" pos="1002024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Verdana"/>
              </a:rPr>
              <a:t>algorithm: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 a step-by-step sequence of instructions for carrying out a task </a:t>
            </a:r>
            <a:r>
              <a:rPr b="0" i="1" lang="en-US" sz="1400" spc="-1" strike="noStrike">
                <a:solidFill>
                  <a:srgbClr val="ff0000"/>
                </a:solidFill>
                <a:latin typeface="Verdana"/>
              </a:rPr>
              <a:t>logarithm: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 the exponent to which a base is raised to produce a num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36520">
              <a:lnSpc>
                <a:spcPct val="100000"/>
              </a:lnSpc>
              <a:tabLst>
                <a:tab algn="l" pos="0"/>
                <a:tab algn="l" pos="1252440"/>
                <a:tab algn="l" pos="2505240"/>
                <a:tab algn="l" pos="3757680"/>
                <a:tab algn="l" pos="5010120"/>
                <a:tab algn="l" pos="6262560"/>
                <a:tab algn="l" pos="7515360"/>
                <a:tab algn="l" pos="8767800"/>
                <a:tab algn="l" pos="1002024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e.g., 2</a:t>
            </a:r>
            <a:r>
              <a:rPr b="0" lang="en-US" sz="1400" spc="-1" strike="noStrike" baseline="30000">
                <a:solidFill>
                  <a:srgbClr val="ff0000"/>
                </a:solidFill>
                <a:latin typeface="Verdana"/>
              </a:rPr>
              <a:t>10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 = 1024, so log</a:t>
            </a:r>
            <a:r>
              <a:rPr b="0" lang="en-US" sz="1400" spc="-1" strike="noStrike" baseline="-25000">
                <a:solidFill>
                  <a:srgbClr val="ff0000"/>
                </a:solidFill>
                <a:latin typeface="Verdana"/>
              </a:rPr>
              <a:t>2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(1024) =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772D-B707-48F6-95AD-185E60D3E80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lgorithm Analysis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en the problem size is large, performance difference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an be dramatic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r example, assume it takes 5 seconds to compare birthday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r algorithm 1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00 people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5*100 = 500 secon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00 people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5*200 = 1000 secon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400 people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5*400 = 2000 secon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,000,000 people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5*1,000,000 = 5,000,000 secon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r algorithm 2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00 people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5*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lo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100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= 35 secon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00 people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5*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lo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200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= 40 secon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400 people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5*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lo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400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= 45 seconds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,000,000 people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5*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lo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1,000,000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= 100 secon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781680" y="3352680"/>
            <a:ext cx="2205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4461-249A-479C-B2EF-0075B044036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Big-Oh Notation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o represent an algorithm’s performance in relation to the size of the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blem, computer scientists use what is known as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Big-Oh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not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xecuting an O(N) algorithm requires time proportional to the size of proble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0024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iven an O(N) algorithm, doubling the problem size doubles the wor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0024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xecuting an O(log N) algorithm requires time proportional to the logarithm of the problem siz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0024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iven an O(log N) algorithm, doubling the problem size adds a constant amount of wor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ased on our previous analysis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876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gorithm 1 is classified as O(N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876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gorithm 2 is O(log N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C1E1-A797-4BDE-A2E7-2C298635323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davir2</cp:lastModifiedBy>
  <dcterms:modified xsi:type="dcterms:W3CDTF">2007-09-12T22:13:36Z</dcterms:modified>
  <cp:revision>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