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6F24-377A-405E-B147-A11A497C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E17-E39D-440F-A6A1-ECB26B2B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7F3D-3BB8-4B44-8C5B-8B984849F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272-3B38-4CAC-B584-786EDE11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65F-589B-41FA-845E-C351714F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C23F-C1C3-4564-A8AC-9B9207EF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E45A-58DB-4114-AE11-5EF47F5C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0C18-D846-4883-A8B8-E27D6ACA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C60E-5385-46DC-A5B8-C7089BB9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AD5D9-4119-41F4-8EAD-4D877768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069E-7156-4336-A131-77657CD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151-CF34-42CA-B9A4-6E615EE5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16FC-5FDA-4856-B4EC-D7DC406D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9C4B-9D9B-4197-B60A-EC175EE0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EA0D-7149-4213-855F-83B06D20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E31D-26B1-4683-891F-3EAD2D63C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57400"/>
            <a:ext cx="264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5D8C-1840-4479-A1ED-B7BD04A9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70D4-5A91-493A-B51E-E49110F8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D1D5-5223-412E-A482-465764E4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BE98-EA7B-4E0B-9124-42835938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30456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EE78-FE0C-428F-A958-9E5715E2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50F-28BF-40D5-BEE4-4F0EC40E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574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8E1-C2D1-4D6F-9DE2-3EA58339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57400"/>
            <a:ext cx="8229600" cy="22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07E-D68E-4E7F-B6E1-0ADD6EA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lick to edit the title text format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C663-EF4C-432A-988B-7EDE9BB978AF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066680"/>
            <a:ext cx="8381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61092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563868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 Condensed Extra Bold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4249-00A7-4E53-82C6-5E918DFA11EB}" type="slidenum">
              <a:rPr b="0" lang="en-US" sz="1400" spc="-1" strike="noStrike">
                <a:solidFill>
                  <a:srgbClr val="ff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3886200"/>
            <a:ext cx="2870280" cy="119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98880" y="3886200"/>
            <a:ext cx="2870280" cy="11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69160" y="3886200"/>
            <a:ext cx="2869920" cy="1191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64360" y="609480"/>
            <a:ext cx="243504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59436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Tw Cen MT Condensed Extra Bold"/>
              </a:rPr>
              <a:t>A Balanced Introduction to Computer Science, 2/E</a:t>
            </a:r>
            <a:br>
              <a:rPr sz="3800"/>
            </a:br>
            <a:br>
              <a:rPr sz="1500"/>
            </a:br>
            <a:r>
              <a:rPr b="0" lang="en-US" sz="2400" spc="-1" strike="noStrike">
                <a:solidFill>
                  <a:srgbClr val="ff9900"/>
                </a:solidFill>
                <a:latin typeface="Tw Cen MT Condensed Extra Bold"/>
              </a:rPr>
              <a:t>David Reed, Creighton University</a:t>
            </a:r>
            <a:br>
              <a:rPr sz="3400"/>
            </a:br>
            <a:br>
              <a:rPr sz="12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©2008 Pearson Prentice Hall</a:t>
            </a:r>
            <a:br>
              <a:rPr sz="2100"/>
            </a:br>
            <a:r>
              <a:rPr b="0" lang="en-US" sz="2100" spc="-1" strike="noStrike">
                <a:solidFill>
                  <a:srgbClr val="ff9900"/>
                </a:solidFill>
                <a:latin typeface="Tw Cen MT Condensed Extra Bold"/>
              </a:rPr>
              <a:t>ISBN 978-0-13-601722-6</a:t>
            </a:r>
            <a:endParaRPr b="0" lang="en-US" sz="2100" spc="-1" strike="noStrike">
              <a:solidFill>
                <a:srgbClr val="ff9900"/>
              </a:solidFill>
              <a:latin typeface="Tw Cen MT Condensed Extra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440" y="44197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Science as a Discip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D84C-2447-421C-A8DF-F0140EB20E7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lgorithms and Data Structur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involves developing, analyzing, and implementing algorithms for solving probl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cryption is the process of encoding a message so that it is decipherable only by its intended recipi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esar cipher: shift each letter three down in the alphab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3" marL="15519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ET TU BRUT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HW WX EUXW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esar cipher is an example of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 private-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ies on the sender and the recipient sharing a secret k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modern encryption algorithms rely on private key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08440" indent="-2214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Digital Encryption Standard (DES) utilizes 56-bit key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480060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847-BD95-463C-B7C2-07803B19EB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Public-Key Encryption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ivate-key encryption assumes that the sender and the recipient have agreed upon some key ahead of time (which introduces other security risk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itfield Diffie and Martin Hellman proposed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ublic-key encryp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sign each party a pair of associated keys, one is public and the other is priv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essage encoded with a public key requires the corresponding private key for decoding, and vice vers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 all secure communications on the Internet use public key encry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s for double encryption to also verify the identity of the sender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can encode messages with your own private key and the recipient’s public key, and decode the message in rever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47920" y="4267080"/>
            <a:ext cx="6553080" cy="1932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83E1-BA15-4FD4-A843-31A5F45510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chitectu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thods of organizing hardware components into efficient, reliabl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arallel proces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ltiple processors can sometimes be utilized to share the computational loa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re are costs associated with coordinating the processors and dividing the work, so  not well suited for all tas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ing when parallel processing can be used effectively is a common task for computer archit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Core 2 Duo processor integrates the circuitry for 2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execute two different instructions simultaneously, potentially double execution sp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high-end Web Servers utilize multipl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rvice multiple requests simultaneously by distributing the load among the process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57200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ep Blue, IBM's chess playing computer, contained 32 general purpose processors and 512 special-purpose chess 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cessors worked in parallel to evaluate chess moves (could generate and evaluate 200 million chess moves per seco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997, Deep Blue became the first computer to beat a world champion in a chess tourn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257800" y="4334040"/>
            <a:ext cx="3505320" cy="1914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031-0BF0-4F71-95D4-34C3B8EE4B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Operating Systems and Network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mechanisms to control the hardware and software components of computer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operating system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ediate between hardware and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ime-sharing -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owed for multiple users to work on the same comput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user is allocated a portion of the processor, and the processor rotates among tasks so rapidly that it appears to be executing task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ltitasking – a single user can run multiple programs simultaneous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application is allocated a portion of the mem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09880"/>
            <a:ext cx="83059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lication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network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llow computers to communicate and share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ide area network (W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long distances (e.g., Intern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cal area network (LAN) – connec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over short distances (e.g., s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om or buil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thernet is a family of technologies for building 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plest form uses broadcasting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288120" y="4191120"/>
            <a:ext cx="1941480" cy="241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681-A3B6-4C9E-A222-68006BB9C4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 Engineer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concerned with creating effective software system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rge projects can encompass millions of lines of co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ams of programmers work together to make an integrated wh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ordination and testing are key to successful pro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5029200"/>
            <a:ext cx="8001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ftware demand continues to grow, placing pressure on programmers to produce at faster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early, there is a limit to personal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imply adding more programmers does not solve the problem: increasing numbers means increased complexity, and coordination becomes an even bigger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recent years, the adoption of the object-oriented programming methodology has made it easier to reuse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4714920" cy="23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D1A2-5284-4C74-BC61-B3FED0A551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Intellig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attempts to make computers exhibit human-like characteristics (e.g., the ability to reason and thin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1950, Turing predicted intelligent computers by 2000 (still not even clos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t, progress has been made in many A.I. real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bots in manufactu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pert systems – programs that encapsulate expert knowledge in a specific domain (e.g., for medical diagnosi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ural computing – design of architectures that mimic the br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47920" y="3809880"/>
            <a:ext cx="6248160" cy="242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596-03BD-40B5-B840-9B3B171C97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Bioinformatic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029200" y="1727280"/>
            <a:ext cx="3753000" cy="33782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4419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ubfield that bridges the gap between biology and computer scien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cuses on using computers and computer science techniques to solve biological probl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integrated with various scientific too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microscopes connected to computers and digital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are used to model biological syste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pharmaceutical companies model drug interactions to save time and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s are used to store and process large amounts of biological d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Human Genome Project stores and provides tools for studying DN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575-B9B3-48AC-9E7B-2BC7145E5C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 Ethics of Computing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 technology becomes more prevalent in society, computing professionals must ensure that hardware and software are used safely, fairly, and effective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562720" cy="433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691-3BE6-4505-B273-B3FEC4C588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“Science”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me people argue that computer science is not a science in the same sense that biology and chemistry 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disciplinary nature of computer science has made it hard to classif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is the study of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more than just machinery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nvolves all aspects of problem solving, inclu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sign and analysis of algorith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formalization of algorithms as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velopment of computational devices for execu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theoretical study of the power and limitations of comput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ther this constitutes a "science" is a matter of interpret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ertainly, computer science represents a rigorous approach to understanding complex phenomena and problem solv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02DC-D14F-48D3-9B3C-D887E61B72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cientific Method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developed by the scientific community for examin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servations and event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cientific meth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4956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activities carried out by computer scientists follow the scientific meth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signing and implementing a large database system requires hypothesizing about its behavior under various conditioning, experimenting to test those hypotheses, analyzing the results, and possibly redesig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.g., debugging a complex program requires forming hypotheses about where an error might be occurring, experimenting to test those hypotheses, analyzing the results, and fixing the bu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6148440" cy="17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455D-EC58-4199-995D-A07E171D5F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Artificial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3505320"/>
            <a:ext cx="84582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distinction between computer science and natural sciences like biology, chemistry, and physics is the type of systems being stud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tural sciences study naturally occurring phenomena and attempt to extract underlying laws of n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mputer science study human-made constructs: programs, computers, and computational m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erbert Simon coined the phrase "artificial science" to distinguish computer science from the natural sci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 Europe, computer science is commonly called "Informatic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information processing as opposed to machin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erm "Algorithmics" has also been prop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hasizes the role of algorithms and problem sol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related fields study computation from different perspec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omputer engineering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the design and construction of comp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information systems manageme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cuses on business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A40-8A26-4999-9D93-6181C3BB52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Computer Science Themes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nce computation encompasses many different types of activities, computer science research is often difficult to classif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ree recurring themes define the discipl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348160" cy="38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469D-BF9C-44B5-A3B3-249FCAB521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Hard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hard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hysical components of a computer and its supporting devic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st modern computers implement the von Neumann architectu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PU + memory + input/output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ngoing research seeks to improve hardware design and organizati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circuit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reate smaller, faster, more energy-efficient chi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microchip manufactur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eek to miniaturize and streamline produ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rchitec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research methods to increase </a:t>
            </a: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throughpu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(the amount of work done in a given time perio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parallel processing – splitting the computation across multiple CPU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00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.g., networking – connecting computers to share information and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355-B59B-4746-9C20-E22DA0E56E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oftwar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oft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fers to the programs that execute on comput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3 basic software catego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directly control the execution of hardware components (e.g., operating system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development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rograms that are used as tools in the development of other programs (e.g.  Microsoft.NET, Java SD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applications software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ll other programs, which perform a wide variety of tasks (e.g., web browsers, word processors, gam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careers in computer science are related to the design, development, testing, and maintenance of softwar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language design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velop and extend programming languages for easier and more efficient sol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programmer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ign and code algorithms for execution on a comput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-30492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Verdana"/>
              </a:rPr>
              <a:t>systems analyst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nalyze program designs and manage develop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62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3E6-DED3-41DE-A393-A34FDEB5EA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Theory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oretical computer scientists strive to understand the capabilities of algorithms and computers (deeply rooted in math and formal logi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ample: the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Turing machin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s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 abstract computational machine invented by computer pioneer Alan Turing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sists of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otentially infinite tape on which characters can be writt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processing unit that can read and write on the tape, move in either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ion, and distinguish between a finite number of st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gnificance of the Turing machi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programmable (example below is programmed to distinguish between an even or odd number of a's on the tape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vably as powerful as any modern computer, but simpler so provides a manageable tool for studying computatio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3276720"/>
            <a:ext cx="82296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572000"/>
            <a:ext cx="205740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Turing used this simpler model to prove there are problems that cannot be solved by any comput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57440" y="4267080"/>
            <a:ext cx="4514760" cy="244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D46-FE50-48EB-BE91-5250112761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Lucida Console"/>
              </a:rPr>
              <a:t>Subfields of Computer Science</a:t>
            </a:r>
            <a:endParaRPr b="0" lang="en-US" sz="3200" spc="-1" strike="noStrike">
              <a:solidFill>
                <a:srgbClr val="ff0000"/>
              </a:solidFill>
              <a:latin typeface="Lucida Conso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62360" y="1295280"/>
            <a:ext cx="32763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r science can be divided into subfield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subfield takes a unique approach to comput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7880" indent="-2854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wever the common themes of computer science (hardware, software, and theory) influence every subfie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628880" cy="5105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6324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(Denning, Peter. “Computer Science: The Discipline.” In Encyclopedia of Computer Science, 4</a:t>
            </a:r>
            <a:r>
              <a:rPr b="0" i="1" lang="en-US" sz="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i="1" lang="en-US" sz="800" spc="-1" strike="noStrike">
                <a:solidFill>
                  <a:srgbClr val="000000"/>
                </a:solidFill>
                <a:latin typeface="Verdana"/>
              </a:rPr>
              <a:t> ed., 2000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62F4-44BF-4C9B-B371-B1E125B19B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davir2</cp:lastModifiedBy>
  <dcterms:modified xsi:type="dcterms:W3CDTF">2007-09-12T22:08:3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