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DA7-DE02-4C25-B450-D8D50D62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132A-2122-47AC-A315-3958107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FEBD-AB4C-4E63-8A86-D7E68452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62ED-43E3-443E-B226-ACBEEFAE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42BE1-013C-4ACB-BBF0-EC7D65EC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02B6-84AB-481E-8D12-CF9FBB81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9982-2194-4C87-A201-FE7290E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172B-F8A0-40AE-94BF-4042D8D8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E20-8938-4A97-AA6B-D47328BA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3F42-19BC-4EF8-8B49-D15CEF5E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149C7-C157-41CD-B603-F2784B07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7AD-12F6-4DB8-BA96-3AB229AD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172F-4CA0-4BA6-A5FD-570CC97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540D9-552C-4AD6-907A-112D51F44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B3500-E559-4A23-AD95-336397A2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FF6E-A4EC-466B-B565-2AFCBF5B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F00E-2097-43A5-B54B-57ACE85F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4F0-2CEA-44D8-AFFB-D16128D3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E66-AC69-4A8F-ACB4-69B2B1BD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0EB-500F-4000-A2F3-2F412406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56B-7428-4FCF-8243-6A3200A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C6A-8718-4C6C-8EEF-4253FAE9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4E2-6ECB-48FC-96AB-79FA3746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3E62-C81B-4D27-B334-E2528C0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47C-384E-4D91-A40E-9F4CC0080291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F81B-EBF4-4404-AE69-813EB58F8D26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Re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CB25-3A2E-4B78-A13B-E8A5A4D5DFA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95280"/>
            <a:ext cx="830592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alog recordings are repeatedly duplicated, small errors that were originally unnoticed begin to propa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gital recordings can be reproduced exactly without any deterio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und qu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waveforms must be converted to a sequence of discrete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 sampl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s the process in which the amplitude of a wave is measured at regular intervals, and stored as discrete measure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5516640"/>
            <a:ext cx="83059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28600">
              <a:lnSpc>
                <a:spcPct val="100000"/>
              </a:lnSpc>
              <a:buClr>
                <a:srgbClr val="ffcc00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equent measurements must be taken to ensure high quality (e.g., 44,100 readings per second for a C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s results in massive amounts of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chniques are used to compress the data and reduce file sizes (e.g., MP3, WAV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62000" y="3429000"/>
            <a:ext cx="4743720" cy="191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842-D43A-4798-B7D5-BF699C30A0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imag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mages are stored using a variety of formats and compression techniq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implest representation is 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tm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partition an image into a grid of picture elements, called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and then convert each pixel into a 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88620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resol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sharpness or clarity of an 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tmaps that are divided into smaller pixels will yield higher resolution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is stored using 96 pixels per square inch, and the right image is stored using 48 pixels per square i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left image appears sharp, but has twice the stor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541520"/>
            <a:ext cx="3743280" cy="1811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3581280" cy="22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D184-C277-4645-8989-AD716F5ED5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mages (cont.)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creating a bitmap of a color image, more than one bit is required to represent each pix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common system is to translate each pixel into a 24 bit code, known as it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GB valu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8 bits to represent the intensity of each red/green/blue compon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495680"/>
            <a:ext cx="8381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on image formats implement various compression techniques to reduce storage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F (Graphics Interchange Form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les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meaning no information is lost in the compress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recise pictures, such as line draw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PEG (Joint Photographic Experts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ss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rmat, so the compression is not fully reversible (but more efficien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monly used for photograp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86080" y="2557440"/>
            <a:ext cx="628632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5B7-DC65-4B98-B74A-2709D27469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stinguishing Data Typ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does a computer know what type of value is stored in a particular piece of memor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rt answer: it doesn'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a program stores data in memory, it must store additional information as to what type of data the bit pattern repres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us, the same bit pattern might represent different values in different contex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895480" y="3276720"/>
            <a:ext cx="317988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4464-5064-40E2-B60B-A1607AE375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nalog vs. Digital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 are two ways data can be stored electronicall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nalo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represent data in a way that is analogous to real lif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als can vary continuously across an infinite range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n old-fashioned radi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th a di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igit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gnals utilize only a finite set of valu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frequencies on a modern radio with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displ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major tradeoff between analog and digital is variability vs. reproduc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allows for a (potentially) infinite number of unique signals, but they are harder to reprodu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that is highly variable but does not need to be reproduced exa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gital signals limit the number of representable signals, but they are easily remembered and reproduc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-30492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ood for storing data when reproducibility is paramou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2193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862360" cy="118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042-4B71-4E50-BC99-61425F6511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nary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rn computers save and manipulate data as discrete (digital) val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most effective systems use two distinct binary states for data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essence, all data is stored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binary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the binary number system, all values are represented using only the two binary digits 0 and 1, which are call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i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inary represen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ing binary to decim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3047760" cy="1563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362320" y="5181480"/>
            <a:ext cx="3886200" cy="132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99E-0B69-4A34-AB1E-E4277CF701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Decimal </a:t>
            </a: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 Binary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gorithm for converting from decimal (D) to binary (B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05120" y="3200400"/>
            <a:ext cx="5257800" cy="3228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1992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2C76-1945-4C1F-B68D-61FB3FDC6C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Integ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an integer value must be saved on a computer, its binary equivalent can be encoded as a bit pattern and stored digital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ually, a fixed size (e.g., 32 bits) is used for each integer so that the computer knows where one integer ends and another begi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bit in each pattern acts as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ign bi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0=positive, 1=negativ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gative numbers are represented in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wo’s complement not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"largest" bit pattern corresponds to the smallest absolute value (-1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3581280"/>
            <a:ext cx="4629240" cy="303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6E9-990A-49A0-8351-C9CFBC5D73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Real Numb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real number can be uniquely identified by the two components of its scientific notation (fractional part and the exponen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23.45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1234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2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000042 =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x 10</a:t>
            </a:r>
            <a:r>
              <a:rPr b="0" lang="en-US" sz="1400" spc="-1" strike="noStrike" baseline="30000">
                <a:solidFill>
                  <a:srgbClr val="ff0000"/>
                </a:solidFill>
                <a:latin typeface="Verdana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us, any real number can be stored as a pair of integ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al numbers stored in this format are known as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floating point numb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since the decimal point moves (floats) to normalize the f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rd formats exist for storing real numbers, using either 32 or 64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038480"/>
            <a:ext cx="2514600" cy="1910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most programming languages represent integers and reals differ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JavaScript simplifies things by using IEEE double-precision floating point for all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19000" y="3836880"/>
            <a:ext cx="5505480" cy="28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DCC-32F0-48F0-9C3C-7EF39A0E8B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Charac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3276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racters have no natural correspondence to binary numb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tists devised an arbitrary system for representing characters as bit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CII (American Standard Code for Information Interchang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ps each character to a specific 8-bit patter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all digits are contiguous, as are lower- and upper-case lett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0' &lt; '1' &lt; … &lt; '9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'a' &lt; 'b' &lt; … &lt; 'z'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39996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icode is a 16-bit extension to ASCII that supports other langu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86200" y="1405080"/>
            <a:ext cx="4876920" cy="44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0994-0C2D-4C58-B0E2-873143ECDB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Tex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rings can be represented as sequences of ASCII codes, one for each character in the st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114800"/>
            <a:ext cx="8001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pecific programs may store additional information along with the ASCII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rogramming languages will often store the number of characters along with the ASCII c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word processing programs will insert special character symbols to denote formatting (analogous to HTML tags in a Web pa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62960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C68F-D125-4976-888F-E87D41B8F3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Representing Soun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s are capable of representing much more than numbers and tex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lex data requires additional techniques and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representing sou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unds are inherently analog signals with a specific amplitudes and frequ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sound waves reach your ear, they cau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eardrum to vibrate, and your brai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prets the vibration as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telephones translate a waveform int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ectrical signals, which are then sent ov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wir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verted back to sou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 phonographs interpret waveforms stored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grooves of a disk (similar to audio cassett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alog signals cannot be reproduced exactly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 this is not usually a problem since th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uman ear is unlikely to notice small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consist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59680" y="3352680"/>
            <a:ext cx="2274840" cy="289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963-E47F-4220-A727-B370244AD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