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968E-0178-4520-BEDF-E57505EF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155-F8C8-4A70-8E55-09C3ADCC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207-9136-40D5-99A2-9BD650EE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99D-A1BE-4C57-9ED8-F11DCF4A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F47D-D61F-42B0-B513-A73633FD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9A14-A84A-4073-8E38-0F38BA2B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D83D-F0DE-4025-AB7B-13BD9C7C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2203-B0E8-4330-94AE-4EEFEDC0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2D8F-2938-4F3B-81B0-B968B9E0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3419-7DA8-4AD7-84C0-E1A74DFE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9F0D-CB36-40DC-BAB0-A3DB5B33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5E9F-2209-4FB3-9A20-75EA8777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C607-E190-4340-BB3A-21949BFF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6C73-6D85-4976-A654-47D4A231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9D9D-877B-4D0A-83D3-383F692D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1FEC-5348-4FDF-9854-CB03CBC4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C17D-0426-4301-8F1D-D97D66EF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8FE-1E6A-455D-9AD7-64D91AB2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924-033E-46BB-974F-90D74414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93B-A4AF-4BEA-BE57-2F43C593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1FD-2678-42B6-8C4C-2766D5A9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162-2E75-4622-BA37-E43B6FCA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E51-C67F-455C-BD1C-3923BB7A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7D6-894D-49C2-85FF-0348D78F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284B-7F70-4494-BFFF-35ABA80D2AD2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E8E1-DA48-41E8-954D-6B628666FAC6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t-Driven P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3236-3C3F-4AC1-BEC9-67F9417289E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400440" y="1599840"/>
            <a:ext cx="2590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hrBox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used for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utton's ONCLICK attribute specifies the code for converting the tempera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elsiusBox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used for out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xt Boxes for Inp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5867280" cy="42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19640" y="4495680"/>
            <a:ext cx="3162240" cy="204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C1F-7FA3-41F6-BEEB-61840CA0F2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put and Outp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447920"/>
            <a:ext cx="327672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same text box can be used for both input and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modify the conversion page to allow for entering a temperature in either box, then convert to the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write a simple page in which the user can enter a number, then double it by clicking a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4924440" cy="2119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9880" y="3809880"/>
            <a:ext cx="4924440" cy="20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C25-BCFA-49D6-AFEC-D0B40CEC7A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xt Area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29528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text area is similar to a text box but it can contain any number of text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 form of a text area el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textarea name="TEXTAREA_NAME" rows=NUM_ROWS cols=NUM_COLS wrap="virtual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INITIAL_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textare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AME attribute gives the element a name so that it can be refere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OWS attribute specifies the height (number of text lines) of the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LS attribute specifies the width (number of characters) of the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RAP attribute ensures that the text will wrap from one line to the n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ead of running off the edge of the text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like a text box, opening and closing tags are used to define a text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text appearing between the tags will be the initial text in the text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wise, the contents of a text area are accessed/assigned in the same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73C-94D8-491C-A460-0CFFBD1C37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48520" y="1676160"/>
            <a:ext cx="2666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s first and last names into text bo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long greeting is constructed using the names and assigned to the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7696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put/Output via Text Area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5562720" cy="413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52880" y="4572000"/>
            <a:ext cx="3353040" cy="20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ECB4-8031-432A-A8F8-9FC3B1B7C8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ynamic Im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ust as you can use user-initiated events to change the contents of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areas and text boxes, you can also dynamically modify im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img id="faceImg" src="happy.gif" alt="Happy Face" 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uses the image stored in the fi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ppy.g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o appear in the pag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change the image by reassigning its SRC attribu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the way that text boxes/areas have their VALUE attribute reassig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document.getElementById('faceImg').src = "sad.gif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lace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ppy.g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ad.g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C29-A3AB-4025-9421-12BC836170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7315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ynamic Image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086600" y="1447560"/>
            <a:ext cx="1828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ly the image is set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ppy.gi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button is clicked, images is assigned a new SRC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543720" cy="35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8320" y="4419720"/>
            <a:ext cx="3581280" cy="22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4628-2102-4FDA-855F-C6F67F899C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plifying butt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ctions provide a mechanism for simplifying complex buttons such as th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call from Chapter 5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nctions minimize the amount of detail that has to be conside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can 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thout worrying about how it wor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nctions reduce the length and complexity of c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single call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replaces the underlying complex algorith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371600"/>
            <a:ext cx="8305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ider the button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eetbox.htm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ze of ONCLICK attribute makes the button complex and difficult to 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s, must be careful with nested quotes ("…" vs. '…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1886040"/>
            <a:ext cx="5191200" cy="11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456-5664-4330-BE66-98C87F8865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ple user-defined 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ddition to JavaScript's predefined functions, the user can define new functions in the HEAD section and call them within the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will explore user-defined functions fully in Chapter 9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now, the following simple form suffices for simplifying butt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6019920" cy="1414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47242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function definition begins with the wor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llowed by its name an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function name should be descriptive of the task being perfo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nes beginning wit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comments that describe the function's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ents are ignored by the interpreter, but make code more user-re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tatements to be executed when the function is called are placed between the curly br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C3B-1A0C-4F04-9B3E-7640C3C5A8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reeting revisite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43240" y="1371240"/>
            <a:ext cx="2971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de from the button is moved to the user-define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e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a result, the button is greatly simplifi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5346720" cy="542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562720" y="2787480"/>
            <a:ext cx="3352680" cy="2013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943600" y="510552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GENERAL RULE: if more than one statement is to be associated with a button, define a separate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9CD-2D25-4D25-BB02-E7B5A7C085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vent-driven P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e popular feature of the Web is its interactive na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you click on buttons to make windows app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you enter credit card information in a form and submit i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ges that respond to user actions such as mouse clicks or form entries are know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vent-driven p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vaScript code can be combined with HTML elements such as buttons, text fields, and text areas to produce event-driven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0561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vent handl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n HTML element that can be programmed to respond to a user’s 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mplest event handler is a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can be associated with JavaScript code that will execute when the button is click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90920" y="5504040"/>
            <a:ext cx="2590560" cy="66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DEF-436A-4284-A1C5-B7D82295D3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uttons and For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37160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 form of a button el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input type="button" value="BUTTON_LABEL" onclick="JAVASCRIPT_CODE"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YPE attribute of the INPUT element identifies the element to be a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LUE attribute specifies the text label that appears on th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NCLICK attribute specifies the action to take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JavaScript statement(s) can be assigned to the ONCLICK at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be (and frequently is) a call to a JavaScript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962520"/>
            <a:ext cx="8381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input type="button" value="Click for Free Money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                 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onclick="</a:t>
            </a: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alert('Yeah, right.');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"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edefine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e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displays a message in a new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message 'Yeah, right.' is displayed at the click of th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tring can be denoted using either double("…") or single ('…') qu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single quotes must be used to avoid confusion with the ONCLICK qu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137-8DB6-4E0E-9979-9ABBABF4FA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andom Numbe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the task of generating random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rlier, we did this by embedding JavaScript code in SCRIPT t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time the page was loaded in the browser, the code was executed and the random number was written into the HTML text using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.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RAWBACK: the user had to reload for each random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ERNATIVE: place a button in the page with associated code for generating and displaying the random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time the user clicks the button, the code for generating and displaying the number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9BE-10C7-482A-B9B7-D732303222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button is clicked, two JavaScript statements are execu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number in the range 1..100 is randomly selec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number is displayed in an alert wind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6858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uckyForm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3075120"/>
            <a:ext cx="5638680" cy="32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3162240" cy="23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E2B-E7BF-44DE-8C9C-D075EF1409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utput via Text Box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button provides a simple mechanism for user interaction in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the button, the user initiates some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ext bo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n event-handler that can display text (a word or phras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ike an alert window, the text box appears as a box embedded in the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t can be written to the box by JavaScript code (i.e., the box displays outpu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4286160"/>
            <a:ext cx="381024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, we could reimplement the lucky number page using a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ext box containing the random number is embedded in th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n't require the user to close the alert window after each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3960" y="3522600"/>
            <a:ext cx="4000320" cy="296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A60-8770-4770-A855-C82234DB95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utput via Text Box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52388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 form of a text box el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input type="text" id="BOX_NAME" size="NUM_CHARS" value="INITIAL_TEXT"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YPE attribute of the INPUT element identifies the element to be a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D attribute gives the element an identifier so that it can be refere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ZE attribute specifies the size of the box (number of characters that f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LUE attribute specifies text that initially appears in the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1911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display text in a text box, a JavaScript assignment is used to assign to its value 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part of the assignment, must specify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bsolute nam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the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general form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document.getElementById('BOX_NAME').value = VALUE_TO_BE_DISPLAYE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7BA-E63C-497B-ACE8-8AD9A03C18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400800" y="1295280"/>
            <a:ext cx="2362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button is clicked, the function cal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Number()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execu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unction generates the random number and assigns it to the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a result, each button click yields a new number in th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xt Box for Displaying Outp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5638680" cy="380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95680" y="4684680"/>
            <a:ext cx="2705400" cy="20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D00-6CAF-4F98-A14F-67764576E9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put via Text Box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 boxes can also be used for receiving user in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user can enter text directly into the bo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t text can then be accessed by JavaScript code via the absolute name of the bo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document.geElementById('BOX_NAME').val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at the value retrieved from a text box is always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user enters a number, say 93, then the absolute name will access "93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you must 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o convert the string to its numeric valu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e can revisit our temperature conversio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user enters the Fahrenheit temperature in a text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the click of a button, the input is accessed and converted to Celsi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other text box is used to display the converted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0D3-9D01-4D15-9322-DC5F79F0B9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3:0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