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C8D-08F1-4302-9CCA-5681A575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BEE-C586-4867-B36C-32F2B78F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116-3D9C-4A41-A65A-F690628D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5B8-D9A8-4C4D-96D6-598839FB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087C-17B6-46E0-9E66-FE456FF2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C2B5-B57F-4F40-A8BF-064EE2B5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1D26-7579-4FF7-AE2A-56B773DB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3053-9B32-4D96-A85A-E34C119C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64F9-EEEF-488C-ACB4-4D7B768E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F7E4-EF07-4597-BA6F-1A070328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B904-1F1D-48A1-98B2-ED2CAC05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9F1-04A5-473E-B5F7-90AEAF74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A71D-6449-4B30-A143-5F432A0C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7BFC-966A-4EB5-83D9-DE52DE40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A652-35DC-43AB-A483-C7AEBF09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DEC9-2962-41DC-97D7-6100406B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6AA9-A8F3-49D9-A7A9-5FFDFE1A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A2F-BAAF-4E1B-A8AB-F043846A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43A8-AB5D-41CB-AC2E-A8DF249F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4799-CD77-4F0A-898B-8E69FAF1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35DB-66DC-48F1-BE4D-2C40E2CA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372F-6716-424C-BF25-ABD35F34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DD2B-6164-4621-9B0A-268A58B9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FFE4-DB3E-473A-9E9C-E670EBA6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8A71-BD17-461B-B31D-474AAB67906A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7066-0250-4795-88AA-B03AC5225A7A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s and Socie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6D77-E3A0-458C-94BF-0D2202C8BFF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6960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unic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e recently, the Internet has popularized the use of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nstant messag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ables users to type text messages and view responses immediately in the same wind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effect, they can conduct personal conversations onl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3 million users sent instant messages during February 200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f those, 24% claimed to use IM more frequently than emai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14600" y="3589200"/>
            <a:ext cx="4178160" cy="29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382-6C32-4585-B446-DE177E2BA0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er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other popular function of the Web is to facilitat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lectronic commer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-commer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es have recognized the Web’s potential as an advertising medium, and as a tool for reaching new custom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business sites are information-based (providing background on the company or product description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business sites are transaction-based (allowing customers to purchase products or services directl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ine shopping has numerous advantages for the consum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ou can make purchases from your home at any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is easy to comparison sh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online retailers, such as Amazon.com, allow consumers to research products as well as purchase th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414-44F5-47F3-BB56-11182D07FB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er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44792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tal online sales in 2006: $108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of the most successful sites are online offshoots of traditional retail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rnes &amp; Noble, Sears, Circuit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anies that are strictly Internet ventures have added risks due to their lack of other revenue streams for startup and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y of these companies fail early on, however, some are very successfu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855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azon.com: $10.7 billion in sales in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90920" y="4164120"/>
            <a:ext cx="3733560" cy="246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32AD-40B1-46EE-B509-368AC87FF1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er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Web has provided a new advertising channel for businesses and organiz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-commerce sites charge fees for hosting advertising banners on web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anner ad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re clickable images that promote a particular company’s product or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s who click on a banner ad are typically directed to the company’s Web site, where they can make purchases or review product-related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Web’s structure allows for a direct connection between ads and related purchasing interfa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addition, the Internet is extensively used for communication and information exchanges within and among busin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iness-to-business (B2B) transactions allow companies to manage inventory more dynamical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improve efficiency by linking various data channels (e.g., sales &amp; market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inesses may form partnerships based on sharing resources and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E84D-8CDE-441C-9CC7-8BED5A22AF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otential Dang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conjunction with the benefits we have mentioned, the widespread adoption of technology also introduces the potential for abuses and undesirable consequ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tential dangers to individuals, businesses, and society at large inclu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over-reliance on complex, perhaps poorly-understood, syst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overlo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vacy and security viol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igital Divi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BA78-0F1A-42C2-B9E9-59AE6C890B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liance on Complex Syste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society becomes dependent on complex, computer-based products and services, the effects of errors or system failures become far-reach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-system bugs can produce dire consequ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tween 1985 and 1987, six cancer patients received massive radiation overdoses due to equipment malfunction, resulting in four deaths (the malfunction was traced to a single coding erro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0, AT&amp;T’s long-distance telephone network was down for nine hours due to a misplaced statement in the electronic switching software (60,000 customers were without service, resulting in $60 million of lost revenu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1, 28 soldiers were killed by a Scud missile because a software error caused the Patriot missile to miss its targ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99, NASA’s Mars Climate Orbiter went off course and was destroyed in the Martian atmosphere (the problem was due to software inconsistencies which used different measurement conversions, e.g., English vs. Metric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void errors, various software design and testing methodologies are u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as the size and complexity of the software grows, design and testing become exponentially more diffic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ndows 2000 – 35 million lines of code, 63,000 known bu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8AA-0117-4078-8053-8D421159F3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formation Overloa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mpressive range of information available online can be viewed as a strength, but it is also one of the greatest weakn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ten, data is not well organiz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ding a single piece of specific information can be very diffic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of April 2005, Google claimed to have cataloged more than 8 billion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engines are helpful in narrowing down Internet searches, but users must be careful in selecting search criter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Google search for “JavaScript” produced 425 million match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ore refined search for “JavaScript prompt function” produced 924,000 match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en after a user locates a Web page related to the desired topic, judging reliability is not always eas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Web is neither monitored or censo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hors may provide incomplete, uninformed, or biased answ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B367-6D47-4EB1-9493-47EF3D462E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formation Overloa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most Internet/Web content lacks editorial review, it is up to the user to evaluate its credi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on criteria for evaluating credibility includ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543800" cy="311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55FD-F033-4190-AB6C-FF98B39FC3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ivacy and Securit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using credit cards or shopping online, consumers sacrifice privacy for the sake of conven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nies maintain records of consumer purcha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vate details can be inferred from shopp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nies often sell customer profiles to marketing fir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b users can limit exploitation by interacting only with reputable online businesses with privacy poli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ch policies will explain what information is collected by the business and how that information is to be used (and share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29200" y="2411280"/>
            <a:ext cx="384804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D6F-81A6-44F1-9E9C-77FA4FB8C8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ivacy and Securit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ail also raises privacy concer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 message is received it is commonly stored in a file on the recipient’s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re is a danger that unauthorized users might get access to that f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w laws apply directly to electronic privac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rts overwhelmingly favor employers over employees in privacy su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less explicitly stated, it is generally accepted that employers may access any content on company-owned mach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vacy is closely linked with secur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ail messages travel through numerous routers, and each router represents a security risk, because someone could gain access to a router and eavesdrop on a relayed mess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th online transactions, credit card numbers or other personal information can be intercepted and subsequently result in identity thef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cryption methods are commonly used to secure information transmissions, but online fraud is still a continuing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3EEB-C314-4904-A727-E0795F1CFB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ositive Impact of Technolog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storian Larry Gormley ranked technological developments according to their impact on modern lif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 you agree with his list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7315200" cy="3262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43000" y="5867280"/>
            <a:ext cx="7315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Gormley, Larry. “The Greatest Inventions in the Past 1000 Years.” eHistory.com, 2003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27D3-4876-4297-A401-0C0848B930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Digital Divid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especially troubling aspect of recent technological developments is that the benefits associated with computers are not shared by 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ericans with minority ancestry, lower incomes, and less education are far less likely to be on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6933960" cy="356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19320" y="6248520"/>
            <a:ext cx="6933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Pew Internet and American Life Project: Latest Trends. Pew Research Center, December 2006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5962-519F-471D-BC1B-F3974C47BC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Digital Divid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ressing the digital divi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uring the Clinton administration, public schools received government funding for computer technology and Internet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2003, nearly all public schools were connected to the Internet, as compared to 35% in 199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public libraries and community centers provide Internet-enabled comput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ganizations such as CompuMentor supply Internet access and technical assistance to minority groups and low income individua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igital divide is still a problem for Americans, but there is no doubt that conditions have improv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igital divide also exists on a global sca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merica, Western Europe, and certain Asian countries have much greater Internet connectivity than other parts of the wor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ck of Internet access places less developed nations at a significant disadvantage, and compounds other economic 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nited Nations, World Economic Forum, and other organizations are working to address the global digital divi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5778-B843-45D6-95DF-63B4745C8A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ositive Impact of Technolog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re than any other invention, computer technology is still evolving, which means that it continues to impact society in new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irst electronic computers made significant contributions in the 1940’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OSSUS – used for code breaking in World War I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IAC – performed calculations and simulations that led to the development of nuclear technology and Cold War sci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rrently, we live in an "information economy", with computers central to business and innov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657600"/>
            <a:ext cx="5638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chnology has become so pervasive in daily life, it is difficult to imagine life withou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.g., monetary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sh is frequently being replaced with credit or debit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ized banking networks enable the immediate electronic transfer of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M machines allow people to access their money around the clock from any 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this has discouraged traditional theft, but has inspired new forms of illegal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201924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88B6-044F-432F-B8D1-BE5FDF0C3B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s in Everyday Tas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rn life also depends on thousands of less obvious, hidden computer applic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mbedded processors ar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 chips that are built into appliances and machinery to control their work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y account for more than 90% of all computer process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verage U.S. home contains 50 to 100 embedded processors (2001 est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ovens, television remote controls, cordless phones, automatic thermostats, 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obiles employ embedded processors to control a wide variety of compon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95280" y="4038480"/>
            <a:ext cx="6629400" cy="2452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95280" y="6477120"/>
            <a:ext cx="662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Webb,Warren.“Embedded Technology Transforms the Automobile.” EDN Magazine, 1999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7D9-53D1-49E2-AE8D-9A3AE17739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s in Everyday Tas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ciety has also been affected by the availability of personal computers and easy-to-use softwar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ftware can enable people to accomplish tasks previously reserved for highly trained professionals, e.g.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ord processing and desktop publishing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ideo editing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 preparation soft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4419360" cy="33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4D1C-CE85-4151-9F9D-099AAB425E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Inform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users utilize the Internet/Web as an information sour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line resources are quickly replacing (or complementing) traditional sources of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b sites can be updated 24 hours a day allowing publishers to report stories as soon as they brea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xt can be integrated with other types of med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mmediacy of online delivery system is especially appea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order to compete, many newspapers and magazines have expanded their offerings to include online ver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ww.nytimes.com, www.washingtonpost.com, www.tim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BBA3-BC99-4C2B-BE3D-1E578DBF2A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Inform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ditional media have approached the Internet in a variety of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provide limited services online for fre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nn.com, weather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s provide full services with a fe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Encyclopedia Britannica sells access over the We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dependent media organizations have utilized the Web to present stories and opinions that might not otherwise reach a mainstream aud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366228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3662280" cy="30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7521-2645-4C87-A791-16C925D449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Inform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majority of Web pages are unique resources created by individuals and private organiz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can find Web content on virtually any top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help navigate the vast sea of information,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earch engin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utomatically catalog Web pages and allow users to search for data by topic or keyw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5120" y="2825640"/>
            <a:ext cx="5715000" cy="38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D3DF-3573-4EB1-ACC6-FF96B7EB65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net/Web for Communic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users were originally drawn to the Internet by the availability of electronic mail and news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2006, 91% of all Internet users communicated via ema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71 billion email messages were sent and received each d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0% of those emails wer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pa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124080"/>
            <a:ext cx="3733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net Service Providers (ISPs) manage email accounts with other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OL, msn, Microsoft Hotmail, Yahoo! 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s such as Microsoft Outlook provide an intuitive user interface for sending and receiving email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114800" y="2773440"/>
            <a:ext cx="4648320" cy="32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2979-FBC2-4186-81A9-3175F0DA18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0:5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