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0241-9159-498E-9312-D916DE69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B4E-1E28-4DF1-98AD-17A3538C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5DE-3B1F-46E9-B740-8D95A89F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4EB-ADEE-49AE-B2AB-4D4B6154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EB84-C8E8-4B6C-8276-6C517F9A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1930-E76B-4A92-B297-42AAF94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C418-7879-47E2-B831-A920A86C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5208-353A-4EA2-B4BA-9AC539F0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E026-398B-4137-B3DA-6A30424A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9363-D51E-4D8F-BFBD-292B1AC4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4E64-309F-400A-84F0-3AC66752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93C-6E1F-4354-8A11-B1CA77EA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2E2C-DADB-43B0-AD96-748917E5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E1B1-F30A-4075-BBF1-3A4EA98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5F24-A980-4AAC-ACBF-99BFD8EF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6F09-12CE-4DA3-A19C-BBFC0656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737-60C3-47BA-8BC8-BE592C08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3E9-9CC8-4D05-A470-0AFD80BB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755-DE62-40DE-AC5F-9BFBAB17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EB5-9A0A-4624-8B87-85C87248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9BE-7ED1-4163-A477-B5F67322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FB1-653E-4F08-9785-5A843C8B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866-DA8F-4A62-8829-4CC67BCA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2F4-EDBE-4348-8BFB-8886D36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DBA-3DF8-4BBD-9E86-978265F336F9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823D-FE60-4D8F-8974-BBEB2454F280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4804-F2DB-48BB-AA6D-2368D76598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09720" y="137160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Counter-Driven Loops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4400" y="380880"/>
            <a:ext cx="453708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4120" y="2743200"/>
            <a:ext cx="365760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104-228D-445E-96B5-7A1EF3946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init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rowser will repeatedly execute statements in the body of a while 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long as the loop test succeeds (evaluates to tru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ossible that the test will always succeed and the loop will run fore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op that runs forever is known as 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init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lack hole loo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guard against infinite loops, make sure that some part of the loop test changes inside the loo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above exampl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Cou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not updated in the loop so there is no chance of terminating once the loop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nfinite loop may freeze up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times, clicking the Stop button will suffice to interrup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imes, you may need to restart the brow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3581280" cy="89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5CC-97B6-4DF8-B632-D321795CA1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Variable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can be employed to control the number of loop repetitions and the variable can be updated in various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count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2889360"/>
            <a:ext cx="761976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92A-F003-45F3-B663-17C72B1BEE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24480" y="114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dow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54892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38720" y="2362320"/>
            <a:ext cx="2853000" cy="23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FB4-999A-4998-A94C-F41A27DD31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: Hailstone Sequence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nteresting unsolved problem in mathematics: hailstone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y positive integ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number is odd, then multiply the number by three and add one; otherwise, divide it by tw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eat as many times as des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:  5, 16, 8, 4, 2, 1, 4, 2, 1, 4, 2, 1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conjectured that, no matter what positive integer you start with, you will always end up in the 4-2-1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has been verified for all starting number up to 1,200,0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still has not been proven to hold for ALL starting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define a JavaScript function for experimenting with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hailsto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ll generate the sequence given a starting num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54D-06C2-44CB-B0ED-6E22077C94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used to control the execution of other JavaScript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ides for conditional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ful for solving problems that involve cho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n'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ither do this or do that, based on some condi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if-el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33920"/>
            <a:ext cx="83818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osely related to the concept of conditional execution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re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problems involve repeating some task over and over until a specific condition is m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olling dice until a 7 is obta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peatedly prompting the user for a valid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hile loop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vide for conditional re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C61-1360-47D1-A5EC-EF7630659A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9625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rowser encounters a while loop, it first evaluates the boolean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statements inside the loop are executed in order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ust like an if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ll the statements have been executed, program control returns to the beginning of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oop test is evaluated again, and if it succeeds, the loop body statements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g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process repeats until the boolean test f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hile loo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sembles an if statement in that its behavior is dependent on a boolean condition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e statements inside a while loop’s curly braces (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op bod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are execut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peated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s long as the condition remain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419112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184-4B06-4172-8790-D3E5F90430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oll two dice repeatedly until doubles are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8006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mple out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4267080"/>
            <a:ext cx="4190760" cy="198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ote: even though while loops and if statements look similar, they are very different control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f statement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1 time or not at 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while loop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may execute its code an arbitrary number of times (including not at 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391520" cy="2019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0" y="4267080"/>
            <a:ext cx="1547640" cy="21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C63-1822-485B-BD35-2321C04B60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48520" y="1295280"/>
            <a:ext cx="259056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While Loop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5440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853000" cy="25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FEB-A357-4568-B82C-3F07DD4469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oiding redundanc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e redundancy in th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perform the initial dice roll before the loop beg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have to repeatedly re-roll inside th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avoid this by eith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priming the loop" with default values that allow the loop to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fining a Boolean "flag" to determine when the loop should 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56272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CE1-DA18-48AA-B113-113987B6BE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op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loop test defines the condition under which the loop contin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is often backwards from the way we think about lo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ad input until you get a positive number (i.e., until input &gt; 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input &lt;= 0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s (i.e., until roll1 == roll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roll2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keep rolling dice until you get double fours (i.e., until roll1 == 4 &amp;&amp; roll2 = 4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Courier New"/>
              </a:rPr>
              <a:t>while (roll1 != 4 || roll2 != 4) { . . .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334120"/>
            <a:ext cx="5257800" cy="76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Morgan's Law: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&amp;&amp; Y) == (!X ||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!(X || Y) == (!X &amp;&amp; !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BD6-A575-47EB-B635-FD7A09F8BA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 while loop is controlled by a condition, it i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suall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mpossible to predict the number of repetitions that will occu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many dice rolls will it take to get double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while loop can also be used to repeat a task some fixed number of tim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plemented by using a while loop whose test is based on a coun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 of counter-driven while loop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unter is initially set to 0 before the loop begins, and is incremented at the end of the loop bod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unter keeps track of how many times the statements in the loop body have execu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the number of repetitions reaches the desired number, the loop test fails and the loop termin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4953240" cy="124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DA7-E716-4C35-A109-D298970125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-Driven Loop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46196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162160"/>
            <a:ext cx="7696440" cy="37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F0E-411E-430A-96FC-F3358CA93D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0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