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FAF-C9EA-401F-BF8E-7CD940EA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024A-DEBE-4FA1-8C2C-77DAFAAA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11C-9910-4332-B8BA-9FF4D171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08E-D212-4CD2-AFB6-EABBC87C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52CB-93EE-4113-A9A0-2349EA9C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A028-3C2A-4D56-AC9C-73CC75AE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4797-D459-4005-86AF-B6ADE496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2555-549F-490C-9B55-471EB882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A079-19D3-4F67-99A1-2D93F393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AF48-D09A-492F-8F68-F5F23CE8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9C71-6150-4136-A155-FEA8F76B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C2A4-D8FE-4105-AA30-B2A4D2C4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57AF-9556-402E-BFFF-4B01385F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E741-6B5E-4D40-A3D9-7D0363D3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5B4B-0B48-4AB7-A09A-6BABF130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D48F-40C0-4064-A760-3C1C565C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E240-BED7-41D9-9F0F-0B8A4BB3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6E7-9258-46B4-862C-83BF390C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5CC-003E-4F0A-B0C1-61EC8E16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CD33-EAF6-4D5A-A061-DACBEC44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E4D-62CC-4873-A927-D04DEA8D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007-7C07-4EC3-AB95-0A18AC89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F26-38C0-42CA-B8F6-92C05AA2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4A74-7C79-406B-85FB-1173408B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3C49-6906-44A6-881B-28A1577F9304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C7B6-0481-4847-A60D-BB2597C5A25F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44193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ide the Computer - th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n Neumann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73E4-7A81-4385-99AF-DA23923BE01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ain Memory Data Transfe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a program is executed, the control unit processes the program instructions and identifies which data values are needed to carry out the specified ta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320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quired values are then fetched from main memory along the main memory bus, loaded into registers, and used in ALU ope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6483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data must be copied from main memory into registers BEFORE it can be operated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practice, the data transfer takes much longer than a single datapath cycle (due mainly to the distance that must be cover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dern CPUs compensate by fetching multiple instructions at once – ideally, the CPU will predict which instructions will be needed next and prefetch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3209760" cy="171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6DD-CB0F-430B-849E-39EE17A57B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 Transfe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uppose you had a file containing 1,000 numbers and wanted to compute the sum of those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rst, need to load the data from the file into main memory — for example, at memory locations 500 through 149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the control unit would carry out the following steps to add the numbers and store the resulting sum back in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7924680" cy="15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C84-33AC-48D8-B801-6A967B1D25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w/ Memory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can extend the datapath simulator to integrate main memor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in memory is displayed as a series of boxes, labeled with addresses 0-3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ain Memory Bus is added to transfer data to and from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es have switches that open and close when the user clicks on th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2743200"/>
            <a:ext cx="297180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selecting the radio button labeled R/W in the Main Memory partition, the user can select a memory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address 0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Main Memory Bus and C Bus, they can be opened/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the buses are configured to allow data to flow from main memory to the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ther components of the datapath are configured as bef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2630520"/>
            <a:ext cx="5229360" cy="38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DD75-7AFF-44D0-90A0-9D92AECF06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1523880"/>
            <a:ext cx="2514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xample, suppose we wanted to add the contents of address 0 and address 1, and store the result in addres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1st step, copy the data from address 0 into a register, say 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the A Bus, B Bus, and ALU settings are irrelevant since the C Bus is disconn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5867280" cy="43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71D-4F2C-4604-A22D-07F102FE3A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1752480"/>
            <a:ext cx="2438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2nd step, similarly copy the data from address 1 into a register, say 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when the simulator executes, there is a noticeable (and intentional) delay as data moves on the Main Memory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438200"/>
            <a:ext cx="60199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805-116E-4FAD-B05A-1298EB72F4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1752480"/>
            <a:ext cx="2438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3rd step, the contents of R0 and R1 are added and the result is sent directly to addres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some CPUs, this would require 2 steps: send the result to a register, then copy the register to main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495440"/>
            <a:ext cx="60199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21A1-B827-4AF2-A051-89C015A376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ored-Program Compute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last component of the CPU is a fully functioning, automatic control un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 that in the simulations, tasks were defined by selecting registers and ALU operations via knobs, switches, and bu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dea behind a stored-program computer is that tasks can be represented as instructions stored in main memory along with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ntrol unit must fetch, decode, and execute those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27672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each type of CPU has its own machine language for representing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xample, we could define an instruction for our simulator by specifying the knob and switch settings for the data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real world CPUs contain an extremely large number of physical components, a more compact representation i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chine language instructions are represented as binary strings, where the bits correspond to hardware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41148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409-70C7-4C83-9843-E7EF0A1277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Machine Langu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5410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st two instructions – select ALU operation and registers to operate 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xt 3 instructions – control flow of data between main memory and datapa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st instruction – mark the end of instruction sequ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496120" cy="41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DF9-2DE3-414F-86C0-9AC6704395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trol Uni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ontrol unit fetches each machine language instruction from memory, interprets its meaning, carries out the specified CPU cycle, and then moves on to the next instr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instructions and data are both stored in memory, the control unit must recognize where a sequence of instructions begins and e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our simulator, we will assume that programs start at address 0 and end with a HALT instru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real computers, the operating system must keep track of program lo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7391160" cy="212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CDD-1A29-4ED4-A64D-368C987C67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gram Execu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achine language program for adding two numbers in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 execu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gram counter is initialized: PC = 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at memory location 0 is fetched, PC is incremented to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ad contents of memory location 5 into 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is fetched at location 1, PC is incremented to 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ad contents of memory location 6 into R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memory location 2 is fetched, PC is incremented to 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add contents of R0 and R1, store result in R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location 3 is fetched, PC is incremented to 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copy contents of R2 into memory location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location 4 is fetched, PC is incremented to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halt instruction </a:t>
            </a:r>
            <a:r>
              <a:rPr b="0" i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program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487656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E38-A399-4B16-BF9F-D9C824A519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Subunits and Datapat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the von Neumann archite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entral Processing Unit (CPU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/Output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acts as the brain of th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obtains data and instructions from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carries out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stores results back to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57800" y="1604880"/>
            <a:ext cx="2168640" cy="106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4191120"/>
            <a:ext cx="8077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rogram instructions that are executed by the CPU are in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achine langua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that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s can write programs in a high-level language, but those high-level instructions must be translated into machine language before exec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ven programs that exhibit complex behavior are specified to the CPU as sequences of simple machine-language comm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can execute these instructions at such a high speed that complex programmatic behavior is achie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70C4-280E-4CC4-852A-DCB64B97ED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lete Computer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can extend the simulator to integrate a control unit, contai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Counter (PC) for keeping track of the next stat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uction Register (IR): for storing fetched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2630520"/>
            <a:ext cx="297180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can enter a sequence of instructions directly into memory, starting at address 0 and ending with a Halt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data to be acted upon is stored in additional memory 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user clicks execute, the program instructions are executed in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5333760" cy="399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8E8C-075B-496B-9D00-A1738179B3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 Simulato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1752480"/>
            <a:ext cx="2286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program consists of 5 instructions, stored in addresses 0 –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values are stored in addresses 5 &amp;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fore execution, the PC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19920" cy="45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9E0C-845D-44A9-8913-F6AB046A21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1752480"/>
            <a:ext cx="2286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execution begins, the instruction at address 0 is fetched and deco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copy data from address 5 to R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19920" cy="45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F9E-1F25-4BD3-BE86-4F09FC4DFA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1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copy data from address 6 to R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95880" cy="45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B73-9CDA-44F2-BD05-9278FBE07B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2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add R0 and R1 and store the sum in R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94360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1A9-3400-4AD9-A8E6-33BE59DDC8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3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he value in R2 is copied to address 7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6019920" cy="450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CCD9-2809-48C4-BBCE-419E9E4B7E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4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Hal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ecution ha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94360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F87A-BC69-432C-8962-56CF8557AE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Role of I/O Devic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input/output devices enable the user to interact with th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 devices – keyboards, mice, scanners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utput devices – display screens, speakers, printers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irst programmable computers (1950s) and personal computers (1970s) were designed to execute one program at a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entered program instructions and data directly into main memory via input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instructed the CPU to fetch program instructions and execute them in sequential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viewed results by sending the contents of the memory to an output de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495680"/>
            <a:ext cx="8305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modern computers allow for multitasking (multiple programs can be active simultaneous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uctions and data associated with each program must be loaded into separate portions of main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control switches from one program to another, the CPU must save the state of the current program and locate the portion of memory for the new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partitioning and control switches are managed by the opera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EF9-DF8C-4D4F-8281-7BCBBF61C1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achine vs. Assembly Langu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in machine languages is difficult and tediou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chine code is nearly impossible to understand and debu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embly languages were developed in the early 1950s to simplify programm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embly languages allow for words to substitute for bit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so, allow for variable names instead of numerical addres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133720" y="3195720"/>
            <a:ext cx="5086080" cy="34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7286-E3B0-43A0-A584-78AAD93DD7F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embly Language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stored-program computer simulator allows the user to enter instructions in assembly languag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even toggle the view from assembly language to machine language using the "View As:" pull-down menu to the left of each memory lo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267520" cy="394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257-5F0E-498E-9764-0F06B083B26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Subuni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is comprised of several subunits, each playing a specific role in processor functio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rithmetic Logic Unit (ALU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circuitry that performs the actual operations on data (addition, subtraction, bit manipulation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memory locations built into the CPU (to provide fast acces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ransfer of data between registers and main memory occurs across a collection of wires called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ontrol Unit (CU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circuitry in charge of fetching data and instructions from main memory, as well as controlling the flow of data between registers and the AL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666880" y="3886200"/>
            <a:ext cx="3353040" cy="26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63C-1564-4690-AEF7-C45B4C393E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Datapath Cyc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63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h that data follows within the CPU, traveling along buses from registers to the ALU and then back to registers, is known as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PU datapa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ingle rotation around the CPU datapath is referred to a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PU datapath cyc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581280"/>
            <a:ext cx="82296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earlier that we defined CPU speed as measuring the number of instructions that a CPU can carry out per 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U speed = the number of CPU cycles per seco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2.5GHz CPU can perform 2.5 billion cycles per 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Us cannot be compared solely on the basis of their sp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CPUs have different instruction sets, one CPU may be able to complete more complex tasks in a single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, a slower CPU with a richer instruction set may complete some tasks f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5400" y="1295280"/>
            <a:ext cx="2305080" cy="17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DAA-290D-4D0B-9BAC-A000721B9D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companying the text is a datapath simulat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.k.a.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Knob &amp; Switch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veloped by Grant Braught at Dickinson Colle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s the user to enter data directly into the register boxes and configure the CPU hardware by clicking on knobs and swi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2873520"/>
            <a:ext cx="434340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s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registers will be acc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registers R0 and R1 are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LU Opera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operation will be performed on the specified regist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the addition operation (A+B)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register the result will be written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register R2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34066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3CF-557F-44F0-8F22-CFAE9C9C94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user clicks on the Execute button, a CPU datapath cycle is executed with the given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1st step, data values are retrieved from the specified registers (R0 and R1) and passed along the A and B buses, respective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17A-D58C-4A9C-9078-3DC1767B7B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2nd step, the data values from the A and B buses are operated on by the ALU, with the result passed along the C b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DA3-811A-40BE-907F-CAEAA79480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3rd step, the data on the C bus is written to the specified register (R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end result of the datapath cycle is that the contents of two registers are added and the result is stored in a differ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8080-AA61-4A5F-B17A-04CA220D35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and Main Memor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datapath describes the way in which a computer manipulates data stored in regis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, it does not explain how data gets into registers in the first pl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, how the results of ALU operations are accessed outside the CP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th of these tasks involve connections between the CPU and main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active programs and data are stored in the main memory of a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in memory is comprised of a large number of memory locations, with each location accessible via an 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s connects main memory to the CPU, enabling the computer to copy data and instructions to registers, and then copy the results of computations back to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81320" y="4267080"/>
            <a:ext cx="428616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6748-7057-4F45-91AE-90A381E000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26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