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385-60C8-4432-B3A1-45B25B47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02E-F90E-48FC-9653-EE462343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7E9-E367-4CFA-A3A3-A99E5F40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ABB-9230-41A7-B0FC-E515B6BD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13C9-ED38-474B-B1F9-FF4B5AB1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75E-08CF-4342-97B5-ACFCF59C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DE6-E0ED-4ADC-AB7F-776D4AB0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A091-04E3-4C7C-B32C-F0C28A4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7DAC-48B6-4278-AE55-CBC11799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74E7-0ADB-4BE8-897E-8249F919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AAB2-B96D-42A3-A4C1-8825485F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624-3C08-4F07-9291-DD0911C2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362B-6738-4779-B357-18A6EFD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452B-53F5-4ED2-8780-0F64A9B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A857-5C1E-429A-99EC-4D85380C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DE83-68B5-4A01-8400-53B45ED8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5481-269C-424A-94A3-E42E1208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318-73B3-44E5-8986-27DE60F9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AE9-EDFF-4215-8121-757AB5CC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248-E511-4F04-8E4E-FCBD04FE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B30-F71C-4EC1-B055-2B04E805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E47-2316-42BF-9F0F-1D0DD130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42D-4D97-4AEC-A9D6-62AC8F1A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797-F998-45F6-9DAA-9D1D1699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0A0-DED8-4442-893C-BC20747D743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53E-B461-4AD6-BC9E-C0CB5ABA4E37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Arr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BB9D-0813-46C4-98F5-B34D05F702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of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applications involve reading and manipulating sequences of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suppose we wanted to calculate the average of some number of gra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ould enter the numbers in one big string, separated by spaces, t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the split function to separate out the individual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n, traverse the resulting array and calculate the sum and average of the numb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even if the input string contains numerical digits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turns each array item as a string (similar t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text box/area acces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write a function to traverse the array and convert each item to a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400800" cy="25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3C0-179D-4124-9B5D-1F21978575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5000" y="11426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verage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8284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averages an arbitrary number of grades (entered as a string in a text bo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arseArra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defined in the library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rray.j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483696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181480" y="3532320"/>
            <a:ext cx="3800520" cy="164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421-1E3B-43BA-B92A-E26E1430EB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rad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page can be generalized to enter different types of grades for a cour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verage for each type of grade could be calculated (as befo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ose averages could be combined for a weighted course average &amp; letter gr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2590920"/>
            <a:ext cx="5467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766-BE3F-4A6C-88D8-20127AB71B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Dice Sta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our web page for simulating repeated dice rolls and recording the number of times that a specific total was obtain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istical analysis predicts that, given a large number of dice rolls, the distribution of totals will closely mirror the percentages listed be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959200" y="2743200"/>
            <a:ext cx="32893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0AD-9E35-4F28-9170-BCBCCDB29F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1: Separate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obtain a valid distribution of dice totals, we would need to simulate a large number of rolls and simultaneously count the occurrences of every tot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defining 11 counters, each corresponding to a particular to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would b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xtremel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276720"/>
            <a:ext cx="3352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separate assignment statements for all 11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a cascading if-else statement with 11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easily generalized – what if we wanted to use 8-sided di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4038480" cy="37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044-47C7-449C-B0F1-91F469F039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pproach 2: Array of 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stead of representing each counter as a separate variable, we can define the counters as items in an arr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11 counters can be stored in an array and initialized via a single assignmen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individual counter can be accessed and updated via its corresponding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the first possible total is 2, its count is stored in index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ext possible total, 3, has its count stored in index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 an arbitrary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its count is stored in index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ll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code is shorter, simpler, and easier to general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6782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319-006D-4E6E-8F88-7A70BF08EB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ce Stat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de for maintaining statistics on repeated dice rolls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 of rolls to be simulated is entered by the user into a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code for repeatedly simulating the roll and maintaining stats, with the text box contents as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umbers of rolls for each total are then displayed in a (scrollable)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14920" y="1676520"/>
            <a:ext cx="4048200" cy="373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ACA-DB00-46C3-BF52-0689CD6E7E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ier, we introduced the concept of software objects: programming structures that encompass both data (properties) and operations (method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a string object has propertie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and methods (e.g.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that enable the programmer to easily store and manipulate tex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ke strings, JavaScrip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rray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re objects that encapsulate multiple values and their associated properties and 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strings (which store only text characters), the items in an array can be of any data typ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rray consists of a sequence of items, enclosed in square brackets and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ssigning values to array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item can appear in an array more than o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 items can be specified as express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rays can be emp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5334120"/>
            <a:ext cx="4724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2B9-2563-43FF-BBDA-37785F585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an array stores a series of values, its associated memory cell can be envisioned as divided into components, each containing an individual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are assigned sequential indices, allowing programmers to identify an item by its corresponding ind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access is accomplished by specifying the name of the array object, followed by the index of the desired item in bracke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irst item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he second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1],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…, the last i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length-1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n index is specified beyond the scope of an array, the access yield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defi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7672680" cy="73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8C3-7ADB-46E7-8D85-90E7B1D055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ray Access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now can understand how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OneO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ork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 to the function is a nonempty array of arbitrary i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is called to pick a random index from the array (between 0 and the last index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st.length-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acket notation is used to access the item at that index, which is then returned by the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440160"/>
            <a:ext cx="5562360" cy="235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151-E6DC-450D-8FA6-0281DB5EAD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igning Items in an Arra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ay items can be assigned values just like any varia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uppose the array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been assigned to store the follow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0] = 10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the value 1000 as the first item in the array, overwriting the value that was previously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720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index in an assignment statement is beyond the array’s current length, the array will automatically expand to accommodate the new 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ssignment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c[8] = "oops"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would store "oops" at index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81840" cy="42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462480"/>
            <a:ext cx="685800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295280" y="5562720"/>
            <a:ext cx="6782040" cy="68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704F-4E0A-4986-92EC-9604A49AF2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rom Strings to Array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our Web pages have handled each input from the user as a singl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approach is limiting since many programming tasks involve separately processing an arbitrary number of words or numbers entered by the u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81952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e Pig Latin p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might want to generalize the page so that it translates entire phrases instead of just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is, the user would enter an arbitrary  sequence of words and each word would be trans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task would be very difficult using our current set of programm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4334040" cy="18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01B-EB6B-49D0-9945-3BE916C9EA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</a:rPr>
              <a:t>split</a:t>
            </a: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strings provide a method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for easily accessing the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ly input required by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is a character (or sequence of characters) that serves as a delimiter for breaking apart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separates the string into component substrings at each occurrence of the delimiter, and returns an array consisting of those substr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user = "Grace Murray Hopper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arr1 = user.split(" 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// ASSIGNS arr1 to be the arr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["Grace", "Murray", "Hopper"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962520"/>
            <a:ext cx="838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was the case with strings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[ … ]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to specify groups of charac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52480" y="4419720"/>
            <a:ext cx="5181840" cy="21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287-F9B8-42C9-A8C0-139F548B59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76760" y="4641840"/>
            <a:ext cx="4238640" cy="153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xample: Generating Acrony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interesting application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li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is in deriving acrony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cronym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erms made from the first letters of words in a phrase) are especially popular in the computing 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M – Random Access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UI – Graphical User Interf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 – World Wide We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3200400"/>
            <a:ext cx="3657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takes a phrase, such as "What you see is what you get", splits it into an array of individual words, then extracts the first letters to construct the acro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3206880"/>
            <a:ext cx="4419720" cy="20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A6C-946C-48AB-A490-32B849F271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ronym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can be integrated into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a phrase in a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is defined to call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rony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with the text box contents as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 returned by the function call is displayed in another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782040" cy="294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6BA-5565-468B-A173-4A16EA59C4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0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