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2B6-8863-444B-8181-11344D9A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1AA-A732-4EF2-8ABC-E7ECA174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6B7-C49D-4106-90AF-AED73F5B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8AA-ECCB-4C8C-9340-9CC61328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625C-9E0D-462C-A18E-4CB52D15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8BBE-C472-47FA-BB1C-ADB8C14F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5DEC-8C02-4C3E-BDBE-EED4F2D9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FDC6-7A67-4CCF-9657-1ED2776A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96A5-EBF6-4E6D-963A-040BD85B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F708-F1B1-4711-9C42-FED6804B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93A7-94F2-406F-8B8E-387F8D7C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11D-5D80-4379-B626-E98B8A1A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C336-01DD-4501-828F-386935E8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5D2F-0A24-4744-B934-E374DCF9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7367-CF1F-4597-B8B6-750D2D75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E903-6A7C-410D-889D-C381727A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9676-6733-4F10-9A84-01984900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6BE-28D3-4873-AB96-7478EACD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A84-E3ED-46DF-A2C9-CF4E6B86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B11-D3A0-410E-B5B7-EDD2721F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A56-260A-4E39-8922-40FCB747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71C-1D30-49FB-8D88-DC268842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A7D-4360-4216-8F54-96DB1380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8F7-6DDA-470F-BAFB-7EA6CC9D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41CE-213D-44C3-B38B-B3268D98E32E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AC8A-9354-4A5C-9865-C755DA435A68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37B4-64F6-438C-BCFF-44BE602700C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of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pplications involve reading and manipulating sequences of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uppose we wanted to calculate the average of some number of gra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ould enter the numbers in one big string, separated by spaces, t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the split function to separate out the individual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n, traverse the resulting array and calculate the sum and average of the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ven if the input string contains numerical digits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turns each array item as a string (similar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text box/area acc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write a function to traverse the array and convert each item to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40080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0B2-4CFB-42C8-882A-2125D66D64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erage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5000" y="18284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averages an arbitrary number of grades (entered as a string in a text bo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arseArra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defined in the library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.j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83696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3532320"/>
            <a:ext cx="3800520" cy="164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463-2664-4CB0-82FB-C70C3A15BC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rad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an be generalized to enter different types of grades for a cour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for each type of grade could be calculated (as befo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ose averages could be combined for a weighted course average &amp; letter gr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24200" y="2590920"/>
            <a:ext cx="5467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977-7BEA-4D1C-9D07-EA29B1986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Dice Sta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our web page for simulating repeated dice rolls and recording the number of times that a specific total was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stical analysis predicts that, given a large number of dice rolls, the distribution of totals will closely mirror the percentages listed be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59200" y="2743200"/>
            <a:ext cx="3289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DAB-0622-4558-8A23-19270F5EE9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1: Separate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obtain a valid distribution of dice totals, we would need to simulate a large number of rolls and simultaneously count the occurrences of every to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defining 11 counters, each corresponding to a particular to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would b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treme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27672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separate assignment statements for all 11 cou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a cascading if-else statement with 11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easily generalized – what if we wanted to use 8-sided di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0384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A26-6860-4056-BA16-B5F7716F4B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2: Array of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stead of representing each counter as a separate variable, we can define the counters as items in an arr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11 counters can be stored in an array and initialized via a single assignmen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individual counter can be accessed and updated via its corresponding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first possible total is 2, its count is stored in index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ext possible total, 3, has its count stored in index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 an arbitrar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ts count is stored in index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code is shorter, simpler, and easier to general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67820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580-43C2-454D-A07E-6742A152F5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ce Stat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 for maintaining statistics on repeated dice rolls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of rolls to be simulated is entered by the user into a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code for repeatedly simulating the roll and maintaining stats, with the text box contents as inp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s of rolls for each total are then displayed in a (scrollable)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14920" y="1676520"/>
            <a:ext cx="4048200" cy="37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7C0-EEC5-4CEF-A9CE-10B7BB703B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ier, we introduced the concept of software objects: programming structures that encompass both data (properties) and operations (metho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 string object has propertie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method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that enable the programmer to easily store and manipulate 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strings,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rray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objects that encapsulate multiple values and their associated properties and 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strings (which store only text characters), the items in an array can be of any data ty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rray consists of a sequence of items, enclosed in square brackets and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ssigning values to array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tem can appear in an array more than o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 items can be specified as express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s can be emp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5334120"/>
            <a:ext cx="47242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3FA-05CF-453B-95D7-DC2E66D1EF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n array stores a series of values, its associated memory cell can be envisioned as divided into components, each containing an individual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are assigned sequential indices, allowing programmers to identify an item by its corresponding ind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access is accomplished by specifying the name of the array object, followed by the index of the desired item in bracke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item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second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1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…, the last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length-1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n index is specified beyond the scope of an array, the access yield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7268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F90-3D68-47B6-9370-7322A925DE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 Access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now can understand how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OneO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ork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 to the function is a nonempty array of arbitrary i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is called to pick a random index from the array (between 0 and the last index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st.length-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acket notation is used to access the item at that index, which is then returned by the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440160"/>
            <a:ext cx="556236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530-6188-4FF7-B7AF-B475DB662E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can be assigned values just like any vari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the arr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 to store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 = 1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the value 1000 as the first item in the array, overwriting the value that was previously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72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index in an assignment statement is beyond the array’s current length, the array will automatically expand to accommodate the new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8] = "oops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"oops" at index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181840" cy="42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3462480"/>
            <a:ext cx="685800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95280" y="5562720"/>
            <a:ext cx="6782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601-D2B0-425E-9825-FDEED2F34B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rom Strings to Array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our Web pages have handled each input from the user as a singl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pproach is limiting since many programming tasks involve separately processing an arbitrary number of words or numbers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81952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e Pig Latin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might want to generalize the page so that it translates entire phrases instead of jus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is, the user would enter an arbitrary  sequence of words and each word would be trans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task would be very difficult using our current set of programm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33404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A30-4CE3-4FC5-823B-7306E6EE92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strings provide a method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for easily accessing the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ly input required by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is a character (or sequence of characters) that serves as a delimiter for breaking apart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separates the string into component substrings at each occurrence of the delimiter, and returns an array consisting of those substr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user = "Grace Murray Hopper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arr1 = user.split(" 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// ASSIGNS arr1 to be the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["Grace", "Murray", "Hopper"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96252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was the case with strings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[ … ]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to specify groups of 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441972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74D-40AE-4ACD-8B47-24128C1288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76760" y="4641840"/>
            <a:ext cx="4238640" cy="15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enerating Acrony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interesting application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is in deriving acrony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crony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erms made from the first letters of words in a phrase) are especially popular in the computing 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M – Random Access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UI – Graphical Use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 – World Wid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200400"/>
            <a:ext cx="365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takes a phrase, such as "What you see is what you get", splits it into an array of individual words, then extracts the first letters to construct the acro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206880"/>
            <a:ext cx="441972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330-43D5-4230-83A8-C95A4184F8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ronym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a phrase in a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th the text box contents as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 returned by the function call is displayed in another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782040" cy="294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9D6-5D8E-4875-BA1B-CB5CBDE5A3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