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8A45-CD9B-4303-9982-DB3738EB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BB65-DAC3-436C-892C-A1DF061E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B0E-F5F8-4C78-8565-DA04DD03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DDC7-074E-4559-B69A-F7BB81B1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7F6F-F0A4-4011-A3C3-02FFD15C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87CB-650C-4B56-90DE-9852D2FE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9CA1-1D61-4576-A80A-0F1C866B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790D-A1B4-42AA-A1A1-CC8E0F51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853D-6108-4721-8EEB-5B3FEE76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313C-25BA-4C0F-AA1E-545D36B2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E65D-FF95-4530-A124-FB23B15F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09BF-7FC0-4EBD-823A-BD19CC4D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1799-D446-40F4-A791-AF97ADD8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97DC-DDAC-4977-B9B6-33DB53F4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61AA-1CE2-4A43-83A8-5E129243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BD50-8323-44CC-94C6-3D61C362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A54B-29D7-43CA-B1B6-A533B331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E255-A9BB-496C-AB1F-9E135AEB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0FE-56AB-4915-BCFF-95B4A4D5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FA00-000B-401A-8698-AA512768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7E30-7E92-49D1-995E-E117E22C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CDB1-6352-4984-A970-523CD4C6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A3A-98C2-46A0-9ECC-602A5B85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43EE-6548-44D1-87E9-A4627B8D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7BC0-CB96-4573-AE50-338F6028D3FE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CDE7-0BBB-4DFE-9EB7-0D29F7C72B55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Script Str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C319-5EC5-4C38-8207-5AA068D0B0A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eneral Search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times when you want to search for a type of character, rather than a specific val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converting a word into Pig Lat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 word contains no vowels or begins with a vowel, the characters “way” are appended to the end of the w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nth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nthway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apple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apple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 word begins with a consonant, its initial sequence of consonants is shifted to the end of the word followed by “ay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banana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ananabay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cherry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errych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4952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order to distinguish between these two cases, must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r the first vow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use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to break the string into parts and the + operator to put the pieces back together (with "ay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cherry </a:t>
            </a:r>
            <a:r>
              <a:rPr b="0" lang="en-US" sz="1400" spc="-1" strike="noStrike">
                <a:solidFill>
                  <a:srgbClr val="0099ff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99ff"/>
                </a:solidFill>
                <a:latin typeface="Verdana"/>
              </a:rPr>
              <a:t> erry + ch + ay = errych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7A5-5DE6-4612-96F2-02D63A71E1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eneral Search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having to search for vowels individually, an entire class of characters can be specified using /[ . . . ]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162920" cy="401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36C-C1B0-4B26-ADDD-0FD96F4275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s and Repeti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tasks involve repeatedly performing the same oper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accomplish such tasks, we can combine while loops with string methods such a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while loop used to access and process each character in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haracters that comprise the string are concatenated one-by-one onto another string, resulting in an exact cop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6933960" cy="303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8F69-A414-4B8B-A803-17528707B1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s as Objec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your interactive Web pages have manipulated strings in simple w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r a text box/area to input a word or phra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ore that text in a (string)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corporate the text in a message, possibly using + to concaten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ings are different from numbers and Booleans in that they are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obje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a unit of code that encapsulates both data and operations that can be performed on that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tring is a software object that models words and phra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ata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equence of characters, enclosed in quo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operations includ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ke upper case, make lower case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termine the number of characters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ccess a particular character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arch for a particular character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C7D6-1B3C-42F3-B01B-BE0B9F246B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bject-Oriented Programm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jects are fundamental in the dominant approach to developing software systems: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object-oriente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rogramming (OOP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OP encourages programmers to design programs around software objec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rogrammer identifies the real-world objects involved in a system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, for a banking program: bank account, customer, teller, …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 designs and builds software objects to model these real-world objec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OP is effective for managing large systems, since individual objects can be assigned to different teams and developed independently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OP also supports code reuse, since the same or similar objects can be combined in different ways to solve different kinds of probl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3434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 doorbell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physical components/properties: color, shape, label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functionality: when you press the button, the bell r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HTML button is a software object that models a real-world but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physical components/properties: color, shape, label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s functionality: when you click on the button, JavaScript cod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9C15-006C-4632-ACA7-200DC0CEAA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perties and Metho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object-oriented terminology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haracteristics of an object are cal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perti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string object has a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operty that identifies the number of characters in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perations that can be performed on the string are cal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etho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makes a copy of the string with all upper-case letters converted to lower-ca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5053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perties and methods are not new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roperty i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pecial kin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f a variable (it stores a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ethod i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pecial kin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f function (it performs some ac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at is special is that they are associated with (or "belong to") an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each string object will have its own variable to stores it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ccess an object property, specify: object name, a period, property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tr1 = "foo"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tr2 = "Hi there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len1 = str1.length; 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len2 = str2.leng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6A88-5552-44B7-9128-525A46BBF6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perties and Metho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milarly, to call a method: object name, period, method c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-145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toLowerCase(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lls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o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which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turn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 lowercase copy of the str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-145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toUpperCase(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lls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Upper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ethod o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582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which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turn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 uppercase copy of the string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UpperCa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s do not change the string object they are called on (only an assignment can do that!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78720" indent="-1454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ead, they return modified copies of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086600" cy="238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F6B4-35C9-4C03-9FFA-294C6F6512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 Manipulation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36112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3276720" cy="22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834B-CA67-4D78-816C-A2737D198D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mon String Metho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ful methods exist that allow programmers to access and manipulate individual components of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onents are identifiable vi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dic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or numbers that correspond to the order in which individual characters occur in a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dices are assigned in ascending order from left to right, so that the first character in the string is at index 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provides access to a single character within the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takes an index as an input and returns the character at that particular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word = "foo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ch = word.charAt(0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ch = "f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44956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provides access to an entire sequence of characters within the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takes two numbers as inputs, representing the starting (inclusive) and ending (exclusive) indices of the substring, and returns the sub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word = "foo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ub = word.substring(1, 3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sub = "o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BEAA-1EBF-403C-99D4-6D02CB849F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ring Access/Concaten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the concatenation operator (+) can join strings togeth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uming the variabl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or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stores a string value, what affect would the following assignment hav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Lucida Console"/>
              </a:rPr>
              <a:t>word = word.charAt(0) + word.substring(1, word.length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5053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ollowing function takes a string as input and uses string method calls to create (and return) a capitalized version of that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3000" y="4255920"/>
            <a:ext cx="6705720" cy="222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1AC3-6B72-4287-826B-D6A9F1EE9F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earching String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arc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thod traverses a string in order to locate a given character or sub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takes a character or string as input and returns the index at which the character or string first occurs (or -1 if not foun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str = "banana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num1 = str.search("n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num1 = 2 since the charac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"n" first occurs at index 2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num2 = str.search("ana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num2 = 1 since the st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"ana" first occurs at index 1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num3 = str.search("z");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ASSIGNS num3 = -1 since the charac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Lucida Console"/>
              </a:rPr>
              <a:t>//   "z" does not occur anywhe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imple application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etermine whether a string is a single word or a ph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string contains no spaces, the call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search(" "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will return -1, indicating that the string value consists of a single w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.search(" "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returns a nonnegative value, then the presence of spaces signifies a phrase containing multiple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0218-62F9-4F5D-AAC9-3B90A0B3B5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9:45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