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2C58-1899-4790-A49F-1FE5342A9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C099-5CC1-405B-AEE0-6477C804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49FA-5535-4839-8AA6-44CDA2B08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C0DC-7B54-4234-A1C0-1A2449EB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4121-4AC7-40F1-ABF2-5109806D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6773-B2CF-4239-9CF8-3458463A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3947-299D-4B42-A99A-2ECBAC25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6D35-E771-47AF-A256-7BCCE95F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816E-AB58-40EB-9FF9-488355C3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2E9F-3E3D-45C5-9EE4-BE3750EE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FB83-7F11-462D-A06F-7A1E14CC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27B6-3904-4D2E-88A1-C2C04811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AC0F-FDD7-4AD1-813C-03183EBF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89AE-BE9D-4B5E-BFC3-F9CCF6C4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5062-5C55-4B21-BAAE-C1B7FBCB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D507-620E-4224-9014-2DDB2814F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59C6-AC83-4C9E-ACB6-D6571922C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6A82-D33A-4301-BFBD-AA5B83C1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4C2D-AB8A-4251-9694-E06C608D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DA51-802D-40F8-B0A8-C2B81BE8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97FA-C44C-4484-9E90-F70BB3AD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E730-1A7C-41DB-B71C-72166F45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D303-F792-417F-8BF6-7CD84275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A09A-8CDC-4F70-8F90-9551DA24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F964-5A60-42BB-9ED8-33277D6A4B9C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0062-2B28-46BC-A99D-77E281EEDAF4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441936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ide the Computer - th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n Neumann Archite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A4EC-1D9B-4581-A924-D492A72DBCE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ain Memory Data Transfer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 a program is executed, the control unit processes the program instructions and identifies which data values are needed to carry out the specified tas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0320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quired values are then fetched from main memory along the main memory bus, loaded into registers, and used in ALU ope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46483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data must be copied from main memory into registers BEFORE it can be operated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practice, the data transfer takes much longer than a single datapath cycle (due mainly to the distance that must be cover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dern CPUs compensate by fetching multiple instructions at once – ideally, the CPU will predict which instructions will be needed next and prefetch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819520" y="2743200"/>
            <a:ext cx="3209760" cy="171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6CF2-A9D5-497D-867C-0649C74655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 Transfer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suppose you had a file containing 1,000 numbers and wanted to compute the sum of those numb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180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rst, need to load the data from the file into main memory — for example, at memory locations 500 through 149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180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, the control unit would carry out the following steps to add the numbers and store the resulting sum back in main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7924680" cy="15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97E3-6C34-485B-8382-21FE7D3595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path w/ Memory Simulator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 can extend the datapath simulator to integrate main memory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in memory is displayed as a series of boxes, labeled with addresses 0-3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ain Memory Bus is added to transfer data to and from main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ses have switches that open and close when the user clicks on th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2743200"/>
            <a:ext cx="2971800" cy="35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selecting the radio button labeled R/W in the Main Memory partition, the user can select a memory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, address 0 is se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clicking on the Main Memory Bus and C Bus, they can be opened/cl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, the buses are configured to allow data to flow from main memory to the reg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other components of the datapath are configured as bef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2630520"/>
            <a:ext cx="5229360" cy="38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BEAB-A050-4A21-A376-1BA166F38E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emory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1523880"/>
            <a:ext cx="2514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example, suppose we wanted to add the contents of address 0 and address 1, and store the result in address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1st step, copy the data from address 0 into a register, say R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: the A Bus, B Bus, and ALU settings are irrelevant since the C Bus is disconn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5867280" cy="43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A5BA-2591-4BE0-91BB-573BB2B1F9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emory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5" name=""/>
          <p:cNvSpPr/>
          <p:nvPr/>
        </p:nvSpPr>
        <p:spPr>
          <a:xfrm>
            <a:off x="6400800" y="1752480"/>
            <a:ext cx="2438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2nd step, similarly copy the data from address 1 into a register, say 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: when the simulator executes, there is a noticeable (and intentional) delay as data moves on the Main Memory 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438200"/>
            <a:ext cx="60199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4D3C-4FBF-4BEF-B657-679BB131FC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emory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8" name=""/>
          <p:cNvSpPr/>
          <p:nvPr/>
        </p:nvSpPr>
        <p:spPr>
          <a:xfrm>
            <a:off x="6400800" y="1752480"/>
            <a:ext cx="2438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3rd step, the contents of R0 and R1 are added and the result is sent directly to address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some CPUs, this would require 2 steps: send the result to a register, then copy the register to main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495440"/>
            <a:ext cx="60199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FC77-9ECB-4D4B-A470-F4C72DB897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ored-Program Computer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last component of the CPU is a fully functioning, automatic control uni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call that in the simulations, tasks were defined by selecting registers and ALU operations via knobs, switches, and bu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dea behind a stored-program computer is that tasks can be represented as instructions stored in main memory along with d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ontrol unit must fetch, decode, and execute those instruc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3276720"/>
            <a:ext cx="82296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: each type of CPU has its own machine language for representing instr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example, we could define an instruction for our simulator by specifying the knob and switch settings for the data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nce real world CPUs contain an extremely large number of physical components, a more compact representation is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chine language instructions are represented as binary strings, where the bits correspond to hardware set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76520" y="4495680"/>
            <a:ext cx="411480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A974-7562-4D86-8CC2-7545B6410C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Machine Langu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5410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st two instructions – select ALU operation and registers to operate 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xt 3 instructions – control flow of data between main memory and datapat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st instruction – mark the end of instruction sequ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496120" cy="41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4C97-3B54-4F47-9A1D-65EBBEEF0D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ntrol Uni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ontrol unit fetches each machine language instruction from memory, interprets its meaning, carries out the specified CPU cycle, and then moves on to the next instr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nce instructions and data are both stored in memory, the control unit must recognize where a sequence of instructions begins and e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our simulator, we will assume that programs start at address 0 and end with a HALT instru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real computers, the operating system must keep track of program loc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90720" y="3581280"/>
            <a:ext cx="7391160" cy="212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C613-DAD9-4007-9E8F-7AF7B964E4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ogram Execu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achine language program for adding two numbers in memo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gram execu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gram counter is initialized: PC = 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at memory location 0 is fetched, PC is incremented to 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is decoded and CPU cycle is executed: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load contents of memory location 5 into R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xt instruction is fetched at location 1, PC is incremented to 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is decoded and CPU cycle is executed: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load contents of memory location 6 into R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xt instruction at memory location 2 is fetched, PC is incremented to 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is decoded and CPU cycle is executed: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add contents of R0 and R1, store result in R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xt instruction at location 3 is fetched, PC is incremented to 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is decoded and CPU cycle is executed: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copy contents of R2 into memory location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xt instruction at location 4 is fetched, PC is incremented to 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is decoded and CPU cycle is executed: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halt instruction </a:t>
            </a:r>
            <a:r>
              <a:rPr b="0" i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program e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4876560" cy="190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B585-D0C5-4062-A327-5DDE1E1991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PU Subunits and Datapath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 the von Neumann architec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entral Processing Unit (CPU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put/Output de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PU acts as the brain of the compu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obtains data and instructions from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carries out instruc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stores results back to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257800" y="1604880"/>
            <a:ext cx="2168640" cy="1062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" y="4191120"/>
            <a:ext cx="8077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rogram instructions that are executed by the CPU are in th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machine langua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that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s can write programs in a high-level language, but those high-level instructions must be translated into machine language before exec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ven programs that exhibit complex behavior are specified to the CPU as sequences of simple machine-language comm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can execute these instructions at such a high speed that complex programmatic behavior is achie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6258-2F91-4A2F-8699-4041469C39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plete Computer Simulator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 can extend the simulator to integrate a control unit, contain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Counter (PC) for keeping track of the next stat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ruction Register (IR): for storing fetched instruc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5943600" y="2630520"/>
            <a:ext cx="2971800" cy="30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can enter a sequence of instructions directly into memory, starting at address 0 and ending with a Halt 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y data to be acted upon is stored in additional memory lo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 user clicks execute, the program instructions are executed in sequ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5333760" cy="399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90B5-67DE-42EF-92CB-B3D2687729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puter Simulator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1752480"/>
            <a:ext cx="2286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re, the program consists of 5 instructions, stored in addresses 0 –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values are stored in addresses 5 &amp;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fore execution, the PC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6019920" cy="450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5F5B-458D-47F2-8A5E-C4A4B6784D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Example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1752480"/>
            <a:ext cx="2286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execution begins, the instruction at address 0 is fetched and deco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hardware is configured as specified (here, to copy data from address 5 to R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C is incr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datapath cycle is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6019920" cy="450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CAE4-93B7-4199-9571-BB117A0929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Example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1752480"/>
            <a:ext cx="2286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xt, the instruction at address 1 is fetched and decod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hardware is configured as specified (here, to copy data from address 6 to R1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C is incr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datapath cycle is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6095880" cy="456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98AA-B6DA-44D8-BCEA-EC59802650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Example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67" name=""/>
          <p:cNvSpPr/>
          <p:nvPr/>
        </p:nvSpPr>
        <p:spPr>
          <a:xfrm>
            <a:off x="6477120" y="1752480"/>
            <a:ext cx="2286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xt, the instruction at address 2 is fetched and decod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hardware is configured as specified (here, to add R0 and R1 and store the sum in R2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C is incr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datapath cycle is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594360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A9DE-9DFE-44E1-A476-5D49F503EF4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Example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1752480"/>
            <a:ext cx="2286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xt, the instruction at address 3 is fetched and decod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hardware is configured as specified (here, the value in R2 is copied to address 7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C is incr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datapath cycle is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6019920" cy="450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74F5-FCC0-4675-B365-DFFC7487FBE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Example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73" name=""/>
          <p:cNvSpPr/>
          <p:nvPr/>
        </p:nvSpPr>
        <p:spPr>
          <a:xfrm>
            <a:off x="6477120" y="1752480"/>
            <a:ext cx="2286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xt, the instruction at address 4 is fetched and decod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hardware is configured as specified (here, Halt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C is incr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ecution ha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594360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0EE0-A9FD-466D-B131-627002D5ABE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he Role of I/O Devic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: input/output devices enable the user to interact with the compu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put devices – keyboards, mice, scanners,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utput devices – display screens, speakers, printers,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first programmable computers (1950s) and personal computers (1970s) were designed to execute one program at a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entered program instructions and data directly into main memory via input de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instructed the CPU to fetch program instructions and execute them in sequential ord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viewed results by sending the contents of the memory to an output de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495680"/>
            <a:ext cx="8305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st modern computers allow for multitasking (multiple programs can be active simultaneous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ructions and data associated with each program must be loaded into separate portions of main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control switches from one program to another, the CPU must save the state of the current program and locate the portion of memory for the new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mory partitioning and control switches are managed by the opera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BE60-784C-421A-91D4-A6D5A28E4C1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620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achine vs. Assembly Langu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gramming in machine languages is difficult and tediou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chine code is nearly impossible to understand and debu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sembly languages were developed in the early 1950s to simplify programm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sembly languages allow for words to substitute for bit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so, allow for variable names instead of numerical addres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133720" y="3195720"/>
            <a:ext cx="5086080" cy="34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49B7-2E22-4D8A-A40F-96AC183C244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ssembly Language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stored-program computer simulator allows the user to enter instructions in assembly languag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even toggle the view from assembly language to machine language using the "View As:" pull-down menu to the left of each memory lo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5267520" cy="394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017C-D46B-401E-8769-4739DBBB30F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PU Subuni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PU is comprised of several subunits, each playing a specific role in processor function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rithmetic Logic Unit (ALU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circuitry that performs the actual operations on data (addition, subtraction, bit manipulation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egister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memory locations built into the CPU (to provide fast acces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transfer of data between registers and main memory occurs across a collection of wires called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u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ontrol Unit (CU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circuitry in charge of fetching data and instructions from main memory, as well as controlling the flow of data between registers and the AL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666880" y="3886200"/>
            <a:ext cx="3353040" cy="260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2C3D-EE91-429B-96BD-452655F9D7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PU Datapath Cycl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638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h that data follows within the CPU, traveling along buses from registers to the ALU and then back to registers, is known as th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PU datapat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ingle rotation around the CPU datapath is referred to as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PU datapath cyc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3581280"/>
            <a:ext cx="82296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 earlier that we defined CPU speed as measuring the number of instructions that a CPU can carry out per sec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PU speed = the number of CPU cycles per seco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a 2.5GHz CPU can perform 2.5 billion cycles per 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PUs cannot be compared solely on the basis of their sp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nce CPUs have different instruction sets, one CPU may be able to complete more complex tasks in a single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, a slower CPU with a richer instruction set may complete some tasks f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305400" y="1295280"/>
            <a:ext cx="2305080" cy="179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F3F0-2F70-4FD2-822D-5B57191FAE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path Simulator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ccompanying the text is a datapath simulato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.k.a. th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Knob &amp; Switch Compu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veloped by Grant Braught at Dickinson Colle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ows the user to enter data directly into the register boxes and configure the CPU hardware by clicking on knobs and switch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2873520"/>
            <a:ext cx="4343400" cy="31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clicking on the knobs label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 Bus Addres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 Bus Addres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the user can select which registers will be acce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, registers R0 and R1 are se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clicking on the knob label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LU Operat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the user can select which operation will be performed on the specified regist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, the addition operation (A+B) is se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clicking on the knob label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 Bus Addres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the user can select which register the result will be written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, register R2 is se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34066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A3B6-97A3-460E-82A5-81C7EC2D58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path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562720" y="1447920"/>
            <a:ext cx="312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the user clicks on the Execute button, a CPU datapath cycle is executed with the given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can be observed as it moves around the datapa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1st step, data values are retrieved from the specified registers (R0 and R1) and passed along the A and B buses, respective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4905360" cy="548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5F36-CA6F-4989-BA94-9D5BCAE5DA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path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62720" y="1447920"/>
            <a:ext cx="312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can be observed as it moves around the datapa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2nd step, the data values from the A and B buses are operated on by the ALU, with the result passed along the C bu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4905360" cy="548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1F5D-FDC5-4B88-AE2F-E9719533FD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path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562720" y="1447920"/>
            <a:ext cx="312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can be observed as it moves around the datapa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3rd step, the data on the C bus is written to the specified register (R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end result of the datapath cycle is that the contents of two registers are added and the result is stored in a different regi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4905360" cy="548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49A7-2CDC-4EA1-819A-9E67E923AC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PU and Main Memor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PU datapath describes the way in which a computer manipulates data stored in regist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t, it does not explain how data gets into registers in the first pla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r, how the results of ALU operations are accessed outside the CP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oth of these tasks involve connections between the CPU and main memo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active programs and data are stored in the main memory of a compu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in memory is comprised of a large number of memory locations, with each location accessible via an 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us connects main memory to the CPU, enabling the computer to copy data and instructions to registers, and then copy the results of computations back to main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181320" y="4267080"/>
            <a:ext cx="428616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C9D9-7FCE-4418-B2AF-4CE41D7519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9:26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