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9D7F-4944-4802-B0B6-CF2BCCEA2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B415-ABB9-4FF0-9C5F-461181DC6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94D6-C664-4235-8490-1BBA46266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4207-BDDD-4516-A656-49B6A4F28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93AE7-46BC-40BE-B797-D90B59BD3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82ED3-FC94-4ACF-922A-B209E01B9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325AA-7028-452D-A2CA-BB4B99B53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B4C43-C7D1-4962-B325-BC184CD13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F5672-A844-42BA-8D6D-BF4EB7853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6840" y="30456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E3700-7B17-479F-B8FD-33F4E6C44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04C9F-3B60-4DD2-A2D3-F1073FBCA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D3DB-EB4C-4599-942F-A362B8E44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B9344-D9A2-4884-95C6-CBE0D462B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488C7-B221-4FBE-9A68-D5B81724B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FB7B5-5576-49F1-B775-D8A434404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220FE-C8AB-4773-A1AD-C4484D449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A1885-6872-4A88-BC6A-68D2A3575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2EF8-D5D6-4A97-9572-C8718B32F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E749-7784-4EE5-8D69-2F3E79B21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8A4B-DF63-469A-9231-B3E199F88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6840" y="30456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747C-9512-4FB0-8359-0F3DDF657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B210-760E-4490-AFA6-8D74B5374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485C-0201-4238-B2F6-7B020E396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DB88-C96A-43B6-9920-94211B662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Click to edit the title text format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451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451"/>
              </a:spcBef>
              <a:buClr>
                <a:srgbClr val="ff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EFC60-9722-462F-A69A-5009487C0D73}" type="slidenum">
              <a:rPr b="0" lang="en-US" sz="1400" spc="-1" strike="noStrike">
                <a:solidFill>
                  <a:srgbClr val="ff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066680"/>
            <a:ext cx="8381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8077320" y="152280"/>
            <a:ext cx="610920" cy="838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563868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w Cen MT Condensed Extra Bold"/>
              </a:rPr>
              <a:t>Click to edit the title text format</a:t>
            </a:r>
            <a:endParaRPr b="0" lang="en-US" sz="4000" spc="-1" strike="noStrike">
              <a:solidFill>
                <a:srgbClr val="ff9900"/>
              </a:solidFill>
              <a:latin typeface="Tw Cen MT Condensed Extra Bol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186BC-0BF3-4E4A-9E88-37B153770EEE}" type="slidenum">
              <a:rPr b="0" lang="en-US" sz="1400" spc="-1" strike="noStrike">
                <a:solidFill>
                  <a:srgbClr val="ff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3886200"/>
            <a:ext cx="2870280" cy="119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98880" y="3886200"/>
            <a:ext cx="2870280" cy="119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969160" y="3886200"/>
            <a:ext cx="2869920" cy="119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264360" y="609480"/>
            <a:ext cx="2435040" cy="30481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349"/>
              </a:spcBef>
              <a:buClr>
                <a:srgbClr val="ff00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59436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9900"/>
                </a:solidFill>
                <a:latin typeface="Tw Cen MT Condensed Extra Bold"/>
              </a:rPr>
              <a:t>A Balanced Introduction to Computer Science, 2/E</a:t>
            </a:r>
            <a:br>
              <a:rPr sz="3800"/>
            </a:br>
            <a:br>
              <a:rPr sz="1500"/>
            </a:br>
            <a:r>
              <a:rPr b="0" lang="en-US" sz="2400" spc="-1" strike="noStrike">
                <a:solidFill>
                  <a:srgbClr val="ff9900"/>
                </a:solidFill>
                <a:latin typeface="Tw Cen MT Condensed Extra Bold"/>
              </a:rPr>
              <a:t>David Reed, Creighton University</a:t>
            </a:r>
            <a:br>
              <a:rPr sz="3400"/>
            </a:br>
            <a:br>
              <a:rPr sz="1200"/>
            </a:br>
            <a:r>
              <a:rPr b="0" lang="en-US" sz="2100" spc="-1" strike="noStrike">
                <a:solidFill>
                  <a:srgbClr val="ff9900"/>
                </a:solidFill>
                <a:latin typeface="Tw Cen MT Condensed Extra Bold"/>
              </a:rPr>
              <a:t>©2008 Pearson Prentice Hall</a:t>
            </a:r>
            <a:br>
              <a:rPr sz="2100"/>
            </a:br>
            <a:r>
              <a:rPr b="0" lang="en-US" sz="2100" spc="-1" strike="noStrike">
                <a:solidFill>
                  <a:srgbClr val="ff9900"/>
                </a:solidFill>
                <a:latin typeface="Tw Cen MT Condensed Extra Bold"/>
              </a:rPr>
              <a:t>ISBN 978-0-13-601722-6</a:t>
            </a:r>
            <a:endParaRPr b="0" lang="en-US" sz="2100" spc="-1" strike="noStrike">
              <a:solidFill>
                <a:srgbClr val="ff9900"/>
              </a:solidFill>
              <a:latin typeface="Tw Cen MT Condensed Extra Bol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295280" y="4419720"/>
            <a:ext cx="64771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avaScript String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2B920-FF45-4AD0-83C8-4042984DB7D1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General Searche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re are times when you want to search for a type of character, rather than a specific valu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example: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converting a word into Pig Lati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a word contains no vowels or begins with a vowel, the characters “way” are appended to the end of the wor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Verdana"/>
              </a:rPr>
              <a:t>nth </a:t>
            </a:r>
            <a:r>
              <a:rPr b="0" lang="en-US" sz="1400" spc="-1" strike="noStrike">
                <a:solidFill>
                  <a:srgbClr val="0099ff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99ff"/>
                </a:solidFill>
                <a:latin typeface="Verdana"/>
              </a:rPr>
              <a:t> nthway</a:t>
            </a:r>
            <a:r>
              <a:rPr b="0" lang="en-US" sz="1400" spc="-1" strike="noStrike">
                <a:solidFill>
                  <a:srgbClr val="0099ff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Verdana"/>
              </a:rPr>
              <a:t>apple </a:t>
            </a:r>
            <a:r>
              <a:rPr b="0" lang="en-US" sz="1400" spc="-1" strike="noStrike">
                <a:solidFill>
                  <a:srgbClr val="0099ff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99ff"/>
                </a:solidFill>
                <a:latin typeface="Verdana"/>
              </a:rPr>
              <a:t> applewa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a word begins with a consonant, its initial sequence of consonants is shifted to the end of the word followed by “ay”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Verdana"/>
              </a:rPr>
              <a:t>banana </a:t>
            </a:r>
            <a:r>
              <a:rPr b="0" lang="en-US" sz="1400" spc="-1" strike="noStrike">
                <a:solidFill>
                  <a:srgbClr val="0099ff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99ff"/>
                </a:solidFill>
                <a:latin typeface="Verdana"/>
              </a:rPr>
              <a:t> ananabay</a:t>
            </a:r>
            <a:r>
              <a:rPr b="0" lang="en-US" sz="1400" spc="-1" strike="noStrike">
                <a:solidFill>
                  <a:srgbClr val="0099ff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Verdana"/>
              </a:rPr>
              <a:t>cherry </a:t>
            </a:r>
            <a:r>
              <a:rPr b="0" lang="en-US" sz="1400" spc="-1" strike="noStrike">
                <a:solidFill>
                  <a:srgbClr val="0099ff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99ff"/>
                </a:solidFill>
                <a:latin typeface="Verdana"/>
              </a:rPr>
              <a:t> errycha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" y="49528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 order to distinguish between these two cases, must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arch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for the first vow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n, use the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bstring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method to break the string into parts and the + operator to put the pieces back together (with "ay"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Verdana"/>
              </a:rPr>
              <a:t>cherry </a:t>
            </a:r>
            <a:r>
              <a:rPr b="0" lang="en-US" sz="1400" spc="-1" strike="noStrike">
                <a:solidFill>
                  <a:srgbClr val="0099ff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99ff"/>
                </a:solidFill>
                <a:latin typeface="Verdana"/>
              </a:rPr>
              <a:t> erry + ch + ay = errych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62AD-27AB-4C7A-AFA9-CCB9B309F9A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General Searche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ather than having to search for vowels individually, an entire class of characters can be specified using /[ . . . ]/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066680" y="2133720"/>
            <a:ext cx="7162920" cy="4019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1800-EE18-484E-A8C6-D3C3695F025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Strings and Repetition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ome tasks involve repeatedly performing the same operation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o accomplish such tasks, we can combine while loops with string methods such as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harA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arch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example: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a while loop used to access and process each character in a str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characters that comprise the string are concatenated one-by-one onto another string, resulting in an exact cop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219320" y="3429000"/>
            <a:ext cx="6933960" cy="3035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A4BA-4A9B-434A-9266-E1800311330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Strings as Object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o far, your interactive Web pages have manipulated strings in simple way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mp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or a text box/area to input a word or phras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tore that text in a (string) variabl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corporate the text in a message, possibly using + to concatenat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trings are different from numbers and Booleans in that they are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 objec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softwar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objec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is a unit of code that encapsulates both data and operations that can be performed on that dat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string is a software object that models words and phras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data: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sequence of characters, enclosed in quot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operations include: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ke upper case, make lower case,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etermine the number of characters,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ccess a particular character,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arch for a particular character, …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2452-E6C5-427A-AA5C-FDE8B05ED3E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Object-Oriented Programming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bjects are fundamental in the dominant approach to developing software systems: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 object-oriented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programming (OOP)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OP encourages programmers to design programs around software objec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programmer identifies the real-world objects involved in a system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(e.g., for a banking program: bank account, customer, teller, …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n designs and builds software objects to model these real-world objec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OP is effective for managing large systems, since individual objects can be assigned to different teams and developed independently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OP also supports code reuse, since the same or similar objects can be combined in different ways to solve different kinds of problem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"/>
          <p:cNvSpPr/>
          <p:nvPr/>
        </p:nvSpPr>
        <p:spPr>
          <a:xfrm>
            <a:off x="457200" y="4343400"/>
            <a:ext cx="82296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example: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a doorbell butt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as physical components/properties: color, shape, label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as functionality: when you press the button, the bell rin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n HTML button is a software object that models a real-world butt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as physical components/properties: color, shape, label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as functionality: when you click on the button, JavaScript code is execu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1B59-0A85-45F0-AB82-FD7296593CE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Properties and Method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sing object-oriented terminology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characteristics of an object are called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propertie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a string object has a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property that identifies the number of characters in the str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operations that can be performed on the string are called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metho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the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oLowerCas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method makes a copy of the string with all upper-case letters converted to lower-cas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3505320"/>
            <a:ext cx="822960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perties and methods are not new concep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property is a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special kind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of a variable (it stores a valu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method is a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special kind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of function (it performs some acti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hat is special is that they are associated with (or "belong to") an obj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each string object will have its own variable to stores it l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o access an object property, specify: object name, a period, property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str1 = "foo";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str2 = "Hi there"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len1 = str1.length; 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len2 = str2.length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17A3-A841-449B-960E-8D35668B338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Properties and Method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marL="17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imilarly, to call a method: object name, period, method cal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378720" indent="-1454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r.toLowerCase()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calls the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oLowerCas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method on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r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5828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(which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return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a lowercase copy of the string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378720" indent="-1454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r.toUpperCase()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calls the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oUpperCas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method on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r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5828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(which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return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an uppercase copy of the string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378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378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378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378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378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378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378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378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378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378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378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378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378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ote: th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oLowerCas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oUpperCas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methods do not change the string object they are called on (only an assignment can do that!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378720" indent="-1454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stead, they return modified copies of the str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990720" y="2895480"/>
            <a:ext cx="7086600" cy="238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9C02-03A8-4B7D-B459-C0A7F8DBF3D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String Manipulation Page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5361120" cy="5486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5638680" y="1905120"/>
            <a:ext cx="3276720" cy="2200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DD9A-0597-4ABE-986B-9CE22BEA635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Common String Method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seful methods exist that allow programmers to access and manipulate individual components of a str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mponents are identifiable via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indice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, or numbers that correspond to the order in which individual characters occur in a str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dices are assigned in ascending order from left to right, so that the first character in the string is at index 0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harAt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method provides access to a single character within the str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t takes an index as an input and returns the character at that particular index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word = "foo"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ch = word.charAt(0);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// ASSIGNS ch = "f"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4495680"/>
            <a:ext cx="8229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ubstring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method provides access to an entire sequence of characters within the 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t takes two numbers as inputs, representing the starting (inclusive) and ending (exclusive) indices of the substring, and returns the subst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word = "foo"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sub = word.substring(1, 3);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// ASSIGNS sub = "oo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C90E-2F74-43B9-AFFB-72A3494BF4B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String Access/Concatenation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call: the concatenation operator (+) can join strings togeth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ssuming the variabl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ord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stores a string value, what affect would the following assignment have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0844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084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Lucida Console"/>
              </a:rPr>
              <a:t>word = word.charAt(0) + word.substring(1, word.length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" y="350532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following function takes a string as input and uses string method calls to create (and return) a capitalized version of that 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143000" y="4255920"/>
            <a:ext cx="6705720" cy="2221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65A9-1CB9-4C62-AB59-2C476313375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Searching String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arch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method traverses a string in order to locate a given character or substr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t takes a character or string as input and returns the index at which the character or string first occurs (or -1 if not found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str = "banana"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num1 = str.search("n");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// ASSIGNS num1 = 2 since the charact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//   "n" first occurs at index 2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num2 = str.search("ana");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// ASSIGNS num2 = 1 since the str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//   "ana" first occurs at index 1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num3 = str.search("z");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// ASSIGNS num3 = -1 since the charact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//   "z" does not occur anywher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" y="510552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simple application: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determine whether a string is a single word or a phr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the string contains no spaces, the call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r.search(" ")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will return -1, indicating that the string value consists of a single wo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r.search(" ")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returns a nonnegative value, then the presence of spaces signifies a phrase containing multiple wo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ED56-B83B-4C54-B982-05DB03608CD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davir2</cp:lastModifiedBy>
  <dcterms:modified xsi:type="dcterms:W3CDTF">2007-09-12T22:09:45Z</dcterms:modified>
  <cp:revision>3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