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3497D-F9DB-42DF-8685-93E0E8D6F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8574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77A89-14F5-4DA0-8002-FC2AB0FE7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16719-C197-4764-BF17-F14D08D6B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A22D6-3DCD-4832-8469-469C09287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CF77B-E197-410F-AF13-C9F44180E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D3BBC-58FC-4525-9E2A-2CE1AD9C1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3A5B8-2D42-4529-AB8B-A135F67E8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B7723-0446-4717-A7CC-A57F6F4D8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9CCE6-DAC3-462E-BB14-CF3F26C90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6840" y="30456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39FB6-D7EC-46B3-845B-D7730C470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EAB90-B7A0-4B84-94CC-8ED61DCEB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3812F-4848-4646-B9B6-E01AC3B82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6E2C3-7EFC-402F-B03E-F737BE1E5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06B78-FB23-4F9A-B2C9-4A214425D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8574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E93A0-9BCC-42E7-9497-C4702A2C0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ACE6C-9243-4C3B-A978-24CFE3764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0D126-D039-4E1B-8374-7F0C74964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08726-EAA7-49D3-8299-D16DD435A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FBA7A-8078-4864-8899-F92FFF4A5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39C6F-D767-4CF1-854F-B9E57ED4A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6840" y="30456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D28C7-9385-4B07-AECC-853AD6E2D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D96EB-FF20-4C8F-A6A3-B065D7666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4C13C-6A1D-4815-A261-15FDAB6B9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D5EE2-B072-44E5-8144-2B077A460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Click to edit the title text format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spcBef>
                <a:spcPts val="451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343080" indent="-343080">
              <a:spcBef>
                <a:spcPts val="451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343080" indent="-343080">
              <a:spcBef>
                <a:spcPts val="451"/>
              </a:spcBef>
              <a:buClr>
                <a:srgbClr val="ff0000"/>
              </a:buClr>
              <a:buSzPct val="8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2E94A-D319-4FD0-8C88-976517D6F92C}" type="slidenum">
              <a:rPr b="0" lang="en-US" sz="1400" spc="-1" strike="noStrike">
                <a:solidFill>
                  <a:srgbClr val="ff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066680"/>
            <a:ext cx="83818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" descr=""/>
          <p:cNvPicPr/>
          <p:nvPr/>
        </p:nvPicPr>
        <p:blipFill>
          <a:blip r:embed="rId2"/>
          <a:stretch/>
        </p:blipFill>
        <p:spPr>
          <a:xfrm>
            <a:off x="8077320" y="152280"/>
            <a:ext cx="610920" cy="838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563868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Tw Cen MT Condensed Extra Bold"/>
              </a:rPr>
              <a:t>Click to edit the title text format</a:t>
            </a:r>
            <a:endParaRPr b="0" lang="en-US" sz="4000" spc="-1" strike="noStrike">
              <a:solidFill>
                <a:srgbClr val="ff9900"/>
              </a:solidFill>
              <a:latin typeface="Tw Cen MT Condensed Extra Bol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8BE16-CEF5-48A7-AB83-705E0B12009D}" type="slidenum">
              <a:rPr b="0" lang="en-US" sz="1400" spc="-1" strike="noStrike">
                <a:solidFill>
                  <a:srgbClr val="ff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8600" y="3886200"/>
            <a:ext cx="2870280" cy="1191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098880" y="3886200"/>
            <a:ext cx="2870280" cy="119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969160" y="3886200"/>
            <a:ext cx="2869920" cy="119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6264360" y="609480"/>
            <a:ext cx="2435040" cy="304812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00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349"/>
              </a:spcBef>
              <a:buClr>
                <a:srgbClr val="ff0000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594360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9900"/>
                </a:solidFill>
                <a:latin typeface="Tw Cen MT Condensed Extra Bold"/>
              </a:rPr>
              <a:t>A Balanced Introduction to Computer Science, 2/E</a:t>
            </a:r>
            <a:br>
              <a:rPr sz="3800"/>
            </a:br>
            <a:br>
              <a:rPr sz="1500"/>
            </a:br>
            <a:r>
              <a:rPr b="0" lang="en-US" sz="2400" spc="-1" strike="noStrike">
                <a:solidFill>
                  <a:srgbClr val="ff9900"/>
                </a:solidFill>
                <a:latin typeface="Tw Cen MT Condensed Extra Bold"/>
              </a:rPr>
              <a:t>David Reed, Creighton University</a:t>
            </a:r>
            <a:br>
              <a:rPr sz="3400"/>
            </a:br>
            <a:br>
              <a:rPr sz="1200"/>
            </a:br>
            <a:r>
              <a:rPr b="0" lang="en-US" sz="2100" spc="-1" strike="noStrike">
                <a:solidFill>
                  <a:srgbClr val="ff9900"/>
                </a:solidFill>
                <a:latin typeface="Tw Cen MT Condensed Extra Bold"/>
              </a:rPr>
              <a:t>©2008 Pearson Prentice Hall</a:t>
            </a:r>
            <a:br>
              <a:rPr sz="2100"/>
            </a:br>
            <a:r>
              <a:rPr b="0" lang="en-US" sz="2100" spc="-1" strike="noStrike">
                <a:solidFill>
                  <a:srgbClr val="ff9900"/>
                </a:solidFill>
                <a:latin typeface="Tw Cen MT Condensed Extra Bold"/>
              </a:rPr>
              <a:t>ISBN 978-0-13-601722-6</a:t>
            </a:r>
            <a:endParaRPr b="0" lang="en-US" sz="2100" spc="-1" strike="noStrike">
              <a:solidFill>
                <a:srgbClr val="ff9900"/>
              </a:solidFill>
              <a:latin typeface="Tw Cen MT Condensed Extra Bol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295280" y="4419720"/>
            <a:ext cx="64771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apter 18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mputers and Socie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3410B-6347-4B44-9389-A4C0F9B485E0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69608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Internet/Web for Communication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ore recently, the Internet has popularized the use of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instant messagin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nables users to type text messages and view responses immediately in the same window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 effect, they can conduct personal conversations onlin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53 million users sent instant messages during February 2004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of those, 24% claimed to use IM more frequently than emai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514600" y="3589200"/>
            <a:ext cx="4178160" cy="2938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83042-E6E2-4926-A943-181012B1561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Internet/Web for Commerce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nother popular function of the Web is to facilitate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electronic commerce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, or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e-commerc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businesses have recognized the Web’s potential as an advertising medium, and as a tool for reaching new customer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ome business sites are information-based (providing background on the company or product descriptions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other business sites are transaction-based (allowing customers to purchase products or services directly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nline shopping has numerous advantages for the consum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you can make purchases from your home at any tim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t is easy to comparison shop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any online retailers, such as Amazon.com, allow consumers to research products as well as purchase them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FA31A-1728-45E8-AC79-70F209D3E36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Internet/Web for Commerce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32" name=""/>
          <p:cNvSpPr/>
          <p:nvPr/>
        </p:nvSpPr>
        <p:spPr>
          <a:xfrm>
            <a:off x="533520" y="1447920"/>
            <a:ext cx="82296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otal online sales in 2006: $108 bill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any of the most successful sites are online offshoots of traditional retail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85560" indent="-27432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arnes &amp; Noble, Sears, Circuit C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anies that are strictly Internet ventures have added risks due to their lack of other revenue streams for startup and develop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85560" indent="-27432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any of these companies fail early on, however, some are very successfu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85560" indent="-27432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mazon.com: $10.7 billion in sales in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2590920" y="4164120"/>
            <a:ext cx="3733560" cy="2465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B6272-D921-45DA-A4FE-297F536D5FF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Internet/Web for Commerce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059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Web has provided a new advertising channel for businesses and organization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-commerce sites charge fees for hosting advertising banners on web pag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banner ads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are clickable images that promote a particular company’s product or servic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s who click on a banner ad are typically directed to the company’s Web site, where they can make purchases or review product-related informa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Web’s structure allows for a direct connection between ads and related purchasing interfac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 addition, the Internet is extensively used for communication and information exchanges within and among business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usiness-to-business (B2B) transactions allow companies to manage inventory more dynamicall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an improve efficiency by linking various data channels (e.g., sales &amp; marketing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usinesses may form partnerships based on sharing resources and informa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128AD-D444-4480-944B-F3CA864C22E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23888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Potential Danger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 conjunction with the benefits we have mentioned, the widespread adoption of technology also introduces the potential for abuses and undesirable consequenc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otential dangers to individuals, businesses, and society at large includ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n over-reliance on complex, perhaps poorly-understood, system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formation overloa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rivacy and security violatio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Digital Divid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BA40D-33AE-4C5C-85BA-21E3272A302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Reliance on Complex System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s society becomes dependent on complex, computer-based products and services, the effects of errors or system failures become far-reachin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r-system bugs can produce dire consequenc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etween 1985 and 1987, six cancer patients received massive radiation overdoses due to equipment malfunction, resulting in four deaths (the malfunction was traced to a single coding error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 1990, AT&amp;T’s long-distance telephone network was down for nine hours due to a misplaced statement in the electronic switching software (60,000 customers were without service, resulting in $60 million of lost revenue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 1991, 28 soldiers were killed by a Scud missile because a software error caused the Patriot missile to miss its targe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 1999, NASA’s Mars Climate Orbiter went off course and was destroyed in the Martian atmosphere (the problem was due to software inconsistencies which used different measurement conversions, e.g., English vs. Metric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o avoid errors, various software design and testing methodologies are used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owever, as the size and complexity of the software grows, design and testing become exponentially more difficul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indows 2000 – 35 million lines of code, 63,000 known bug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AD7FE-506F-4B5E-9B5D-6051AFACC4A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Information Overload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impressive range of information available online can be viewed as a strength, but it is also one of the greatest weakness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ften, data is not well organize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nding a single piece of specific information can be very difficul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s of April 2005, Google claimed to have cataloged more than 8 billion pag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engines are helpful in narrowing down Internet searches, but users must be careful in selecting search criteria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 Google search for “JavaScript” produced 425 million match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 more refined search for “JavaScript prompt function” produced 924,000 match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ven after a user locates a Web page related to the desired topic, judging reliability is not always easy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Web is neither monitored or censore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uthors may provide incomplete, uninformed, or biased answe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AC588-65F3-4764-B954-CC12048217F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Information Overload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305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ince most Internet/Web content lacks editorial review, it is up to the user to evaluate its credibility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ommon criteria for evaluating credibility include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914400" y="2743200"/>
            <a:ext cx="7543800" cy="3114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247EC-6C0B-4036-AFA2-6CD00AB7B97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Privacy and Security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523520"/>
            <a:ext cx="44197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when using credit cards or shopping online, consumers sacrifice privacy for the sake of convenienc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ompanies maintain records of consumer purchas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rivate details can be inferred from shopping patter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ompanies often sell customer profiles to marketing firm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Web users can limit exploitation by interacting only with reputable online businesses with privacy polici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uch policies will explain what information is collected by the business and how that information is to be used (and shared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029200" y="2411280"/>
            <a:ext cx="3848040" cy="2541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D405E-7DCE-4B5B-8649-7969C9A4E2F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Privacy and Security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mail also raises privacy concern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hen a message is received it is commonly stored in a file on the recipient’s comput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re is a danger that unauthorized users might get access to that fil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ew laws apply directly to electronic privac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ourts overwhelmingly favor employers over employees in privacy sui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nless explicitly stated, it is generally accepted that employers may access any content on company-owned machin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ivacy is closely linked with security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mail messages travel through numerous routers, and each router represents a security risk, because someone could gain access to a router and eavesdrop on a relayed messag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ith online transactions, credit card numbers or other personal information can be intercepted and subsequently result in identity thef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ncryption methods are commonly used to secure information transmissions, but online fraud is still a continuing proble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9A217-E78A-407E-985D-E187C4F597D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Positive Impact of Technology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istorian Larry Gormley ranked technological developments according to their impact on modern lif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60960" indent="-25416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o you agree with his list?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"/>
          <p:cNvSpPr/>
          <p:nvPr/>
        </p:nvSpPr>
        <p:spPr>
          <a:xfrm>
            <a:off x="457200" y="3505320"/>
            <a:ext cx="845820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143000" y="2590920"/>
            <a:ext cx="7315200" cy="32623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1143000" y="5867280"/>
            <a:ext cx="7315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Verdana"/>
              </a:rPr>
              <a:t>(Gormley, Larry. “The Greatest Inventions in the Past 1000 Years.” eHistory.com, 2003.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4BB1B-BB0A-40DF-B258-E7FCB9A12FD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The Digital Divide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1532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n especially troubling aspect of recent technological developments is that the benefits associated with computers are not shared by al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mericans with minority ancestry, lower incomes, and less education are far less likely to be onlin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19320" y="2666880"/>
            <a:ext cx="6933960" cy="356580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1219320" y="6248520"/>
            <a:ext cx="6933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Verdana"/>
              </a:rPr>
              <a:t>(Pew Internet and American Life Project: Latest Trends. Pew Research Center, December 2006.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70A83-BDC3-44A1-ACB3-57157DE5F8D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The Digital Divide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ddressing the digital divid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uring the Clinton administration, public schools received government funding for computer technology and Internet servic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y 2003, nearly all public schools were connected to the Internet, as compared to 35% in 1994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ost public libraries and community centers provide Internet-enabled compute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rganizations such as CompuMentor supply Internet access and technical assistance to minority groups and low income individual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digital divide is still a problem for Americans, but there is no doubt that conditions have improve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digital divide also exists on a global scal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merica, Western Europe, and certain Asian countries have much greater Internet connectivity than other parts of the worl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ack of Internet access places less developed nations at a significant disadvantage, and compounds other economic problem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United Nations, World Economic Forum, and other organizations are working to address the global digital divid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" y="3505320"/>
            <a:ext cx="845820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BB819-B35B-474B-9E90-709ED2B117A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84872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Positive Impact of Technology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ore than any other invention, computer technology is still evolving, which means that it continues to impact society in new way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first electronic computers made significant contributions in the 1940’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OLOSSUS – used for code breaking in World War II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NIAC – performed calculations and simulations that led to the development of nuclear technology and Cold War scienc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urrently, we live in an "information economy", with computers central to business and innova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" y="3657600"/>
            <a:ext cx="56386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echnology has become so pervasive in daily life, it is difficult to imagine life without 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76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.g., monetary transa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ash is frequently being replaced with credit or debit car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omputerized banking networks enable the immediate electronic transfer of fun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TM machines allow people to access their money around the clock from any lo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ll this has discouraged traditional theft, but has inspired new forms of illegal activ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6172200" y="3733920"/>
            <a:ext cx="2019240" cy="2666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83805-9AFE-4761-AEDD-30D182E347A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Computers in Everyday Task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odern life also depends on thousands of less obvious, hidden computer application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embedded processors are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r chips that are built into appliances and machinery to control their working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y account for more than 90% of all computer processo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average U.S. home contains 50 to 100 embedded processors (2001 est.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ovens, television remote controls, cordless phones, automatic thermostats, …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utomobiles employ embedded processors to control a wide variety of componen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295280" y="4038480"/>
            <a:ext cx="6629400" cy="245268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295280" y="6477120"/>
            <a:ext cx="6629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Verdana"/>
              </a:rPr>
              <a:t>(Webb,Warren.“Embedded Technology Transforms the Automobile.” EDN Magazine, 1999.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C11F4-F81B-43EE-B78F-CBE2A0D5D85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Computers in Everyday Task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ociety has also been affected by the availability of personal computers and easy-to-use software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oftware can enable people to accomplish tasks previously reserved for highly trained professionals, e.g.,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ord processing and desktop publishing softwar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video editing softwar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ax preparation softwar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"/>
          <p:cNvSpPr/>
          <p:nvPr/>
        </p:nvSpPr>
        <p:spPr>
          <a:xfrm>
            <a:off x="457200" y="3505320"/>
            <a:ext cx="845820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2590920" y="3276720"/>
            <a:ext cx="4419360" cy="3357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D44C4-9C9E-40DF-9509-831B87DD463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Internet/Web for Information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any users utilize the Internet/Web as an information sourc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online resources are quickly replacing (or complementing) traditional sources of informa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eb sites can be updated 24 hours a day allowing publishers to report stories as soon as they break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ext can be integrated with other types of media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immediacy of online delivery system is especially appealin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 order to compete, many newspapers and magazines have expanded their offerings to include online version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.g.,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www.nytimes.com, www.washingtonpost.com, www.tim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"/>
          <p:cNvSpPr/>
          <p:nvPr/>
        </p:nvSpPr>
        <p:spPr>
          <a:xfrm>
            <a:off x="457200" y="3505320"/>
            <a:ext cx="845820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D2DCA-3012-41C3-BAB4-CCFCED9DE9E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Internet/Web for Information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aditional media have approached the Internet in a variety of way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ome provide limited services online for fre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.g.,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nn.com, weather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thers provide full services with a fe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.g., Encyclopedia Britannica sells access over the Web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dependent media organizations have utilized the Web to present stories and opinions that might not otherwise reach a mainstream audienc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685800" y="3429000"/>
            <a:ext cx="3662280" cy="30956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4648320" y="3429000"/>
            <a:ext cx="3662280" cy="309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60FCE-68BF-4D71-BC28-0163CE58172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Internet/Web for Information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majority of Web pages are unique resources created by individuals and private organization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you can find Web content on virtually any topic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o help navigate the vast sea of information,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search engines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automatically catalog Web pages and allow users to search for data by topic or keyword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"/>
          <p:cNvSpPr/>
          <p:nvPr/>
        </p:nvSpPr>
        <p:spPr>
          <a:xfrm>
            <a:off x="457200" y="3505320"/>
            <a:ext cx="845820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905120" y="2825640"/>
            <a:ext cx="5715000" cy="3800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67994-E364-4174-9705-81CEF719D41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5438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Internet/Web for Communication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any users were originally drawn to the Internet by the availability of electronic mail and newsgroup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 2006, 91% of all Internet users communicated via emai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171 billion email messages were sent and received each da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70% of those emails were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spa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"/>
          <p:cNvSpPr/>
          <p:nvPr/>
        </p:nvSpPr>
        <p:spPr>
          <a:xfrm>
            <a:off x="457200" y="3505320"/>
            <a:ext cx="845820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3124080"/>
            <a:ext cx="373392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ternet Service Providers (ISPs) manage email accounts with other ser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.g., AOL, msn, Microsoft Hotmail, Yahoo! Ma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rograms such as Microsoft Outlook provide an intuitive user interface for sending and receiving email mess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4114800" y="2773440"/>
            <a:ext cx="4648320" cy="3249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951E2-4F55-4250-A6C6-2E42DE2A142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davir2</cp:lastModifiedBy>
  <dcterms:modified xsi:type="dcterms:W3CDTF">2007-09-12T22:10:51Z</dcterms:modified>
  <cp:revision>3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