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9D4-B4F3-450E-BB12-4AE5B071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836-865D-4995-9EC9-17BB7EF1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404-B4ED-4C72-88CF-0063DF8B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61B-1383-4A33-8600-62C2DBC0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933D-5870-4119-AF64-FC54F84D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A90-8DDF-4498-8A2F-7FB3A99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B130-87FE-4709-9A6C-E7636FED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E176-7226-4809-9D7A-1AE282D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1F5E-2567-467E-B8A1-1749EA1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0A5B-7491-4627-AEC0-88A2C4AE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C731-3409-4B54-8D95-9B2C170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7F1F-4DE4-4085-8B38-B69BECC9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309B-5C61-4B74-8B1C-9939AF03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10CC-BBD9-4450-8C01-ADB940C7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02E9-9A2F-48EF-ABD6-06EBCC0D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B92-5FC1-41BF-8838-5D2CFAD7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59D2-3BD3-485E-991F-469D30CD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E22-2EDB-4180-B9AA-43D8F920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45F-1278-47BC-B34F-02365F65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B25-DFE9-48F7-9E23-B0FC05D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06E-404D-414F-81A2-F0CFACC3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B9A-3C98-4974-8410-D8CBBF75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A2B-89EE-4EE6-B07C-8ACAB99E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E97-EF6D-4478-97F1-1506EDA6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C8D-34BD-4464-AA78-78F544C3E8C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60D6-18D2-46EE-9A0C-4F97197EC17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44193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ide the Computer - th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Neuman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E1C4-E411-4997-A584-4E89060E70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in Memory Data Transf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a program is executed, the control unit processes the program instructions and identifies which data values are needed to carry out the specified task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320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quired values are then fetched from main memory along the main memory bus, loaded into registers, and used in ALU ope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6483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data must be copied from main memory into registers BEFORE it can be operated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practice, the data transfer takes much longer than a single datapath cycle (due mainly to the distance that must be cover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dern CPUs compensate by fetching multiple instructions at once – ideally, the CPU will predict which instructions will be needed next and prefetch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209760" cy="17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202-B720-4486-AB34-B763C20748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 Transf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suppose you had a file containing 1,000 numbers and wanted to compute the sum of those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rst, need to load the data from the file into main memory — for example, at memory locations 500 through 149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the control unit would carry out the following steps to add the numbers and store the resulting sum back in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7924680" cy="15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90C-1A8A-414E-AA88-FEA9EDCF2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w/ Memory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datapath simulator to integrate main memor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displayed as a series of boxes, labeled with addresses 0-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ain Memory Bus is added to transfer data to and from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ses have switches that open and close when the user clicks on th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743200"/>
            <a:ext cx="297180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selecting the radio button labeled R/W in the Main Memory partition, the user can select a memory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address 0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Main Memory Bus and C Bus, they can be opened/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buses are configured to allow data to flow from main memory to the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ther components of the datapath are configured as bef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630520"/>
            <a:ext cx="5229360" cy="38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EA1-A757-46CE-AD48-90C9F1591C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1523880"/>
            <a:ext cx="2514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suppose we wanted to add the contents of address 0 and address 1, and store the result in addres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copy the data from address 0 into a register, say 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the A Bus, B Bus, and ALU settings are irrelevant since the C Bus is dis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3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E7F-C885-42DD-B1DD-74E32EF2A3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similarly copy the data from address 1 into a register, say 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when the simulator executes, there is a noticeable (and intentional) delay as data moves on the Main Memory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43820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E35-982A-4B3D-B6E2-39878B59A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emory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1752480"/>
            <a:ext cx="2438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contents of R0 and R1 are added and the result is sent directly to addr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some CPUs, this would require 2 steps: send the result to a register, then copy the register to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495440"/>
            <a:ext cx="60199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519-ABEC-4643-BF00-5A0F8046A7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tored-Program Compute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ast component of the CPU is a fully functioning, automatic control un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all that in the simulations, tasks were defined by selecting registers and ALU operations via knobs, switches, and bu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ea behind a stored-program computer is that tasks can be represented as instructions stored in main memory along with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ntrol unit must fetch, decode, and execute those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each type of CPU has its own machine language for representing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define an instruction for our simulator by specifying the knob and switch settings for the data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real world CPUs contain an extremely large number of physical components, a more compact representation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represented as binary strings, where the bits correspond to hardware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411480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1F1-B0F8-4D10-B390-E7D3218B1B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Machine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st two instructions – select ALU operation and registers to operate 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xt 3 instructions – control flow of data between main memory and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st instruction – mark the end of instruction sequ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9612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307-3C73-4125-B85D-05EF40E881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trol Uni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ntrol unit fetches each machine language instruction from memory, interprets its meaning, carries out the specified CPU cycle, and then moves on to the next i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instructions and data are both stored in memory, the control unit must recognize where a sequence of instructions begins and e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our simulator, we will assume that programs start at address 0 and end with a HALT instr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real computers, the operating system must keep track of program lo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7391160" cy="21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115-8C8A-40AB-BD14-722C7831C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chine language program for adding two numbers 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 execu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 counter is initialized: PC = 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at memory location 0 is fetched, PC is incremented to 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5 into 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is fetched at location 1, PC is incremented to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ad contents of memory location 6 into R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memory location 2 is fetched, PC is incremented to 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dd contents of R0 and R1, store result in R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3 is fetched, PC is incremented to 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py contents of R2 into memory location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xt instruction at location 4 is fetched, PC is incremented to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519120" indent="-304920">
              <a:spcBef>
                <a:spcPts val="3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struction is decoded and CPU cycle is executed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alt instruction </a:t>
            </a:r>
            <a:r>
              <a:rPr b="0" i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program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487656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224-E9AE-4375-B374-CB6E1DC88D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 and Datapat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ntral Processing Unit (CP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acts as the brain of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obtains data and instructions from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carries out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stores results back to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57800" y="1604880"/>
            <a:ext cx="2168640" cy="106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1911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rogram instructions that are executed by the CPU are in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machine langua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that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s can write programs in a high-level language, but those high-level instructions must be translated into machine language before execu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programs that exhibit complex behavior are specified to the CPU as sequences of simple machine-language comm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can execute these instructions at such a high speed that complex programmatic behavior is achie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461-B1F8-4CD9-B5C0-AEEBC1AB16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lete Computer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can extend the simulator to integrate a control unit, conta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Counter (PC) for keeping track of the next stat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 Register (IR): for storing fetched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630520"/>
            <a:ext cx="2971800" cy="30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can enter a sequence of instructions directly into memory, starting at address 0 and ending with a Halt i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data to be acted upon is stored in additional memory 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execute, the program instructions are executed in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533376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2F3-FAE5-45BE-B03E-B5B96A1058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imulato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program consists of 5 instructions, stored in addresses 0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values are stored in addresses 5 &amp;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fore execution, the PC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B8B-1588-4BD0-A5F6-214F13FA21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752480"/>
            <a:ext cx="228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execution begins, the instruction at address 0 is fetched and deco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5 to R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19920" cy="45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DB6-CF14-4547-971B-DEBD019D6E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1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copy data from address 6 to R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095880" cy="45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A4A-548A-4D0E-AEEB-9D1BBB2D9B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2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o add R0 and R1 and store the sum in R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07D-B28A-4A64-87F1-6FB2B5B89C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3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the value in R2 is copied to address 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datapath cycle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601992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29F-FE17-4B06-B905-B83C8AD496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ulator Example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1752480"/>
            <a:ext cx="228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the instruction at address 4 is fetched and deco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PU hardware is configured as specified (here, Hal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C is incr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on ha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9436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326-8213-4604-8854-ACEA97794E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Role of I/O Devic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: input/output devices enable the user to interact with the compu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devices – keyboards, mice, scann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utput devices – display screens, speakers, printers,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able computers (1950s) and personal computers (1970s) were designed to execute one program at a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ed program instructions and data directly into main memory via in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instructed the CPU to fetch program instructions and execute them in sequenti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viewed results by sending the contents of the memory to an output de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495680"/>
            <a:ext cx="8305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allow for multitasking (multiple programs can be active simultaneous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nd data associated with each program must be loaded into separate portions of main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control switches from one program to another, the CPU must save the state of the current program and locate the portion of memory for the new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partitioning and control switches are managed by the opera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932-E8FA-4F71-ACFE-52C189F63C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vs. Assembly Langu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n machine languages is difficult and tedi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code is nearly impossible to understand and debu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embly languages were developed in the early 1950s to simplify programm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embly languages allow for words to substitute for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so, allow for variable names instead of numerical addres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5086080" cy="34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09A-5691-43E8-AEE9-7F132072A6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ssembly Langu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stored-program computer simulator allows the user to enter instructions in assembly languag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even toggle the view from assembly language to machine language using the "View As:" pull-down menu to the left of each memory lo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7520" cy="39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686-0AB4-4F9A-8CDD-A145FF6869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Subuni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is comprised of several subunits, each playing a specific role in processor functio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rithmetic Logic Unit (AL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that performs the actual operations on data (addition, subtraction, bit manipul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memory locations built into the CPU (to provide fast acces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ransfer of data between registers and main memory occurs across a collection of wires called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ntrol Unit (CU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circuitry in charge of fetching data and instructions from main memory, as well as controlling the flow of data between registers and the AL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35304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16B-A963-4A55-9046-618C336E4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Datapath Cyc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h that data follows within the CPU, traveling along buses from registers to the ALU and then back to registers,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PU datap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ingle rotation around the CPU datapath is referred to a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PU datapath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81280"/>
            <a:ext cx="82296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earlier that we defined CPU speed as measuring the number of instructions that a CPU can carry out per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speed = the number of CPU cycles per seco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2.5GHz CPU can perform 2.5 billion cycles per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s cannot be compared solely on the basis of their sp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nce CPUs have different instruction sets, one CPU may be able to complete more complex tasks in a single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, a slower CPU with a richer instruction set may complete some tasks f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5400" y="1295280"/>
            <a:ext cx="23050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757-6195-4EA4-B784-EE0C0793F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ompanying the text is a datapath simulator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.k.a.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nob &amp; Switch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ed by Grant Braught at Dickinson Colle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the user to enter data directly into the register boxes and configure the CPU hardware by clicking on knobs and switch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2873520"/>
            <a:ext cx="43434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s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s will be ac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s R0 and R1 are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LU Oper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operation will be performed on the specified regist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the addition operation (A+B)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on the knob labe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 Bus Addr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the user can select which register the result will be written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, register R2 is se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34066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9BA-9778-4A3F-8747-7FD238EF24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user clicks on the Execute button, a CPU datapath cycle is executed with the given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1st step, data values are retrieved from the specified registers (R0 and R1) and passed along the A and B buses, resp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C8A-8F00-4A10-A870-473059AE0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2nd step, the data values from the A and B buses are operated on by the ALU, with the result passed along the C b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5DE-55E1-4537-975B-B791FB11A4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atapath Simulator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562720" y="144792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can be observed as it moves around the datapa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3rd step, the data on the C bus is written to the specified register (R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end result of the datapath cycle is that the contents of two registers are added and the result is stored in a differ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4905360" cy="54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525-DF4E-4A01-A2A0-0775E28B0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PU and Main Mem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PU datapath describes the way in which a computer manipulates data stored in regis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it does not explain how data gets into registers in the first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, how the results of ALU operations are accessed outside the CP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th of these tasks involve connections between the CPU and main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active programs and data are stored in the main memory of a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in memory is comprised of a large number of memory locations, with each location accessible via an 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s connects main memory to the CPU, enabling the computer to copy data and instructions to registers, and then copy the results of computations back to main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81320" y="4267080"/>
            <a:ext cx="428616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B3E-2478-4C72-82F5-C52D0AEAA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