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60AE-EBE4-4494-BBC8-E294932F3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FFCB-A720-4FE1-8BC5-A05889F453A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C89-7E56-485D-9371-9CFAF8F0433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46D-8880-48B7-93FE-499F6999C0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562-4B8E-4F4C-9B41-589B959EDC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E90-5C5B-4F5F-8FCC-FCDA364BA1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434-A4D3-43DF-9138-16A1AAFD3EF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806-9E2B-471C-862A-8C45838AD7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C28-7994-4AC5-977D-CD4A7F48EDA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A43-2235-45CB-AB92-85F1CB14302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4A5-4A37-443D-8C22-186959C3E0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C350D-FE54-49EC-94FA-B7204211B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C2C5-0150-442B-8DBC-6829CDFE020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E44D5-9582-4936-8771-9687A90C65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BFE92-8426-4C91-B338-6033830D4A9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94C9A-B913-4704-BAAD-2AEA1A2A07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6ED62-C22C-4C3D-8F0F-37241D6FDE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D13BD-0493-4ACD-8784-131E29D217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0079-F0A0-4918-9B48-E01BF0DAAAB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91554-62E2-45C0-8FB7-9CBC6C44F07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23A86-F718-42F1-90AF-CA43BA6FF8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8D9EF-1E37-488D-AEAA-BDC1A362964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8FB7A-479B-40DA-AFBB-532E9FE9B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773F-76C7-4657-A109-E7E57D63088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A4F3A-153C-4721-BE46-129C0BC6E8F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B254C-39E6-4324-A80C-6D6ED5C983B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DA12A-0AE0-4CA3-8135-08B5600586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24B48-DA55-4CF1-9453-3856AFA0E1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863F-3950-4153-B1EF-74E7E15D80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9585B-8A34-44A5-9FC1-9952679C49F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78DA7-098E-46FF-A048-ABB32FC814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20DF-188D-4E6E-8171-54EE8238C75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EB2BF-9DD8-4191-A886-DA0FFAEFDC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316AF-D6E3-4BF3-AEC3-02EC5A2FB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0E4F-E6DB-413F-B929-86D7C56B13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734CB-60D8-4CA2-AC47-487345424C3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1FB71-49F7-4FD7-A943-66A2CC1FFA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51BC5-9642-4064-8CB7-BA18AB56BF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FFBC-A7F5-4B5A-80DD-EC970223E25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9276-203B-4E07-8950-DB08E7A9FA9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4DBF-DFD8-4323-B108-7C12752436A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E270-F88E-40D5-B9EA-76502DD3603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C3C1-EA41-40A8-9950-D6DDDDDEA9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D1C6-3047-4A41-ABBA-115E5E8DF3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63F6-DCE9-4610-A382-458BFEE44E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F41F-7567-4155-A582-ADFCBDD4F82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8899-3DCD-442F-BA9F-3AA435D53FF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B58-828A-441C-AA91-46EDE4B2D86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CF7C-3D25-4824-AA85-24CAC44530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0827-C3D3-42DE-81BC-33955640583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0B14-566C-49B4-917A-7E954117BC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B53D-C827-404F-A0CA-A5FDA992F3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BA4B-9CA2-423B-A5F6-188CE2E84B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B1BB-95B6-4DDA-B159-DE3A5B788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F6A2-92C8-4596-A05F-F3F1A93433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42C7-EAD5-4286-9F60-A70C9DAB9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245C-DFBE-4423-BFBD-6EFE27770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83C3-08EC-42AC-88A7-FF228EE76A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1CC8-AB14-43A9-B4E3-059ADA6A6E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E1CF-A52B-4594-9EE5-AD11E99C29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A2F4-0648-4B96-8F05-0D59999114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2F7C-629F-4004-B39B-3D792155A7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CC9C-F234-4B99-B587-270F4E92DC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A7BB-29B0-4EAB-BB6C-270095E345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56CA-83E5-4421-A74E-699E7D0A95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6E10-A4C5-4051-8E21-A05C42195B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9C80-829B-4E4A-B105-D17A68F45D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BB8D-A023-4614-9DAD-6EDABBA787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0494-B81C-4E3F-B019-E445CAA93C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227-A674-4681-B102-01DA532D4F9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C92-512C-4E69-8EF1-638290985FC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7CC-0AB8-456B-8E3A-6316FCEFA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DBC5-74C5-44E8-8547-25E22E9532C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4713-D9EC-4D11-A03A-010626010A4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BEBD-F27B-4A62-8FA6-4F14F56C9D5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41D-3FEF-4127-9E45-C92B0121956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5A57-3B83-42D3-8145-D38187F4EDD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9E8F-0D82-435C-8B86-004FBA7A65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092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5040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5040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d50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2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itle 1"/>
          <p:cNvSpPr/>
          <p:nvPr/>
        </p:nvSpPr>
        <p:spPr>
          <a:xfrm>
            <a:off x="457200" y="2819520"/>
            <a:ext cx="5099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5439"/>
                </a:solidFill>
                <a:latin typeface="AYM Wadiy S_U normal."/>
                <a:cs typeface="Times New Roman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Times New Roman"/>
              </a:rPr>
              <a:t>برامج الحاسب المكت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د</a:t>
            </a:r>
            <a:r>
              <a:rPr b="1" lang="en-US" sz="2600" spc="-1" strike="noStrike">
                <a:solidFill>
                  <a:srgbClr val="45472b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7f7f7f"/>
                </a:solidFill>
                <a:latin typeface="Calibri"/>
                <a:ea typeface="Times New Roman"/>
              </a:rPr>
              <a:t> .</a:t>
            </a: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مصلح العضايل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E2B9-EB1D-4D7E-88B9-BCE2B2BCB91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Title 1"/>
          <p:cNvGrpSpPr/>
          <p:nvPr/>
        </p:nvGrpSpPr>
        <p:grpSpPr>
          <a:xfrm>
            <a:off x="407880" y="189000"/>
            <a:ext cx="9272520" cy="1395360"/>
            <a:chOff x="407880" y="189000"/>
            <a:chExt cx="9272520" cy="1395360"/>
          </a:xfrm>
        </p:grpSpPr>
        <p:pic>
          <p:nvPicPr>
            <p:cNvPr id="63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2725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Excel 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الجداول الالكترون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0F48-4DA1-41A8-A27F-9A9E6F0BA46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Title 1"/>
          <p:cNvGrpSpPr/>
          <p:nvPr/>
        </p:nvGrpSpPr>
        <p:grpSpPr>
          <a:xfrm>
            <a:off x="407880" y="189000"/>
            <a:ext cx="9333000" cy="1395360"/>
            <a:chOff x="407880" y="189000"/>
            <a:chExt cx="9333000" cy="1395360"/>
          </a:xfrm>
        </p:grpSpPr>
        <p:pic>
          <p:nvPicPr>
            <p:cNvPr id="64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330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0000"/>
                  </a:solidFill>
                  <a:latin typeface="Calibri"/>
                </a:rPr>
                <a:t>المراجع والمصادر التعليم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78DD-145C-4DEA-BDB9-441E6459CA5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1143000" y="16002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جع الرئيس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عبدالله بن عبدالعزيز الموسى : ( مقدمة في الحاسوب والانترنت) ، مؤسسة شبكة البيانات، الرياض،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طبعة السادسة ،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3581280" y="31240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متوفر ف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مكتبة جرير – جميع الفر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مكتبة العبيكان – جميع الفر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cover-abd allah almosa.jpg"/>
          <p:cNvPicPr/>
          <p:nvPr/>
        </p:nvPicPr>
        <p:blipFill>
          <a:blip r:embed="rId2"/>
          <a:stretch/>
        </p:blipFill>
        <p:spPr>
          <a:xfrm>
            <a:off x="1676520" y="2286000"/>
            <a:ext cx="2666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مراجع والمصادر المساعدة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F7C2-5920-4EFD-B516-A73CEDC852B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457200" y="16002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Word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PowerPoint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خطوة خطوة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by Step  Microsoft Office Excel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الدار العربية للعلوم ، الطبعة الاولى 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5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c00000"/>
                  </a:solidFill>
                  <a:latin typeface="Calibri"/>
                </a:rPr>
                <a:t>توزيع الدرجات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91C3-A9D3-4206-B350-47243A5E300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371600" y="2362320"/>
          <a:ext cx="7086600" cy="2225520"/>
        </p:xfrm>
        <a:graphic>
          <a:graphicData uri="http://schemas.openxmlformats.org/drawingml/2006/table">
            <a:tbl>
              <a:tblPr/>
              <a:tblGrid>
                <a:gridCol w="2386080"/>
                <a:gridCol w="470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شا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شاركة في منتديات الحوار على البلاك بور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ضور المحاضرات المسجلة والمحاضرات المباش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واجبات المنزل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ختبار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موع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4B32-CA32-46E3-9E5A-17C4C9CC904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ae_AlMateen"/>
              </a:rPr>
              <a:t>المحاضرة التمهيد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Title 6"/>
          <p:cNvGrpSpPr/>
          <p:nvPr/>
        </p:nvGrpSpPr>
        <p:grpSpPr>
          <a:xfrm>
            <a:off x="365040" y="158760"/>
            <a:ext cx="9401400" cy="1395360"/>
            <a:chOff x="365040" y="158760"/>
            <a:chExt cx="9401400" cy="1395360"/>
          </a:xfrm>
        </p:grpSpPr>
        <p:pic>
          <p:nvPicPr>
            <p:cNvPr id="600" name="Title 6" descr=""/>
            <p:cNvPicPr/>
            <p:nvPr/>
          </p:nvPicPr>
          <p:blipFill>
            <a:blip r:embed="rId1"/>
            <a:stretch/>
          </p:blipFill>
          <p:spPr>
            <a:xfrm>
              <a:off x="365040" y="15876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95360" y="27468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عناصر المحاضر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 txBox="1"/>
          <p:nvPr/>
        </p:nvSpPr>
        <p:spPr>
          <a:xfrm>
            <a:off x="495000" y="159984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قدم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وصف القر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تمهي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نصائح وارشاد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40C-E7FF-4CB4-8F47-A13A6291DC6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Title 1"/>
          <p:cNvGrpSpPr/>
          <p:nvPr/>
        </p:nvGrpSpPr>
        <p:grpSpPr>
          <a:xfrm>
            <a:off x="365040" y="158760"/>
            <a:ext cx="9401400" cy="1395360"/>
            <a:chOff x="365040" y="158760"/>
            <a:chExt cx="9401400" cy="1395360"/>
          </a:xfrm>
        </p:grpSpPr>
        <p:pic>
          <p:nvPicPr>
            <p:cNvPr id="605" name="Title 1" descr=""/>
            <p:cNvPicPr/>
            <p:nvPr/>
          </p:nvPicPr>
          <p:blipFill>
            <a:blip r:embed="rId1"/>
            <a:stretch/>
          </p:blipFill>
          <p:spPr>
            <a:xfrm>
              <a:off x="365040" y="15876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495360" y="27468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وصف المقرر</a:t>
              </a: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B28B-FF3B-40FD-AD8A-9364139EC0F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609480" y="1752480"/>
            <a:ext cx="853452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همية الحاسوب وبرمجياته في حياتن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للحاسوب دور كبير في محتلف مجالات حياتنا الي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علم كيفية استخدام الحاسوب وبرمجياته ضرورة ملحة في العصر الحالي (عصر المعرفة والمعلوماتي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</a:rPr>
              <a:t>سوف نتعلم في هذا المقرر استخدام برامج الحاسب المكتبية (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OFFICE</a:t>
            </a:r>
            <a:r>
              <a:rPr b="1" lang="ar-SA" sz="3600" spc="-1" strike="noStrike">
                <a:solidFill>
                  <a:srgbClr val="c00000"/>
                </a:solidFill>
                <a:latin typeface="Arial"/>
              </a:rPr>
              <a:t>) وهي من البرامج التي يتعامل معها الكثير منا يومي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1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c00000"/>
                  </a:solidFill>
                  <a:latin typeface="Calibri"/>
                </a:rPr>
                <a:t>اهداف المقر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 txBox="1"/>
          <p:nvPr/>
        </p:nvSpPr>
        <p:spPr>
          <a:xfrm>
            <a:off x="38088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التعامل مع برنامج معالج النصو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Wor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نشاء المستندات وتحريرها وطباعت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التعامل مع برنامج العروض التقديم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PowerPoint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نشاء العروض التقديمية وتحريرها وعرضها باستخدا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how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متلاك الطالب مهارات  التعامل مع برنامج الجداول الالكترو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(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 Excel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خلال اعداد الجداول الالكترونية وتنفيذ بعض العمليات الحسابية عليها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09E-1191-43B9-8C34-0EB8879EAB3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1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لماذا ؟؟</a:t>
              </a: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 txBox="1"/>
          <p:nvPr/>
        </p:nvSpPr>
        <p:spPr>
          <a:xfrm>
            <a:off x="380880" y="1676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صبحت برامج المايكروسوفت اوفيس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 من اهم البرامج التي يتعامل معها المستخدمين ( المكاتب ، الدوائر الحكومية ، الجامعات) من خلال انشاء المستندات او العروض التقديمية  او الجداول الالكترونية او قواعد البيانات.....الخ ، لذلك فمن الواجب على طلبة الجامعات وغيرهم امتلاك المهارات المعرفية الكافية في كيفية التعامل مع هذه البرامج ليتسنى لهم الاستفادة منها في خدمة اعمال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A839-E57C-42EB-8BB3-67BC9528886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Title 1"/>
          <p:cNvGrpSpPr/>
          <p:nvPr/>
        </p:nvGrpSpPr>
        <p:grpSpPr>
          <a:xfrm>
            <a:off x="407880" y="189000"/>
            <a:ext cx="9394920" cy="1395360"/>
            <a:chOff x="407880" y="189000"/>
            <a:chExt cx="9394920" cy="1395360"/>
          </a:xfrm>
        </p:grpSpPr>
        <p:pic>
          <p:nvPicPr>
            <p:cNvPr id="620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3949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محتوى المقر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 txBox="1"/>
          <p:nvPr/>
        </p:nvSpPr>
        <p:spPr>
          <a:xfrm>
            <a:off x="380880" y="15238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ثالثة: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عالج النصو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سادسة: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عروض التقدي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PowerPoint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وحدة الرابع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: الجداول الالكترو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crosoft Office Ex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10A2-EC70-4453-B45C-062221616FA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Title 1"/>
          <p:cNvGrpSpPr/>
          <p:nvPr/>
        </p:nvGrpSpPr>
        <p:grpSpPr>
          <a:xfrm>
            <a:off x="407880" y="189000"/>
            <a:ext cx="9401400" cy="1395360"/>
            <a:chOff x="407880" y="189000"/>
            <a:chExt cx="9401400" cy="1395360"/>
          </a:xfrm>
        </p:grpSpPr>
        <p:pic>
          <p:nvPicPr>
            <p:cNvPr id="625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189000"/>
              <a:ext cx="94014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f0000"/>
                  </a:solidFill>
                  <a:latin typeface="Calibri"/>
                </a:rPr>
                <a:t>معالج النصوص </a:t>
              </a: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Word</a:t>
              </a:r>
              <a:r>
                <a:rPr b="0" lang="ar-SA" sz="4400" spc="-1" strike="noStrike">
                  <a:solidFill>
                    <a:srgbClr val="4d5040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DD4-86D9-4871-A6D6-496E48889AB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8381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Title 1"/>
          <p:cNvGrpSpPr/>
          <p:nvPr/>
        </p:nvGrpSpPr>
        <p:grpSpPr>
          <a:xfrm>
            <a:off x="165240" y="189000"/>
            <a:ext cx="9515160" cy="1395360"/>
            <a:chOff x="165240" y="189000"/>
            <a:chExt cx="9515160" cy="1395360"/>
          </a:xfrm>
        </p:grpSpPr>
        <p:pic>
          <p:nvPicPr>
            <p:cNvPr id="630" name="Title 1" descr=""/>
            <p:cNvPicPr/>
            <p:nvPr/>
          </p:nvPicPr>
          <p:blipFill>
            <a:blip r:embed="rId1"/>
            <a:stretch/>
          </p:blipFill>
          <p:spPr>
            <a:xfrm>
              <a:off x="165240" y="189000"/>
              <a:ext cx="9515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533520" y="304920"/>
              <a:ext cx="8915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00000"/>
                  </a:solidFill>
                  <a:latin typeface="Calibri"/>
                </a:rPr>
                <a:t>Microsoft Office PowerPoint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العروض التقديمية</a:t>
              </a:r>
              <a:r>
                <a:rPr b="1" lang="ar-SA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1720-CCDE-4302-ABBE-4186CBCE7F8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610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madaileh</cp:lastModifiedBy>
  <dcterms:modified xsi:type="dcterms:W3CDTF">2011-02-15T13:08:48Z</dcterms:modified>
  <cp:revision>100</cp:revision>
  <dc:subject/>
  <dc:title>Slide 1</dc:title>
</cp:coreProperties>
</file>