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BC3-B87E-46C5-A1CA-FB1D870C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9EA-EF92-4764-A01B-AF6D31F3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A8E-5017-4FB6-88A0-8F85C6C7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197-3D03-452B-8FDF-40E66085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B9E-41F5-4EDF-ABCB-2A22DF5E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D8B-2229-4A3C-9CA7-0255E111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2CB-ADAA-42CF-8CD2-18D0D624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002-0099-4D5F-8DA5-A20B4697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732-BD0D-41A3-A1C5-E5BA531B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8A0-6BC9-4890-AD99-964AC6F9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8D6-1B75-43F7-B38F-74C669DC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4F3-7CE9-4FF5-B8F3-94F88DCD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BEF8-E26D-4CB5-B7DB-BD623D8016C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ر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مربع نص 3" descr=""/>
          <p:cNvPicPr/>
          <p:nvPr/>
        </p:nvPicPr>
        <p:blipFill>
          <a:blip r:embed="rId1"/>
          <a:stretch/>
        </p:blipFill>
        <p:spPr>
          <a:xfrm>
            <a:off x="-6480" y="536400"/>
            <a:ext cx="930924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3"/>
          <p:cNvSpPr/>
          <p:nvPr/>
        </p:nvSpPr>
        <p:spPr>
          <a:xfrm>
            <a:off x="0" y="0"/>
            <a:ext cx="91440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b1615"/>
                </a:solidFill>
                <a:latin typeface="Calibri"/>
              </a:rPr>
              <a:t>ضمان المبيع قبل القب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إن تلف 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بي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بكيل ونحوه أو بعضه قبل قبضه (فمن ضمان البائ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وإن تلف البيع المذكور (بآفة سماوية) لا صنع لآدمي فيها (بطل) أي: انفسخ البي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إن أتلفه أي: البيع آدمي (خير المشتري بين الفسخ)وبين (إمضاء ومطالبة متلفه ببدله) أي: بمثله إن كان مثليا أو قيمته إن كان متقوم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عداه أي: عدا ما اشتري بكيل أو وزن أو عد أو ذرع كالعبد والدار ( يجوز تصرف المشترى فيه قبل قبض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إن تلف ما عدا المبيع بكيل و نحوه فمن ضمانه ) أي: ضمان المشترى لقوله صلى الله عليه وسلم: ( الخراج بالضمان ). وهذا المبيع للمشترى فضمانه عليه وهذا ( ما لم يمنعه بائع من قبضه ) فإن منعه حتى تلف ضمنه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35712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بما يحصل القبض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يحصل قبض ما بيع بكيل ) بالكيل ( أو ) بيع بـ ( وزن ) بالوزن ( أو) بيع بـ (ـعد ) بالعد (أو) بيع بـ (ذرع بذلك ) الذرع لحديث عثمان يرفعه ( إذا بعت فكل و إذا ابتعت فاكتل ) رواه الإم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( القبض في صبرة وما ينقل ) كثياب و حيوان ( ينقل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القبض في ( ما يتناول ) كالجواهر والأثمان ( يتناوله ) إذا العرف فيه ذل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غيره) أي: غير ما ذكر كالعقار والثمرة على الشجر قبضه ( بتخليته ) بلا حائل بأن يفتح له باب الدار أو يسلمه مفتاح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4256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"/>
              </a:rPr>
              <a:t>فصل في الإقال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(والإقالة) مستحبة لما روى ابن ماجة عن أبي هريرة مرفوعاً (من أَقال مُسلماً أَقال اللهُ عثرتَهُ يوم القيامة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وهي: ( فسخ ) لأنها عبارة عن الرقع والإزالة ( فتجوز قبل قبض المبيع ) ولا تجوز إلا ( بمثل الثمن ) الأول قدراً ونوعاً لأن العقد إذا ارتفع رجع كل منهما بما كان له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41:16Z</dcterms:created>
  <dc:creator>Vista</dc:creator>
  <dc:description/>
  <dc:language>en-US</dc:language>
  <cp:lastModifiedBy>Vista</cp:lastModifiedBy>
  <dcterms:modified xsi:type="dcterms:W3CDTF">2012-11-18T19:43:40Z</dcterms:modified>
  <cp:revision>1</cp:revision>
  <dc:subject/>
  <dc:title>المحاضرة الرابعة</dc:title>
</cp:coreProperties>
</file>