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748-44F2-4705-B3A4-B85BB53D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7D9-5A40-4487-B399-2DCCE5BE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E8B-F617-4CC7-A15C-BB5493B8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A6E-BE24-4E88-A34F-6A1BFB58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C94-9384-4238-8825-9C523D63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418-881C-469C-A754-7600F974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8F2-A41D-4C6C-B390-42C27DFC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476-B782-4849-9700-6011FB66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EEC-1D19-41EC-B30C-4FA30C27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8CF-8B78-42D0-A785-C0B5F66E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08E-B05B-41FA-8223-36825F2B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4F2-9DCF-434E-9E62-B33BAA2F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D77F-0189-43F6-9B6B-520561FCD7E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رابع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مربع نص 3" descr=""/>
          <p:cNvPicPr/>
          <p:nvPr/>
        </p:nvPicPr>
        <p:blipFill>
          <a:blip r:embed="rId1"/>
          <a:stretch/>
        </p:blipFill>
        <p:spPr>
          <a:xfrm>
            <a:off x="-6480" y="536400"/>
            <a:ext cx="930924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ربع نص 3"/>
          <p:cNvSpPr/>
          <p:nvPr/>
        </p:nvSpPr>
        <p:spPr>
          <a:xfrm>
            <a:off x="0" y="0"/>
            <a:ext cx="91440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b1615"/>
                </a:solidFill>
                <a:latin typeface="Calibri"/>
              </a:rPr>
              <a:t>ضمان المبيع قبل القب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إن تلف 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بي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بكيل ونحوه أو بعضه قبل قبضه (فمن ضمان البائ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وإن تلف البيع المذكور (بآفة سماوية) لا صنع لآدمي فيها (بطل) أي: انفسخ البي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إن أتلفه أي: البيع آدمي (خير المشتري بين الفسخ)وبين (إمضاء ومطالبة متلفه ببدله) أي: بمثله إن كان مثليا أو قيمته إن كان متقوم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ا عداه أي: عدا ما اشتري بكيل أو وزن أو عد أو ذرع كالعبد والدار ( يجوز تصرف المشترى فيه قبل قبض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وإن تلف ما عدا المبيع بكيل و نحوه فمن ضمانه ) أي: ضمان المشترى لقوله صلى الله عليه وسلم: ( الخراج بالضمان ). وهذا المبيع للمشترى فضمانه عليه وهذا ( ما لم يمنعه بائع من قبضه ) فإن منعه حتى تلف ضمنه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35712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Calibri"/>
              </a:rPr>
              <a:t>بما يحصل القبض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ويحصل قبض ما بيع بكيل ) بالكيل ( أو ) بيع بـ ( وزن ) بالوزن ( أو) بيع بـ (ـعد ) بالعد (أو) بيع بـ (ذرع بذلك ) الذرع لحديث عثمان يرفعه ( إذا بعت فكل و إذا ابتعت فاكتل ) رواه الإما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) يحصل ( القبض في صبرة وما ينقل ) كثياب و حيوان ( ينقل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) يحصل القبض في ( ما يتناول ) كالجواهر والأثمان ( يتناوله ) إذا العرف فيه ذل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غيره) أي: غير ما ذكر كالعقار والثمرة على الشجر قبضه ( بتخليته ) بلا حائل بأن يفتح له باب الدار أو يسلمه مفتاح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42560"/>
            <a:ext cx="9144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Calibri"/>
              </a:rPr>
              <a:t>فصل في الإقال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(والإقالة) مستحبة لما روى ابن ماجة عن أبي هريرة مرفوعاً (من أَقال مُسلماً أَقال اللهُ عثرتَهُ يوم القيامة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وهي: ( فسخ ) لأنها عبارة عن الرقع والإزالة ( فتجوز قبل قبض المبيع ) ولا تجوز إلا ( بمثل الثمن ) الأول قدراً ونوعاً لأن العقد إذا ارتفع رجع كل منهما بما كان له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41:16Z</dcterms:created>
  <dc:creator>Vista</dc:creator>
  <dc:description/>
  <dc:language>en-US</dc:language>
  <cp:lastModifiedBy>Vista</cp:lastModifiedBy>
  <dcterms:modified xsi:type="dcterms:W3CDTF">2012-11-18T19:43:40Z</dcterms:modified>
  <cp:revision>1</cp:revision>
  <dc:subject/>
  <dc:title>المحاضرة الرابعة</dc:title>
</cp:coreProperties>
</file>