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71D0-2B5D-4368-808C-2003B663B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79B0-0E78-4D42-A78F-E5D9FF46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560A-D635-43A4-94F4-CB3F8B524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BA69-4617-46B8-BBCF-A2B73D70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0A43-90C2-4619-A7B2-E1064535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B284-2991-4ADB-9DBC-60AB9BAB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BD2D-443B-4F5C-B9E9-3E585B35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E013-81EE-45D4-9071-2608AA3F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8EEB-6EB9-4067-BF9B-A068889B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F412-8AEA-45D3-A36B-8B753BDE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8F45-79DF-4DFE-9D4D-F1F272B1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966F-5B27-4DB2-84E4-C7A8947C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77A3-1B77-429B-8320-959776BBA6E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5977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Calibri"/>
                <a:cs typeface="Arial"/>
              </a:rPr>
              <a:t>المحاضرة السابعة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مربع نص 3"/>
          <p:cNvSpPr/>
          <p:nvPr/>
        </p:nvSpPr>
        <p:spPr>
          <a:xfrm>
            <a:off x="0" y="55440"/>
            <a:ext cx="9144000" cy="84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باب السَّلَ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و شرعا: (عقد على موصوف) ينضبط بالصفة (في الذمة) في عين كهذه الدار (مؤجل) بأجل معلوم (بثمن مقبوض بمجلس العقد) وهو جائز بالإجما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لقوله عليه السلام:(( من أسلف في شيء فليسلف في كيل معلوم ووزن معلوم إلى أجل معلوم)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يصح) السلم (بألفاظ البيع)؛ لأنه بيع حقيقة ، وبلفظ (السلم والسلف) بشروط سبع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(انضباط صفاته) بمكيل وموزون ومذروع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(ذكر الجنس والنوع) أي جنس المسلِّم فيه ونوعه (وكل وصف يختلف ب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أي:بسببه (الثمن) اختلافا (ظاهراً) كلونه وقدره وبلده (وحداثته وقدم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(ذكر قدره) أي: قدر المسلم فيه (بكيل) معهود فيما يكال أو (بوزن) معهود فيما يوزن؛ لحديث : ((من أسلف في شيء فليسلف في كيل معلوم ووزن معلوم إلى أجل معلوم))متفق عليه (أو ذرع يعلم) عند العامة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9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مستطيل 3"/>
          <p:cNvSpPr/>
          <p:nvPr/>
        </p:nvSpPr>
        <p:spPr>
          <a:xfrm>
            <a:off x="0" y="0"/>
            <a:ext cx="9144000" cy="10332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(ذكر أجل معلوم) ويعتبر أن يكون الأجل (له وقع في الثمن) عادة كشه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فلا يصح) السلم إن أسلم (حالا)-لما سبق- (ولا) إن أسلم إلى أجل مجهول كـ(إلى الحصاد والجذاذ) وقدوم الحاج؛ لأنه يختلف فلم يكن معلوم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(أن يوجد) المسلِّم فيه (غالباً في محِلِّه) أي: وقت حلوله، لوجوب تسليمه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فإن كان لا يوجد فيه أو يوجد نادرا كالسلم في الرطب إلى الشتاء(لم يص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يعتبر أيضا وجود المسلم فيه في (مكان الوفاء) غالبا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فإن أسلم إلى محل يوجد فيه غالبا فـ(تعذر) المسلم فيه بأن لم تحمل الثمار تلك السنة (أو) تعذر (بعضه)(فله) أي: لرب السلم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الصبر)إلى أن يوجد فيطالب ب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ب-(أو فسخ) العقد في (الكل) إن تعذر الكل أو في (البعض) المتعذر (ويأخذ الثمن الموجود أو عوضه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(أن يقبض الثمن تاما) لقوله     ((من أسلف في شيء فليسلف....))الحدي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معلوما قدره ووصفه) كالمسلّم فيه, فلا يصح بُصبره لا يعلمان قدرها, ولا بجوهر ونحوه مما لا ينضبط بالصفة ويكون القبض (قبل التفر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صورة 4" descr="429PX-~1.PNG"/>
          <p:cNvPicPr/>
          <p:nvPr/>
        </p:nvPicPr>
        <p:blipFill>
          <a:blip r:embed="rId2"/>
          <a:stretch/>
        </p:blipFill>
        <p:spPr>
          <a:xfrm>
            <a:off x="5214960" y="5572080"/>
            <a:ext cx="43344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1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1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1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1000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1000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مربع نص 3"/>
          <p:cNvSpPr/>
          <p:nvPr/>
        </p:nvSpPr>
        <p:spPr>
          <a:xfrm>
            <a:off x="0" y="1071720"/>
            <a:ext cx="91440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(أن يسلم في الذمة فلا يصح) السَّلَم (في عين) كدار وشجرة لأنها ربما تلفت قبل أوان تسليم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لا يصح بيع المسلَّم فيه) لمن هو عليه أو غيره (قبل قبضه)؛ لنهيه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-عليه السلام-عن (بيع) الطعام قبل قبض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(ولا)تصح أيضا (هبته) لغير من هو عليه؛ لعدم القدرة على تسليمه (ولا الحوالة به)؛ لأنها لا تصح إلا على دين مستقر والسَّلَم عُرضَةً للفسخ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(ولا)الحوالة (عليه)(ولا أخذ عِوَضِه) لقوله -عليه السلام-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(من أسلَمَ فِي شَيءٍ فلا يَصرِفهُ إلى غَيرِهِ)) (ولا يصح أخذ الرهن والكفيل ب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مربع نص 5"/>
          <p:cNvSpPr/>
          <p:nvPr/>
        </p:nvSpPr>
        <p:spPr>
          <a:xfrm>
            <a:off x="0" y="0"/>
            <a:ext cx="9144000" cy="8077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Calibri"/>
              </a:rPr>
              <a:t>باب القر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معناه لغة : القطع , واصطلاحا: دفع مال لمن ينتفع به ويرد بدله, وهو جائز بالإجما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هو مندوب)؛ لقوله -عليه السلام- في حديث ابن مسعود:  ((مَا مِن مُسلِمٍ يُقرٍضُ مُسلِمَاً قَرضاً مَرّتَينٍ إلَّا كَانَ كَصَدَقَةٍ مَرَّةً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و مباح للمقترض، وليس من المسألة المكروهة لفعله -عليه السلام-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ما يصح بيعه) من نقد أو عوض (صح قرضه) مكيلا كان أو موزوناً أو غيرهما؛ لأنه -عليه السلام- استسلف بكرا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إلا (بني آدم) فلا يصح قرضه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يشترط للقرض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معرفة قدر القرض ووصف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أن يكون المقرض ممن يصح تبرع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يملك) القرض (بقبضه) (فلا يلزم رد عينه) للزومه بالقبض (بل يثبت بدله في ذمته) (فإن رده المقترض)أي: رد القرض بعينه (لزم) المقرض (قبول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مربع نص 3"/>
          <p:cNvSpPr/>
          <p:nvPr/>
        </p:nvSpPr>
        <p:spPr>
          <a:xfrm>
            <a:off x="0" y="0"/>
            <a:ext cx="914400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يرد) المقترض(المثل) أي: مثل ما اقترضه (في المثليات) لأن المثل أقرب شبهاً من القيمة (و) يرد (القيمة في غيرها) (فإن أعوز) أي: تعذَّر (المثل فالقيمة إذا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يحرم) اشتراط (كل شرط جر نفعا) كأن يسكنه داره أو يقضيه خيرا منه لأنه عقد إرفاق وقربة، فإذا شرط فيه الزيادة, أخرجه عن موضوع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إن بدأ به) أي: بما نفع كسكنى داره(بلا شرط) ولا مواطأة بعد الوفاء جاز لا قبله (أو أعطاه أجود) بلا شرط (جاز) لأنه     استسلف بكراً فرَدَّ خيراً منه، وقال: ((خَيرُكُم أَحسَنُكُم قَضَاءً)) أو أعطاه (هدية بعد الوفاء، جا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إن تبرع) المقترض (لمقرضه قبل وفاته بشيء لم تجر عادته به) قبل القرض (لم تجز إلا أن ينوي) المقرض (مكافأته على ذلك)(أو احتسابه من دينه) لحديث أنس مرفوعا قال: ((إذا أقرض أحدكم فأُهدي إليه أو حمله على الدابة فلا يركبها ولا يقبله إلا أن يكون جرى بينه وبينه قبل ذلك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صورة 5" descr="429PX-~1.PNG"/>
          <p:cNvPicPr/>
          <p:nvPr/>
        </p:nvPicPr>
        <p:blipFill>
          <a:blip r:embed="rId1"/>
          <a:stretch/>
        </p:blipFill>
        <p:spPr>
          <a:xfrm>
            <a:off x="3857760" y="3429000"/>
            <a:ext cx="43308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1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9:52:14Z</dcterms:created>
  <dc:creator>Vista</dc:creator>
  <dc:description/>
  <dc:language>en-US</dc:language>
  <cp:lastModifiedBy>Vista</cp:lastModifiedBy>
  <dcterms:modified xsi:type="dcterms:W3CDTF">2012-11-19T15:51:08Z</dcterms:modified>
  <cp:revision>3</cp:revision>
  <dc:subject/>
  <dc:title>المحاضرة السابعة</dc:title>
</cp:coreProperties>
</file>