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ACDB-64B0-41C6-8007-EB3A58503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1CE3-46BB-4FDB-9416-2C45B938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01F9-A48F-4597-9AFC-5C24236E6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F2CB-B368-4FC7-892D-C3316EEE5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0DE8-D426-4E59-96E5-77EE89FE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398B-EDA8-4480-90EA-EEF3C242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E04A-E272-4E18-94AB-1F6F60ED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DEC8-27BE-414C-8AB3-8A54C9A8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AD35-CE73-4D60-9BCB-AD341577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4EC0-C41F-48BA-A1D8-26E1B881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A2BD-5458-4A7E-B4C6-14110692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93DD-0A90-46F6-AF35-F97592EE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B395-F1D0-4C13-AD8F-4487E67B18D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5977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Calibri"/>
                <a:cs typeface="Arial"/>
              </a:rPr>
              <a:t>المحاضرة الثالثة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مربع نص 3"/>
          <p:cNvSpPr/>
          <p:nvPr/>
        </p:nvSpPr>
        <p:spPr>
          <a:xfrm>
            <a:off x="0" y="0"/>
            <a:ext cx="9144000" cy="81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c00000"/>
                </a:solidFill>
                <a:latin typeface="Calibri"/>
              </a:rPr>
              <a:t>باب الخيا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خيار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اسم مصدر اختار أي طلب خير الأمرين من الإمضاء والفسخ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و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ثمانية أقسام)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أول: (خيار المجلس)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بكسر اللام موضع الجلوس وهو هنا مكان التبايع (يثبت) خيار المجلس (في البي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لحديث ابن عمر يرفعه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( إذا تبايع الرجلان فكل واحد منهما بالخيار مالم يتفرقا وكانا جميعا أو يُخيِّر أحدهما الآخر فتبايعا على ذلك فقد وجب البيع)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كالبيع (الصلح بمعناه) و (الإجارة) و(الصرف والسلم) لتناول البيع لهما (دون سائر العقود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(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لكل من المتبايعين الخيار مالم يتفرقا عرفا بأبدانهما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إن نفياه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أي: الخيار بأن تبايعا على أن لا خيار بينهما لزم بمجرد العق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أو أسقطاه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أي : الخيار بعد العقد (سقط)، لأن الخيار حق للعاقد فسقط بإسقاطه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وإن أسقطه أحدهما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أي : أحد المتبايعين أو قال لصاحبه : اختر،سقط خياره و (بقي خيار الآخر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10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1000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مربع نص 4"/>
          <p:cNvSpPr/>
          <p:nvPr/>
        </p:nvSpPr>
        <p:spPr>
          <a:xfrm>
            <a:off x="0" y="0"/>
            <a:ext cx="9144000" cy="82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Calibri"/>
              </a:rPr>
              <a:t>القسم الثاني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ن أقسام الخيار خيار الشرط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بـ(ـأن يشترطاه) أ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يشترط المتعاقدان الخيار (في) صلب (العقد) أو بعده في مدة خيار المجلس أو الشرط (مدة معلومة ولو طويلة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لقوله عليه السلام ((المسلمون على شروطهم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ويثبت) خيار الشرط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في البيع والصلح) والقسمة والهبة وبما معنا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الإجارة في الذمة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ويجوز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لمن له الخيار الفسخ ولو مع غيبة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صاحبه (الآخر و) مع (سخط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كالملك) في البيع (مدة الخيارين) أي : خيار الشرط وخيار المجلس (للمشتري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لقوله     :((من باع عبدا وله مال فماله للبائع إلا أن يشترطه المبتاع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و(له) أي للمشتري(نماؤه) أي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:نماء البيع (المنفصل) كالثمرة (وكسبه) في مدة الخيارين ولو فسخاه بع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ويحرم ولا يصح تصرف أحدهما في المبيع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لا في (عوضه المعين فيها) (بغير إذن الآخر) (بغير تجربة المبي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صورة 5" descr="429PX-~1.PNG"/>
          <p:cNvPicPr/>
          <p:nvPr/>
        </p:nvPicPr>
        <p:blipFill>
          <a:blip r:embed="rId1"/>
          <a:stretch/>
        </p:blipFill>
        <p:spPr>
          <a:xfrm>
            <a:off x="7929720" y="4000680"/>
            <a:ext cx="43308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مربع نص 3"/>
          <p:cNvSpPr/>
          <p:nvPr/>
        </p:nvSpPr>
        <p:spPr>
          <a:xfrm>
            <a:off x="0" y="71424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ومن مات منهما) أي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: من البائع أو المشتري بشرط الخيار(بطل خياره) فلا يورث إن لم يكن طالب به قبل موت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قسم الثالث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ن أقسام الخيار : خيار الغبن (إذا غبن في المبيع غبنا يخرج عن العادة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وله ثلاثة صور:إحداها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لقي الركبان لقوله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(لا تلقَّوا الجلب فمن تلقَّاه فاشترى منه فإذا أتى السوق فهو بالخيار)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والثانية 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مشار إليها بقوله (بزيادة الناجش) الذي لا يريد الشرا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والثالثة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ذكرها بقوله (والمسترسل) وهو من جهل القيمة ولا يحسن يماك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فإذا غبن ثبت له الخيار ولا أرش مع إمساك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الغبن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محرم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خياره على التراخ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صورة 4" descr="429PX-~1.PNG"/>
          <p:cNvPicPr/>
          <p:nvPr/>
        </p:nvPicPr>
        <p:blipFill>
          <a:blip r:embed="rId1"/>
          <a:stretch/>
        </p:blipFill>
        <p:spPr>
          <a:xfrm>
            <a:off x="3786120" y="2857680"/>
            <a:ext cx="43344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385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2" dur="385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4" dur="385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6" dur="385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385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385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385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385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مربع نص 3"/>
          <p:cNvSpPr/>
          <p:nvPr/>
        </p:nvSpPr>
        <p:spPr>
          <a:xfrm>
            <a:off x="0" y="0"/>
            <a:ext cx="914400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قسم الرابع: (خيار التدليس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كتسويد شعر الجارية وتجعيد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فإذا تبين له التدليس ثبت له الخيار وكذا تصرية اللبن في ضرع بهيمة الأنعام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لحديث أبي هريرة يرفعه ((لا تصرُّوا الإبل والغنم ، فمن ابتاعها فهو بخير النَّظرين بعد أن يحلبها ، إن شاء أمسك وإن شاء ردَّها وصاعا من تمر)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خيار التدليس على التراخ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قسم الخامس: (خيار العيب)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ما بمعناه، وهو أي: العيب(ما ينقص من قيمة المبيع)عادة فما عده التجار في عرفهم منقصا،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فإذا علم المشتري العيب بعد) العق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أمسكه بأرشه إن ش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الأرش :(قسط ما بين قيمة الصحة والعيب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أو رده وأخذ الثم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وخيار عيب متراخ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لأنه لدفع ضرر متحقق فلم يبطل التأخير (ما لم يوجد دليل الرضى) كتصرف فيه بإجارة أو إعارة أو نحوهما عالماً بعيبه واستعماله لغير تجربة ، (ولا يفتقر )الفسخ للعيب (إلى حكم ولا رضى ولا حضور صاحبه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9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مربع نص 3"/>
          <p:cNvSpPr/>
          <p:nvPr/>
        </p:nvSpPr>
        <p:spPr>
          <a:xfrm>
            <a:off x="0" y="0"/>
            <a:ext cx="9144000" cy="77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قسم السادس: 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(خيار البيع بتخبير الثمن متى بان)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ثمن (أقل أو أكثر) مما أخبره ب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يثبت في أنواعه الأربع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 (التولية)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ي: بيع برأس الما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 (الشركة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ي: بيع بعضه بقسطه من الثم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 (المرابحة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ي: بيع بثمنه وربح معلو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4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 (المواضعة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ي:بيعه برأس ماله وخسران معلو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لابد في جميعها) أي: الصور الأربع من معرفة المشتري والبائع (رأس الما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لأن ذلك شرط لصحة البيع فإن فات لم يص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قسم السابع:( خيار يثبت لاختلاف المتبايعين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في الجملة (فإذا اختلفا في قدر الثمن تحالفا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فيحلف بائع أولا ما بعته بكذا وإنما بعته بكذا ثم يحلف المشتري ما اشتريته بكذا وإنما اشتريته بكذا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الكل من المتبايعين بعد التحالف (الفسخ إذا لم يرض أحدهما بقول الآخر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إن اختلفا في عين المبيع تحالفا وبطل أي : فسخ البي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مربع نص 4"/>
          <p:cNvSpPr/>
          <p:nvPr/>
        </p:nvSpPr>
        <p:spPr>
          <a:xfrm>
            <a:off x="0" y="5904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قسم الثامن:(ويثبت الخيار للخلف في الصفة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إذا باعه شيئا موصوف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لتغير ما تقدمت رؤيته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8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8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8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9:36:30Z</dcterms:created>
  <dc:creator>Vista</dc:creator>
  <dc:description/>
  <dc:language>en-US</dc:language>
  <cp:lastModifiedBy>Vista</cp:lastModifiedBy>
  <dcterms:modified xsi:type="dcterms:W3CDTF">2012-11-19T16:01:39Z</dcterms:modified>
  <cp:revision>3</cp:revision>
  <dc:subject/>
  <dc:title>المحاضرة الثالثة</dc:title>
</cp:coreProperties>
</file>