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A139-182B-4B23-8D2F-DF8AD25653C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720E-914E-4612-80C7-00B080A0FE2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74E8-5390-40EE-8B56-3F27E4B77F6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89DD6-1257-403F-BE95-F96625D45B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E3713-5D1E-45BD-9E11-0A908853F00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FDA8-8C72-4840-88E6-C1929CE8393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CB2A-30F6-4829-BEF6-4040A4B0733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82F2-9505-4F56-8D94-291E46C1E2F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2D3D-AAA3-48EC-A33E-4A73C2CDCFB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4EA4-65D9-4841-8978-F7535693ED2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6ECC-1F18-4379-B438-ED9213BCD65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3799-0D5C-4BEE-A278-8106B11A11E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7902-11B8-4072-8E33-BADD13D5608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0602-7A6B-41C8-8B8B-DAF7EDBB85D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EE10E-2640-4E06-B4AE-22F1677062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4FD18-FA83-4842-8B5C-A09AD3DF587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584923-DBE7-40C9-AF89-D800D24F2DE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808CA-188C-47F4-8D79-CD4D43598EC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23DA9-E776-4FFD-93B2-413925DD471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75B0A-3554-453C-862E-281C8D64554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3DACC-9E9A-4BBE-96ED-30C37666125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6E715-8AC9-46B8-B222-F59B3CB8C4C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586F14-68E1-44E7-9353-11BC60BA1D9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A8FE3-B38C-4229-ADED-400288CE6D3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5CC2B-2597-43B5-9592-3D9F234C269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2FAB7-8B86-45CD-AB83-5ADF5E86BA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C3A77-56F2-4849-904A-3A7DDDC5670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FB69D-C75C-4D37-B3CD-26023BC6896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D458F-A160-424D-8A84-34F2D26FE3E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67C5C-E70C-4F50-97FC-7FC2062A12C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5220C-4317-4B98-A894-2DD50FF5F8D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C4887-4F7C-44CC-87CC-F15C9F65D3D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16850-F2F3-4E8C-A723-4E7D40E9F51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62289-FE44-402A-9F93-5D0B25DEA9A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E788A-67E3-4F3B-B1D2-DDA426EDBE4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1AF9C-035D-41D4-9261-1CA4B198D3B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DF7E7-A356-409C-86EB-A488DBD529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901E9-DA91-43E5-BA74-603A16335CD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680DF-1F70-4B73-AA00-A98521A60B6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52D983-A647-49EE-AF10-BD0D82890DD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F4002-1DFA-4E6F-8F38-F10AE5F0215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3E5F-EF1C-448C-8182-1039F3FA221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08B8-F242-4AAD-83F0-4EC896EB11D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7FEA-D3ED-4438-BD5F-DD0109ABAD9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6114-A764-427A-B0FF-AE9A27436B9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61D3-E58C-4D94-8E4F-E379ABFC9A2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2399-0446-40F3-9D4A-E4274E3C835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18DA-D6C0-4B07-8FBE-66F9489D24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E667D-1C5F-45EF-A133-6F153331D3F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99ED-E744-4D02-A739-EE841F9EBE2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46E3-8882-4B3E-85B6-67FB1D87200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F329-5963-49CE-BB9E-DC98FC3A7DF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5F7D-EBD8-466C-A6EA-9C46C8AD724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BEEC-AADE-4897-80E0-88F264E9AF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209E0-AC4B-44A5-8A20-3BB9DE3C1C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1DE60-41CA-45B7-BADB-FD411416F0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1049D-8C5B-4AA5-98CF-FB9EC7C253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3EEE3-3B45-43BE-B4D0-D1982809FD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4F00A-0AE5-4626-B717-A2BE0E6D5A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B4FA2-3692-4C0E-AB31-FEA9661169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2D7F0-3FB5-4DDC-8FCE-C03A231721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EE713-F753-4513-B8D8-308D00936E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66498-A84D-421E-A1D4-6BC748A4CA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00644-4409-46D4-ABB6-86CCF4EC65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AB068-E163-4998-BE32-C1FC39B48FD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8DA0D-3B20-4917-BFAF-1E6C6BD711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0E3E2-D13A-477A-85D9-E9FFE8D2305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C9367-2305-44F7-8919-D371A067F4E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7B77A-A98F-4941-8E0E-A608F6AA43E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7E601-A601-48FA-A3E8-58D16D467EF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581C9-86B0-44D2-905A-88965C89DEA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367F6-E01D-4748-8F38-51B407FD5A0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0F2F-6067-4432-BF40-DE815516B89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B4F5-8839-4D95-BC51-2FF21AF9364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D5F8-D28B-4BFA-A51F-8B5C4E0161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4914720" y="6377040"/>
            <a:ext cx="57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43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5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Num" idx="4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AB0B-0EA0-4440-984A-B43850D9DA3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9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Num" idx="5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ECCA-E743-41AC-932E-6DE3DDB2C79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39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1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sldNum" idx="6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CF42-8B7C-4BEB-89D3-B5D1B280BDD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0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2"/>
          </p:nvPr>
        </p:nvSpPr>
        <p:spPr>
          <a:xfrm>
            <a:off x="492768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741D-8131-491B-B562-C57ED3C16B3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0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e8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52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00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e8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5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99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1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347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8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395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6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Num" idx="3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E4C1-FA9D-4F8F-999A-135251F11A1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492768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D614-86BE-4DA9-BA23-13632EDA786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0" y="7632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ubtitle 2"/>
          <p:cNvSpPr/>
          <p:nvPr/>
        </p:nvSpPr>
        <p:spPr>
          <a:xfrm>
            <a:off x="6019920" y="4648320"/>
            <a:ext cx="354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898989"/>
                </a:solidFill>
                <a:latin typeface="Calibri"/>
              </a:rPr>
              <a:t>نظام التعليم المطور للانتسا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599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0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1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itle 1"/>
          <p:cNvSpPr/>
          <p:nvPr/>
        </p:nvSpPr>
        <p:spPr>
          <a:xfrm>
            <a:off x="457200" y="2895480"/>
            <a:ext cx="5257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700" spc="-1" strike="noStrike">
                <a:solidFill>
                  <a:srgbClr val="527e56"/>
                </a:solidFill>
                <a:latin typeface="AYM Wadiy S_U normal."/>
                <a:cs typeface="Times New Roman"/>
              </a:rPr>
              <a:t>اسم المقرر ورقمه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527e56"/>
                </a:solidFill>
                <a:latin typeface="AYM Wadiy S_U normal."/>
                <a:cs typeface="Times New Roman"/>
              </a:rPr>
              <a:t>مبادئ التربية ترب </a:t>
            </a:r>
            <a:r>
              <a:rPr b="1" lang="ar-SA" sz="3700" spc="-1" strike="noStrike">
                <a:solidFill>
                  <a:srgbClr val="527e56"/>
                </a:solidFill>
                <a:latin typeface="AYM Wadiy S_U normal."/>
                <a:ea typeface="Times New Roman"/>
              </a:rPr>
              <a:t>102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AYM Wadiy S_U normal."/>
                <a:ea typeface="Times New Roman"/>
              </a:rPr>
              <a:t> 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AYM Wadiy S_U normal."/>
                <a:cs typeface="Times New Roman"/>
              </a:rPr>
              <a:t>محاضرة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AYM Wadiy S_U normal."/>
                <a:cs typeface="Times New Roman"/>
              </a:rPr>
              <a:t>مراجعة للمقرر</a:t>
            </a:r>
            <a:br>
              <a:rPr sz="3700"/>
            </a:br>
            <a:r>
              <a:rPr b="1" lang="ar-SA" sz="2200" spc="-1" strike="noStrike">
                <a:solidFill>
                  <a:srgbClr val="7f7f7f"/>
                </a:solidFill>
                <a:latin typeface="Calibri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7967-2A32-4947-888B-1CFFD87D31E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4000" spc="-1" strike="noStrike">
                <a:solidFill>
                  <a:srgbClr val="527e56"/>
                </a:solidFill>
                <a:latin typeface="Calibri"/>
              </a:rPr>
              <a:t>السابعة </a:t>
            </a:r>
            <a:br>
              <a:rPr sz="4000"/>
            </a:br>
            <a:r>
              <a:rPr b="1" lang="ar-SA" sz="36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مفهوم الثقافة</a:t>
            </a:r>
            <a:r>
              <a:rPr b="1" lang="ar-SA" sz="3600" spc="-1" strike="noStrike">
                <a:solidFill>
                  <a:srgbClr val="bdc097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52280" y="1447920"/>
            <a:ext cx="9601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ناك تعريفات مختلفة للثقافة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تايلور :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رف الثقافة بأنها "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هي ذلك 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Times New Roman"/>
                <a:cs typeface="Times New Roman"/>
              </a:rPr>
              <a:t>الكل المركب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لذي يتضمن المعرفة والعقيدة والفن والقانون والأخلاق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.......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ابن خلدون :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وصف الثقافة 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Times New Roman"/>
                <a:cs typeface="Times New Roman"/>
              </a:rPr>
              <a:t>بالعمران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الذي هو من صنع الإنسان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.....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ويعرفها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كلباتريك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بأنها ”كل ما صنعته يد الانسات وعقله من أشياء ومظاهر فى البيئة الاجتماعية ,أي كل ما اخترعه الانسان أو ما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كتشفه وكان له دور فى العملية التعليمية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“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676a55"/>
                </a:solidFill>
                <a:uFillTx/>
                <a:latin typeface="Calibri"/>
                <a:cs typeface="AL-Mohanad Bold"/>
              </a:rPr>
              <a:t>مكونات </a:t>
            </a:r>
            <a:r>
              <a:rPr b="1" lang="ar-SA" sz="2000" spc="-1" strike="noStrike" u="sng">
                <a:solidFill>
                  <a:srgbClr val="676a55"/>
                </a:solidFill>
                <a:uFillTx/>
                <a:latin typeface="Calibri"/>
                <a:cs typeface="AL-Mohanad Bold"/>
              </a:rPr>
              <a:t>الثقافة</a:t>
            </a:r>
            <a:r>
              <a:rPr b="1" lang="ar-SA" sz="20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 </a:t>
            </a:r>
            <a:r>
              <a:rPr b="1" lang="ar-EG" sz="20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أولا: الجوانب غير المادية: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اللغة، وهي أداة الثقافة ووعاؤها. , الفنون والآداب والعلوم وسائر أنواع المعارف التي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ينتجها الإنسان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,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الاتجاهات ,التقاليد, المعايير الاجتماعية, القيم الاجتماعية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..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  <a:cs typeface="AL-Mohanad Bold"/>
              </a:rPr>
              <a:t>ثانياً : الجوانب المادية : </a:t>
            </a:r>
            <a:r>
              <a:rPr b="1" lang="ar-SA" sz="1800" spc="-1" strike="noStrike">
                <a:solidFill>
                  <a:srgbClr val="676a55"/>
                </a:solidFill>
                <a:latin typeface="Arial"/>
                <a:ea typeface="AL-Mohanad Bold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و هي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تتضمن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كل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ما ينتجة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الانسان من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مخترعات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حسية</a:t>
            </a:r>
            <a:r>
              <a:rPr b="1" lang="en-US" sz="2000" spc="-1" strike="noStrike">
                <a:solidFill>
                  <a:srgbClr val="676a55"/>
                </a:solidFill>
                <a:latin typeface="Arial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676a55"/>
                </a:solidFill>
                <a:latin typeface="Arial"/>
                <a:ea typeface="AL-Mohanad Bold"/>
              </a:rPr>
              <a:t> مثل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المساكن والشوارع والأسوا</a:t>
            </a:r>
            <a:r>
              <a:rPr b="1" lang="ar-EG" sz="2400" spc="-1" strike="noStrike">
                <a:solidFill>
                  <a:srgbClr val="676a55"/>
                </a:solidFill>
                <a:latin typeface="Calibri"/>
                <a:cs typeface="AL-Mohanad Bold"/>
              </a:rPr>
              <a:t>ق</a:t>
            </a:r>
            <a:r>
              <a:rPr b="1" lang="en-US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676a55"/>
                </a:solidFill>
                <a:uFillTx/>
                <a:latin typeface="Calibri"/>
                <a:cs typeface="AL-Mohanad Bold"/>
              </a:rPr>
              <a:t>تصنف الثقافة في المجتمع إلى ثلاث أصناف</a:t>
            </a:r>
            <a:r>
              <a:rPr b="1" lang="ar-SA" sz="24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 </a:t>
            </a:r>
            <a:r>
              <a:rPr b="1" lang="ar-SA" sz="24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.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1-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عموميات: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تشمل العناصر التي يشترك فيها الغالبية العظمى من أفراد المجتمع الواحد مثل: الزى واللغة والتحية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2-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خصوصيات: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تشمل الظواهر التي لا يشارك فيها سوى أفراد من فئة متميزة معينة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مثل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ثقافة أهل الحضر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و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الريف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3-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بدائل أو المتغيرات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: تشمل الأشياء التي لا يشارك فيها إلا عدد محدود من الأفراد مثل بعض التقاليع والموض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BA74-6ABE-4EE4-8121-2BC2C0D6743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ar-EG" sz="4000" spc="-1" strike="noStrike">
                <a:solidFill>
                  <a:srgbClr val="c00000"/>
                </a:solidFill>
                <a:latin typeface="Calibri"/>
                <a:cs typeface="AL-Mohanad Bold"/>
              </a:rPr>
              <a:t>مراجعة محاضرة السابعة </a:t>
            </a:r>
            <a:br>
              <a:rPr sz="4000"/>
            </a:br>
            <a:r>
              <a:rPr b="1" lang="ar-EG" sz="4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أسس الاجتماعية للتربية</a:t>
            </a:r>
            <a:br>
              <a:rPr sz="40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8000"/>
          </a:bodyPr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مجتمع</a:t>
            </a:r>
            <a:r>
              <a:rPr b="1" lang="ar-SA" sz="1800" spc="-1" strike="noStrike">
                <a:solidFill>
                  <a:srgbClr val="c00000"/>
                </a:solidFill>
                <a:latin typeface="Times New Roman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هو ”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مجموعة كبيرة من الناس، تعيش معاً في جماعات متماسكة، في إقليم معين، وتجمعهم ثقافة واحدة ومصالح مشتركة، ولديهم إحساس بالانتماء للجماعة.“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 .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و يتكون المجتمع من ثلاثة عناصر رئيسة تتداخل فيما بينها هى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أ ـ البيئة الجغرافية أو الفيزيقية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بما تشمل مساحة من الأرض والتضاريس والجبال والسواحل والصحاري ...وثروات طبيع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ب ـ الأفراد أو السكا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الذين يعيشون على هذه الأرض ، ولهم أنشطة اجتماعية وثقافية ، ولهم مهن ، وبيئات ( ريف / حضر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ج ـ </a:t>
            </a: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التنظيم الاجتماعي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، وتشمل المنظمات الاجتماعية والتربوية  والاقتصادية والإدارية والمهنية والثقافية والمشروعات التي يديرها الأفرا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أنواع التربية فى المجتم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في هذا النوع من التربية تنظم الخبرات التي يتعرض لها الأفراد بقصد تعليمهم وتدريبهم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: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أولا: ال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ترب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شكلية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من خلال احتكاك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الفرد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بغيره من الأفراد داخل المجتمع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ت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تم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عملي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التعلم بطريقة آلية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: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ثالثاً:ال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ترب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لقائية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ويتميز هذا النوع من التربية بالقليل من القصد ليتعلم الفرد شيئاً معيناً لكي يسلك سلوكاً معيناً</a:t>
            </a:r>
            <a:r>
              <a:rPr b="1" lang="en-GB" sz="1800" spc="-1" strike="noStrike">
                <a:solidFill>
                  <a:srgbClr val="c00000"/>
                </a:solidFill>
                <a:latin typeface="Arial"/>
              </a:rPr>
              <a:t>  : </a:t>
            </a: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ثانياً:ال</a:t>
            </a:r>
            <a:r>
              <a:rPr b="1" lang="ar-EG" sz="1800" spc="-1" strike="noStrike">
                <a:solidFill>
                  <a:srgbClr val="c00000"/>
                </a:solidFill>
                <a:latin typeface="Arial"/>
              </a:rPr>
              <a:t>تربية غير شكلية</a:t>
            </a:r>
            <a:r>
              <a:rPr b="1" lang="ar-EG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  </a:t>
            </a: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مراجعة على المحاضرة التاسعة والعاشرة والحادية عشر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  <a:ea typeface="AL-Mohanad Bold"/>
              </a:rPr>
              <a:t> </a:t>
            </a:r>
            <a:br>
              <a:rPr sz="36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1000"/>
          </a:bodyPr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مفهوم الفلسف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العلاقة بين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تربية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وا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لفلسفة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مجالات اهتمام فلسفة التربية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نماذج الفلسفات التربوية: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ـ الفلسفة المثالية وتطبيقاتها التربوية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-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فلسفة 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الإسلامية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 وتطبيقاتها التربو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ـ الفلسفة الواقعية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وتطبيقاتها التربو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فلسفة البرجماتية وتطبيقاتها التربو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فلسفة الطبيعية وتطبيقاتها التربوي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Sun"/>
              </a:rPr>
              <a:t>من أعلام التربية الإسلامية.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بن خلدون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بن تيم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Sun"/>
              </a:rPr>
              <a:t>من أعلام التربية الغربية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SimSu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جون ديوى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جان جاك روس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0" lang="ar-EG" sz="3200" spc="-1" strike="noStrike">
                <a:solidFill>
                  <a:srgbClr val="527e56"/>
                </a:solidFill>
                <a:latin typeface="Calibri"/>
              </a:rPr>
              <a:t>مراجعة على المحاضرة الثانية عشر</a:t>
            </a:r>
            <a:br>
              <a:rPr sz="3200"/>
            </a:br>
            <a:r>
              <a:rPr b="0" lang="en-GB" sz="32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0" lang="ar-EG" sz="3200" spc="-1" strike="noStrike">
                <a:solidFill>
                  <a:srgbClr val="527e56"/>
                </a:solidFill>
                <a:latin typeface="Calibri"/>
              </a:rPr>
              <a:t>  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c00000"/>
                </a:solidFill>
                <a:latin typeface="Calibri"/>
              </a:rPr>
              <a:t>الأسس النفسية للتربية</a:t>
            </a:r>
            <a:endParaRPr b="0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الموضوع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اول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:- نظريات التعلم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ثانى:</a:t>
            </a:r>
            <a:r>
              <a:rPr b="1" lang="ar-OM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تفكير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ثالث:</a:t>
            </a:r>
            <a:r>
              <a:rPr b="1" lang="ar-SA" sz="2400" spc="-1" strike="noStrike">
                <a:solidFill>
                  <a:srgbClr val="b0ccb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الذكاء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رابع:  الذاكر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خامس: الفروق الفردي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سادس:الحاجات والدواف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المحاضرة الثالثة عشر والرابعة عشر</a:t>
            </a:r>
            <a:br>
              <a:rPr sz="36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76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8000"/>
          </a:bodyPr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فهوم التجديد التربوي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قومات التجديد التربوي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بررات التجديدات التربوية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خصائص التجديد التربوى ومراحله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جالات ومعوقات التجديد التربوي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spcBef>
                <a:spcPts val="499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نماذج من التجديدات التربوية فى المملكة العربية السعود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نماذج من التجديدات التربوي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تعلم المتمركز حول المشكلات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جامعة الافتراضية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r>
              <a:rPr b="1" lang="ar-EG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2060"/>
                </a:solidFill>
                <a:latin typeface="Calibri"/>
              </a:rPr>
              <a:t>ا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لذكاءات المتعددة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تسويق التعليم الجامعى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اقتصاد المعرفى.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تعليم الكبا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تفريد التعليم.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مناخ المدرسى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952488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3000"/>
          </a:bodyPr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ي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درس ........  سلوك الإنسان وما يصدر منه من أفعال وحركات وأقوال أثناء تفاعله وتكيفه مع البيئة وأفراد المجتم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علم التاريخ                                           ب-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علم الاجتما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علم النفس                                              د-علم الأحيا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يهدف   .......... إلى القضاء على عناصر الضعف في أحد الكفايات التي يجب أن تتوافر لدى المعلم أو العامل التربوي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لتدريب العلاجي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                    ب-التدريب التجديدي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التدريب التحويلي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د-التدريب التكميل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ما يلى ليس من مقومات مهنة التعليم؟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أ- النشاط  العقلي                                             ب  الإعداد القبلي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 التدريب أثناء الخدمة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د-   تنظيم نقابي يضم أصحاب المهن الأخرى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نوع التفكير الذي يحاول الفرد من خلاله التوصل إلى الأسباب التي تكمن وراء الأشياء ، أو الأدلة التي تثبت وجهة نظر معينة ، هو التفكير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 ـ التفكير الحسي                                                        ب ـ التفكير المنطقي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التفكير الإبداعي                                                      د ـ التفكير الناقد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قال تعالى "لاَ يُكَلِّفُ اللّهُ نَفْسًا إِلاَّ وُسْعَهَا" تدل  هذه الآية الكريمة على أن التربية الإسلامية عملي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: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مثالية                            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  ب- عالمية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مستمرة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د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واقعية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تشير معاجم اللغة العربية إلى أن الأصل اللغوي لكلمة التربية "ربا يربو" يعنى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زيادة و النمو                                                          ب- التنشئة والترعرع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- الإصلاح والرعاية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 - التحسين والتغيي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9601200" cy="4876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2000"/>
          </a:bodyPr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 إ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لى أي مرحلة من المراحل التعليمية التالية يشير هذا الهدف " تكوين الوعي الإيجابي الذي يواجه به الطالب الأفكارَ الهدامة والاتجاهاتِ المضللة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- المرحلة الابتدائية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ب- المرحلة المتوسطة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349"/>
              </a:spcBef>
              <a:buClr>
                <a:srgbClr val="000000"/>
              </a:buClr>
              <a:buFont typeface="Calibri"/>
              <a:buAutoNum type="alpha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رحلة الثانوية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د-  مرحلة التعليم العالي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علم الذي يبحث في التفاعل الاجتماعي داخل المدرسة  ، وبناء الشخصية الاجتماعية للتلميذ ، هو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أ ـ علم الاجتماع                                                             ب ـ علم الإنسان ( الأنثروبولوجيا 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ج ـ علم النفس                                                                د ـ علم الاجتماع التربوي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تربية هي بناء خلق الطفل على ما يليق بالمجتمع الفاضل ". من الأقوال المأثورةلـ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جون ديوي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 ـ جان بول سارت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 أفلاطون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 ـ الطهطاوي</a:t>
            </a:r>
            <a:r>
              <a:rPr b="0" lang="ar-SA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تسويق التعليم الجامعي عملية  ....... تشمل التحليل والتخطيط والتنفيذ والرقابة ، كما أنه عملية اجتماعية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أ- نفسية                                                                    ب-إدارية</a:t>
            </a:r>
            <a:r>
              <a:rPr b="0" lang="ar-EG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ج-إحصائية                                                             د- رياضية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تهدف التربية في  ........ إلى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حشو عقول التلاميذ بالمعلومات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-الفلسف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برجماتية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- الفلسف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ثالية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الفلسفة الطبيعي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د-الفلسفة الواقع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................هى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تي يقوم عليها المنهج التربوي الإلمام بخصائص المتعلم النمائية ، وحاجاته وميوله ، واستعداداته وقدراته ودوافعه إلى التعلم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الأسس الاجتماعية                                                    ب-الأسس النفسية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الأسس الفلسفية                                                         د - الأسس الثقاف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952488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4000"/>
          </a:bodyPr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فيلسوف الذي وصف الثقافة" بالعمران الذي هو من صنع الإنسان"هو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 ـتايلور                                                                        ب ـ ابن خلد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أفلاطون                                                                   د - أرسط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ذهب .............إلي محتويات المنهج ليست مهمة بقدر أهمية الطريقة التي يعالج بها المدرس هذه المحتويات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ابن تيمية                                                             ب- جان جاك روسو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ابن خلدون                                                          د- جون ديو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تربية نظام له مدخلات وعمليات ومخرجات ،  وتمثل ........... الموارد المادية والبشرية وجميع العناصر الضرورية من أجل تحقيق أهداف محددة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  المدخلات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 ـ المخرج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العمليات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 ـ التغذية المرتد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....... عبارة عن قدرة عقلية عامة تدخل في جميع الأنشطة التي يقوم بها الفرد وتمكن الفرد من حل المشكلات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أ ـ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لذكاء                                                                ب ـ الفروق الفرد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الانحراف المعياري                                                د ـ الاتجاه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......... دائما ما تلقي الضوء على الحكمة ، وفهم الإنسان وطبيعته وكيف يتعامل مع العالم المادي والمعنوي المحيط به.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إحصاء                       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     ب-  الفلسفة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سياسة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د -  الأحياء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العناصر الثقافية التي لا يشارك فيها إلا عدد محدود من الأفراد مثل بعض التقاليع والموضات الجديدة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هى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.........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عموميات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ب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خصوصيات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البدائل                                                            د- المتوسط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9524880" cy="49528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1000"/>
          </a:bodyPr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  يشمل .........المعرفة ( تراكم الخبرات الإنسانية ) التي تقدم للتلاميذ بصورة تدريجية منظمة ،  أو غير المنظمة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أ ـ المحتوى الدراسي                                                             ب ـ الهدف التربوي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ج ـ التقويم التربوي                                                                 د ـ المنهج الدراسي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" النتائج النهائية و التغيرات المأمول تحقيقها في سلوك التلاميذ بعد تعرضهم للأنشطة والمناهج التي توفرها المدرسة " هي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المحتوى الدراسي                                                       ب ـ الأهداف التربوية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التقويم التربوي                                                          د ـ المناهج  التربو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فى نظام .............   يتم إعداد المعلم خلال  السنوات الأربع الأول في حقله التخصصي فقط، وفي السنة الخامسة يتجه الخريج لدراسة بعض مقررات الإعداد المهني  وللتدريب الميداني في كليات التربية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اعداد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التتابعي                                                ب- الاعداد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التكامل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الاعداد المؤقت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-الاعداد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ستم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ما يلى ليس من الصفات الانفعالية التي  ينبغي أن يتحلى بها المعلم؟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قدرة على إيصال المعلومات                              ب-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لانضباط في السلو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ب-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رونة والبعد عن التصلب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د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التزام بالأدا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ن المجالات التربوية التالية يدرس الباحثون فيه الكفاءة الداخلية والخارجية للتعليم والتخطيط للتعليم على ضوء حاجات سوق العمل ؟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اقتصاديات التربية                                  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-نظم التربية وإدارتها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مناهج التربية وأساليب التدريس                    د-الجوانب الفلسفية للترب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تتمثل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العلاقة بين الدوافع والحاجات في أن :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 ـ وراء كل حاجة دافع معين                           ب ـ وراء كل دافع حاجة معين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وراء كل حاجة  دافع و اتجاه معين                   د ـ وراء كل حاجة دافع و ميل معين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93726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يعتمد التعليم على الجهد الذي يقوم به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التلميذ                                                                          ب ـ المدرس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مدير المدرسة                                                                د ـ الموجه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ما يل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ى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 ليس من مكونات التجديد التربوي؟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جد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ب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التغيي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الإصلاح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-  الزياد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 تؤكد ........على أن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منهج الجيد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هو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مقدار تدريب الطلبة على حل المشكلات باستخدام الأساليب العلمية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لفلسفة الإسلامية                                                          ب ـ الفلسفة المثالية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الفلسفة الواقعية                                                         د ـ الفلسفة البرجماتية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527e56"/>
                </a:solidFill>
                <a:latin typeface="Calibri"/>
              </a:rPr>
              <a:t>الفهرس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95360" y="1523520"/>
            <a:ext cx="9029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الموضوع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أول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 :مراجعة عل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موضوعات المقرر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وضوع الثاني:</a:t>
            </a:r>
            <a:r>
              <a:rPr b="0" lang="ar-OM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أسئلة للمناقشة والتدريب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D7F2-AB5A-42B9-9B1F-EE0FE0F324D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Group 5" descr=""/>
          <p:cNvPicPr/>
          <p:nvPr/>
        </p:nvPicPr>
        <p:blipFill>
          <a:blip r:embed="rId1"/>
          <a:stretch/>
        </p:blipFill>
        <p:spPr>
          <a:xfrm>
            <a:off x="6370560" y="1884240"/>
            <a:ext cx="2797200" cy="2718000"/>
          </a:xfrm>
          <a:prstGeom prst="rect">
            <a:avLst/>
          </a:prstGeom>
          <a:ln w="0">
            <a:noFill/>
          </a:ln>
        </p:spPr>
      </p:pic>
      <p:sp>
        <p:nvSpPr>
          <p:cNvPr id="666" name="Rectangle 8"/>
          <p:cNvSpPr/>
          <p:nvPr/>
        </p:nvSpPr>
        <p:spPr>
          <a:xfrm>
            <a:off x="3429000" y="335268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6"/>
          <p:cNvSpPr/>
          <p:nvPr/>
        </p:nvSpPr>
        <p:spPr>
          <a:xfrm>
            <a:off x="342900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8" descr="logo EDE.png"/>
          <p:cNvPicPr/>
          <p:nvPr/>
        </p:nvPicPr>
        <p:blipFill>
          <a:blip r:embed="rId2"/>
          <a:stretch/>
        </p:blipFill>
        <p:spPr>
          <a:xfrm>
            <a:off x="914400" y="2133720"/>
            <a:ext cx="2109960" cy="2361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الأولى </a:t>
            </a:r>
            <a:br>
              <a:rPr sz="40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التربية (مفهومها-أهدافها- خصائصها)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84DC-CB21-4A61-A4B0-693DA25C313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105160" y="1523880"/>
            <a:ext cx="4647960" cy="47246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 fontScale="84000"/>
          </a:bodyPr>
          <a:p>
            <a:pPr marL="601200" indent="-383760" algn="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أولاً: مفاهيم  التربية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: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-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تعددت الآراء حول مفهوم التربية و أختلف الناس حولها ومرجع ذلك يكمن في الاختلاف حول موضوع التربية وأيضا فهم الطبيعة الإنسان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جون ديوي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إلى أن " التربية هي الحياة ، وليست إعداد للحياة 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ستورات ميل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:-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فيقول أن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“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التربية هي كل ما يعلمه المرء أو يعلمه لغيره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طهطاوي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" التربية هي بناء خلق الطفل على ما يليق بالمجتمع الفاضل  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لودج :- 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أن التربية لها معنيان، فهي تعامل الإنسان مع البيئة المحيط به ،وهذا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المفهوم واسع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لها ، أما التربية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بمعناها الضيق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فيقصد بها التعليم المدرسي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0" y="1523880"/>
            <a:ext cx="4952880" cy="47246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9966"/>
                </a:solidFill>
                <a:latin typeface="Tahoma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  <p:sp>
        <p:nvSpPr>
          <p:cNvPr id="613" name="Rectangle 7"/>
          <p:cNvSpPr/>
          <p:nvPr/>
        </p:nvSpPr>
        <p:spPr>
          <a:xfrm>
            <a:off x="228600" y="1523880"/>
            <a:ext cx="472428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ثانياً </a:t>
            </a:r>
            <a:r>
              <a:rPr b="1" lang="ar-EG" sz="2800" spc="-1" strike="noStrike" u="sng">
                <a:solidFill>
                  <a:srgbClr val="c00000"/>
                </a:solidFill>
                <a:uFillTx/>
                <a:latin typeface="Calibri"/>
              </a:rPr>
              <a:t>:خصائص عملية التربية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: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إنساني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 التربية عملية تشاركيه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فردية وإ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جتماع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4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التربية تختلف باختلاف الزمان والمكا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5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عملية مستمر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6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تكاملية.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7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نشاط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ثالثاً :ضرورة التربية: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أ) ضرورة التربية للفرد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ن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قل التراث الثقافي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 حاجة الطفل الوليد إلى الرعاية والعناية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 تنمية وتطوير الفرد ليتعايش معها  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تابع مراجعة على المحاضرة الأولى </a:t>
            </a:r>
            <a:br>
              <a:rPr sz="40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التربية (مفهومها-أهدافها- خصائصها)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16A7-12A6-4A2D-A9F0-35EF82C012A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685440" y="1599840"/>
            <a:ext cx="8839080" cy="44197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 fontScale="87000"/>
          </a:bodyPr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ب) ضرورة التربي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Arial"/>
              </a:rPr>
              <a:t>للمجتمع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الاحتفاظ بالتراث الثقاف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تعزيز التراث الثقاف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مكافحة الأم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رابعاً:أهداف </a:t>
            </a:r>
            <a:r>
              <a:rPr b="1" lang="ar-EG" sz="2800" spc="-1" strike="noStrike" u="sng">
                <a:solidFill>
                  <a:srgbClr val="c00000"/>
                </a:solidFill>
                <a:uFillTx/>
                <a:latin typeface="Calibri"/>
              </a:rPr>
              <a:t>التربية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:-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 كسب الرزق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نقل الأنماط السلوكية من جيل إلى أخر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إعداد المواطن الصالح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4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إعداد الفرد دينيا ودنيويا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5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الهدف العلمي للتربي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6-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تكوين فرد ديمقراط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7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الهدف التقدمي المستقبل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88772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527e56"/>
                </a:solidFill>
                <a:latin typeface="Calibri"/>
              </a:rPr>
              <a:t> </a:t>
            </a:r>
            <a:br>
              <a:rPr sz="6000"/>
            </a:b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الثانية</a:t>
            </a:r>
            <a:br>
              <a:rPr sz="32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طبيعة التربية وعلاقتها بالعلوم الأخرى</a:t>
            </a:r>
            <a:br>
              <a:rPr sz="6000"/>
            </a:br>
            <a:r>
              <a:rPr b="1" lang="ar-EG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4BC6-D1A2-43A4-A9D9-B2A52FC7302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181120" y="1523880"/>
            <a:ext cx="4496040" cy="457200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 fontScale="83000"/>
          </a:bodyPr>
          <a:p>
            <a:pPr marL="284400" indent="-28440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أولاً: طبيعة التربية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: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علم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لها مقومات العلم من نظريات وقوانين .ومبادئ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ف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تتطلب التطبيق العلمي للنظريات العلمية بالوسائل التي تحققها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علم وف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يكمل كل منهما الآخر الترب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عملية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تتم من خلال إجراءات وأنشطة تمارس في المؤسسة التربو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-التربية نظام له مدخلات وعمليات ومخرج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Arial"/>
              </a:rPr>
              <a:t> 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مهن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تحتاج إلى تدريب منظم ومستمر وإعداد في مؤسسات علمية متخصص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3"/>
          <p:cNvSpPr/>
          <p:nvPr/>
        </p:nvSpPr>
        <p:spPr>
          <a:xfrm>
            <a:off x="152280" y="1523880"/>
            <a:ext cx="4800600" cy="44960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9966"/>
                </a:solidFill>
                <a:latin typeface="Tahoma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7"/>
          <p:cNvSpPr/>
          <p:nvPr/>
        </p:nvSpPr>
        <p:spPr>
          <a:xfrm>
            <a:off x="228600" y="1523880"/>
            <a:ext cx="4724280" cy="66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ثانياً علاقة التربية بالعلوم الاخرى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  تأثرت التربية في نشأتها وتطورها بمجموعة من العلوم الإنسانية والاجتماعية والطبيعية والرياضية والتكنولوجية أخذت التربية من العلوم الأخرى ( وخاصة العلوم الإنسانية والاجتماعية ) مفاهيم ونظريات ومصطلحات وأفكار ، وقامت بتطويرها والإفادة منها بما يتناسب مع طبيعتها . وفيما يلي عرضا لعلاقة التربية ببعض العلوم الأخرى: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ar-EG" sz="18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التربية والفلسفة .              ـ التربية  والأنثروبولوجيا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   ـ التربية وعلم الاجتماع .         ـ التربية وعلم السياس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ـ التربية وعلم النفس .            ـ التربية وعلم الأحياء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ـ التربية والحاسوب .              ـ التربية وعلم الإحص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-التربية وعلم الاقتصاد .           -التربية وعلم التاريخ </a:t>
            </a:r>
            <a:r>
              <a:rPr b="1" lang="ar-SA" sz="1800" spc="-1" strike="noStrike">
                <a:solidFill>
                  <a:srgbClr val="b0ccb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800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الثالثة</a:t>
            </a:r>
            <a:br>
              <a:rPr sz="40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الأسس الدينية للتربية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6BDD-56C9-4245-92A0-524C9CC8466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5105520" y="1523880"/>
            <a:ext cx="4572000" cy="46483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152280" y="1523880"/>
            <a:ext cx="4800600" cy="44960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  <a:cs typeface="PT Bold Heading"/>
              </a:rPr>
              <a:t>أولاً : أسس التربية الإسلام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  <p:sp>
        <p:nvSpPr>
          <p:cNvPr id="632" name="Rectangle 7"/>
          <p:cNvSpPr/>
          <p:nvPr/>
        </p:nvSpPr>
        <p:spPr>
          <a:xfrm>
            <a:off x="228600" y="1523880"/>
            <a:ext cx="4724280" cy="63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تكاملية شام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مثالية واقع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سلوكية عملي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مستمر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التربية الإسلامية تربية إنسانية عالم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التربية الإسلامية تربية محافظة مجد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  <a:cs typeface="PT Bold Heading"/>
              </a:rPr>
              <a:t>ثانياً:أساليب التربية الإسلامية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Arial"/>
                <a:ea typeface="PT Bold Head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قدوة الصالح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ثواب والعقا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توجيه والنص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حوار والمناقش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ممارسة العم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أسلوب التلقين والحف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9"/>
          <p:cNvSpPr/>
          <p:nvPr/>
        </p:nvSpPr>
        <p:spPr>
          <a:xfrm>
            <a:off x="5257800" y="1600200"/>
            <a:ext cx="4343400" cy="71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تربية في كل مجتمع لها أسسها العقدية المستوحاة من عقيدة المجتمع والتربية في المجتمع المسلم لها أسسها التي تعتمد على عقيدتها الإسلامية  و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أهداف التربية الإسلامية تحقيق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سعادة الإنسان في الدنيا والآخرة و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تنشئة الإنسان الذي يعبد الله ويخشاه وتقوية الروابط بين المسلمين بالإضافة إلى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تربية لضمير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إنسان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هذه الأهداف كلها مستوحاة من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خصائص العامة للإسلا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2"/>
          <p:cNvSpPr/>
          <p:nvPr/>
        </p:nvSpPr>
        <p:spPr>
          <a:xfrm>
            <a:off x="634680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4400" spc="-1" strike="noStrike">
                <a:solidFill>
                  <a:srgbClr val="527e56"/>
                </a:solidFill>
                <a:latin typeface="Calibri"/>
              </a:rPr>
              <a:t>الرابعة</a:t>
            </a:r>
            <a:br>
              <a:rPr sz="4400"/>
            </a:br>
            <a:r>
              <a:rPr b="1" lang="ar-EG" sz="2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0" lang="ar-SA" sz="3600" spc="-1" strike="noStrike">
                <a:solidFill>
                  <a:srgbClr val="376092"/>
                </a:solidFill>
                <a:latin typeface="Calibri"/>
              </a:rPr>
              <a:t>مهنة التعليم</a:t>
            </a:r>
            <a:r>
              <a:rPr b="0" lang="ar-SA" sz="36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ar-SA" sz="3600" spc="-1" strike="noStrike">
                <a:solidFill>
                  <a:srgbClr val="376092"/>
                </a:solidFill>
                <a:latin typeface="Calibri"/>
              </a:rPr>
              <a:t>:-</a:t>
            </a:r>
            <a:endParaRPr b="0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51920" y="1447920"/>
            <a:ext cx="9525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تعلم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تغير شبه دائم في الأداء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نتيجة للخبرة والممارسة والتدريب وليس للنضج فقط ,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أما التعلي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مج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هود يبذل بقصد إكساب المعلومات والمعارف والمهارات للمتعل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، وبهدف حفز المتعلم ، واستثارة قواه العقلية ، ونشاطه الذاتي ، وتهيئة الظروف التي تمكنه من التعلم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تعلم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قد يكون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ذاتيا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يقوم به الفرد بنفسه أما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تعلي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فيشترط وجود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معل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تقوم مهنة التعليم على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مجموعة من المقومات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,نخص منها بالذكر ما يلى: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النشاط العقلي: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التخصص العلمي: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-الإعداد القبلي: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 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التدريب في أثناء الخدمة -عضوية دائمة في المهنة 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تنظيم نقابي له دوره الاجتماعي والمهني: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Arial"/>
              </a:rPr>
              <a:t>مراحل التعليم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ينقسم التعليم في المملكة السعودية إلى قسمين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أول وهو التعليم العام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 , 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ثاني وهو التعليم العال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الركائز الأساسية لعملية التعليم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7880" indent="-4752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أ-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متعلم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. ب-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منهج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.  ج-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ادار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ة  د-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معلم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7880" indent="-4752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E5A2-E0B8-4A23-B7AC-7045AF13617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80092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527e56"/>
                </a:solidFill>
                <a:latin typeface="Calibri"/>
              </a:rPr>
              <a:t>: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الخامسة</a:t>
            </a:r>
            <a:br>
              <a:rPr sz="3600"/>
            </a:br>
            <a:r>
              <a:rPr b="1" lang="ar-SA" sz="3600" spc="-1" strike="noStrike">
                <a:solidFill>
                  <a:srgbClr val="c00000"/>
                </a:solidFill>
                <a:latin typeface="Calibri"/>
              </a:rPr>
              <a:t>نظم إعداد المعلم</a:t>
            </a:r>
            <a:br>
              <a:rPr sz="36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9601200" cy="4724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78000"/>
          </a:bodyPr>
          <a:p>
            <a:pPr marL="267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-نظام الإعداد التتابعى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EG" sz="18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ar-EG" sz="18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نظام الإعداد التكاملي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أسس إعداد المعلم</a:t>
            </a:r>
            <a:r>
              <a:rPr b="1" lang="ar-EG" sz="28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1" lang="ar-EG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 ـ الإعداد الثقافي العام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 ـ الإعداد الأكاديمي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 ـ الإعداد المه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التدريب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1 –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التدريب التكميلي :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وذلك لاستكمال النقص الناتج عن مرحلة إعداد المعلم في مؤسسات إعداد المعلمين , وقد يكون هذا النقص في الجانب الأكاديمي أو في الجانب المسلكي .</a:t>
            </a:r>
            <a:br>
              <a:rPr sz="2000"/>
            </a:b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– التدريب العلاجي :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وذلك لمعالجة ضعف في أحد الكفايات التي يجب أن تتوافر لدى المعلم أو العامل التربوي .</a:t>
            </a:r>
            <a:br>
              <a:rPr sz="2000"/>
            </a:b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– التدريب التجديدي :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وذلك لمسايرة المستجدات العلمية والتربوية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4-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التدريب التحويلى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وذلك لاكتساب مهارات ومعارف وقدرات وسلوكيات تمكن المعلم من الانتقال (التحول)الى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مجال عمل اخر , عمل جديد أو تخصص جدي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just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صفات المعلم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أ ـ من الناحية الجسمية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ب ـ من الناحية العقلية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ج ـ  من الناحية الانفعالية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د ـ من الناحية الاجتماعية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هـ ـ  من الناحية المعرفية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هـ ـ من الناحية الأخلاقية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م ـ من الناحية القيادية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95000" y="228240"/>
            <a:ext cx="8877240" cy="106668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3200" spc="-1" strike="noStrike">
                <a:solidFill>
                  <a:srgbClr val="527e56"/>
                </a:solidFill>
                <a:latin typeface="Calibri"/>
              </a:rPr>
              <a:t>السادسة </a:t>
            </a:r>
            <a:br>
              <a:rPr sz="3200"/>
            </a:br>
            <a:r>
              <a:rPr b="1" lang="ar-EG" sz="3200" spc="-1" strike="noStrike">
                <a:solidFill>
                  <a:srgbClr val="527e56"/>
                </a:solidFill>
                <a:latin typeface="Calibri"/>
              </a:rPr>
              <a:t>أهداف التربية والتعليم فى المملكة</a:t>
            </a:r>
            <a:r>
              <a:rPr b="1" lang="ar-EG" sz="32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9372600" cy="46483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2000"/>
          </a:bodyPr>
          <a:p>
            <a:pPr marL="2811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1-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عام أي الأهداف التربوية العامة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مثال : إعداد الإنسان المؤمن الصالح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2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-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متوسط وهو الاهداف التعليمية:وهي الأهداف التربوية للمراحل الدراسية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 مثال:</a:t>
            </a:r>
            <a:r>
              <a:rPr b="1" lang="ar-OM" sz="2400" spc="-1" strike="noStrike" u="sng">
                <a:solidFill>
                  <a:srgbClr val="c00000"/>
                </a:solidFill>
                <a:uFillTx/>
                <a:latin typeface="Calibri"/>
              </a:rPr>
              <a:t>معرفة الحروف الابجدية في المرحلة الابتدائية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3-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خاص أي الأهداف السلوكية المحددة مثال:أن يعيد ترتيب مجموعات الاعدا</a:t>
            </a:r>
            <a:r>
              <a:rPr b="1" lang="ar-OM" sz="2400" spc="-1" strike="noStrike" u="sng">
                <a:solidFill>
                  <a:srgbClr val="c00000"/>
                </a:solidFill>
                <a:uFillTx/>
                <a:latin typeface="Calibri"/>
              </a:rPr>
              <a:t>د</a:t>
            </a:r>
            <a:r>
              <a:rPr b="1" lang="ar-OM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380880" y="1447920"/>
            <a:ext cx="929664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 u="sng">
                <a:solidFill>
                  <a:srgbClr val="c00000"/>
                </a:solidFill>
                <a:uFillTx/>
                <a:latin typeface="Arial"/>
              </a:rPr>
              <a:t>ا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Arial"/>
              </a:rPr>
              <a:t>لأ</a:t>
            </a:r>
            <a:r>
              <a:rPr b="1" lang="ar-OM" sz="1800" spc="-1" strike="noStrike" u="sng">
                <a:solidFill>
                  <a:srgbClr val="c00000"/>
                </a:solidFill>
                <a:uFillTx/>
                <a:latin typeface="Arial"/>
              </a:rPr>
              <a:t>هداف التربوية: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هو الغاية التي تسعى التربية للوصول اليها مستخدمة في ذلك جميع الوسائل والامكانات المتاحة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والاهداف التربوية في الاساس منبثقة من النظرية الفلسفية الاجتماعية السياسية ومصاغة بشكل اهداف محددة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مستويات الاهداف التربو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1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-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عام أي الأهداف التربوية العام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مثال : إعداد الإنسان المؤمن الصالح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2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-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متوسط وهو الاهداف التعليمية:وهي الأهداف التربوية للمراحل الدراسي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مثال:</a:t>
            </a:r>
            <a:r>
              <a:rPr b="1" lang="ar-OM" sz="2000" spc="-1" strike="noStrike" u="sng">
                <a:solidFill>
                  <a:srgbClr val="c00000"/>
                </a:solidFill>
                <a:uFillTx/>
                <a:latin typeface="Calibri"/>
              </a:rPr>
              <a:t>معرفة الحروف الابجدية في المرحلة الابتدائية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3-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خاص أي الأهداف السلوكية المحددة مثال:أن يعيد ترتيب مجموعات الاعدا</a:t>
            </a:r>
            <a:r>
              <a:rPr b="1" lang="ar-OM" sz="2000" spc="-1" strike="noStrike" u="sng">
                <a:solidFill>
                  <a:srgbClr val="c00000"/>
                </a:solidFill>
                <a:uFillTx/>
                <a:latin typeface="Calibri"/>
              </a:rPr>
              <a:t>د</a:t>
            </a:r>
            <a:r>
              <a:rPr b="1" lang="ar-OM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000000"/>
                </a:solidFill>
                <a:uFillTx/>
                <a:latin typeface="Arial"/>
              </a:rPr>
              <a:t>مجالات الاهداف التربو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أولا : المجال المعرفي(الادراكى)</a:t>
            </a:r>
            <a:r>
              <a:rPr b="1" lang="ar-EG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OM" sz="2000" spc="-1" strike="noStrike">
                <a:solidFill>
                  <a:srgbClr val="000000"/>
                </a:solidFill>
                <a:latin typeface="Arial"/>
              </a:rPr>
              <a:t>يختص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بالأهداف المرتطبة </a:t>
            </a:r>
            <a:r>
              <a:rPr b="1" lang="ar-OM" sz="2000" spc="-1" strike="noStrike">
                <a:solidFill>
                  <a:srgbClr val="000000"/>
                </a:solidFill>
                <a:latin typeface="Arial"/>
              </a:rPr>
              <a:t>بالمعلومات والمفاهيم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وتذكرها وإدراكها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ثانياً : المجال النفسي حركي ( المهاري )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يختص بالأهداف المرتبطة ب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مهارات التي تتطلب تنسيق بين عضلات الجس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ثالثاً : المجال الوجداني ( العاطفي )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يختص ب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أهداف المتعلقة بالاتجاهات والعواطف والقيم التقدير والتعاو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أهداف التربية والتعليم فى المملكة العربية السعودية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(رياض الأطفال - المرحلة الابئدائية -المرحلة المتوسطة-التعليم التعليم العالى)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/>
  <dc:language>en-US</dc:language>
  <cp:lastModifiedBy>User</cp:lastModifiedBy>
  <dcterms:modified xsi:type="dcterms:W3CDTF">2011-04-20T17:04:11Z</dcterms:modified>
  <cp:revision>161</cp:revision>
  <dc:subject/>
  <dc:title>Slide 1</dc:title>
</cp:coreProperties>
</file>