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202-FAAA-4159-8C54-9B153075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1C2-5542-4B0A-B55F-9FD466FE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D2B-107B-4820-B1D8-943D2A81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07F-A2FD-4527-A090-38932267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FAA-9C3D-40B5-BA0C-48430E5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529-915F-4464-A9B5-463CB1A7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823-D795-4666-B08C-4531BE46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E5E-CBE6-4C75-8CC2-8036140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1F1-CC06-4DCE-8497-2C82237C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21E-DEA5-45DD-A8C8-2C68047A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892-AC1B-42E3-9D7D-167BAA66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D7F-2B7E-4934-9BBA-BC5CF28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C26-F6D2-4B4C-96E6-F5B88D008C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963800"/>
                <a:gridCol w="1693800"/>
                <a:gridCol w="1828800"/>
              </a:tblGrid>
              <a:tr h="15627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عوامل التي تقف خلف المشك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952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فرد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افتقار إلى الداف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صراع القي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تباين الأهمية النسبية لدوافع الانجاز والانتما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ظروف البيئية ومنها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افتقار إلى الظروف البيئية التي تراعي الإمكانات العقلية لهؤ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نخفاض واضح في تقدير الذ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فتقار الشعور الايجابي بالمقدرة أو الكفاءة الذاتية الأكاد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مفهوم ذات متد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تجاهات سلبية نحو المدرسة و العمل المدرسي عادات سلبية غير منتجة مع قابلية للتشتت وعدم التركي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صعوبات في العلاقات الاجتماعية وتكوين الصداق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صامتون المنسحبون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لشاكون للمجهو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عدوانيون المشكل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يعرف بأنة الفشل في استخدام الطاقات والقدرات العقلية للفرد في الوصول إلى المستوى التحصيلي أو الأكاديمي الملائم لمستوى ذكائة وقدرات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 ذوو صعوبات التعلم وذوو التفريط التحصيل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500200"/>
                <a:gridCol w="1928880"/>
                <a:gridCol w="2786040"/>
                <a:gridCol w="1928880"/>
              </a:tblGrid>
              <a:tr h="13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7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ميل أو نزعة واضحة وقوية لدى الطفل لتجاهل المتحدث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أو الإعراض عن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حساسية زائدة أو غير عادية للضوضاء 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أو الشكوى المستمرة منها أو الابتعاد عن مصادرها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صعوبة تحديد اتجاه المتحدث عندما ينادى علية أحد الأشخاص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خلل أو تشوي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أو نسيان الاتجاهات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وعي بالصوتي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تميز السمعي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ذاكرة السمع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تتابع السمع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مزج أو الدمج أو التوليف السمعي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يقصد باضطرابات التجهيز السمعي صعوبة تفسير المخ للمعلومات التي ترد إلية عن طريق حاسة السمع وتجهيزها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و معالجتها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ً ذوو اضطرابات التجهيز البصر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و السمعي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71280"/>
          <a:ext cx="9144000" cy="7772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2802960"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عوامل التي تقف خلف المشكل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50680"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فرد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قصور انتباهيته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ندفاعيتهم في .الفعل ورد الفعل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إفراط  في النشاط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ضعف إمداد الخلايا المخية المتعلقة بالتركيز بالجلوكوز الذي يؤمن الطاقة الضرورية للعملي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ضعف في تتابع الانتقال العصبي للمعلومات والمثيرات وردود الأفعال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أنماط غير عادية لموجات النشاط الكهربي للمخ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ختلافات في التركيب البنائي لخلايا المخ .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غلب عليه اضطراب أو صعوبات الانتبا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غلب عليه الإفراط في النشاط مع الاندفاع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جمع بين  قصور الانتباه والإفراط في النشا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ضطراب أو قصور ذو أساس عقلي , يعبر عن نفسه من خلال ضعف الانتباه من حيث سعته ومداه, مصحوباً باندفاعية وزيادة حدة وتواتر الأنشطة غير الهادفة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ً ذوو اضطرابات أو صعوبات الانتباه مع فرط النشاط  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4:45:53Z</dcterms:created>
  <dc:creator>Home User</dc:creator>
  <dc:description/>
  <dc:language>en-US</dc:language>
  <cp:lastModifiedBy>B&amp;M . Q</cp:lastModifiedBy>
  <dcterms:modified xsi:type="dcterms:W3CDTF">2012-12-18T09:46:13Z</dcterms:modified>
  <cp:revision>43</cp:revision>
  <dc:subject/>
  <dc:title>الشريحة 1</dc:title>
</cp:coreProperties>
</file>