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460-C48F-4ABB-A683-0072F18D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50C-6B6A-4358-B202-E656D479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C5D8-4497-4EDA-B371-DCBACFC9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C51-3769-4905-8602-9CF2395D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2D2-F798-473C-A017-0902FEA7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754-4A01-4E36-AE32-BFC10BE0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484-A0C3-4CD0-B6CB-4D97E64C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12A-8A87-4161-A1EC-75861DDE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828-6DA5-4B8F-83C1-0958DB2B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F79-A91C-43F5-9596-7B01D965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A37-62F9-46FA-8D55-280E9BBA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126-A578-43C8-B988-E494E3C8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E83B-4533-4C00-AE2D-9BD729B3945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س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55440"/>
            <a:ext cx="9144000" cy="84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اب السَّلَ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شرعا: (عقد على موصوف) ينضبط بالصفة (في الذمة) في عين كهذه الدار (مؤجل) بأجل معلوم (بثمن مقبوض بمجلس العقد) وهو جائز بالإجما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عليه السلام:(( من أسلف في شيء فليسلف في كيل معلوم ووزن معلوم إلى أجل معلوم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صح) السلم (بألفاظ البيع)؛ لأنه بيع حقيقة ، وبلفظ (السلم والسلف) بشروط سب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انضباط صفاته) بمكيل وموزون ومذرو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الجنس والنوع) أي جنس المسلِّم فيه ونوعه (وكل وصف يختلف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بسببه (الثمن) اختلافا (ظاهراً) كلونه وقدره وبلده (وحداثته وقد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قدره) أي: قدر المسلم فيه (بكيل) معهود فيما يكال أو (بوزن) معهود فيما يوزن؛ لحديث : ((من أسلف في شيء فليسلف في كيل معلوم ووزن معلوم إلى أجل معلوم))متفق عليه (أو ذرع يعلم) عند العام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3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أجل معلوم) ويعتبر أن يكون الأجل (له وقع في الثمن) عادة كشه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لا يصح) السلم إن أسلم (حالا)-لما سبق- (ولا) إن أسلم إلى أجل مجهول كـ(إلى الحصاد والجذاذ) وقدوم الحاج؛ لأنه يختلف فلم يكن معلو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وجد) المسلِّم فيه (غالباً في محِلِّه) أي: وقت حلوله، لوجوب تسليم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ن كان لا يوجد فيه أو يوجد نادرا كالسلم في الرطب إلى الشتاء(لم يص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عتبر أيضا وجود المسلم فيه في (مكان الوفاء) غالبا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إن أسلم إلى محل يوجد فيه غالبا فـ(تعذر) المسلم فيه بأن لم تحمل الثمار تلك السنة (أو) تعذر (بعضه)(فله) أي: لرب ال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صبر)إلى أن يوجد فيطالب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-(أو فسخ) العقد في (الكل) إن تعذر الكل أو في (البعض) المتعذر (ويأخذ الثمن الموجود أو عوض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قبض الثمن تاما) لقوله     ((من أسلف في شيء فليسلف....))الحدي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علوما قدره ووصفه) كالمسلّم فيه, فلا يصح بُصبره لا يعلمان قدرها, ولا بجوهر ونحوه مما لا ينضبط بالصفة ويكون القبض (قبل التفر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4" descr="429PX-~1.PNG"/>
          <p:cNvPicPr/>
          <p:nvPr/>
        </p:nvPicPr>
        <p:blipFill>
          <a:blip r:embed="rId2"/>
          <a:stretch/>
        </p:blipFill>
        <p:spPr>
          <a:xfrm>
            <a:off x="5214960" y="557208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10717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سلم في الذمة فلا يصح) السَّلَم (في عين) كدار وشجرة لأنها ربما تلفت قبل أوان تسلي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 يصح بيع المسلَّم فيه) لمن هو عليه أو غيره (قبل قبضه)؛ لنهي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عليه السلام-عن (بيع) الطعام قبل قبض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تصح أيضا (هبته) لغير من هو عليه؛ لعدم القدرة على تسليمه (ولا الحوالة به)؛ لأنها لا تصح إلا على دين مستقر والسَّلَم عُرضَةً للفس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الحوالة (عليه)(ولا أخذ عِوَضِه) لقوله -عليه السلام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(من أسلَمَ فِي شَيءٍ فلا يَصرِفهُ إلى غَيرِهِ)) (ولا يصح أخذ الرهن والكفيل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5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</a:rPr>
              <a:t>باب الق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عناه لغة : القطع , واصطلاحا: دفع مال لمن ينتفع به ويرد بدله, وهو جائز بالإج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هو مندوب)؛ لقوله -عليه السلام- في حديث ابن مسعود:  ((مَا مِن مُسلِمٍ يُقرٍضُ مُسلِمَاً قَرضاً مَرّتَينٍ إلَّا كَانَ كَصَدَقَةٍ مَرَّةً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مباح للمقترض، وليس من المسألة المكروهة لفعله -عليه السلام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ما يصح بيعه) من نقد أو عوض (صح قرضه) مكيلا كان أو موزوناً أو غيرهما؛ لأنه -عليه السلام- استسلف بكر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لا (بني آدم) فلا يصح قرض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شترط للقر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معرفة قدر القرض ووص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أن يكون المقرض ممن يصح تبر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ملك) القرض (بقبضه) (فلا يلزم رد عينه) للزومه بالقبض (بل يثبت بدله في ذمته) (فإن رده المقترض)أي: رد القرض بعينه (لزم) المقرض (قبول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رد) المقترض(المثل) أي: مثل ما اقترضه (في المثليات) لأن المثل أقرب شبهاً من القيمة (و) يرد (القيمة في غيرها) (فإن أعوز) أي: تعذَّر (المثل فالقيمة إذا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حرم) اشتراط (كل شرط جر نفعا) كأن يسكنه داره أو يقضيه خيرا منه لأنه عقد إرفاق وقربة، فإذا شرط فيه الزيادة, أخرجه عن موضو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بدأ به) أي: بما نفع كسكنى داره(بلا شرط) ولا مواطأة بعد الوفاء جاز لا قبله (أو أعطاه أجود) بلا شرط (جاز) لأنه     استسلف بكراً فرَدَّ خيراً منه، وقال: ((خَيرُكُم أَحسَنُكُم قَضَاءً)) أو أعطاه (هدية بعد الوفاء، جا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تبرع) المقترض (لمقرضه قبل وفاته بشيء لم تجر عادته به) قبل القرض (لم تجز إلا أن ينوي) المقرض (مكافأته على ذلك)(أو احتسابه من دينه) لحديث أنس مرفوعا قال: ((إذا أقرض أحدكم فأُهدي إليه أو حمله على الدابة فلا يركبها ولا يقبله إلا أن يكون جرى بينه وبينه قبل ذل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صورة 5" descr="429PX-~1.PNG"/>
          <p:cNvPicPr/>
          <p:nvPr/>
        </p:nvPicPr>
        <p:blipFill>
          <a:blip r:embed="rId1"/>
          <a:stretch/>
        </p:blipFill>
        <p:spPr>
          <a:xfrm>
            <a:off x="3857760" y="3429000"/>
            <a:ext cx="433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52:14Z</dcterms:created>
  <dc:creator>Vista</dc:creator>
  <dc:description/>
  <dc:language>en-US</dc:language>
  <cp:lastModifiedBy>Vista</cp:lastModifiedBy>
  <dcterms:modified xsi:type="dcterms:W3CDTF">2012-11-19T15:51:08Z</dcterms:modified>
  <cp:revision>3</cp:revision>
  <dc:subject/>
  <dc:title>المحاضرة السابعة</dc:title>
</cp:coreProperties>
</file>