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F46-7730-4A2A-9470-E13E91E6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3B8-29DF-4157-A03F-F4481E86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B48-CFC2-488B-BE1F-26D39A2B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1AE-833B-46FD-A986-DB203010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F05-65F4-41EE-BE07-433222D0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869C-8997-4791-94F9-78935A76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62F-D6A2-4947-90D8-9440B86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9C61-9FF2-4897-9D2E-CB56DA0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6C02-9E1F-452B-B8FF-8D9BD0E6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1A42-2E9F-4C2D-95F6-5E13DE2F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5755-B112-4D09-8D25-D98F834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022-4459-4C40-BCC9-324469CA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E161-5360-4569-AF72-D452D5E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BDB0-9CCD-4707-9F64-CF24A73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024C-9F65-4C89-A5E6-0E6D310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EC99-FD5D-43E9-8AB6-A0097A0E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AF13-127B-4AFB-88AE-BB5B94C2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3C0-270A-4192-A905-BEA235B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66C-DB5A-42B6-81FD-F4CED90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6BE-C38B-4B92-969C-AAE25DDF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BDA-0FFC-45DD-B1B3-1EDA71A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48A-D510-4CAB-9F2B-D17FCDF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755-4A7B-4AE4-9538-62E97A9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690-E234-4E1D-B5E5-42E68267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3EC8-17D1-44DC-96D5-4BD918E579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BE8C-2D5B-4074-94AA-219DA66C00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عرض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310500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6000" y="3537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0" y="45086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0" y="3789360"/>
            <a:ext cx="0" cy="68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5624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376000" y="378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76360" y="3573360"/>
            <a:ext cx="104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عروض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عروضة نتيجة تغير الثمن قد تكون كبيرة أو ضئيلة . فلا بد مقياس لمعرفة مدى التجاوب بين الكميات المعروض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عروض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عروض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عروض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عرض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عروض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نخفضت الكمية المعروض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7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عرض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عروضة مهما 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عرض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عروض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عرض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4508640"/>
            <a:ext cx="28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27280" y="3213000"/>
            <a:ext cx="2449440" cy="6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4365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388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3429000"/>
            <a:ext cx="0" cy="1116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5332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10920" y="3573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411280" y="3392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95640" y="2744640"/>
            <a:ext cx="504720" cy="15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3284640"/>
            <a:ext cx="34920" cy="1258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36082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448000" y="3608280"/>
            <a:ext cx="900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328464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4-02T07:40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