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384-13BF-46FB-B1DA-EED279C1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AB2-4D58-4C88-93CC-8A8AE92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C21-8FB6-4EC2-A389-36BEC912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56F-7194-403B-88C7-5E6E42F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7B52-27BE-4DDA-8231-5BC667E1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B59-6B63-4F8C-A895-3A03AE6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7BC-E7CB-4E17-ACCB-26CC9E4F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1E3A-1C9C-4F5A-88BB-B94D0DC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67A-770F-4993-9929-982CA932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52C1-4551-4EDE-9A3C-EFF00CD3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26F2-FCCB-4900-AAF1-22E4C36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268-4185-468E-9549-C48FA48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063-5811-4EF5-BC43-6FA2A1D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C96-2C23-409D-807A-8D19794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43B4-CED1-400D-AEE4-17ACDC7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28BA-C542-4733-802A-8044488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34E2-0E24-488B-BEB3-8EAA7140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40B-149A-414E-AAFC-F87909E7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8DA-CD94-40F4-B456-A4304DE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F63-B485-4BDC-AAF5-E8852812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DD5-EEDB-4384-B01F-2741D541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D0C-D4FF-4162-9CD1-525E1AE4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D8A-064B-488A-8C5E-4902311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085-6C42-4808-B02F-DC0CBBA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F29-8633-40E8-B4A3-8CAE221C9C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26F-565A-443B-9594-1F4A792266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طلب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95640" y="2852640"/>
            <a:ext cx="792000" cy="16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608280"/>
            <a:ext cx="34920" cy="90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1640" y="3284640"/>
            <a:ext cx="36360" cy="126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410920" y="3573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448000" y="3249360"/>
            <a:ext cx="90000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3068640"/>
            <a:ext cx="1079640" cy="11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860640"/>
            <a:ext cx="34920" cy="6130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3537000"/>
            <a:ext cx="36720" cy="1008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376000" y="3789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376000" y="3573000"/>
            <a:ext cx="86364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مرونة نقطة الوسط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مرونة نقطة الوسط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لكن ماذا لو انعكست الحالة فالكمية الأولى أصبحت الثانية والثانية أصبحت الأولى والثمن انعكس كذلك.  ولذلك لا بد من حساب نقطة الوسط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ـ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نظر المثال في الكت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المثال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31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استخرج مرونة الطلب للسلعة أ إذا كانت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وأن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رونة الطلب التقاطعية مدى استجابة الكمية المطلوبة من السلعة (أ) للتغير في ثمن السلع (ب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التغير النسبي في الكمية المطلوبة للسلعة 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التغير النسبي في ثمن السلعة 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تقاطع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وتوضح لنا مرونة الطلب التقاطعية العلاقة بين السلع البديلة والسلع المكمل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ثال:  احسب مرونة الطلب التقاطعية للسلعتين البرتقال والموز إذا علمت أن ارتفاع سعر الموز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زيادة الكمية المطلوبة من البرتقال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احسب مرونة الطلب التقاطعية للسلعتين الشاي والسكر إذا علمت أن ارتفاع سعر السكر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انخفاض الكمية المطلوبة من الشاي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طلوب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داخلية: مدى تأثر الكميه المطلوبة للتغير في الدخل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طلوبة في الكمية المطلوبة نتيجة تغير الثمن قد تكون كبيرة أو ضئيلة . فلا بد مقياس لمعرفة مدى التجاوب بين الكميات المطلوب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دى استجابة التغير في الكمية المطلوبة للتغير في الدخ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التغير النسبي في الدخ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انظر المثال ص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6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دخل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لاحظ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5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سالبة: معناها أن السلعة رديئة. لأن المستهلك خفض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موجبة: معناها أن السلعة عاديه. لأن المستهلك زاد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حددات مرونة الطلب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25236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أولا: مدى وجود بديل للسلعة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إذا وجد بديل جيد للسلعة (دجاج ، لحم) كانت المرونة مرتفعه لان أي ارتفاع بسيط في السلعة سيؤثر على الكمية المطلوبة عنها والانتقال إلى السلعة البديلة الأخر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نياً: مدى ضرورة السلعة ل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ت السلعة ضرورية كان الطلب قليل المرونة فإذا ارتفع السعر فان التغير في الكميه المطلوبة سيكون قليلا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لثاً: حجم نصيب السلعة في الدخل الكل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إذا كان نصيب السلعة من الدخل قليل كان الطلب قليل المرونة والعكس صحيح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رابعاً: حجم دخل ا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 دخل المستهلك مرتفعا كلما كان الطلب قليل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طلب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طلو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رتفعت الكمية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1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5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سلعة ما سعر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لكميه المطلوبة من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كغم ارتفع سعرها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نخفضت الكميه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احسب مرونة الطلب وما نوع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,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 – 1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طلب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طلوبة مهما تغير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طلب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طلوب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طلب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213000"/>
            <a:ext cx="1728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410920" y="3573000"/>
            <a:ext cx="125892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0920" y="3392640"/>
            <a:ext cx="6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3-30T14:42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