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EFF1-065D-4BA5-A546-037F01FDA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D76F-B50E-4DDC-98FF-7CC2B7BED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3B4B-3659-4467-8569-3371D775C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170A-766B-45A6-87AC-31F32BF07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DDAB-44FA-45C7-9B2C-DD6AC32DC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84C6B-4BB2-4165-8C82-AA90293270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9733-3FE7-4277-BEA0-7D0B51CBFA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9E31-77FB-45FD-A43B-C4C9F424AB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E4C1-35F6-4BD2-821D-AD12F14C1E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B5B7-6EA6-4EDE-ACF0-E2B13DFDC8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AEDD-3C41-4BD6-8A2B-1F7748DA86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DC6C-05B9-4094-BE3B-D67354917D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E605-02F6-49B1-BD23-C384B0FB11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AF41-5164-4443-A221-2D303CC264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639A4-0078-4794-ADA9-09E74CB36C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5751-BD9B-497D-B651-3F53663AEB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24FF-BD23-4950-A556-683666C1D9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5C83-99B5-4ADA-8B06-00C9EC7F31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67D3-AD30-463E-94AF-1DBE2ADC52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0055-F736-4F5B-A2CC-E83D722BB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8DB6-2502-46CC-B577-C3CDDCBFA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A9CA-E1E1-4A73-BBD9-0DAF6A817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77C9-A2F5-4A23-98A4-5FCB54761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F83A-DD65-4181-B693-72D2F8173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0A80-A3ED-424C-843B-1EC632C99F5B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EABC-088D-4C7B-9A36-E427955DCCF7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92DD-025A-4B6A-9642-E5EBFDEFF4DE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8D8D-7419-4531-83E1-C918704CF9A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64ED-F7F7-4762-B648-95630D27820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16AB-55E2-4BAA-ADC1-BCC8BDF284E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D13E-6E9D-4EB0-9C60-742E3FA69F1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95000" y="20574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4)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ذاتية.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عملية تحول المعرفة الواضحة إلى معرفة ضمني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فهي مرتبطة ارتباط وثيق بالتعلم من خلال الممارسة داخل المنظمة)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قد تأخذ هذه العملية عدة أشكال منها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حاكاة والتجري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7D75-900F-49E9-BE01-AB063F2CE46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944B-B810-47B0-BE4A-73A835C482D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مليات صناعة ا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ثام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فهوم صناع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9CB4-AFE6-423F-82F1-D4242A1BBA7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85800" y="1600200"/>
            <a:ext cx="8686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أنه عملية ذاتية ومستمرة تتجاوز الوجود المادي للحدود القديمة للنفس إلى النفس الجديدة من خلال الاستحواذ على البيئة الجديدة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وجهة نظر جديدة للمعرفة الجديد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812880" y="38862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عتبر عملية تكوين المعرفة والابتكار أمراً بالغ الأهمية حيث يضمن للمنظمة تطبيق أنواع حديثة من المعرفة بما يحفظ لها الصدارة بين منافسي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عملية صناع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مد </a:t>
            </a: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عملية صناعة المعرفة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لى خمس مراحل أساسية ه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بحث عن معلومات جد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ختيار المعلومة المناسب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نقل المعلوم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فكير ( التفكير العميق- السببية – التقييم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5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خبرة في اختبار الفهم لهذه المعلوم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مكن النظر </a:t>
            </a: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لعملية صناعة المعرفة واستخدمها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بزاوية أخرى من خلال أربعة خطوات هي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أليف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صديق على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شاركة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ستخدام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خمس توجهات أولية مختلف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الاستحواذ على المعرفة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 البحث عن المعرفة الموجودة وفهم متطلباتها والبحث عنها في عدة مصادر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ل الذكاء التنافسي بين الشركات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خلق معرفة جديد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ل أنشطة البحوث في شركات الدواء وعملية الإبتكار في مجال الإعلان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تجميع المعرف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النشر يعتبر مثال أولي لتجميع المعرفة وعمليات التصميم والطباعة وتصحيح بروفات الطباعة أعمال تراكمية للنش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تطبيق المعرفة المتاح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عمل الطبيب لا يتوقع أن يصنع الطبيب معرفة جديدة بل يطبق المعرفة الطبية المتوافرة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ب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عض المنظمات تركز على إعادة استخدام المعرف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عمليات تطوير المنتج من خلال المعرفة السابقة في المنظمة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نموذج صناعة المعرفة الديناميكي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226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93560" y="1352520"/>
            <a:ext cx="89186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صناعة المعرفة من العناصر الخارج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مخطط انسيابي: استخراج 2"/>
          <p:cNvSpPr/>
          <p:nvPr/>
        </p:nvSpPr>
        <p:spPr>
          <a:xfrm>
            <a:off x="4114800" y="2743200"/>
            <a:ext cx="3276720" cy="2514600"/>
          </a:xfrm>
          <a:prstGeom prst="flowChartExtract">
            <a:avLst/>
          </a:prstGeom>
          <a:gradFill rotWithShape="0">
            <a:gsLst>
              <a:gs pos="0">
                <a:srgbClr val="d5ebbf"/>
              </a:gs>
              <a:gs pos="100000">
                <a:srgbClr val="f3faed"/>
              </a:gs>
            </a:gsLst>
            <a:lin ang="16200000"/>
          </a:gradFill>
          <a:ln w="9360">
            <a:solidFill>
              <a:srgbClr val="99ad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خطط انسيابي: استخراج 5"/>
          <p:cNvSpPr/>
          <p:nvPr/>
        </p:nvSpPr>
        <p:spPr>
          <a:xfrm>
            <a:off x="1828800" y="2743200"/>
            <a:ext cx="3276720" cy="2514600"/>
          </a:xfrm>
          <a:prstGeom prst="flowChartExtract">
            <a:avLst/>
          </a:prstGeom>
          <a:noFill/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وسيلة شرح على شكل سحابة 4"/>
          <p:cNvSpPr/>
          <p:nvPr/>
        </p:nvSpPr>
        <p:spPr>
          <a:xfrm>
            <a:off x="5105520" y="1447920"/>
            <a:ext cx="1447560" cy="990360"/>
          </a:xfrm>
          <a:prstGeom prst="cloudCallout">
            <a:avLst>
              <a:gd name="adj1" fmla="val -4069"/>
              <a:gd name="adj2" fmla="val 78175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منظ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وسيلة شرح على شكل سحابة 7"/>
          <p:cNvSpPr/>
          <p:nvPr/>
        </p:nvSpPr>
        <p:spPr>
          <a:xfrm>
            <a:off x="2819520" y="1447920"/>
            <a:ext cx="1447560" cy="990360"/>
          </a:xfrm>
          <a:prstGeom prst="cloudCallout">
            <a:avLst>
              <a:gd name="adj1" fmla="val -4069"/>
              <a:gd name="adj2" fmla="val 78175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عملاء/ المورد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وسيلة شرح مع سهم إلى الأعلى 8"/>
          <p:cNvSpPr/>
          <p:nvPr/>
        </p:nvSpPr>
        <p:spPr>
          <a:xfrm>
            <a:off x="3886200" y="4952880"/>
            <a:ext cx="1371600" cy="1219320"/>
          </a:xfrm>
          <a:prstGeom prst="upArrowCallout">
            <a:avLst>
              <a:gd name="adj1" fmla="val 25000"/>
              <a:gd name="adj2" fmla="val 24997"/>
              <a:gd name="adj3" fmla="val 46833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  <a:cs typeface="PT Bold Heading"/>
              </a:rPr>
              <a:t>مساحة الفهم والثقة المتبادلة تتكون من خلال الخب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رابط مستقيم 10"/>
          <p:cNvSpPr/>
          <p:nvPr/>
        </p:nvSpPr>
        <p:spPr>
          <a:xfrm>
            <a:off x="685800" y="3809880"/>
            <a:ext cx="7315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مستطيل مستدير الزوايا 12"/>
          <p:cNvSpPr/>
          <p:nvPr/>
        </p:nvSpPr>
        <p:spPr>
          <a:xfrm>
            <a:off x="99072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ضمن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مستطيل مستدير الزوايا 14"/>
          <p:cNvSpPr/>
          <p:nvPr/>
        </p:nvSpPr>
        <p:spPr>
          <a:xfrm>
            <a:off x="990720" y="2971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صريح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مستطيل مستدير الزوايا 15"/>
          <p:cNvSpPr/>
          <p:nvPr/>
        </p:nvSpPr>
        <p:spPr>
          <a:xfrm>
            <a:off x="274320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حاجات، المعرفة النماذج العق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مستدير الزوايا 16"/>
          <p:cNvSpPr/>
          <p:nvPr/>
        </p:nvSpPr>
        <p:spPr>
          <a:xfrm>
            <a:off x="4876920" y="411480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  <a:cs typeface="PT Bold Heading"/>
              </a:rPr>
              <a:t>معرفة عن المنتجات ، الأسواق، النماذج العقل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مستدير الزوايا 17"/>
          <p:cNvSpPr/>
          <p:nvPr/>
        </p:nvSpPr>
        <p:spPr>
          <a:xfrm>
            <a:off x="3886200" y="2971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Calibri"/>
                <a:cs typeface="PT Bold Heading"/>
              </a:rPr>
              <a:t>تبادل المعرفة الواضحة من خلال  المناقشات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رابط كسهم مستقيم 18"/>
          <p:cNvCxnSpPr>
            <a:stCxn id="234" idx="3"/>
            <a:endCxn id="236" idx="1"/>
          </p:cNvCxnSpPr>
          <p:nvPr/>
        </p:nvCxnSpPr>
        <p:spPr>
          <a:xfrm>
            <a:off x="2286000" y="434304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رابط كسهم مستقيم 20"/>
          <p:cNvCxnSpPr>
            <a:endCxn id="237" idx="1"/>
          </p:cNvCxnSpPr>
          <p:nvPr/>
        </p:nvCxnSpPr>
        <p:spPr>
          <a:xfrm>
            <a:off x="4038120" y="4343040"/>
            <a:ext cx="839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رابط كسهم مستقيم 22"/>
          <p:cNvCxnSpPr>
            <a:endCxn id="238" idx="1"/>
          </p:cNvCxnSpPr>
          <p:nvPr/>
        </p:nvCxnSpPr>
        <p:spPr>
          <a:xfrm>
            <a:off x="2285640" y="3200040"/>
            <a:ext cx="160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رابط كسهم مستقيم 24"/>
          <p:cNvCxnSpPr/>
          <p:nvPr/>
        </p:nvCxnSpPr>
        <p:spPr>
          <a:xfrm flipV="1">
            <a:off x="3429000" y="3428280"/>
            <a:ext cx="23248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رابط كسهم مستقيم 26"/>
          <p:cNvCxnSpPr/>
          <p:nvPr/>
        </p:nvCxnSpPr>
        <p:spPr>
          <a:xfrm flipV="1">
            <a:off x="5715000" y="3428280"/>
            <a:ext cx="388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مربع نص 27"/>
          <p:cNvSpPr/>
          <p:nvPr/>
        </p:nvSpPr>
        <p:spPr>
          <a:xfrm>
            <a:off x="5676840" y="327672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تجسيد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ربع نص 28"/>
          <p:cNvSpPr/>
          <p:nvPr/>
        </p:nvSpPr>
        <p:spPr>
          <a:xfrm>
            <a:off x="7086600" y="35766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0000"/>
                </a:solidFill>
                <a:latin typeface="Arial"/>
                <a:cs typeface="PT Bold Heading"/>
              </a:rPr>
              <a:t>الحد الفاصل بين المعرفة الصريحة والمعرفة الضمنية لدى المنظمة والعناصر الخارج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أشكال تحول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1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) العملية الاجتماع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التحول من المعرفة الضمنية إلى المعرفة الضمنية أيضاً من خلال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اكتساب المهنة بصورة تقليدية من خلال قضاء الوقت في التعلم مع المعلم أكثر من اكتسابها من الدراسة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قد تأخذ أكثر من شكل منها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راكم المعرفة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 من خلال جمع المديرين للمعلومات ومشاركة الخبرة مع الموردين والعملاء والحوار والنقاش مع المنافسي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نقل المعرفة الضمن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 الإحتكاك المباشر بالخبراء والمهنيين والنقاش والشرح والأمثلة والتجارب التي ينفذو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9500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2)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تجسيدية. </a:t>
            </a:r>
            <a:r>
              <a:rPr b="1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هي عملية تحويل المعرفة الضمنية إلى معرفة واضح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أي أن المعرفة تبلورت مثل عملية تطوير المنتج)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.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وتأخذ هذه العملية عدة أشكال منها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ea typeface="PT Bold Heading"/>
              </a:rPr>
              <a:t> 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سهيل عملية الإبداع لدى الأفراد وصانعي المعرفة بالمنظمة  واستخدام أسلوب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استثارة في مناقشة عملية صناعة المعرفة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3)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توافق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تعني تحويل المعرفة الواضحة إلى معرفة واضحة ولكنها أكثر تعقيداً.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حيث يتم جمع المعرفة الواضحة من داخل وخارج المنظمة ويتم توحيدها وطباعتها وتشغيلها وتحويلها في شكل معرفة جديدة)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أخذ عدة أشكال منها التركيب والتشغيل لقواعد البيانات، ومنها النشر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Mohammad Ahmed Algezawy</cp:lastModifiedBy>
  <dcterms:modified xsi:type="dcterms:W3CDTF">2011-10-20T17:48:18Z</dcterms:modified>
  <cp:revision>130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