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5253-B831-40EC-85A4-BFDA625CE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9393-3B06-4FFD-959C-FBAC60832D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05AF-2D84-4177-92CF-0FBE9DA37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4B87-C61A-4F30-AD64-C3BA185A61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42E8-A19B-49E9-A778-83AAE9C1BD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30E6-5BA3-49E6-B7D7-1D508A607D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D28C-A060-44AA-B25B-54393A2E8E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799-4BB1-4A1F-B766-BD44688C42F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CB32-E9B1-4E34-A3D6-12AB1E6D80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457F-6B3E-4FB0-AA0E-695FF91B64B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D3B-2AF4-4B91-B210-04950ABD1D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CF7-6BC5-4593-9932-3B892F8ED3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EBF1-A0CC-4FB8-94F9-66EF9FDB85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74C6-7603-4795-B998-F73039A82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3694-47CA-48D6-9DA5-EDFCC1F8CF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094E-EB2D-460D-8178-F0A3EF19A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8DB0-93B1-42C8-A38C-32BE9A210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B8AC-28AC-4569-BAA7-0AAB43EC7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A6A4-E2FF-4D1E-831B-F0F233936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4AE3-97EC-4CD1-9317-9D8EC1797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CBC2-308E-4F54-AFB9-1CA4D5CF20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DC92-9808-421E-AF54-17B0A1839F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ABE1-39D8-4B5D-852E-FD73ADC4C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0DF2-753F-4BDC-80FA-FF8FBB73B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A0A8-88CC-44AC-9707-771430B780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FC58-91CA-4967-9646-D15353A258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0333-2481-4556-9345-1FB0AD1DDA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C6A1-97A2-42EB-824A-1A0788778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A5B2-C13C-479C-B4CC-6AC29080A0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B73-81B6-4F35-B135-E319AC6842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CF9-E665-43CD-A0A5-BCCF5F8C0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960-4E17-457F-A2B2-BDEE787A05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776-5217-47A9-BC71-B6842BBA00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C5C-05CE-4E09-9D56-E1A752DF5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6B39-45FF-472A-8349-53FC433B5A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F86-B451-44AD-B19D-5B1762412F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A2B-D80C-4B4A-95D4-65D332137F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CA5-13F2-4E2F-8217-70B735F9AE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CD0-86A2-48A0-8E09-02BF3C6923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355-0404-418D-8E5A-DD9570D181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A06-CCDE-47D5-9EA4-6DC5E00B4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C7A-C40C-4FAE-B9A7-70C11C89EB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3650-BC54-4CCF-882F-6A53793EE0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73D9-11FE-4302-906F-73373A0BE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B53F-AFB3-46AA-8F9A-294A1379B7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FE6BB-78FB-43A0-850E-548307EBA4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7DFDA-DB8C-4D54-AF30-A9F88DC047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47E67-FE4E-4AC3-BF17-0E33B6E6C2F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F82E9-D2AA-4220-9E27-A174D65B5D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8C399-DA25-4E9E-90D9-879AA04945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317F3-F292-4B4C-BD4C-F932180280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D07E-059F-46F4-9E33-6E0FF4E2EF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EB08C-58DD-4E7E-B6BC-1B9DAC4F22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F25BD-BDBA-4F02-96EE-516BC9A94B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9D6EC-9E04-4FAA-9E11-85D0B872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DDDE-B378-4BDF-AFB8-8AF2CCCAD2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3191A-AFEF-492E-B6BF-47D3A65909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6287-57C4-48CA-A52D-165758FBC8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49AF-279C-4BD4-BD49-4AD6FC0B82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3EBA0-6717-45C6-9D91-2E03ECEF7D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1E4C-1D53-4817-8983-34A023A06C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1EB38-9E07-4298-95B2-3AB8083F6E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FA60F-52D4-4EF8-90EF-F66755A84F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1391-66DF-413F-8230-9EDBCDB31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5F3B-131D-4D51-AA0B-D1A430B7CE7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90E9-E8B9-4557-9EDF-B0E61689C5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DEAC4-31EA-49B2-A2EF-4FABC1D584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EBA94-3328-47A7-A42F-60EEA1C57B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BBA5B-9C61-4DD5-B412-F96B425969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DE5D-396F-498A-BDC4-D8CC3AA288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2541C-A97F-465B-8DD3-1F8EA59073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F9FF-05B8-4D83-9EBA-330F21E116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D30B-BBEB-463B-B997-436A2CC610D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58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734-1B65-461D-8F5F-5B92636FE19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6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CC15-5326-45B5-BB3A-1B5913CE31E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214-2B65-45AE-8A46-F4857AB19ED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CE95-C4A3-425B-A042-EF6E289523D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49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78B-A7E8-4E54-9B0A-A04308088D06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01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D65-1098-4266-B030-269149D5F02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F2E-BF7B-4107-AC1C-BBE50A502DC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164-DBF0-4A5E-B49E-EF3AB300802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8CB-717A-4AFB-9ED0-D47E9C38775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5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138-B069-4F3E-9E47-D17E7E09A97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5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A44-EBEF-4A02-9BD8-300342D7208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06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F99-A3EA-462E-B86F-4095FE2667A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99428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AD3-A65B-4637-872E-D38AD1B4711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375160" y="4648320"/>
            <a:ext cx="376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5994360" y="1981080"/>
            <a:ext cx="2400480" cy="2524320"/>
            <a:chOff x="5994360" y="1981080"/>
            <a:chExt cx="2400480" cy="2524320"/>
          </a:xfrm>
        </p:grpSpPr>
        <p:sp>
          <p:nvSpPr>
            <p:cNvPr id="515" name="Oval 8"/>
            <p:cNvSpPr/>
            <p:nvPr/>
          </p:nvSpPr>
          <p:spPr>
            <a:xfrm>
              <a:off x="6083280" y="2043000"/>
              <a:ext cx="22323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994360" y="1981080"/>
              <a:ext cx="24004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562284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22280" y="2971800"/>
            <a:ext cx="4707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52440" y="6405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D77-228C-4A42-A02F-64D7BEEFB7A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طو ة الثالثة: أستخلاص النتائ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ترتبط هذه الخطوة بتلخيص النتائج التي تم التوصل إليها من خلال تحليل استبانة المعرفة بقسمي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19432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FE8-4DA1-4D0C-ADEA-0E8B5E5D4A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وان 1"/>
          <p:cNvSpPr/>
          <p:nvPr/>
        </p:nvSpPr>
        <p:spPr>
          <a:xfrm>
            <a:off x="773280" y="549360"/>
            <a:ext cx="7878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لمحتوى 2"/>
          <p:cNvSpPr/>
          <p:nvPr/>
        </p:nvSpPr>
        <p:spPr>
          <a:xfrm>
            <a:off x="9428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773280" y="120600"/>
            <a:ext cx="7878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9840" y="297144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Group 5" descr=""/>
          <p:cNvPicPr/>
          <p:nvPr/>
        </p:nvPicPr>
        <p:blipFill>
          <a:blip r:embed="rId1"/>
          <a:stretch/>
        </p:blipFill>
        <p:spPr>
          <a:xfrm>
            <a:off x="5870520" y="1884240"/>
            <a:ext cx="2597040" cy="271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165480" y="3352680"/>
            <a:ext cx="26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"/>
          <p:cNvSpPr/>
          <p:nvPr/>
        </p:nvSpPr>
        <p:spPr>
          <a:xfrm>
            <a:off x="3165480" y="2209680"/>
            <a:ext cx="2482920" cy="1236960"/>
          </a:xfrm>
          <a:custGeom>
            <a:avLst/>
            <a:gdLst>
              <a:gd name="textAreaLeft" fmla="*/ 0 w 2482920"/>
              <a:gd name="textAreaRight" fmla="*/ 2482920 w 24829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logo EDE.png"/>
          <p:cNvPicPr/>
          <p:nvPr/>
        </p:nvPicPr>
        <p:blipFill>
          <a:blip r:embed="rId2"/>
          <a:stretch/>
        </p:blipFill>
        <p:spPr>
          <a:xfrm>
            <a:off x="844560" y="2133720"/>
            <a:ext cx="19461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34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خطوات 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خطوات 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هدف مراجعة القدرات المعرفية إلى حل مشاكل الأعمال في المنظمة من خلال النقاط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ا هي المعرفة المتاحة حالياً في القسم أو الإدار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PT Bold Heading"/>
              </a:rPr>
              <a:t>(المنطقة المستهد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المتاحة حالياً والمحتمل الحصول عليها من المصادر المختلفة، وتحديد العوامل البيئية التي تؤثر على القسم أو الإدار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وتخصيص (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تصنيف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 ) المعرفة الضمنية والمعرفة الواضحة في المنطق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بناء خريطة المعرفة لتصنيف وتدفق المعرفة في المنظمة وكذلك في القسم أو الإدارة المستهدفة (هذه الخريطة متعلقة بــ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فراد الوثائق الأفكار الموارد الخارجية ودرجة كثافتها التي تحدد سهولة أو صعوبة حصول الأفراد على المعرفة منها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حديد المعرفة التي تفتقر إليها المنطقة المستهدفة وتشم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عمل تحليل فجوة لتحديد ما هي المعرفة التي تفتقدها لتحقيق أهداف الأعما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ن يحتاج إلى هذه المعرفة المفقود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الحصول على التوصيات من مراجعة القدرات المعرفية للإدارة من خلال النظر إلى الوضع القائم والتحسينات الممكنة لأنشطة إدارة المعرفة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قسم الاستبيان إلى قسم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أول: يغطي الخطوة الأولى في مراجعة القدرات المعرف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ثاني: يغطي الخطوة 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أما الخطوة الثالثة من المراجعة تستخلص من الخطوة الأولى و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أداة المستخدمة في مراجعة القدرات   المعرفية ( استبيان المعرفة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2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أول: تحديد ما هي المعرفة المتوفرة حالياً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ضع قائمة محددة لتقسيمات المعرفة التي تحتاج إليها في وظيفت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أي تقسيمات ا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متاحة حالياً لديك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Calibri"/>
                <a:cs typeface="PT Bold Heading"/>
              </a:rPr>
              <a:t>لكل تقسي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؟ من فضلك أعطي أمثلة محدد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عدد المصادر التي تحصل على المعرفة منها؟ وأي المصادر تستخدم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ضافة إليك من الذي من المحتمل أن يحتاج إ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ستخدم أنت والأخرون المعرفة المحددة في السؤال رقم 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ؤلاء الذين من المحتمل أن يستخدموا هذه المعرفة؟ ومن من المحتمل ألا يحصل ع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عمليات الرئيسية التي تستخدمها للحصول ع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 لتحقيق فوائد القيمة المضافة لمنظمت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تأثيرات البيئية الخارجية التي تؤثر على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الذي تتوقع أن يساعدك استخدام المعرفة كما هي؟ أم تحويلها لتكون أكثر فعالي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جزاء في تلك المعرفة التي تعتبرها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ممكن الوصول إليها، مدى غزارتها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 ضئيلة أو متفرق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قديمة منتهية الصلاحية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1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رسل المعرفة الحالية؟ ما هي الطريقة الأكثر فعالية في أرسال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2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م الخبراء الذين في حوزة المنظمة ولديهم أنواعاً من المعرفة تحتاج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3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في أي شكل من أشكال المعرفة  تستطيع الحصول عليها من 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4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الوثائق الرئيسية والموارد الخارجية التي تستخدمها أو التي تحتاج إليها لإنجاز وظيفتك بصورة أيسر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أنواع المعرفة التي تحتاج إليها كجزء من عملك اليومي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قصير (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طويل (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ثاني: ما هي المعرفة التي نفتقدها في المنطقة المستهد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حتاج إليها لأداء وظيفتك بصورة أفضل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عيد استخدامها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هل لديك أمثلة على معرفة لا يمكن أعادة استخدامها . ولكن إعادة استخدامها سوف تكون 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كل تقسيم من تقسيمات المعرفة في السؤال رق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لى أي درجة يمكن تحسين مستوى الأداء لكل المعرفة الممكن الوصول إليها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يمكن أن يخدم المصدر المحتمل لتلك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أنواع الأسئلة التي تستطيع أن تجد لها إجابة عند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736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لكل نوع من المعرفة المحددة في هذا السؤال أجب على الأسئلة التا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فتقد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نواع المرتبطة ب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أداء الوظيف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زايا التنافسية للمنظم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أسئلة الإدارية البسيطة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الإدارات أو الأفراد الذين تعتقد أنهم لا يجيبون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ذا كانت الإجابة على السؤال السابق بلا فلما بريك  ل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المجالات تسأل نفسك نفس الأنواع المتكررة من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الذي تم سؤاله ولم يجب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إدارة يعم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في أي مستوى وظيفي؟ المسمى الوظيف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ي الإدارات أو من هم الأفراد الذين لديهم أتصال معك بالمعلومات؟ لك إدارة أو فرد أجب عن الأسئلة التالية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مستوى التنظيمي الذي يشغله المستقصي من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المستقصي منه جديد ( أقل من سنة )     متوسط الأجل  (  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   طويل الآجل  ( أكثر من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سئلة التي تسألها للأخرين بالمنظم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طلوبة والتي تعتبر   ( ضرورية لأداء العمل )    ( ضرورية لتحقيق المزايا التنافسية للمنظمة )   ( ضرورية للوصول للإبتكارات)       ( التي انتهت صلاحيتها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تي قد تكون مفيدة لتشجيع مشاركة المعرفة ونقلها في منظم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ظاهر التي تعوق الإدارة الفعالة للمعرف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( ما هي قيود مشاركة ونقل المعرف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سبب الرئيسي الذي ينتج عنه الأخطاء في وظيف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من الوقت ينقضي للبحث عن المعرفة التي تطلبها؟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8:59:50Z</dcterms:created>
  <dc:creator>Mohammad Ahmed Algezawy</dc:creator>
  <dc:description/>
  <dc:language>en-US</dc:language>
  <cp:lastModifiedBy>Windows User</cp:lastModifiedBy>
  <dcterms:modified xsi:type="dcterms:W3CDTF">2011-10-17T12:19:07Z</dcterms:modified>
  <cp:revision>2</cp:revision>
  <dc:subject/>
  <dc:title>عرض تقديمي في PowerPoint</dc:title>
</cp:coreProperties>
</file>