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F4B0-1E27-4487-AAAB-349DB5D01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E89C-A85B-41F1-B2A1-A27A11C880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9E4B-E6B0-4536-A40C-99ABC67863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8812-DDF4-4FB0-BFF7-BD070DA825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F03-D755-4373-8125-70781E28A6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EDAA-A0CA-4186-BBE0-2785F2D17CD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E197-DA9F-4909-82CF-67CD01752D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B07E-9167-4AB5-924B-ED692802EB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AC43-E76B-4439-B664-D6712EAF31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C9CD-64EC-4EA4-8689-44E61FF6D2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640F-9FBF-4E24-A3AF-A640976B946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82C7-77B0-43B5-9DB3-0EE4DC4C9D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1229-CD31-43A8-B381-C7896C6199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62B6-864D-4FC7-ABDC-50886C91DE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9A15-0BEE-410C-B901-47C94B387D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3DA6-37AE-46AF-A3DF-3DF0AF5EE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5AC0-61C5-4D1D-AB99-252CD8B92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EC7F-BEE2-4BBF-B626-B2E6E028DF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0910-406A-4973-BC05-27A5E2BE52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A1D5-7950-4395-802C-644F2BC87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F928-81FC-4205-A3F7-71A79FF08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2D47-3511-4B34-8441-AB91F9E345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9F56-FBE0-457D-BA09-04ED799279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2EC9-F07F-46DF-A028-B2CA2C2376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3F24-755A-4BFC-AC9E-45A5240038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F18E-0FD3-4C61-927B-5980B89BAF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ECF-8C3D-4783-8CDA-C34643C390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70E-A880-48B1-A86B-5864852AF3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9DA-C20E-4DA3-9E3F-7978B3113F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EB8-3173-4125-951D-48B80A2B30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16D-86DA-42B9-9068-1E3B33E49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A64B-EE8A-4539-A3F4-C155F06BD6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12F-748A-4602-BB42-5A50DF5284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FC1-1A33-42A8-AF33-6328CB113F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5D3-FE54-4DFC-A6F3-1C0508821A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62B-F10A-4A8F-9D82-C3658514F7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A08-806B-4DB1-B667-3113AE0C2D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ED6-BC09-4A92-A4B4-8236C9AE79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B90-48BE-4EE7-82FC-5F82A724B0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C80B-E6DB-4E04-B4B2-3D1A9611CC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9E9F6-19C9-405E-B5E6-18CA3A141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AB82-F6EB-4977-9DF9-A24F55422C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5153F-D129-4E54-A1CA-77C519AFAF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6E143-6FFF-4A4B-A79C-83BA3660E7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02E5D-585B-4B00-B4C2-3E92E265FA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B8FCE-9C70-40A3-8055-2AC48753E3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5B87C-07D1-40DA-B501-74A27CA2FB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6375E-E4B4-41E4-B704-2C45E0E38D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C9EB5-A033-4975-8AE1-EAB186EF99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E33F9-7D85-4E3C-9520-99953AD21D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05CFE-8BD4-4716-9F0A-4FE5346BDB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0EB65-A342-4486-B9FB-E514AC690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3C3A-4F9B-4A2B-8725-3E4DEE66EF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13546-D420-4EDD-93BB-BA516764A1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C7A1-B5A8-4A97-A057-522F3BC68E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8D40D-7FC0-4FC3-A92B-AB691BAD0E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7477A-0868-4A2A-B65A-51CA2E1494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D7899-02D5-489D-96AD-E7811B6F62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A3FB-DCA5-4A88-9C90-DBA30B4FD6C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E59A-8668-46FE-A081-EDE26559E9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765E-D3C4-4FB3-A483-CC3FEDA195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B3A1-57C6-4729-9E06-94C8F85D1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96D5-1E14-4685-A4A1-28AAACF7E9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27346-5AD1-40A9-A51E-0E8B377462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D6ECA-42FA-4A67-B06E-392ABFAE84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436B3-82DD-4006-AD06-F5A28F7A39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9F312-C4C7-45EE-9D3E-649DEDD497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60B8E-7386-4F47-84D3-9523AF5E99B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5B4B-25D1-412D-BEED-45C63908EB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FAE-65B3-4D1E-89BC-01A4AB3F17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0A28-C8C1-415A-82AF-9ED8CDF839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C89A-2046-4CF6-8E5E-A2D5CE834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F16-60C0-49AC-80C8-1DE7C8289AD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DED4-F716-43E8-87FF-7A9A906488E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3BFF-B928-4541-BDEF-00AC5C05607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6A53-D401-4897-A0E3-BE1D0B08813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4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403-B9DA-41F6-9B20-97756DC1B53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C413-5B98-482D-8F02-88718478670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FCA-F3D7-4F6C-BD3C-8832E29A2F9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596-C743-456F-97EB-649BEB64415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0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E91-053C-4030-8446-C5A45FC9A65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5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9A8-9F06-4E90-B09C-05175E3F06F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5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EC4-DCCA-46C3-988E-AA9DCCF03FC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0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7D98-6394-4295-A807-D00B2307156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978E-6E16-4A47-BA2C-A67A63068C6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CB84-CCBB-447C-BA1B-4124E2AA76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15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C150-6483-40FC-B7F9-0806B7D509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أهداف مراجعة القدرات المعرف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أعطاء نظرة شاملة لنطاق وطبيعة وهيكل المعرفة في قسم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يف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م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معنى واضح لمدخلات البيانات الخام للخطة الإستراتيجية اللازمة لتشغيل المعرف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يشتمل تقرير مراجعة القدرات المعرفية على النتائج الرئيسية  التي تتضم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ديد الواضح لسبب اتباع مراجعة المعرفة بالمنظم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دقيق لعملية المارجعة ذا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ليل دقة وحساسية النتائ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اتمة حيث يجب أن تلخص النتائج التفصيلية لمراجعة القدرات المعرفية بشكل سهل وقابل للفه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خريطة مجمعة للمعرفة يظهر العلاقة بين مستودعات المعرفة التي تمتلك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حتوى المعرفة بكل قسم ووسائل تسجيل المعلومات فيها ، بالإضافة لتسجيل خصائص الوصفية والكمية لكل قس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هرس مجمع لمحتويات التقري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هناك مجموعة من التساؤلات عن مراجعة  القدرات المعرفية تش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فهوم الأعمال.( 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رسالة وأهداف فريق العمل الخاص بكب وحدة تنظيمي؟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فنية للمنظم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عتمد على المعرفة و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وليد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الطرق المختلفة التي تستخدم لتصنيف المعرفة بالمنظمة (مثل خرائط المعرفة لمن يعرف وماذ يعرف؟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هناك تصنيف للمعرفة المرتبطة بخبرات النجاح والفش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متوفرة لتحويل المعرفة من الأفراد والفرق إلى الأفراد والفرق الأخرى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حاملي المعر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يركزون على ما هو أفض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نوع المشاركة المتوفرة بين الإدارة وحاملي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غ يستخدم التدريب لزيادة المعرفة والمهارات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حقيق الربط بين المكافآت ومستويات المعرفة والمهار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تي تنقل بواسطة تكنولوجيا المعلوم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ستخدم تكنولوجيا المعلومات فقط في تشغيل البيانات أم تستخدم أيضا في 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تطبيق مشروعات نظم المعلومات المرتبطة ب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صميم الهيكل التنظي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دفق المعلومات في الوحدة التنظيمية يشجع أم يعيق الإبتك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لأي فرد داخل المنظمة أن يكون داخل شبكات الأعمال الحديث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ea typeface="PT Bold Heading"/>
              </a:rPr>
              <a:t>(الطرق المختلفة لتحليل المعر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التي تستخدم في مراجعة القدرات المعرفية من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خرائط التدف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ماذج المدخلات والمخرجات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دراسة قوائم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قائم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إستبيان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جلسات المجموعة القائمة على المراجع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دارة الوسطى للتعرف على المحاذير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بيئي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فهم المعرفة الحالية وما هو دورها في المنظم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ظام التحليل الشفهي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ارف البسيطة جدا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95000" y="17521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المعرفة الأساسي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رفة الكلية وأيضاً المعرفة الأكثر تفصيلاً المرتبطة ب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خريطة ل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كل المستويات التنظيمية أو شبكات الأعم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حرج لوظيفة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حديد المجالات الأكثر حساسية للمعر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إحتياجات وإستخدام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قييم الوضع الراهن للمعرفة وكيف يمكن تحسين المواق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وتوصيف نموذج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معرفة تفاصيل المعرفة كثيفة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تدفق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وفير نظرة شاملة لتغيرات المعرفة، مكاسب وخسائر،ومدخلات العمليات، ووظيفة الأعمال على مستوى المنظمة كك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9500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أخيرًا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وضع خريطة للمعرفة يوضح تصنيف وتدفق المعرفة.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جزء هام جداً في مراجعة القدرات المعرفي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فضل تمثيل لخرائط المعرفة هي القصص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هي تغطي الأطر والقيم والرسائل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كثر الأنشطة الإنتاجية في هذه المراجع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نظم المعرفة المرتبطة بالعملا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ذاكرة المنظمة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ي المساعدة على التعلم ومنع تكرار الأخط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صنيف المباشر للخبراء الحقيقيين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تحديد الفائدة التي ستعود للمنظمة من هؤلاء الخبراء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قدرات المعرفية المتعلقة بالإنتاج يتطلب التركيز على التساؤلات الاتية لحل مشكلة هام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تي نمتلك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اهي المعرفة التي نفتقر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ن الذي يحتاج إلى هذه المعرفة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استخدام هذه المعرفة؟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AAAD-2DE7-462C-B0D5-1AFB260F2A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90360" y="4267080"/>
            <a:ext cx="7429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راب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حليل فجوة المعرفة 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نقسم فجوة المعرفة بالمنظمة إلى نوعين رئيس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داخلية ( خاصة بنقاط القوة والضعف بالمنظم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داخل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فعل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عمله الشركة فعلاً وما تستطيع عمله) ومن هذه الفجوة نحدد بدقة القدرات الذاتية للمعرفة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هدف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ما تستطيع الشركة فعله وما يجب أن تفعله) من هذه الفجوة نحدد بدقة إمكانات التطور الداخلية في المنظمة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                                                                      أنظر الرسم الت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5"/>
          <p:cNvSpPr/>
          <p:nvPr/>
        </p:nvSpPr>
        <p:spPr>
          <a:xfrm>
            <a:off x="165240" y="175248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19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26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27" name="Straight Arrow Connector 6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28" name="Straight Connector 8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Straight Connector 9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Arc 12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>
                <a:gd name="textAreaLeft" fmla="*/ 1155600 w 2311200"/>
                <a:gd name="textAreaRight" fmla="*/ 2311560 w 2311200"/>
                <a:gd name="textAreaTop" fmla="*/ 0 h 2971800"/>
                <a:gd name="textAreaBottom" fmla="*/ 1486080 h 2971800"/>
              </a:gdLst>
              <a:ahLst/>
              <a:rect l="textAreaLeft" t="textAreaTop" r="textAreaRight" b="textAreaBottom"/>
              <a:pathLst>
                <a:path stroke="0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  <a:lnTo>
                    <a:pt x="1066800" y="1485900"/>
                  </a:lnTo>
                  <a:close/>
                </a:path>
                <a:path fill="none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4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6"/>
            <p:cNvSpPr/>
            <p:nvPr/>
          </p:nvSpPr>
          <p:spPr>
            <a:xfrm>
              <a:off x="3880080" y="194220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مخط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7"/>
            <p:cNvSpPr/>
            <p:nvPr/>
          </p:nvSpPr>
          <p:spPr>
            <a:xfrm>
              <a:off x="6934320" y="4344480"/>
              <a:ext cx="173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فع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داخل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خارجية( خاصة بالفرص والتهديدات التي تتعرض لها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خارج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متاح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تيحه البيئة فعلاً وما تستطيع فعله المنظمة) ومن هذه الفجوة نحدد مدى جاهزية المنظمة لاقتناص الفرص وتجنب التهديد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قدرة على صناعة الفرص وتجنب التهديدات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أمكانيات المنظمة وما تستطيع به التأثير في قيادة بيئة المعرفة ) من هذه الفجوة نحدد بدقة إمكانات المنظمة في التأثير في البيئة الخارجية فلا تكون مستجيبة لها فقط بل يتعدى ذلك فتؤثر فيها بما يخدم مصلحتها وتقود صناعة المعرفة في هذا المج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3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37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38" name="Straight Arrow Connector 5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39" name="Straight Connector 6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Arc 8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>
                <a:gd name="textAreaLeft" fmla="*/ 1155600 w 2311200"/>
                <a:gd name="textAreaRight" fmla="*/ 2311560 w 2311200"/>
                <a:gd name="textAreaTop" fmla="*/ 0 h 2971800"/>
                <a:gd name="textAreaBottom" fmla="*/ 1486080 h 2971800"/>
              </a:gdLst>
              <a:ahLst/>
              <a:rect l="textAreaLeft" t="textAreaTop" r="textAreaRight" b="textAreaBottom"/>
              <a:pathLst>
                <a:path stroke="0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  <a:lnTo>
                    <a:pt x="1066800" y="1485900"/>
                  </a:lnTo>
                  <a:close/>
                </a:path>
                <a:path fill="none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1898640" y="1942200"/>
              <a:ext cx="36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صناعة الفرص والقدرة على تجنب التهديد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5572440" y="4508280"/>
              <a:ext cx="33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فرص والتهديدات في البيئ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12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TextBox 13"/>
          <p:cNvSpPr/>
          <p:nvPr/>
        </p:nvSpPr>
        <p:spPr>
          <a:xfrm>
            <a:off x="165240" y="1846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ذا نعني ب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فكما أن المنظمات الصناعية تحدد المخزون المتاح من الأصول المادية إن منظمات المعرفة يجب أن تحدد المخزون الرأسمالي من الأصول الفكرية لتحصل على إجبابات للأسئلة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تاحة لد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تحتاج إل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غير  المتاح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أن تطبق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ذلك الإدارة الناجحة للمعرفة في المنظمة عليها ان تبدأ من هذه التساؤلات، وأن تراجع إجاباتها عليها كل فترة للتحسين والتطوير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عتبر الجزء الحيوي في منهجية إدارة المعرفة هو مراجعة القدرات المعرفية من حيث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غزارة أو ندرة المعلومات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ذير من القصور في المعلومات وما شابه ذلك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القدرة على حفظ المعلومات المتصلة بموضوع معين جنباً إلى جن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قيادة الإكتشافات الهام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إستخدام العادي للبيانات التي تقادمت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معرفة وقت اللجوء للخبير فيما يتعلق بتوفير بعض البيانات لإستخدامها في مجال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بدأ مراجعة القدرات المعرفية بـ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قييم مخزون المعرفة والذي يمثل الخطوة الأولى في أي استراتيجية فعالة لإدارة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المعرفة الضمنية بإستخدام تكنولوجيا المعلومات وفرق العمل وفرق النقا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عن الأفراد الذين يعرفون محتويات التغذية العكسية عن العملاء الرئيسيين  والتي تعتبر نقطة الإنطلاق نحو الإبتكارات وتطوير المنتج وتحديث نظم الإنتا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بحث عن الفرص وتقييم البيانات التي يتم جمعها من حيث الصلة والشكل والطبيعة والصلة الوثيقة بموضوع معين، ودرجة الإستفادة والتكلفة والوقت والدق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توثيق لتحديد كل الذين يملكون مقداراً وفيراً من مستودعات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dmin</cp:lastModifiedBy>
  <dcterms:modified xsi:type="dcterms:W3CDTF">2011-10-10T15:58:12Z</dcterms:modified>
  <cp:revision>153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