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908A-1A9B-4F05-B72C-DB91481C4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7CE9-B236-4974-AAAC-B5C764469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C206-AC73-4E2C-88D9-45DE39263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C95C-50AE-425D-9A00-28ED0077A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51C6-C607-4C75-A7B3-A39639C6D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962D-4BB0-48BB-8701-EC83F5390A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DE26-68F7-4A20-8BF2-E3B81BAD74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BC2B-D014-4CA1-8190-69F505F5A0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A66A-44EA-4A46-AB4F-118ED771A5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0118-ADCA-4151-8229-6088F9234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5614-776D-49C8-8199-CA07013A1B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0B67-1D9E-4A29-B3CE-6F9A4CEBDB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C1AC-62FA-440B-8C57-FAC97C5BA8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30AF-841D-4A7A-8777-6328B1C8B2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B421E-F92A-4405-82A9-59D5246B0E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F9D6-1CC6-4FBA-83C8-D8BC11A7CB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5D7C-A0D1-4CAC-AAF5-8E989DEABF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38F21-B7C2-4CD0-99D8-962D609063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5F43-3850-45B1-9D4B-1256494E61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1564-D676-4CC0-9409-F3FC12348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C3C2-E9EA-4FB3-91AA-20D44728F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51AE-2979-4CF6-90A6-4B3317CBB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4C6F-DD8F-4EE7-90CC-B996104FC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1C8D-8744-4476-93D3-A56D0440A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B40F-6EC1-4166-A4E0-F58EC71ED45E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82D6-D6C6-4F30-B416-D786B9E13CFF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6FF8-D518-469A-B579-E60E1955E73A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77E1-0F04-4CB2-B0E6-46C4E9109D7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26E0-91AC-4E45-960E-8140A105D1D3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3668-1038-498A-919C-2B637F18682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0613-35B4-4BC3-A58B-D76F6A9DD69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F40D-DF13-47C0-982A-35577F7BFE2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9139-D48F-4C91-A1D6-94361A9261A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حاضرة</a:t>
            </a:r>
            <a:r>
              <a:rPr b="0" lang="ar-EG" sz="4400" spc="-1" strike="noStrike">
                <a:solidFill>
                  <a:srgbClr val="37609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مهي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تعريف بمقرر إدارة المعرف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هدف المقرر العام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3BE4-4E9A-40FC-A53A-1A0179E3120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447920" y="228600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PT Bold Heading"/>
              </a:rPr>
              <a:t>ترسيخ القواعد والمفاهيم الأساسية لإدارة المعرفة، وآليات التعامل مع رأس المال المعرفي، وأفضل تطبيقاته في قطاع الأ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أهداف المقرر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D99B-CADD-44B6-A1EF-A761F5B6BA8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838080" y="1828800"/>
            <a:ext cx="8077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ن يتعرف الطالب على مفاهيم ومبادئ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تمكن الطالب من مراجعة القدرات المعرفية للمنظ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حسن الطالب التعامل مع سلسلة القيمة للمعرفة ومصفوف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فهم الطالب ماهية الأصول المعرفية وخصائصها وعملية نقل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تعرف الطالب على الدراسات المبكرة في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جيد الطالب التعامل مع دراسات الحالة في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محتويات المنهج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A369-1A4C-4D22-BEF3-A0A8105A0CC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43000" y="1143000"/>
          <a:ext cx="7467480" cy="518796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قائمة الموضوع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973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فاهيم ومبادئ إدارة 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ستراتيجية إدارة المعرفة ومسئولية قيادة المنظمات تجاه المعرف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راجعة القدرات المعرف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سلسلة القيمة للمعرفة ، ومصفوفة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عمليات إنتاج المعرفة والتحديات التي تقابلها المنظم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صول المعرفية وخصائصها وعملية نقل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نظمة المتعلم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بيئة المعرفية(مشاركة البيئة في البناء المعرفي، بناء وترابط البيئة المعرفية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دراسات المبكرة في إدارة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دراسة حالات في إدارة المعرف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كتاب المقرر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B4CF-52AE-46B8-8D4A-DD2C9254101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47920" y="156060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** الإدارة الاستراتيجية للمعرفة – د. ممدوح عبد العزيز رفاعي – طبع بمعرفة المؤلف – القاهرة –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2007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** إدارة المعرفة – د. سعد غالب ياسين – دار المسيرة للطباعة والنشر-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2006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14440" y="3313080"/>
            <a:ext cx="974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كتاب متوفر لد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- مكتبة جرير بجميع فروعها في أنحاء الممل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- مكتبة العبيكان بجميع فروعها في أنحاء الممل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كت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كت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مراجع الإضافية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2CE4-CE33-4BEA-8FD1-671A9CD629F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19828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n Wei Choo, the Knowing organization: how organization use information to construct meaning create knowledge, and make decisions, Oxford university press, 199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D6C0-FC17-4228-8B47-9406564B83C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itle 1"/>
          <p:cNvSpPr/>
          <p:nvPr/>
        </p:nvSpPr>
        <p:spPr>
          <a:xfrm>
            <a:off x="838080" y="54612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99072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1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71600" y="2362320"/>
          <a:ext cx="7086600" cy="2225520"/>
        </p:xfrm>
        <a:graphic>
          <a:graphicData uri="http://schemas.openxmlformats.org/drawingml/2006/table">
            <a:tbl>
              <a:tblPr/>
              <a:tblGrid>
                <a:gridCol w="2386080"/>
                <a:gridCol w="47005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نشا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شاركة في منتديات الحوار على البلاك بور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حضور المحاضرات المسجلة والمحاضرات المباش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واجبات المنزل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7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اختبار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موع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توزيع الدرجات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3537-E856-40A3-8212-F5F2329AFF5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762120" y="1523880"/>
            <a:ext cx="84582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الساعات المكتب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رقم جوال المقر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059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alibri"/>
                <a:cs typeface="PT Bold Heading"/>
              </a:rPr>
              <a:t>سيكون الجوال مفتوح في الأوقات المحددة بعالية وسيتم إغلاقة خارج هذه الأوقات، لذا على الجميع التقيد بهذه المواع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البريد الإلكترون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ezawy@kfu.edu.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438280" y="1905120"/>
          <a:ext cx="4572000" cy="14824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وق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يو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.30-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سب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2.00-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ثن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.30-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ثلاث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81240" y="15192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ساعات المكتبية وجوال المقرر والبريد الإلكتروني</a:t>
            </a:r>
            <a:r>
              <a:rPr b="0" lang="ar-SA" sz="40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user</cp:lastModifiedBy>
  <dcterms:modified xsi:type="dcterms:W3CDTF">2011-10-07T12:53:55Z</dcterms:modified>
  <cp:revision>109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