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AF345-74E3-4451-8360-43D4CBF79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4FDC72-92D7-493D-91EA-719AEC55D1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F40100E-493C-41AE-BDD1-5BCF57916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D0B79D7-BA53-4729-8EE3-EB0D91D52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AEAE96-9AF5-42E2-B526-EE78BE9AC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56ADEB-2F5B-4AB3-AAAA-55FD9E773D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A6C733E-ADA8-47EA-B0E2-B3913C7B59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5B9440B-28DF-44C2-BCD2-2EAB2969F2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1AFF4F-B5DA-4C75-A658-B6CFF66318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D734C47-B86A-4FC2-B026-9C85A76232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CA161F1-35C4-408D-B8F3-B9A148CD90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D09830-B580-45E8-A914-588F1ACBB9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922770-9772-4634-9B8B-5EC75A4917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8C6F02-00AC-4A64-9C13-619C6186E8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B97BE1-A104-4CFF-AEEC-B5605821EC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EAAF85-DEAC-4384-8DBA-807B66606D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18D7A13-1A38-49AB-B5D2-01037D4C18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F649B58-5D3F-4C92-BFAF-B96ABAE75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FB0D29-1077-44E5-A7B4-0A65A4A4E4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275F718-1391-4AB4-96E7-B6608171D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562D72-5B15-44F4-A528-23090965C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AF2834-16C4-4467-A791-C1FE5A98B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68F517-CC6A-4A5E-B0DD-4B6173C93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730AA8-5674-452A-91EB-A2C102541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56E5-5C14-4239-A0BA-ABE855016436}"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ED78-23FC-4B3E-86EC-4F7942B68FD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FE3A-2DB9-4BD6-B0B4-D4E51D141BB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CEC5-0F30-49AE-8E5F-69719118DBD9}"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4"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pic>
        <p:nvPicPr>
          <p:cNvPr id="155" name="Picture 8"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من: الوصول إلى المعرفة يمثل نقطة البد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وصول للمعرفة ضرورة إلا أن الإدارة الناجحة للمعرفة تتطلب التركيز  على العملاء ليكونوا أكثر من متلقين لخدماتنا ومنتجاتنا، وتتطلب أيضاً الالتزام بالتفاعل المشترك بين حاملي المعرفة خاصة إذا كانت المعرفة ضمن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أرسال شركتي تويوتا ونيسان مصممي سيارتهما للولايات المتحدة لتلقي المعرفة الضمنية بواسطة الاختلاط الودي مع شرائح العملاء المستهدف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تاسع: إدارة المعرفة عملية مستمرة وليست لها نهاي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تعتبر مهام المعرفة ليست لها نهاية حيث أن تصنيفات المعرفة المطلوبة تتغير دائماً  وبشكل متسارع مثل </a:t>
            </a:r>
            <a:r>
              <a:rPr b="0" lang="ar-SA" sz="2000" spc="-1" strike="noStrike">
                <a:solidFill>
                  <a:srgbClr val="000000"/>
                </a:solidFill>
                <a:latin typeface="Calibri"/>
                <a:ea typeface="PT Bold Heading"/>
              </a:rPr>
              <a:t>( </a:t>
            </a:r>
            <a:r>
              <a:rPr b="0" lang="ar-SA" sz="2000" spc="-1" strike="noStrike">
                <a:solidFill>
                  <a:srgbClr val="ff0000"/>
                </a:solidFill>
                <a:latin typeface="Calibri"/>
                <a:cs typeface="PT Bold Heading"/>
              </a:rPr>
              <a:t>إدارة التكنولوجيا الجديدة، القضايا التنظيمية، تغير اهتمامات العميل، تأكيد المنظمات الدائم على المنتج والخدمة التي تقدمها باستراتيجيات وهياكل تنظيمية متجددة.... </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لذلك ينبغي أن يكون توصيف البيئة سريع لتتمكن إدارة المعرفة من مواكب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عاشر: تتطلب إدارة المعرفة تعاقد معرفي</a:t>
            </a:r>
            <a:endParaRPr b="0" lang="en-US" sz="32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سئلة تحتاج إلى إجاب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المعرفة يمتلكها العاملون أم يستأجرونها؟</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كل المعرفة في عقول العاملين ولها أولوية لدي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تعرف عن المعرفة التي تشتق من أسطوانة حاسب آلي؟</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عن المعرفة التي لدى المستشارون أثناء أدائهم لاستشارات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عديد من المنظمات تحتفظ بمعرفة العاملين لديها، لأن العاملون ينقلون بسرعة كبيرة إلى وظائف جديدة ومنظمات جديدة. لذلك فإن أمر توثيق المعرفة بالغ الأهمية للمنظمات خاصة تلك التي تتعامل مع المعرفة على أنها مورداً هاماً ورئيسياً ف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ستراتيجية إدارة المعرفة</a:t>
            </a:r>
            <a:endParaRPr b="0" lang="en-US" sz="4400" spc="-1" strike="noStrike">
              <a:solidFill>
                <a:srgbClr val="376092"/>
              </a:solidFill>
              <a:latin typeface="Calibri"/>
            </a:endParaRPr>
          </a:p>
        </p:txBody>
      </p:sp>
      <p:sp>
        <p:nvSpPr>
          <p:cNvPr id="170" name=""/>
          <p:cNvSpPr txBox="1"/>
          <p:nvPr/>
        </p:nvSpPr>
        <p:spPr>
          <a:xfrm>
            <a:off x="495000" y="1371600"/>
            <a:ext cx="8915400" cy="274320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ند صياغة الاستراتيجية للمنظمة تبحث وبشكل مباشر عن الميزة التنافسية لديها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تحقق بها تفوقاً على منافسيها وتحرز مكانة في السوق أفضل مما كانت عليه.</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إذا نظرنا إلى طبيعة المعرفة من خلال نموذج ( البيانات- المعلومات- المعرفة – التكنولوجيا) ندرك كيف يمكن أن تحقق المنظمة ميزة تنافسية من خلال المعرفة.</a:t>
            </a:r>
            <a:endParaRPr b="0" lang="en-US" sz="20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المعلومات التي تساهم في تخفيض التكلفة وتحسين المنتج وتحسين أداء العملية أو تطوير مفاهيم جديدة في السوق هي التي تكون المعرفة للمنظمة.(</a:t>
            </a:r>
            <a:r>
              <a:rPr b="0" lang="ar-SA" sz="1400" spc="-1" strike="noStrike">
                <a:solidFill>
                  <a:srgbClr val="003f5e"/>
                </a:solidFill>
                <a:latin typeface="Calibri"/>
                <a:cs typeface="PT Bold Heading"/>
              </a:rPr>
              <a:t>أنظر الشكل التالي)</a:t>
            </a:r>
            <a:endParaRPr b="0" lang="en-US" sz="1400" spc="-1" strike="noStrike">
              <a:solidFill>
                <a:srgbClr val="000000"/>
              </a:solidFill>
              <a:latin typeface="Calibri"/>
            </a:endParaRPr>
          </a:p>
        </p:txBody>
      </p:sp>
      <p:pic>
        <p:nvPicPr>
          <p:cNvPr id="171" name="Diagram 3" descr=""/>
          <p:cNvPicPr/>
          <p:nvPr/>
        </p:nvPicPr>
        <p:blipFill>
          <a:blip r:embed="rId1"/>
          <a:stretch/>
        </p:blipFill>
        <p:spPr>
          <a:xfrm>
            <a:off x="1725480" y="3773520"/>
            <a:ext cx="6620040" cy="262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599840"/>
            <a:ext cx="8915400" cy="762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لابد أن تتكامل استراتيجية المعرفة مع رسالة المنظمة ورؤيتها كما تظهر في الشكل التالي</a:t>
            </a:r>
            <a:endParaRPr b="0" lang="en-US" sz="2000" spc="-1" strike="noStrike">
              <a:solidFill>
                <a:srgbClr val="000000"/>
              </a:solidFill>
              <a:latin typeface="Calibri"/>
            </a:endParaRPr>
          </a:p>
        </p:txBody>
      </p:sp>
      <p:pic>
        <p:nvPicPr>
          <p:cNvPr id="173" name="Diagram 3" descr=""/>
          <p:cNvPicPr/>
          <p:nvPr/>
        </p:nvPicPr>
        <p:blipFill>
          <a:blip r:embed="rId1"/>
          <a:stretch/>
        </p:blipFill>
        <p:spPr>
          <a:xfrm>
            <a:off x="1725480" y="1901880"/>
            <a:ext cx="6620040" cy="43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تقع استراتيجيات إدارة المعرفة في ثلاث تقسيمات</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ي</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1- </a:t>
            </a:r>
            <a:r>
              <a:rPr b="0" lang="ar-SA" sz="3200" spc="-1" strike="noStrike">
                <a:solidFill>
                  <a:srgbClr val="003f5e"/>
                </a:solidFill>
                <a:latin typeface="Calibri"/>
                <a:cs typeface="PT Bold Heading"/>
              </a:rPr>
              <a:t>إحراز أو الاستحواذ على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2- </a:t>
            </a:r>
            <a:r>
              <a:rPr b="0" lang="ar-SA" sz="3200" spc="-1" strike="noStrike">
                <a:solidFill>
                  <a:srgbClr val="003f5e"/>
                </a:solidFill>
                <a:latin typeface="Calibri"/>
                <a:cs typeface="PT Bold Heading"/>
              </a:rPr>
              <a:t>الاحتفاظ ب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3- </a:t>
            </a:r>
            <a:r>
              <a:rPr b="0" lang="ar-SA" sz="3200" spc="-1" strike="noStrike">
                <a:solidFill>
                  <a:srgbClr val="003f5e"/>
                </a:solidFill>
                <a:latin typeface="Calibri"/>
                <a:cs typeface="PT Bold Heading"/>
              </a:rPr>
              <a:t>استغلال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فيما يلي نوضح ذلك</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 </a:t>
            </a:r>
            <a:r>
              <a:rPr b="0" lang="ar-SA" sz="3200" spc="-1" strike="noStrike">
                <a:solidFill>
                  <a:srgbClr val="000000"/>
                </a:solidFill>
                <a:latin typeface="Calibri"/>
                <a:cs typeface="PT Bold Heading"/>
              </a:rPr>
              <a:t>إحراز أو الاستحواذ على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ينبغي أن يكون للمنظمة استراتيجية للاستحواذ على المعرفة في المستقبل ، ويمكن أحراز هذه المعرفة الجديدة من خلال مساريين رئيسي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حصول على المعرفة من خارج المنظمة إما بشرائها أو تعيين خبراء فيها أو الترخيص لها من خلال براءة الاختراع.</a:t>
            </a: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صناعة المعرفة من داخل المنظمة من خلال أنشطة البحوث التطبيقية أو بأحرازها بواسطة الخبرة المتاحة للعاملين.</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ينبغي ملاحظة أن توليد المعرفة سواء بشرائها أو أتناجها داخلياً يصب في الميزة التنافسية، وكلما كانت المعرفة أكثر أبداعاً تضيف تميزاً على استراتيجيات المنظمة وتمكنها من التغلب على منافسيها بسهول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 </a:t>
            </a:r>
            <a:r>
              <a:rPr b="0" lang="ar-SA" sz="3200" spc="-1" strike="noStrike">
                <a:solidFill>
                  <a:srgbClr val="000000"/>
                </a:solidFill>
                <a:latin typeface="Calibri"/>
                <a:cs typeface="PT Bold Heading"/>
              </a:rPr>
              <a:t>الاحتفاظ ب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الغرض من هذه الاستراتيجية ضمان المحافظة على قاعدة المعرفة وصيانتها عند النقطة التي يتم استغلالها في المنظم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وجد فرق بين المعرفة الواضحة والمعرفة الضمنية في المنظمة فكلاهما تؤكد المنظمة على ملكيتها ل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تقابل هذه الاستراتيجية تحدى مطلب نشر المعرفة داخل المنظمة لتظل متاحة لنقطة الاستغلال، ومشاركتها بين الموظفين، فإلى أي مدة يمكن المنظمة أن توازن بين الأمر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3- </a:t>
            </a:r>
            <a:r>
              <a:rPr b="0" lang="ar-SA" sz="3200" spc="-1" strike="noStrike">
                <a:solidFill>
                  <a:srgbClr val="000000"/>
                </a:solidFill>
                <a:latin typeface="Calibri"/>
                <a:cs typeface="PT Bold Heading"/>
              </a:rPr>
              <a:t>استغلال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عتبر استغلال المعرفة الجزء الأكثر أهمية في إدارة المعرفة حيث يتم استغلال المعرفة من خلال مساريين رئيسيين 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داخل المنظمة فتحقق الميزة التنافسية.</a:t>
            </a:r>
            <a:endParaRPr b="0" lang="en-US" sz="2400" spc="-1" strike="noStrike">
              <a:solidFill>
                <a:srgbClr val="000000"/>
              </a:solidFill>
              <a:latin typeface="Calibri"/>
            </a:endParaRPr>
          </a:p>
          <a:p>
            <a:pPr marL="343080" indent="-34308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خارجياً عن طريق الترخيص ببراءات اختراع أو تقديمها كخدمات استشارية لمن يريدها</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7"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بادئ إدارة المعرفة</a:t>
            </a:r>
            <a:endParaRPr b="0" lang="en-US" sz="4400" spc="-1" strike="noStrike">
              <a:solidFill>
                <a:srgbClr val="376092"/>
              </a:solidFill>
              <a:latin typeface="Calibri"/>
            </a:endParaRPr>
          </a:p>
        </p:txBody>
      </p:sp>
      <p:sp>
        <p:nvSpPr>
          <p:cNvPr id="159"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اول: إدارة المعرفة مكلفة ( ولكنها ليست ذكية)</a:t>
            </a:r>
            <a:endParaRPr b="0" lang="en-US" sz="3200" spc="-1" strike="noStrike">
              <a:solidFill>
                <a:srgbClr val="000000"/>
              </a:solidFill>
              <a:latin typeface="Calibri"/>
            </a:endParaRPr>
          </a:p>
          <a:p>
            <a:pPr marL="329040" indent="-329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أصل من أصول المنظمة وتتطلب إدارة فعالة لاستثمار أصولها. وهناك العديد من الأنشطة المرتبطة التي تتطلب استثمار في العمالة والأموال مثل</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حصول على المعرفة مثل أعداد الوثائق ونقلها إلى الحاسب الآلي.</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قيمة المضافة للمعرفة خلال عملية التأليف والتجميع والتنقيح.</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داخل تطوير وتقسيم المعرفة وتصنيف المساهمات الجديدة فيها.</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طوير البنية الأساسية لتكنولوجيا المعلومات وتطبيقات توزيع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عليم العاملين صناعة ( خلق ) والمشاركة والاستخدام للمعرفة.</a:t>
            </a:r>
            <a:endParaRPr b="0" lang="en-US" sz="1600" spc="-1" strike="noStrike">
              <a:solidFill>
                <a:srgbClr val="000000"/>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بالرغم من ارتفاع التكلفة إلا أن مردودها أعلى بكثير من تكلفتها حيث أن:</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ا هي تكلفة الجهل والقصور في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كم تتكلف المنظمة في حال عدم قدرتها على الإجابة على تساؤلات العملاء.</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و أتخاذ قرارات ضعيفة اعتمادا على الجهل بالمعرفة.</a:t>
            </a:r>
            <a:endParaRPr b="0" lang="en-US" sz="1600" spc="-1" strike="noStrike">
              <a:solidFill>
                <a:srgbClr val="000000"/>
              </a:solidFill>
              <a:latin typeface="Calibri"/>
            </a:endParaRPr>
          </a:p>
          <a:p>
            <a:pPr lvl="1" marL="71316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فلتعرف قيمة الجودة أنظر إلى تكلفة الافتقار إلي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ني: تتطلب الإدارة الفعالة للمعرفة حلولاً تمزج بين الأفراد والتكنولوجيا.</a:t>
            </a:r>
            <a:endParaRPr b="0" lang="en-US" sz="32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عندما نبحث عن فهم وتفسير المعرفة في نطاق البيئة وتجميعها من مصادرها المختلفة فإننا نحتاج إلى العنصر البشري.</a:t>
            </a:r>
            <a:endParaRPr b="0" lang="en-US" sz="2400" spc="-1" strike="noStrike">
              <a:solidFill>
                <a:srgbClr val="000000"/>
              </a:solidFill>
              <a:latin typeface="Calibri"/>
            </a:endParaRPr>
          </a:p>
          <a:p>
            <a:pPr marL="343080" indent="-3430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عندما نحتاج إلى تحويل وتوزيع المعرفة ذات الهيكل العالي  والتي تتغير بسرعة فإن الحاسب الآلي أكثر قدرة من البشر في ذلك.</a:t>
            </a:r>
            <a:endParaRPr b="0" lang="en-US" sz="24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ذلك فإن يتطلب مزيجاً مناسباً من العنصر البشري ونظم التكنولوجيا لإدارة المعرفة</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لث: إدارة المعرفة ذات صبغة سياسية عليا</a:t>
            </a:r>
            <a:endParaRPr b="0" lang="en-US" sz="32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نى الإدارة العليا بتحديد رؤية ورسالة واستراتيجيات  والسياسات الهامة والمصيرية بالمنظمة وبالتالي فإن إدارة المعرفة من لب عمل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ذلك لابد من أجماع المديرون والقادة حول ضرورة تبني مدخل من مداخل المعرفة للمنظمة ، كما يناط بهم أيضاً تحديد سياسات المعرفة لإدارتها بطريقة فعال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رابع: تتطلب الإدارة الفعالة للمعرفة مديرون ل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29040" indent="-32904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كل منظمة وظائفها  التنظيمية الجوهرية والتي تحدد واجباتها ومسئولياتها ومعايير أدائها.</a:t>
            </a:r>
            <a:endParaRPr b="0" lang="en-US" sz="2400" spc="-1" strike="noStrike">
              <a:solidFill>
                <a:srgbClr val="000000"/>
              </a:solidFill>
              <a:latin typeface="Calibri"/>
            </a:endParaRPr>
          </a:p>
          <a:p>
            <a:pPr marL="329040" indent="-3290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مكن أن تدار المعرفة بالمنظمة إلا بتوضيح ما يجب أن تؤديه بعض هذه الوظائف في جمع وتصنيف المعرفة وإنشاء بنية أساسية تكنولوجية موجهة بالمعرفة وإعطاء النصائح والإرشادات لاستخدام تلك المعرفة.</a:t>
            </a:r>
            <a:endParaRPr b="0" lang="en-US" sz="2400" spc="-1" strike="noStrike">
              <a:solidFill>
                <a:srgbClr val="000000"/>
              </a:solidFill>
              <a:latin typeface="Calibri"/>
            </a:endParaRPr>
          </a:p>
          <a:p>
            <a:pPr marL="329040" indent="-329040"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نبغي على مديرو  المعرفة أدراك أن أهم مقومات نجاحهم هو أنكار الذ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95000" y="1600200"/>
            <a:ext cx="8915400" cy="4525920"/>
          </a:xfrm>
          <a:prstGeom prst="rect">
            <a:avLst/>
          </a:prstGeom>
          <a:noFill/>
          <a:ln w="0">
            <a:noFill/>
          </a:ln>
        </p:spPr>
        <p:txBody>
          <a:bodyPr anchor="t">
            <a:normAutofit fontScale="99000"/>
          </a:bodyPr>
          <a:p>
            <a:pPr marL="339480" indent="-33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خامس: من فوائد إدارة المعرفة</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ضع خرائط للمعرفة أكثر فائدة من وضع نماذج للمعرفة، </a:t>
            </a:r>
            <a:endParaRPr b="0" lang="en-US" sz="24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فوائدها في الأسواق أكثر من فوائدها في التدرج الهرمي للمعرفة</a:t>
            </a:r>
            <a:endParaRPr b="0" lang="en-US" sz="24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لجأ المنظمة إلى عمل نموذج هرمي للمعرفة ولكن غالبية المنظمات تكون في حالة أفضل بتبادلها المعرفة المتوفرة في السوق ووضع خرائط لهذ المعرفة بالقدر الذي يجعل لديها رؤية لرغبات عملائها.</a:t>
            </a:r>
            <a:endParaRPr b="0" lang="en-US" sz="20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توصيف عملية النشر في خريطة للمعرفة يكون أكثر فائدة للمستخدم من نموذج المعرفة بالرغم من أن النموذج أكثر فهماً من القائمين على أمر المعرفة بالمنظمة.</a:t>
            </a:r>
            <a:endParaRPr b="0" lang="en-US" sz="2000" spc="-1" strike="noStrike">
              <a:solidFill>
                <a:srgbClr val="000000"/>
              </a:solidFill>
              <a:latin typeface="Calibri"/>
            </a:endParaRPr>
          </a:p>
          <a:p>
            <a:pPr marL="339480" indent="-3394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وضع خريطة للمعرفة التنظيمية هو نشاط ربما يكون فردي ولكنه الأكثر احتمالا لتحقيق أفضل وصول لهذه المعرف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95000" y="1600200"/>
            <a:ext cx="8915400" cy="4525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دس: مشاركة واستخدام المعرفة غالباً ما تكون أفعالاً غير طبيعية.</a:t>
            </a:r>
            <a:endParaRPr b="0" lang="en-US" sz="32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يتساءل</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حاملي المعرفة أنه إذا كانت المعرفة لديهم ذات قيمة فكيف يشاركون أحداً في تلك المعرفة؟</a:t>
            </a:r>
            <a:endParaRPr b="0" lang="en-US" sz="20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ويتساءلون</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وإذا كانت وظائفنا صناعة المعرفة، فلماذا نضع وظائفنا في مخاطرة حيث تستخدم المنظمة أخرين بدلاً منا؟</a:t>
            </a:r>
            <a:endParaRPr b="0" lang="en-US" sz="20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وهذه النظرة من قبل صناع المعرفة المليئة بالشك والريبة أتجاه طبيعي ما لم تتوفر لديهم دافعية عالية للمشاركة في المعرفة من خلال تقييم الأداء والحوافز والمكافآت</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32640" indent="-3326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إن المشاركة واستخدام المعرفة لا تكون منحة من العامل بقدر ما تكون ذات قيمة له تجعله مدفوعاً لذل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بع: إدارة المعرفة تعني تحسين العمل المعرفي</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اشك أن المنظمة تحتاج إلى تحسين عملية إدارة المعرفة عموماً إلا أنها المعرفة يتم استخدامها ومشاركتها بكثافة في بعض العمليات العمل المعرفي المحددة مثل </a:t>
            </a:r>
            <a:r>
              <a:rPr b="0" lang="ar-SA" sz="2000" spc="-1" strike="noStrike">
                <a:solidFill>
                  <a:srgbClr val="ff0000"/>
                </a:solidFill>
                <a:latin typeface="Calibri"/>
                <a:ea typeface="PT Bold Heading"/>
              </a:rPr>
              <a:t>( بحوث التسويق، تصميم وتطوير المنتج، التسعير، أعداد الأوامر... )</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بالتالي التحسين في هذه العمليات يصب في تحسين إدارة المعرفة بشكل مباشر. </a:t>
            </a: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أكثر مداخل التحسين فعالية هي التي تصب في</a:t>
            </a:r>
            <a:r>
              <a:rPr b="0" lang="ar-SA" sz="2000" spc="-1" strike="noStrike">
                <a:solidFill>
                  <a:srgbClr val="ff0000"/>
                </a:solidFill>
                <a:latin typeface="Calibri"/>
                <a:ea typeface="PT Bold Heading"/>
              </a:rPr>
              <a:t> الإدارة الوسطى </a:t>
            </a:r>
            <a:r>
              <a:rPr b="0" lang="ar-SA" sz="2000" spc="-1" strike="noStrike">
                <a:solidFill>
                  <a:srgbClr val="003f5e"/>
                </a:solidFill>
                <a:latin typeface="Calibri"/>
                <a:cs typeface="PT Bold Heading"/>
              </a:rPr>
              <a:t>التي تقع بين قمة التنظيم وقاعدته، حيث أن :</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أقل تدخل من القمة إلى القاعدة.</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تطبيق المعرفة بصورة أكث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8:07:30Z</dcterms:modified>
  <cp:revision>111</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