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0705-64F1-4A5F-8C1D-D3B22D8C8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C7CB-F398-487B-B61C-4091D73EB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0D54-08C8-4ABA-9C0E-F43B7BEF6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3162-DB2E-473E-9126-E7BA53722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A0C1-9801-4A1D-9A5F-3C7E17BCE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25D08-A465-4477-A206-B520998827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F154-23B9-4B37-B503-2192973F94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113A-E175-4E8D-9A7E-0F1F08A1A4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B6AF-64B9-47BE-A809-7075ED31AE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8CE3-0E48-4DAD-81AD-042B3FA5B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3AA6-097B-4EB2-9898-E98F3303E1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A83F-47D3-479B-83E8-1572DF7725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5CC8-728B-4E6D-A468-B995B2C294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0661-D28F-468A-8890-604B44B3F7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D9D3-6502-4FBE-9849-F9E305A66B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7913-67FE-4A7B-8FE5-48B81337AF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E819-C29C-4B17-B56A-EDF1FB98FD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A29E-1915-424B-81F4-DDC6CA156D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E655-C253-41A7-B4AF-46005F8C61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6977-AF0C-4CF7-9AAD-E689B6E7E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EF15-7A30-4022-A473-B5A8FFAF3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3E6A-19FB-46C6-9DE4-34FACABF5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DED6-A4F6-4C10-8922-74D47D321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AA43-7FF6-41A7-A83B-422AAC2BE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E6FB-855B-4955-A326-17B2389647A0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18F4-6AC1-46D7-88C7-581CB5EE4047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F6C4-52A3-43CE-8BE0-EA2C3DCECCC4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1B6D-D309-4E14-95AD-29F0B32EA84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9F82-4764-4025-96E8-1B90F12435BB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C569-22F7-4344-8959-C336E755E5F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8388-BF14-449C-B8F1-6542EB6A230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شكل يبين مصفوفة فارغ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95360" y="1905120"/>
          <a:ext cx="8915400" cy="3504960"/>
        </p:xfrm>
        <a:graphic>
          <a:graphicData uri="http://schemas.openxmlformats.org/drawingml/2006/table">
            <a:tbl>
              <a:tblPr/>
              <a:tblGrid>
                <a:gridCol w="2582640"/>
                <a:gridCol w="2652840"/>
                <a:gridCol w="3679920"/>
              </a:tblGrid>
              <a:tr h="1556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000" spc="-1" strike="noStrike">
                          <a:solidFill>
                            <a:srgbClr val="ff0000"/>
                          </a:solidFill>
                          <a:latin typeface="Calibri"/>
                          <a:cs typeface="PT Bold Heading"/>
                        </a:rPr>
                        <a:t>المجالات الوظيفية لحاملي المعرف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منظم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(وحدة تنظيمية رقم </a:t>
                      </a: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ال الوظيفي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ال الوظيف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000" spc="-1" strike="noStrike">
                          <a:solidFill>
                            <a:srgbClr val="ff0000"/>
                          </a:solidFill>
                          <a:latin typeface="Calibri"/>
                          <a:cs typeface="PT Bold Heading"/>
                        </a:rPr>
                        <a:t>المجال المعرفي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24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A9F2-EF1C-4B36-BB68-D8C375D14B9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ثال تطبيقي على: وظيفة سك العملة</a:t>
            </a:r>
            <a:r>
              <a:rPr b="0" lang="ar-SA" sz="4400" spc="-1" strike="noStrike">
                <a:solidFill>
                  <a:srgbClr val="af9738"/>
                </a:solidFill>
                <a:latin typeface="Calibri"/>
                <a:ea typeface="PT Bold Heading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1087560"/>
          <a:ext cx="9310680" cy="4703760"/>
        </p:xfrm>
        <a:graphic>
          <a:graphicData uri="http://schemas.openxmlformats.org/drawingml/2006/table">
            <a:tbl>
              <a:tblPr/>
              <a:tblGrid>
                <a:gridCol w="957240"/>
                <a:gridCol w="766800"/>
                <a:gridCol w="779400"/>
                <a:gridCol w="766800"/>
                <a:gridCol w="777960"/>
                <a:gridCol w="836640"/>
                <a:gridCol w="779400"/>
                <a:gridCol w="836640"/>
                <a:gridCol w="777960"/>
                <a:gridCol w="838080"/>
                <a:gridCol w="1193760"/>
              </a:tblGrid>
              <a:tr h="578520"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سن (م أسطوان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لي ( مدرب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حمود ( مدرب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حمد ( م المدير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حمد ( المدي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ال الوظي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جال المعر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لم المعاد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أسطوان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فر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ط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روس الط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عاي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بريد الخا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توس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توسط الفجو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</a:tbl>
          </a:graphicData>
        </a:graphic>
      </p:graphicFrame>
      <p:sp>
        <p:nvSpPr>
          <p:cNvPr id="251" name="عنوان 3"/>
          <p:cNvSpPr/>
          <p:nvPr/>
        </p:nvSpPr>
        <p:spPr>
          <a:xfrm>
            <a:off x="1219320" y="57150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af9738"/>
                </a:solidFill>
                <a:latin typeface="Calibri"/>
                <a:cs typeface="PT Bold Heading"/>
              </a:rPr>
              <a:t>المتوسط العام للمستوى الفعلي = </a:t>
            </a:r>
            <a:r>
              <a:rPr b="0" lang="ar-SA" sz="1800" spc="-1" strike="noStrike">
                <a:solidFill>
                  <a:srgbClr val="af9738"/>
                </a:solidFill>
                <a:latin typeface="Calibri"/>
                <a:ea typeface="PT Bold Heading"/>
              </a:rPr>
              <a:t>24.12</a:t>
            </a:r>
            <a:r>
              <a:rPr b="0" lang="ar-SA" sz="1800" spc="-1" strike="noStrike">
                <a:solidFill>
                  <a:srgbClr val="af9738"/>
                </a:solidFill>
                <a:latin typeface="Calibri"/>
                <a:ea typeface="PT Bold Heading"/>
              </a:rPr>
              <a:t>   </a:t>
            </a:r>
            <a:r>
              <a:rPr b="0" lang="ar-SA" sz="1800" spc="-1" strike="noStrike">
                <a:solidFill>
                  <a:srgbClr val="af9738"/>
                </a:solidFill>
                <a:latin typeface="Arial"/>
                <a:cs typeface="PT Bold Heading"/>
              </a:rPr>
              <a:t>المتوسط العام للمستوى المرغوب = </a:t>
            </a:r>
            <a:r>
              <a:rPr b="0" lang="ar-SA" sz="1800" spc="-1" strike="noStrike">
                <a:solidFill>
                  <a:srgbClr val="af9738"/>
                </a:solidFill>
                <a:latin typeface="Arial"/>
                <a:ea typeface="PT Bold Heading"/>
              </a:rPr>
              <a:t>31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جوة المعرفة =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4.12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1.26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= 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7.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= -0.43- 1.14 – 1.85 – 2.43 – 1.29= -7.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جوة المعرف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الفجوة المعرفية = ـــــــــــــــــــــــــــــــــ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دد المجالات المعرفية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7.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الفجوة المعرفية = ـــــــــــــــــــــــــ = -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.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7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95000" y="1523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الحصول على أرقام المصفوفة من خل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يحدد حاملي المعرفة المستويات الحالية من المعرفة لكل مجال معرفي وذلك لكل زمي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قد جلسات جماعية للمناقشة بين العاملين ليعرض كل فرد رأيه في المقادير، ويمكن استخدام طريقة الاختبار العشوائي للتأكد من المقاد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بنفس الطريقة التي تم تحديد المستويات الحالية للمعرفة يتم تحديد المستويات المرغوب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وضح مصفوفة المعرفة ثلاثة عناصر يمكن قياسها بصورة كمية بالمنظمة هي</a:t>
            </a:r>
            <a:r>
              <a:rPr b="0" lang="ar-SA" sz="4400" spc="-1" strike="noStrike">
                <a:solidFill>
                  <a:srgbClr val="af9738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ستوى الطموح لكل مجال وظيفي لكل عامل. فيحدد كل عا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حتياجات التدريس والتعلم لكل عضو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إن يكون لكل عضو بالمنظمة برنامج لتطوير موهبت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مستوى الطموح ككل ، وفجوة المعرفة في المجال الوظيفي المحدد عن طريق متوسط المقادير لكل العامل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فجوة المعرفة لكل مجال معرف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غطية الطموح المعرفي. وهو مؤشر للأداء يقيس إلى أي مدى تقابل الوظيفة مستوى الطموح، وهنا ثلاث احتمال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&gt; المستوى المرغوب وهنا لا توجد فجوة للمعر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= المستوى المرغوب : وهنا الفجوة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&lt; المستوى المرغوب، والفرق يمثل فجوة المعرف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عادلة تغطية الطموح المعرفي ( ت ط م )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                                            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متوسط فجوة المعر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53d75"/>
                </a:solidFill>
                <a:latin typeface="Calibri"/>
                <a:cs typeface="PT Bold Heading"/>
              </a:rPr>
              <a:t>تغطية الطموح المعرفي =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+ ( ـــــــــــــــــــــ )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</a:rPr>
              <a:t>×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                                      </a:t>
            </a:r>
            <a:r>
              <a:rPr b="0" lang="ar-SA" sz="2000" spc="-1" strike="noStrike">
                <a:solidFill>
                  <a:srgbClr val="253d75"/>
                </a:solidFill>
                <a:latin typeface="Calibri"/>
                <a:cs typeface="PT Bold Heading"/>
              </a:rPr>
              <a:t>متوسط مستوى الطمو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وهناك نميز بين اثنين من تغطية الطموح المعرفي هما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الأداء الكلي للإدارة.  ونستخدم فيه كل فجوات المعرفة ( عادةً ما تكون صفر أو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اقل) ونستخدم فيه أيضاً كل مستويات المعرفة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نستخدم تغطية الطموح المعرفي فقط في أحد المجالات فقط إن كان فيها فجوة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قوس متوسط أيمن 5"/>
          <p:cNvSpPr/>
          <p:nvPr/>
        </p:nvSpPr>
        <p:spPr>
          <a:xfrm>
            <a:off x="5334120" y="1676520"/>
            <a:ext cx="457200" cy="1676160"/>
          </a:xfrm>
          <a:custGeom>
            <a:avLst/>
            <a:gdLst>
              <a:gd name="textAreaLeft" fmla="*/ 0 w 457200"/>
              <a:gd name="textAreaRight" fmla="*/ 320760 w 457200"/>
              <a:gd name="textAreaTop" fmla="*/ 18720 h 1676160"/>
              <a:gd name="textAreaBottom" fmla="*/ 16574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46"/>
                  <a:pt x="21600" y="491"/>
                </a:cubicBezTo>
                <a:lnTo>
                  <a:pt x="21600" y="21109"/>
                </a:lnTo>
                <a:cubicBezTo>
                  <a:pt x="21600" y="21355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قوس متوسط أيسر 6"/>
          <p:cNvSpPr/>
          <p:nvPr/>
        </p:nvSpPr>
        <p:spPr>
          <a:xfrm>
            <a:off x="2209680" y="1676520"/>
            <a:ext cx="381240" cy="1600200"/>
          </a:xfrm>
          <a:custGeom>
            <a:avLst/>
            <a:gdLst>
              <a:gd name="textAreaLeft" fmla="*/ 111960 w 381240"/>
              <a:gd name="textAreaRight" fmla="*/ 381600 w 381240"/>
              <a:gd name="textAreaTop" fmla="*/ 15840 h 1600200"/>
              <a:gd name="textAreaBottom" fmla="*/ 15843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5"/>
                  <a:pt x="0" y="429"/>
                </a:cubicBezTo>
                <a:lnTo>
                  <a:pt x="0" y="21171"/>
                </a:lnTo>
                <a:cubicBezTo>
                  <a:pt x="0" y="2138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طبيق على مثال سك العمل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المعرفي للمجال الأو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4.57/0.43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90.59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ن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4.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للمجال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8/1.1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81.84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في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كذا بقية المجال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المعرفي في الأداء الكلي للإدار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للأداء الكلي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5/1.02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83.68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في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26BE-64C5-45AA-AFA8-1E6D83C8E8A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34C8-8694-4FF5-9C1A-EFACF84D33E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سلسلة القيمة ل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مصفوفة ا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س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 </a:t>
            </a:r>
            <a:r>
              <a:rPr b="1" lang="ar-SA" sz="2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وهي ذات متغيرات متعددة)</a:t>
            </a:r>
            <a:r>
              <a:rPr b="1" lang="en-US" sz="1600" spc="-1" strike="noStrike">
                <a:solidFill>
                  <a:srgbClr val="af9738"/>
                </a:solidFill>
                <a:latin typeface="AYM Wadiy S_U normal."/>
                <a:ea typeface="PT Bold Heading"/>
              </a:rPr>
              <a:t>)</a:t>
            </a:r>
            <a:r>
              <a:rPr b="1" lang="en-US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</a:t>
            </a: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</a:t>
            </a:r>
            <a:r>
              <a:rPr b="1" lang="ar-SA" sz="37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عادلة المعرفة</a:t>
            </a:r>
            <a:endParaRPr b="0" lang="en-US" sz="37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عرفة = المعلومات (الخبرة </a:t>
            </a:r>
            <a:r>
              <a:rPr b="1" lang="ar-SA" sz="4400" spc="-1" strike="noStrike">
                <a:solidFill>
                  <a:srgbClr val="376092"/>
                </a:solidFill>
                <a:latin typeface="ae_AlMateen"/>
              </a:rPr>
              <a:t>×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هارات</a:t>
            </a:r>
            <a:r>
              <a:rPr b="1" lang="ar-SA" sz="4400" spc="-1" strike="noStrike">
                <a:solidFill>
                  <a:srgbClr val="376092"/>
                </a:solidFill>
                <a:latin typeface="ae_AlMateen"/>
              </a:rPr>
              <a:t> ×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اتجاه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8CF8-AAA0-4AA1-BBA3-4FBF3F8AAD1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وسيلة شرح مستطيلة مستديرة الزوايا 2"/>
          <p:cNvSpPr/>
          <p:nvPr/>
        </p:nvSpPr>
        <p:spPr>
          <a:xfrm>
            <a:off x="7696080" y="3505320"/>
            <a:ext cx="2057400" cy="2133360"/>
          </a:xfrm>
          <a:prstGeom prst="wedgeRoundRectCallout">
            <a:avLst>
              <a:gd name="adj1" fmla="val -57888"/>
              <a:gd name="adj2" fmla="val -71004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معرفة التي يمكن تدوينها بصورة فعلية بواسطة الفرد في وظيفته، والمعبر عنها بلغة مفهومة والتي تم أحرازها وفهمها فهماً كاملا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وسيلة شرح مع سهم إلى الأعلى 5"/>
          <p:cNvSpPr/>
          <p:nvPr/>
        </p:nvSpPr>
        <p:spPr>
          <a:xfrm>
            <a:off x="5867280" y="2209680"/>
            <a:ext cx="1828800" cy="838440"/>
          </a:xfrm>
          <a:prstGeom prst="upArrowCallout">
            <a:avLst>
              <a:gd name="adj1" fmla="val 24985"/>
              <a:gd name="adj2" fmla="val 24993"/>
              <a:gd name="adj3" fmla="val 25000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صريح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وسيلة شرح مستطيلة مستديرة الزوايا 10"/>
          <p:cNvSpPr/>
          <p:nvPr/>
        </p:nvSpPr>
        <p:spPr>
          <a:xfrm>
            <a:off x="4952880" y="3505320"/>
            <a:ext cx="2057400" cy="2133360"/>
          </a:xfrm>
          <a:prstGeom prst="wedgeRoundRectCallout">
            <a:avLst>
              <a:gd name="adj1" fmla="val -46990"/>
              <a:gd name="adj2" fmla="val -106986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معرفة المتحصل عليها من خلال الاكتشاف أو الملاحظ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وسيلة شرح مستطيلة مستديرة الزوايا 11"/>
          <p:cNvSpPr/>
          <p:nvPr/>
        </p:nvSpPr>
        <p:spPr>
          <a:xfrm>
            <a:off x="2590920" y="3505320"/>
            <a:ext cx="2057400" cy="2133360"/>
          </a:xfrm>
          <a:prstGeom prst="wedgeRoundRectCallout">
            <a:avLst>
              <a:gd name="adj1" fmla="val -31893"/>
              <a:gd name="adj2" fmla="val -109819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براعة اليدوية والعقلية، والقدرات المختل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وسيلة شرح مستطيلة مستديرة الزوايا 12"/>
          <p:cNvSpPr/>
          <p:nvPr/>
        </p:nvSpPr>
        <p:spPr>
          <a:xfrm>
            <a:off x="304920" y="3513240"/>
            <a:ext cx="2057400" cy="2133360"/>
          </a:xfrm>
          <a:prstGeom prst="wedgeRoundRectCallout">
            <a:avLst>
              <a:gd name="adj1" fmla="val -9671"/>
              <a:gd name="adj2" fmla="val -108606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هي التصرفات التي يتميز بها الفرد في المواقف الخاصة والتي تنشأ من الافتراضات الأساسية والعبادات والقيم التي يؤمن ب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وسيلة شرح مع سهم إلى الأعلى 9"/>
          <p:cNvSpPr/>
          <p:nvPr/>
        </p:nvSpPr>
        <p:spPr>
          <a:xfrm>
            <a:off x="838080" y="2209680"/>
            <a:ext cx="4876920" cy="838440"/>
          </a:xfrm>
          <a:prstGeom prst="upArrowCallout">
            <a:avLst>
              <a:gd name="adj1" fmla="val 24992"/>
              <a:gd name="adj2" fmla="val 24990"/>
              <a:gd name="adj3" fmla="val 25000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ضمنية ( الكامن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سلسلة القيم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بر سلسلة القيمة للمعرفة من خصائص المنظمات كثيفة المعرفة، لأنها تعتبر جزءًا ضرورياً من عملية صناعة المعرفة          ( أنظر الشكل التالي)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1410-EE79-4200-A90D-76D87FC9F10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خطط انسيابي: مهلة 3"/>
          <p:cNvSpPr/>
          <p:nvPr/>
        </p:nvSpPr>
        <p:spPr>
          <a:xfrm>
            <a:off x="838080" y="3200400"/>
            <a:ext cx="1454400" cy="1447920"/>
          </a:xfrm>
          <a:prstGeom prst="flowChartDelay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رس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رؤ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هد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استراتي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خماسي 4"/>
          <p:cNvSpPr/>
          <p:nvPr/>
        </p:nvSpPr>
        <p:spPr>
          <a:xfrm>
            <a:off x="2282760" y="3200400"/>
            <a:ext cx="2822760" cy="144792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60" y="0"/>
                </a:lnTo>
                <a:lnTo>
                  <a:pt x="21600" y="10800"/>
                </a:lnTo>
                <a:lnTo>
                  <a:pt x="1606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طوير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توضيح المخزون المتاح من المعرف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تحديد الاحتياجات من المعرف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خماسي 8"/>
          <p:cNvSpPr/>
          <p:nvPr/>
        </p:nvSpPr>
        <p:spPr>
          <a:xfrm>
            <a:off x="4626000" y="3200400"/>
            <a:ext cx="2155680" cy="144792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47" y="0"/>
                </a:lnTo>
                <a:lnTo>
                  <a:pt x="21600" y="10800"/>
                </a:lnTo>
                <a:lnTo>
                  <a:pt x="1434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نشر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PT Bold Heading"/>
              </a:rPr>
              <a:t>(انتقا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مشارك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خماسي 9"/>
          <p:cNvSpPr/>
          <p:nvPr/>
        </p:nvSpPr>
        <p:spPr>
          <a:xfrm>
            <a:off x="6324480" y="3200400"/>
            <a:ext cx="1986120" cy="1447920"/>
          </a:xfrm>
          <a:custGeom>
            <a:avLst/>
            <a:gdLst>
              <a:gd name="textAreaLeft" fmla="*/ 0 w 1986120"/>
              <a:gd name="textAreaRight" fmla="*/ 1986480 w 1986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727" y="0"/>
                </a:lnTo>
                <a:lnTo>
                  <a:pt x="21600" y="10800"/>
                </a:lnTo>
                <a:lnTo>
                  <a:pt x="1372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طبيق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مخطط انسيابي: مهلة 10"/>
          <p:cNvSpPr/>
          <p:nvPr/>
        </p:nvSpPr>
        <p:spPr>
          <a:xfrm>
            <a:off x="7918560" y="3200400"/>
            <a:ext cx="1454040" cy="1447920"/>
          </a:xfrm>
          <a:prstGeom prst="flowChartDelay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قي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تقد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رابط بشكل مرفق 6"/>
          <p:cNvCxnSpPr/>
          <p:nvPr/>
        </p:nvCxnSpPr>
        <p:spPr>
          <a:xfrm flipH="1">
            <a:off x="612000" y="3924000"/>
            <a:ext cx="8769960" cy="1486440"/>
          </a:xfrm>
          <a:prstGeom prst="bentConnector3">
            <a:avLst>
              <a:gd name="adj1" fmla="val -2602"/>
            </a:avLst>
          </a:prstGeom>
          <a:ln w="381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235" name="رابط بشكل مرفق 12"/>
          <p:cNvCxnSpPr/>
          <p:nvPr/>
        </p:nvCxnSpPr>
        <p:spPr>
          <a:xfrm flipH="1" flipV="1" rot="5400000">
            <a:off x="39960" y="4609440"/>
            <a:ext cx="1372320" cy="229320"/>
          </a:xfrm>
          <a:prstGeom prst="bentConnector3">
            <a:avLst>
              <a:gd name="adj1" fmla="val 100918"/>
            </a:avLst>
          </a:prstGeom>
          <a:ln w="38160">
            <a:solidFill>
              <a:srgbClr val="ceb9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مما لا شك فيه أن أي نمط من أنماط إدارة المعرفة يبحث في سلسلة القيم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للمعرفة ينبغي أن يبنى على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عنصرين هامين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هما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ضمان أن العمالة ذات القيمة العالية للمعرفة ليس لديهم الرغبة في ترك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نظم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ضرورة التأكد من أن المعرفة الضمنية والمتوفرة بكثرة يمكن توضيحها من خلال العملية التجسيدية، وإمكانية الوصول إليها عن طريق المنظمة مثل المعلومات تماماً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مكن تحديد 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مقياس لنشاط سلسلة القيمة للمعرفة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ي أي مجال تمتلك المنظمة معرفة أفضل أكثر من منافسيها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متلاك دليل/ قاعدة بيانات على الحاسب الآلي لتوضيح أين تتوافر المعرفة في منظمتن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F17E-BBFD-4050-8989-86AB4E9DB45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أنشطة سلسلة القيم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حديد الحاجة للمعرفة.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ذلك من خلال عاملين هما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أي أنواع المعرفة الضرورية لتحقيق استراتيجية الش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ستخدام عمليات ذات إجراءات منت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حديد المعرفة المتاحة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ذلك من خلال عاملين هم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أي المجالات لديها معرفة أفضل من المنافس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وفر دليل وقواعد بيانات على الحاسب وأين ه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طوير المعرفة.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 عاملين هم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متلاك إجراءات رسمية لتطوير المعرفة مثل برامج التطوير والتدري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أمكانية توفير المعرفة من الخارج في حالة الحاجة إلى ذلك بغض النظر عن التك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العمليات الوظيفية لسلسلة القيمة للمعرفة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242" name="عنصر نائب للمحتوى 3" descr=""/>
          <p:cNvPicPr/>
          <p:nvPr/>
        </p:nvPicPr>
        <p:blipFill>
          <a:blip r:embed="rId1"/>
          <a:stretch/>
        </p:blipFill>
        <p:spPr>
          <a:xfrm>
            <a:off x="493560" y="1573200"/>
            <a:ext cx="8918640" cy="46324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57F3-96D2-4B63-AD6A-B9276BC71BD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صفوف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بر مصفوفة المعرفة أحد الوسائل التي تساعد المنظمة على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صنيف المعرف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إمكانية اكتشاف فجوة المعرفة ( الفرق السالب بين المستوى الفعلي والمستوى المرغوب فيه من المعرفة)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تكون مصفوفة المعرفة من عنصرين أساسيين هما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جال المعرفي. ( توصيف محدد للمعرفة في ضوء الرسالة والرؤية والأهداف والإستراتيج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جال الوظيفي.( الربط بين مجالات المعرفة والعنصر البشري وعنصر الموهبة البشر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Mohammad Ahmed Algezawy</cp:lastModifiedBy>
  <dcterms:modified xsi:type="dcterms:W3CDTF">2011-10-19T06:48:19Z</dcterms:modified>
  <cp:revision>136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