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mera.wav" ContentType="audio/x-wav"/>
  <Override PartName="/ppt/media/image1.jpeg" ContentType="image/jpeg"/>
  <Override PartName="/ppt/media/projctor.wav" ContentType="audio/x-wav"/>
  <Override PartName="/ppt/media/clap.wav" ContentType="audio/x-wav"/>
  <Override PartName="/ppt/media/carbrake.wav" ContentType="audio/x-wav"/>
  <Override PartName="/ppt/media/ricochet.wav" ContentType="audio/x-wav"/>
  <Override PartName="/ppt/media/cashreg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87AB-B6A4-407B-B471-7E732B8E7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139F-B272-4C6D-97D8-286E362FC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56FC-3FFE-4816-B8B3-DB2BA9CC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52D4-37A3-4927-9EE7-82E48516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18AD5-4DD7-4012-8A06-7B1A9695C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9410-59E1-42BB-92A3-17CBF673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38F0-C0EA-4E40-BD93-8A8B9ECBE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8A299-BD54-46C6-9D6B-33F84227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32275-88FC-411B-984F-786484B9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566C-A26B-45A8-97D9-927866E69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41742-B0FC-4DBD-A6A1-1912A110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2164-A3E7-4EC9-8040-B7151489B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C012E-C4C9-4A9B-882E-AFB09E05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8EF10-F306-4EB2-914B-6CC77DBE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D2EF-2E2F-494D-B3CC-5A4C0D28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9E84-21E0-4E72-A238-A94396CDA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54B87-3752-43DC-BC35-B1E8A2E79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F02D-E3E0-404B-B0FB-D9ED97441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D95E-A0FB-4DBE-9700-71EB5AA6C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8959-6594-4FC6-B38F-882062A21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1E03-08BC-4D49-96F1-5ADEC26E2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B137-6A55-4749-86AD-97668DDB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279C-CDDB-452E-8980-21C45231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7006-2E69-48D1-8099-B8643CFB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BDEC-440A-48EF-A2F9-09B6229D93AA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43DD-569B-42F3-A5CB-4D38E90D18D7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lap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projctor.wav"/><Relationship Id="rId9" Type="http://schemas.openxmlformats.org/officeDocument/2006/relationships/audio" Target="../media/clap.wav"/><Relationship Id="rId10" Type="http://schemas.openxmlformats.org/officeDocument/2006/relationships/audio" Target="../media/carbrake.wav"/><Relationship Id="rId11" Type="http://schemas.openxmlformats.org/officeDocument/2006/relationships/audio" Target="../media/ricochet.wav"/><Relationship Id="rId12" Type="http://schemas.openxmlformats.org/officeDocument/2006/relationships/audio" Target="../media/cashreg.wav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projctor.wav"/><Relationship Id="rId9" Type="http://schemas.openxmlformats.org/officeDocument/2006/relationships/audio" Target="../media/clap.wav"/><Relationship Id="rId10" Type="http://schemas.openxmlformats.org/officeDocument/2006/relationships/audio" Target="../media/carbrake.wav"/><Relationship Id="rId11" Type="http://schemas.openxmlformats.org/officeDocument/2006/relationships/audio" Target="../media/ricochet.wav"/><Relationship Id="rId12" Type="http://schemas.openxmlformats.org/officeDocument/2006/relationships/audio" Target="../media/cashreg.wav"/><Relationship Id="rId1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projctor.wav"/><Relationship Id="rId9" Type="http://schemas.openxmlformats.org/officeDocument/2006/relationships/audio" Target="../media/clap.wav"/><Relationship Id="rId10" Type="http://schemas.openxmlformats.org/officeDocument/2006/relationships/audio" Target="../media/carbrake.wav"/><Relationship Id="rId11" Type="http://schemas.openxmlformats.org/officeDocument/2006/relationships/audio" Target="../media/ricochet.wav"/><Relationship Id="rId12" Type="http://schemas.openxmlformats.org/officeDocument/2006/relationships/audio" Target="../media/cashreg.wav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الأفعال الخمسة</a:t>
            </a:r>
            <a:br>
              <a:rPr sz="7200"/>
            </a:br>
            <a:r>
              <a:rPr b="1" lang="ar-SA" sz="7200" spc="-1" strike="noStrike">
                <a:solidFill>
                  <a:srgbClr val="660033"/>
                </a:solidFill>
                <a:latin typeface="Times New Roman"/>
                <a:cs typeface="Times New Roman"/>
              </a:rPr>
              <a:t>مـا هـي ؟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</a:rPr>
              <a:t>تجزم الأفعال الخمسة بحذف النون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1676520"/>
            <a:ext cx="2438280" cy="990360"/>
          </a:xfrm>
          <a:prstGeom prst="downArrowCallout">
            <a:avLst>
              <a:gd name="adj1" fmla="val 61556"/>
              <a:gd name="adj2" fmla="val 61550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مثا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2895480"/>
            <a:ext cx="9144000" cy="396252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معلمون لم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يجتمعوا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كل شهر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ل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تذاكرا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 قبل الاختبار بوقت كافٍ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لا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تقولي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 غير الحق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7200" spc="-1" strike="noStrike">
                <a:solidFill>
                  <a:srgbClr val="ffcc66"/>
                </a:solidFill>
                <a:latin typeface="Times New Roman"/>
              </a:rPr>
              <a:t>مثال معرب</a:t>
            </a:r>
            <a:endParaRPr b="0" lang="en-US" sz="17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010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 u="sng">
                <a:solidFill>
                  <a:srgbClr val="ff0000"/>
                </a:solidFill>
                <a:uFillTx/>
                <a:latin typeface="Times New Roman"/>
              </a:rPr>
              <a:t>لا تتخلفوا عن الدرس</a:t>
            </a:r>
            <a:br>
              <a:rPr sz="10600"/>
            </a:br>
            <a:br>
              <a:rPr sz="10600"/>
            </a:br>
            <a:r>
              <a:rPr b="0" lang="ar-SA" sz="10600" spc="-1" strike="noStrike">
                <a:solidFill>
                  <a:srgbClr val="ff0000"/>
                </a:solidFill>
                <a:latin typeface="Times New Roman"/>
              </a:rPr>
              <a:t>لا</a:t>
            </a:r>
            <a:r>
              <a:rPr b="0" lang="ar-SA" sz="10600" spc="-1" strike="noStrike">
                <a:solidFill>
                  <a:srgbClr val="ffcc66"/>
                </a:solidFill>
                <a:latin typeface="Times New Roman"/>
              </a:rPr>
              <a:t> :حرف نهي وجزم</a:t>
            </a:r>
            <a:br>
              <a:rPr sz="10600"/>
            </a:br>
            <a:endParaRPr b="0" lang="en-US" sz="10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0000"/>
                </a:solidFill>
                <a:latin typeface="Times New Roman"/>
                <a:cs typeface="Times New Roman"/>
              </a:rPr>
              <a:t>تتخلفوا</a:t>
            </a:r>
            <a:r>
              <a:rPr b="1" lang="ar-SA" sz="6600" spc="-1" strike="noStrike">
                <a:solidFill>
                  <a:srgbClr val="ffcc66"/>
                </a:solidFill>
                <a:latin typeface="Times New Roman"/>
              </a:rPr>
              <a:t> :فعل مضارع مجزوم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cc66"/>
                </a:solidFill>
                <a:latin typeface="Times New Roman"/>
              </a:rPr>
              <a:t>بـ ( لا ) وعلامة جزمه حذف النون و واو الجماعة ضمير متصل مبني في محل رفع فاعل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800" spc="-1" strike="noStrike">
                <a:solidFill>
                  <a:srgbClr val="ffcc66"/>
                </a:solidFill>
                <a:latin typeface="Times New Roman"/>
              </a:rPr>
              <a:t>الخلاصة</a:t>
            </a:r>
            <a:endParaRPr b="0" lang="en-US" sz="20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7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7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7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000" spc="-1" strike="noStrike">
                <a:solidFill>
                  <a:srgbClr val="ffcc66"/>
                </a:solidFill>
                <a:latin typeface="Times New Roman"/>
              </a:rPr>
              <a:t>1</a:t>
            </a:r>
            <a:r>
              <a:rPr b="0" lang="ar-SA" sz="8000" spc="-1" strike="noStrike">
                <a:solidFill>
                  <a:srgbClr val="ffcc66"/>
                </a:solidFill>
                <a:latin typeface="Times New Roman"/>
              </a:rPr>
              <a:t> ـ </a:t>
            </a:r>
            <a:r>
              <a:rPr b="0" lang="ar-SA" sz="8000" spc="-1" strike="noStrike">
                <a:solidFill>
                  <a:srgbClr val="ff0000"/>
                </a:solidFill>
                <a:latin typeface="Times New Roman"/>
              </a:rPr>
              <a:t>الأفعال الخمسة</a:t>
            </a:r>
            <a:r>
              <a:rPr b="0" lang="ar-SA" sz="8000" spc="-1" strike="noStrike">
                <a:solidFill>
                  <a:srgbClr val="ffcc66"/>
                </a:solidFill>
                <a:latin typeface="Times New Roman"/>
              </a:rPr>
              <a:t> : هي كل فعل مضارع اتصل بآخر ه ألف الاثنين أو واو الجماعة أو ياء المخاطبة</a:t>
            </a:r>
            <a:endParaRPr b="0" lang="en-US" sz="8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8800" spc="-1" strike="noStrike">
                <a:solidFill>
                  <a:srgbClr val="ffcc66"/>
                </a:solidFill>
                <a:latin typeface="Times New Roman"/>
              </a:rPr>
              <a:t>علامة رفع الأفعال الخمسة ثبوت النون   وعلامة نصبها وجزمها حذف النون .</a:t>
            </a:r>
            <a:endParaRPr b="0" lang="en-US" sz="8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534160" cy="586728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0000"/>
                </a:solidFill>
                <a:latin typeface="Times New Roman"/>
              </a:rPr>
              <a:t>يكون الضمير</a:t>
            </a:r>
            <a:r>
              <a:rPr b="0" lang="ar-SA" sz="7200" spc="-1" strike="noStrike">
                <a:solidFill>
                  <a:srgbClr val="ffcc66"/>
                </a:solidFill>
                <a:latin typeface="Times New Roman"/>
              </a:rPr>
              <a:t> :( ألف الاثنين ، و واو الجماعة ،وياء المخاطبة ) في محل رفع فاعل ،أو نائب فاعل ، أو اسم لـ ( كان ) أو إحدى أخواتها</a:t>
            </a:r>
            <a:endParaRPr b="0" lang="en-US" sz="72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 flipH="1">
            <a:off x="2804760" y="2398680"/>
            <a:ext cx="12193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00340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ألف الاثن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rot="10800000">
            <a:off x="3809880" y="1187280"/>
            <a:ext cx="1981440" cy="1905120"/>
          </a:xfrm>
          <a:prstGeom prst="pentagon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كل فع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مضار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اتص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ب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553080" y="192096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واو الجماع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239220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313200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19360" y="378468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ياء المخاطب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971800" y="0"/>
            <a:ext cx="3581280" cy="990720"/>
          </a:xfrm>
          <a:prstGeom prst="downArrowCallout">
            <a:avLst>
              <a:gd name="adj1" fmla="val 90379"/>
              <a:gd name="adj2" fmla="val 90371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الأفعال الخمسة ه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893520" y="342900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4267080"/>
            <a:ext cx="1828800" cy="60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فعل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162920" y="5257800"/>
            <a:ext cx="182880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فعل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400000">
            <a:off x="7467480" y="33526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1960" y="4419720"/>
            <a:ext cx="1828800" cy="609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فعل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09480" y="5334120"/>
            <a:ext cx="1828800" cy="60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فعل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5400000">
            <a:off x="4267080" y="49528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21120" y="5791320"/>
            <a:ext cx="182880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فعل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6" name="camera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cc66"/>
                </a:solidFill>
                <a:latin typeface="Times New Roman"/>
              </a:rPr>
              <a:t>هات الأفعال الخمسة من الفعل</a:t>
            </a:r>
            <a:br>
              <a:rPr sz="10600"/>
            </a:br>
            <a:r>
              <a:rPr b="0" lang="ar-SA" sz="10600" spc="-1" strike="noStrike">
                <a:solidFill>
                  <a:srgbClr val="ff0000"/>
                </a:solidFill>
                <a:latin typeface="Times New Roman"/>
              </a:rPr>
              <a:t> يكتب</a:t>
            </a:r>
            <a:endParaRPr b="0" lang="en-US" sz="10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 flipH="1">
            <a:off x="2804760" y="2398680"/>
            <a:ext cx="12193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200340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ألف الاثن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3809880" y="1187280"/>
            <a:ext cx="1981440" cy="1905120"/>
          </a:xfrm>
          <a:prstGeom prst="pentagon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كل فع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مضار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اتص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ب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53080" y="192096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واو الجماع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867280" y="239220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00600" y="313200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19360" y="378468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ياء المخاطب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971800" y="0"/>
            <a:ext cx="3581280" cy="990720"/>
          </a:xfrm>
          <a:prstGeom prst="downArrowCallout">
            <a:avLst>
              <a:gd name="adj1" fmla="val 90379"/>
              <a:gd name="adj2" fmla="val 90371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الأفعال الخمسة ه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5400000">
            <a:off x="893520" y="342900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4267080"/>
            <a:ext cx="1828800" cy="60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كتب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5257800"/>
            <a:ext cx="182880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كتب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5400000">
            <a:off x="7467480" y="33526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1960" y="4419720"/>
            <a:ext cx="1828800" cy="609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كتب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5334120"/>
            <a:ext cx="1828800" cy="60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كتب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4267080" y="49528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921120" y="5791320"/>
            <a:ext cx="182880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كتب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6" name="camera.wav"/>
      </p:stSnd>
    </p:sndAc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600" spc="-1" strike="noStrike">
                <a:solidFill>
                  <a:srgbClr val="ffcc66"/>
                </a:solidFill>
                <a:latin typeface="Times New Roman"/>
              </a:rPr>
              <a:t>هات الأفعال الخمسة من الفعل</a:t>
            </a:r>
            <a:br>
              <a:rPr sz="10600"/>
            </a:br>
            <a:r>
              <a:rPr b="0" lang="ar-SA" sz="10600" spc="-1" strike="noStrike">
                <a:solidFill>
                  <a:srgbClr val="ff0000"/>
                </a:solidFill>
                <a:latin typeface="Times New Roman"/>
              </a:rPr>
              <a:t> يشرب</a:t>
            </a:r>
            <a:endParaRPr b="0" lang="en-US" sz="106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 flipH="1">
            <a:off x="2804760" y="2398680"/>
            <a:ext cx="12193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" y="200340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ألف الاثني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0800000">
            <a:off x="3809880" y="1187280"/>
            <a:ext cx="1981440" cy="1905120"/>
          </a:xfrm>
          <a:prstGeom prst="pentagon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كل فع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مضارع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اتص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66"/>
                </a:solidFill>
                <a:latin typeface="Times New Roman"/>
              </a:rPr>
              <a:t> ب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553080" y="192096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واو الجماع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2392200"/>
            <a:ext cx="7621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3132000"/>
            <a:ext cx="0" cy="533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19360" y="3784680"/>
            <a:ext cx="2590920" cy="914400"/>
          </a:xfrm>
          <a:prstGeom prst="flowChartTerminator">
            <a:avLst/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66"/>
                </a:solidFill>
                <a:latin typeface="Times New Roman"/>
              </a:rPr>
              <a:t>ياء المخاطبة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0"/>
            <a:ext cx="3581280" cy="990720"/>
          </a:xfrm>
          <a:prstGeom prst="downArrowCallout">
            <a:avLst>
              <a:gd name="adj1" fmla="val 90379"/>
              <a:gd name="adj2" fmla="val 90371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الأفعال الخمسة هي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rot="5400000">
            <a:off x="893520" y="342900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162920" y="4267080"/>
            <a:ext cx="1828800" cy="60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شرب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5257800"/>
            <a:ext cx="1828800" cy="609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شربو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400000">
            <a:off x="7467480" y="33526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1960" y="4419720"/>
            <a:ext cx="1828800" cy="609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يشرب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5334120"/>
            <a:ext cx="1828800" cy="609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شربا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4267080" y="4952880"/>
            <a:ext cx="1143000" cy="380880"/>
          </a:xfrm>
          <a:custGeom>
            <a:avLst/>
            <a:gdLst>
              <a:gd name="textAreaLeft" fmla="*/ 142920 w 1143000"/>
              <a:gd name="textAreaRight" fmla="*/ 1000440 w 11430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21120" y="5791320"/>
            <a:ext cx="1828800" cy="6094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3300"/>
                </a:solidFill>
                <a:latin typeface="Times New Roman"/>
              </a:rPr>
              <a:t>تشرب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6" name="camera.wav"/>
      </p:stSnd>
    </p:sndAc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ricoche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2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1700" spc="-1" strike="noStrike">
                <a:solidFill>
                  <a:srgbClr val="ffcc66"/>
                </a:solidFill>
                <a:latin typeface="Times New Roman"/>
              </a:rPr>
              <a:t>كيف تعرب الأفعال الخمسة ؟</a:t>
            </a:r>
            <a:endParaRPr b="0" lang="en-US" sz="117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</a:rPr>
              <a:t>ترفع الأفعال الخمسة بثبوت النون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76720" y="1752480"/>
            <a:ext cx="2438280" cy="914400"/>
          </a:xfrm>
          <a:prstGeom prst="downArrowCallout">
            <a:avLst>
              <a:gd name="adj1" fmla="val 66669"/>
              <a:gd name="adj2" fmla="val 66663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مثا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2743200"/>
            <a:ext cx="7239240" cy="38098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معلمو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يجتمعو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كل شهر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طالبا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يذاكرا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دروسهما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أنتِ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تقولي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حق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cc66"/>
                </a:solidFill>
                <a:latin typeface="Times New Roman"/>
              </a:rPr>
              <a:t>تنصب الأفعال الخمسة بحذف النون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76720" y="1828800"/>
            <a:ext cx="2438280" cy="1066680"/>
          </a:xfrm>
          <a:prstGeom prst="downArrowCallout">
            <a:avLst>
              <a:gd name="adj1" fmla="val 57152"/>
              <a:gd name="adj2" fmla="val 57146"/>
              <a:gd name="adj3" fmla="val 16667"/>
              <a:gd name="adj4" fmla="val 6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66"/>
                </a:solidFill>
                <a:latin typeface="Times New Roman"/>
              </a:rPr>
              <a:t>مثا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3048120"/>
            <a:ext cx="8382240" cy="350496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معلمون لن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يجتمعوا</a:t>
            </a:r>
            <a:r>
              <a:rPr b="1" lang="ar-SA" sz="60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كل شهر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جتمع الطالبان كي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يذكرا 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الدرس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أن </a:t>
            </a:r>
            <a:r>
              <a:rPr b="1" lang="ar-SA" sz="6000" spc="-1" strike="noStrike">
                <a:solidFill>
                  <a:srgbClr val="ff0000"/>
                </a:solidFill>
                <a:latin typeface="Times New Roman"/>
              </a:rPr>
              <a:t>تقولي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 الحق خير لك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20:01:47Z</dcterms:created>
  <dc:creator/>
  <dc:description/>
  <dc:language>en-US</dc:language>
  <cp:lastModifiedBy>Arabic</cp:lastModifiedBy>
  <dcterms:modified xsi:type="dcterms:W3CDTF">2006-02-19T13:16:01Z</dcterms:modified>
  <cp:revision>29</cp:revision>
  <dc:subject>قواعد اللغة العربية</dc:subject>
  <dc:title>الأفعال الخمسة</dc:title>
</cp:coreProperties>
</file>