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FB67-69EA-4D0E-B952-A2833D90B1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781-9A49-42D1-8163-69A487BD9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F16B-D415-4BF0-B97D-5F9BE514E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B1CA-74CC-4D12-AF8F-8CEB6947C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790F-D539-472C-8A2F-DBCBC7239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79EB-D8B7-47CA-B139-F30839FB5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EF5D-1CB6-4697-B4E2-CEDB579DC5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B6BF-B333-4922-9C1A-194D39B386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A714-D2CD-40AF-A164-8F359E5DB8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1494-31F7-440E-81BB-633E92A5F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225F-DD90-4EE7-8DF1-843F097309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902E-93C5-4449-ADF2-BD4CB314A4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BE0C-BC3D-4521-B653-08903C838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024-BF66-40E0-A745-1E5E53BA5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5747-E4CD-49B2-AD5C-6413561467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33E7-3E34-49C9-AB3D-D111FDE23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E0E5-A2F8-4776-83E4-5D8083383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A5E7-CA39-4BF8-AF96-11BB7A336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2623-64A8-4433-AACA-31FCAD1D93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726-A407-48CB-8B39-84690CB590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CAB-FF0F-44DF-BA05-AE29C23BF5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BAF-D9B6-499D-9B20-3B8139D888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D30-E11E-4821-9FC7-612828A4CD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347-781D-4EF5-A949-45AB35441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E7E0-7EAE-4B12-9A45-DEFDD3CC5D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08B-9A23-4DA8-9D92-81E3AF848B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804-2C99-46B1-BAF3-6F534C5D65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502-2FA4-42A7-920A-53CD1A0643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CB3-8D9A-4D29-A2CB-03997BCA89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116-65BE-4E90-84B8-B713167C53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D9C-804B-4BDF-BEB6-29F0B607BD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46-0E7E-416E-87ED-234734D2ED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B8B7C-4666-4175-ABA0-B0BE6687E1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FBE7D-9242-4BDE-AC2B-48A6CF4A1E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46AF6-55BA-4C24-B5BC-ED314F590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DE70-284B-409D-8DD3-E74E78497F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19279-9275-4949-8C8F-809D705524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443F6-ABFF-474B-ADDB-1022E60359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A04C-1171-425B-882A-3E6EDD066C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0FE52-E2EA-4320-85A7-73BFD2EE12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F93F9-DA70-4CBE-90E2-FFAFBDAD69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4B541-9EEC-4DFE-ADE3-9170ECC514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D48B7-3D5A-4CBE-A39C-B94A6C3C0E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6554-04E2-4518-9BC0-6AE62B5A4A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12873-3B71-4EA7-B2F7-CC4CF7C9C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8C5A-3308-4DD3-8A7F-A7DB4D514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2CBD-8B57-4C5D-B855-EFF0B03C3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D129-E6F5-48CC-85AA-51593192D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754E-7E83-4163-A1A2-A3F030BAB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0285-9CA1-49BE-96CC-9E6E8349E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020-8845-486A-98A2-63D31D55F59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06B8-6BA6-410F-9827-51C07F32AA5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BFC8-3932-4292-9559-91587C50C29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8D58-CFF2-4DCA-B3FA-E42B224F858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AE2-54F3-4792-881F-7E38340CFB4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9CC-1C0D-49B2-BC4E-FAAA11B0AE5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معايير نوعان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معايير كمية يمكن التعبير عنها في صورة رق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ال: زيادة معدل الإنتاج بــ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3000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وحدة، تخفيض زمن الانتظار إلى ساعة واحدة في إدارة الجوازات للحصول على جواز سفر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معايير نوعية لا يمكن التعبير عنها بصورة رق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ال: تحسين جودة استقبال العملاء ضمن الخدمات الفندقي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D52-0F0B-4B21-A095-015CD255704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قياس الأداء الفعل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يتمثل في القياس الدقيق والفعلي لما تم فعلا في الواقع من إنجاز على مستوى معين (الأقسام، الأفراد، المنظمة ...)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غالبا ما يكون القياس كميا (وفي بعض الحالات قد يكون نوعيا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BEF5-B5C3-449E-9BC4-21ECA82CEED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مقارنة النتائج بالمعايير و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16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تتمثل هذه المرحلة في مقارنة ما تم فعلا بالمعايير والأهداف المحددة مسبق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تستهدف هذه المقارنة معرفة مستوى الإنجاز بالنسبة للمنتظ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نتيجة هذه المرحلة قد تكو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9ACD-3FF0-4999-9E3C-474AD7F207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رابط مستقيم 5"/>
          <p:cNvSpPr/>
          <p:nvPr/>
        </p:nvSpPr>
        <p:spPr>
          <a:xfrm>
            <a:off x="5410080" y="3733920"/>
            <a:ext cx="0" cy="2057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رابط كسهم مستقيم 7"/>
          <p:cNvCxnSpPr/>
          <p:nvPr/>
        </p:nvCxnSpPr>
        <p:spPr>
          <a:xfrm flipH="1" flipV="1">
            <a:off x="4495320" y="3733560"/>
            <a:ext cx="9151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8" name="رابط كسهم مستقيم 8"/>
          <p:cNvCxnSpPr/>
          <p:nvPr/>
        </p:nvCxnSpPr>
        <p:spPr>
          <a:xfrm flipH="1" flipV="1">
            <a:off x="4495320" y="4800240"/>
            <a:ext cx="9151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9" name="رابط كسهم مستقيم 9"/>
          <p:cNvCxnSpPr/>
          <p:nvPr/>
        </p:nvCxnSpPr>
        <p:spPr>
          <a:xfrm flipH="1" flipV="1">
            <a:off x="4495320" y="5790960"/>
            <a:ext cx="9151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0" name="مربع نص 7"/>
          <p:cNvSpPr/>
          <p:nvPr/>
        </p:nvSpPr>
        <p:spPr>
          <a:xfrm>
            <a:off x="304920" y="3505320"/>
            <a:ext cx="42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الإنجاز أدنى من ا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ربع نص 8"/>
          <p:cNvSpPr/>
          <p:nvPr/>
        </p:nvSpPr>
        <p:spPr>
          <a:xfrm>
            <a:off x="304920" y="4495680"/>
            <a:ext cx="415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مطابقة الإنجاز ل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ربع نص 9"/>
          <p:cNvSpPr/>
          <p:nvPr/>
        </p:nvSpPr>
        <p:spPr>
          <a:xfrm>
            <a:off x="152280" y="54864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الإنجاز أحسن من ا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اتخاذ الإجراءات التصحيح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ا فائدة من الرقابة إن لم تؤدي إلى تصحيح الانحرافات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في المنظمة تسعى الرقابة إلى تصحيح الأخطاء والانحرافات وهذا بالاهتمام بكل أنواع الانحرافات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2731-AEA2-4B71-A796-7E3C03023F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أنواع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ستو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موعد اجرائ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صد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جهة القائمة بالرقا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63D-C510-47AF-BEE0-C2506B3CD6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ستوى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255-DB9F-4239-B46E-3B8C7A25DD4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riangolo isoscele 8"/>
          <p:cNvSpPr/>
          <p:nvPr/>
        </p:nvSpPr>
        <p:spPr>
          <a:xfrm>
            <a:off x="1071720" y="1643040"/>
            <a:ext cx="7358040" cy="428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sellaDiTesto 22"/>
          <p:cNvSpPr/>
          <p:nvPr/>
        </p:nvSpPr>
        <p:spPr>
          <a:xfrm>
            <a:off x="3048120" y="2209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إستراتيج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asellaDiTesto 21"/>
          <p:cNvSpPr/>
          <p:nvPr/>
        </p:nvSpPr>
        <p:spPr>
          <a:xfrm>
            <a:off x="3000240" y="3786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الهيكل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nettore 1 19"/>
          <p:cNvSpPr/>
          <p:nvPr/>
        </p:nvSpPr>
        <p:spPr>
          <a:xfrm>
            <a:off x="3200400" y="3429000"/>
            <a:ext cx="307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ttore 1 16"/>
          <p:cNvSpPr/>
          <p:nvPr/>
        </p:nvSpPr>
        <p:spPr>
          <a:xfrm>
            <a:off x="2133720" y="4724280"/>
            <a:ext cx="5286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sellaDiTesto 20"/>
          <p:cNvSpPr/>
          <p:nvPr/>
        </p:nvSpPr>
        <p:spPr>
          <a:xfrm>
            <a:off x="1571760" y="4857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المالية                  الرقابة على العمل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ستوى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إستراتيجية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ركز على فاعلية المنظمة في إطارها الكلي والأعمال والوظائف الرئيسية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هيكلية: 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ركز 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على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كيفية انجاز كافة عناصر الهيكل التنظيمي ل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ل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مهام و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ال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وظائف للوصول إلى أهدافها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مالية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تعلق بالرقابة على الموارد المالية للمنظمة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رقابة العمليات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ركز على رقابة عمليات تحويل الموارد والمدخلات إلى منتجات في شكل سلع أو خدمات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.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1743-CE72-46C6-AD42-C0163C17E1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موعد اجرائها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قبل الانجاز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التأكد من ان الموارد والاتجاهات صحيحة قبل ان يبدأ التنفيذ (مثل الاختيار الجيد للعاملين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المتزامنة مع التنفيذ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تي تركز على ما يحدث اثناء تنفيذ العمل والانجاز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(مثال: التكنولوجية المستخدمة في مراقبة سائقي الشاحن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بعد الانجاز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تركز على المخرجات او العمل بعد تنفيذه وانتهائه (مثال: فهم رأي الزبائن بعد حصولهم على السلعة او الخدمة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1370-EC01-4A5A-8F3C-A4BA1614423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صدر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ـ الرقابة الداخلية: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وهي عبارة عن رقابة نابعة من ذات الفرد بحيث يمارس رقابة ذاتية على سلوكه و تصرفات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ـ الرقابة الخارجية: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وهي الرقابة التي تمارس من قبل المشرفين والمدراء على سلوكيات وتصرفات 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F703-DC01-4BCB-B7D6-98596249E99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جهة القائمة ب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يب الداخلي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عبارة عن فرد (او جهة) يمارس العملية الرقابية على انشطة المنظمة في اطار نظام الرقابة الداخلي للمنظمة (مثال: نظام الرقابة المالية الداخلي الذي يراقب العمليات المال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يب الخارجي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فرد او هيئة من خارج المنظمة يمارس العملية الرقابية بناء على عقد مبرم معها او بتخويل من القانون (مثال: مكاتب الاستشارات 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rnest &amp; Young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التي تقوم بأداء خدمات الرقابة المالية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2D6F-52D6-4572-8C81-FD698D3ADE8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حادية عشر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قابة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57F8-33A2-4056-BDF5-EA72D93CC91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جال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وارد المادية 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تي تمارس على الموارد المادية للعمل (مثال: المخزون او التجهيز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وارد البشرية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على العاملين في منظمة الأعمال سواء ما يتعلق بالتعيين أو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تدريب أو الأجو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علومات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على جميع ما يرتبط بالمعلومات في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المالية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المتعلقة بالجوانب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0547-52FC-4ADC-8D33-657C39E372D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A4A7-FAE4-4CC7-9166-063BCCE1889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5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يهدف هذا الفصل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الرقابة والعملية الرقابية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e46c0a"/>
                </a:solidFill>
                <a:latin typeface="Tw Cen MT"/>
              </a:rPr>
              <a:t>مراحل الرقاب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أنواع الرقابة في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</a:t>
            </a: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منظ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2CE-4793-4BD8-B225-6DD71F8FB02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مفهوم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مفهوم العملية الرقا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ا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هداف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مراحل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أنواع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CE22-5A53-46A4-85DF-DFBED636B1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Arial"/>
              </a:rPr>
              <a:t>مفهوم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600200"/>
            <a:ext cx="910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600" spc="-1" strike="noStrike">
                <a:solidFill>
                  <a:srgbClr val="e46c0a"/>
                </a:solidFill>
                <a:latin typeface="Arial"/>
              </a:rPr>
              <a:t>هي مجموعة من الأنشطة التي تهدف إلى جعل الخطط والنتائج منسجمة مع التوقعات والمعايير المستخدمة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e46c0a"/>
                </a:solidFill>
                <a:latin typeface="Calibri"/>
              </a:rPr>
              <a:t>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94DC-B92D-48B4-95C8-5EF218975D3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Arial"/>
              </a:rPr>
              <a:t>مفهوم العملية الرقاب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1" lang="ar-QA" sz="4400" spc="-1" strike="noStrike">
                <a:solidFill>
                  <a:srgbClr val="e46c0a"/>
                </a:solidFill>
                <a:latin typeface="Arial"/>
              </a:rPr>
              <a:t>هي عبارة عن عمليات مستمرة لقياس الأداء واتخاذ الإجراءات لضمان النتائج المرغو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44C9-4EE4-420A-BC6F-BE6633BAB01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</a:t>
            </a:r>
            <a:r>
              <a:rPr b="1" lang="ar-SA" sz="4400" spc="-1" strike="noStrike">
                <a:solidFill>
                  <a:srgbClr val="11488b"/>
                </a:solidFill>
                <a:latin typeface="Calibri"/>
              </a:rPr>
              <a:t>هداف</a:t>
            </a: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تكيف مع تغيرات البيئة (استباق تغيرات البيئة المعقدة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تقليل تراكم الأخطاء (معالجة الانحرافات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مواكبة والانسجام مع التعقيد التنظيمي (بازدياد حجم المنظمة تزداد اهمية الرقابة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تخفيض التكاليف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.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FF9-3F1E-4BE5-A281-3490E6E6FC5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 مراحل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ضمن العملية الرقابية هناك أربعة مرا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1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تحديد الأهداف والمعايير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قياس الأداء الفعلي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3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مقارنة النتائج بالمعايير والأهداف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4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اتخاذ الإجراءات التصحيحي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3566-76F3-4C76-8B5C-326FC86EEED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- </a:t>
            </a: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تحديد الأهداف والمعايير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يس تحديد الأهداف والمعايير من مهام الرقابة، بل هو من مه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التخطيط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كن الرقابة تعتمد على الأهداف والمعايير اعتمادا كليا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المعيار هو مستوى معين قد يكون رقما، أو حالة نوعية تسعى المنظمة الوصول إليه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7895-B0EB-4C4A-A4FF-8BC1E225763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user</cp:lastModifiedBy>
  <dcterms:modified xsi:type="dcterms:W3CDTF">2010-12-09T04:34:51Z</dcterms:modified>
  <cp:revision>135</cp:revision>
  <dc:subject/>
  <dc:title>Slide 1</dc:title>
</cp:coreProperties>
</file>