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7568-5D8F-400D-A2E5-969F0C05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38B6-FC7F-4C41-A464-63B57DD75E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EC7-3CAD-44F6-9E61-1D2E6A0B4F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ECB-E743-48B9-9610-8EACE7467E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226-7773-4678-BB47-D7FC9F9DB9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D51-483D-47E1-9012-7192404F81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F41-489A-47D1-8DCF-61DA41C061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868-754B-4A7D-9D1F-F3C80FE71D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8DD-AAA5-4BE9-BFC3-F22FEFBEC1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61D-69FA-4156-9F20-56B73A3438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D07-07B7-49FB-911C-5752702523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A3BC8-06CA-432B-ADE8-1588D90A2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1A86-F54A-4C31-B172-0744A45DC6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CB992-9BE8-4B6C-840E-04E266029A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ADC7-4093-49B4-BCEA-08E02A391A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347F-ABF9-4B67-8DB5-C941B065EA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050C-A5F8-4C50-A388-E4A4E55103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D192-CF69-4C8D-B488-1356846A93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17DB-F8AA-4E92-A8EE-1173A6DF4D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8ACB-3231-4399-9E10-C6C297DF8F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FC111-E9FB-4596-B6D7-8A4B8C7F73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4A116-37A3-48EE-8DED-CA27F2AC73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DC50-D4B2-419A-85ED-43DE32DE7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5E1E-244C-4F99-93E4-9F3D0783C21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D8D8-0412-41F3-89D5-2261BAE0C9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06BB-6766-4AB1-87B0-447A4DBF8F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6CADB-292C-4E33-9C24-3A93214425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1ABC-FD74-4243-8820-BE9F166B04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2654D-87FE-4BBD-B29E-59F1519F16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FB14-7037-4DC6-BDE8-18EFBD9F8F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FB7F-7DA2-4C40-901D-B4BF22DFD9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F7F0-91B5-49F4-8D6E-1082D78FAD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7999B-310A-47D2-9EA0-C2768D9F363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87D1-7B2F-4997-9AAF-23CCFA342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63D8-7C0A-4193-AED9-5EDE338E966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BF817-DE06-4650-AE0B-B7AE6F01E2E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8347C-577F-470A-91C2-508B0BC1DF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1B26F-30DC-4BBB-BA30-0ED23761B2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FB7-9C5A-4C7F-83A6-A11D685B55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E81E-3795-4ECF-AAB1-1F2F7983C4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50E1-2127-4BA0-A521-768498DC80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FD2C-A5C6-4407-9466-C74CAADF03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8DD5-C2FA-440D-A789-F6AAFEBCEE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8F84-6928-4E36-9BF8-7518E6B4CB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7FB-56A5-4851-A72D-5AD8B7F51A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58DA-881C-40FB-8CFC-F567395935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858A-1950-4D6A-8DBE-378B282CEC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C2A9-3D8F-4476-AC72-9644343CB4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35AF-5B25-403D-88A2-4196FEDD363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8A3-2386-472A-A950-280F5E9B03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BDBE-4047-406F-B466-EA8C67346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D666-7E4B-4F7D-B303-59DF3DD1BD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6D55-DB1A-463F-A1D5-CCA9B01A6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4C1A-00A9-4DEF-9B61-2F22FD1EC3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A201-7113-4B93-A15D-5BF53A086F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7330-ECC4-49FC-90B9-A5E5E66EB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8CAD-8370-4CD1-995C-FBC341935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5568-7952-4D5D-833C-8A1AF8F2F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803C-63B7-43C7-A298-36DB3BF5E0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5020-01A9-48C5-9369-BC2B885046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A571-19E0-4166-A0F2-1727E98B73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3558-DEE9-4028-AC00-6A3AA0216E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7C90-1943-4915-B2F7-E8A80E8E40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D142-ABCC-4BC0-8F9B-502DF869D8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D60A-9308-42A7-B5DA-1C43771E8D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4BB6-BAF5-477F-88C0-DA8984C4AA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2DA8-0FC6-48DF-ADCF-CC68991CA7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0AB2-6026-4064-AAED-E0DE5EC57F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3743-0F11-4C56-AD97-5D79B341CF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8FE-E8EA-44A3-875E-3E37D65744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F55-883F-4020-B3B5-9357C20BC5A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7BA-B0E3-4E24-8E0E-6933D1C89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29D6-8F2D-4DA6-A9D7-4D7B702EE4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BC4-6270-4616-A3DE-EAB6BB2074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3DFC-C4BE-4D8E-B771-A318CDCD0B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5455-9F46-42D4-BDE4-0AF86BA47D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3D90-5B08-4023-BCCE-CF2356C89A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35D-B6D9-48EF-95D7-0D16A3154C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09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d5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2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itle 1"/>
          <p:cNvSpPr/>
          <p:nvPr/>
        </p:nvSpPr>
        <p:spPr>
          <a:xfrm>
            <a:off x="457200" y="2819520"/>
            <a:ext cx="5099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5439"/>
                </a:solidFill>
                <a:latin typeface="AYM Wadiy S_U normal."/>
                <a:cs typeface="Times New Roman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Times New Roman"/>
              </a:rPr>
              <a:t>برامج الحاسب المكت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د</a:t>
            </a:r>
            <a:r>
              <a:rPr b="1" lang="en-US" sz="2600" spc="-1" strike="noStrike">
                <a:solidFill>
                  <a:srgbClr val="45472b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7f7f7f"/>
                </a:solidFill>
                <a:latin typeface="Calibri"/>
                <a:ea typeface="Times New Roman"/>
              </a:rPr>
              <a:t> .</a:t>
            </a: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مصلح العضايل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97E-9C03-4D23-9F30-E2DA757BC9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Title 1"/>
          <p:cNvGrpSpPr/>
          <p:nvPr/>
        </p:nvGrpSpPr>
        <p:grpSpPr>
          <a:xfrm>
            <a:off x="407880" y="189000"/>
            <a:ext cx="9272520" cy="1395360"/>
            <a:chOff x="407880" y="189000"/>
            <a:chExt cx="9272520" cy="1395360"/>
          </a:xfrm>
        </p:grpSpPr>
        <p:pic>
          <p:nvPicPr>
            <p:cNvPr id="63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272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Excel 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جداول الالكترون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E77-01EB-4B8A-AB71-451B5B62712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Title 1"/>
          <p:cNvGrpSpPr/>
          <p:nvPr/>
        </p:nvGrpSpPr>
        <p:grpSpPr>
          <a:xfrm>
            <a:off x="407880" y="189000"/>
            <a:ext cx="9333000" cy="1395360"/>
            <a:chOff x="407880" y="189000"/>
            <a:chExt cx="9333000" cy="1395360"/>
          </a:xfrm>
        </p:grpSpPr>
        <p:pic>
          <p:nvPicPr>
            <p:cNvPr id="64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33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0000"/>
                  </a:solidFill>
                  <a:latin typeface="Calibri"/>
                </a:rPr>
                <a:t>المراجع والمصادر التعليم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0FE-EE7E-4674-A7FB-A11F0A34936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1143000" y="1600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جع الرئيس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بدالله بن عبدالعزيز الموسى : ( مقدمة في الحاسوب والانترنت) ، مؤسسة شبكة البيانات، الرياض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طبعة السادسة 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3581280" y="31240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متوفر ف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جرير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العبيكان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over-abd allah almosa.jpg"/>
          <p:cNvPicPr/>
          <p:nvPr/>
        </p:nvPicPr>
        <p:blipFill>
          <a:blip r:embed="rId2"/>
          <a:stretch/>
        </p:blipFill>
        <p:spPr>
          <a:xfrm>
            <a:off x="1676520" y="2286000"/>
            <a:ext cx="2666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مراجع والمصادر المساعدة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6FA9-6F64-40FC-BECB-AFA0AEECD2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457200" y="16002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Word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PowerPoint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Excel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5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c00000"/>
                  </a:solidFill>
                  <a:latin typeface="Calibri"/>
                </a:rPr>
                <a:t>توزيع الدرجا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0B33-0C4F-498B-B546-C36A2063B4C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456-A253-41E5-93E3-88DCD065D7E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ae_AlMateen"/>
              </a:rPr>
              <a:t>المحاضرة التمهيد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Title 6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0" name="Title 6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عناصر المحاضر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495000" y="15998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قد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وصف القر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تمهي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نصائح وارشاد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B51A-615D-4B5A-B1DD-269F371FA1A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Title 1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5" name="Title 1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وصف المقرر</a:t>
              </a: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609-F08C-4D2C-81C8-C06FA7C59DA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609480" y="1752480"/>
            <a:ext cx="853452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همية الحاسوب وبرمجياته في حياتن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للحاسوب دور كبير في محتلف مجالات حياتنا الي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علم كيفية استخدام الحاسوب وبرمجياته ضرورة ملحة في العصر الحالي (عصر المعرفة والمعلومات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سوف نتعلم في هذا المقرر استخدام برامج الحاسب المكتبية (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FFICE</a:t>
            </a: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) وهي من البرامج التي يتعامل معها الكثير منا يومي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اهداف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 txBox="1"/>
          <p:nvPr/>
        </p:nvSpPr>
        <p:spPr>
          <a:xfrm>
            <a:off x="38088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Wor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مستندات وتحريرها وطباعت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العروض التقدي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PowerPoint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عروض التقديمية وتحريرها وعرضها باستخدا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how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 التعامل مع برنامج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Excel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عداد الجداول الالكترونية وتنفيذ بعض العمليات الحسابية عليها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8B3-6798-4591-B304-E1A3C53516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لماذا ؟؟</a:t>
              </a: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 txBox="1"/>
          <p:nvPr/>
        </p:nvSpPr>
        <p:spPr>
          <a:xfrm>
            <a:off x="380880" y="1676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صبحت برامج المايكروسوفت اوفيس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اهم البرامج التي يتعامل معها المستخدمين ( المكاتب ، الدوائر الحكومية ، الجامعات) من خلال انشاء المستندات او العروض التقديمية  او الجداول الالكترونية او قواعد البيانات.....الخ ، لذلك فمن الواجب على طلبة الجامعات وغيرهم امتلاك المهارات المعرفية الكافية في كيفية التعامل مع هذه البرامج ليتسنى لهم الاستفادة منها في خدمة اعمال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E16-BE95-4B38-B468-BC5B43A6F66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2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حتوى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 txBox="1"/>
          <p:nvPr/>
        </p:nvSpPr>
        <p:spPr>
          <a:xfrm>
            <a:off x="380880" y="15238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ثالثة: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سادسة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روض التقدي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PowerPoint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رابع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: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Ex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0AAD-EBA4-419C-8BF6-482CDE551F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Title 1"/>
          <p:cNvGrpSpPr/>
          <p:nvPr/>
        </p:nvGrpSpPr>
        <p:grpSpPr>
          <a:xfrm>
            <a:off x="407880" y="189000"/>
            <a:ext cx="9401400" cy="1395360"/>
            <a:chOff x="407880" y="189000"/>
            <a:chExt cx="9401400" cy="1395360"/>
          </a:xfrm>
        </p:grpSpPr>
        <p:pic>
          <p:nvPicPr>
            <p:cNvPr id="62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عالج النصوص </a:t>
              </a: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Word</a:t>
              </a:r>
              <a:r>
                <a:rPr b="0" lang="ar-SA" sz="4400" spc="-1" strike="noStrike">
                  <a:solidFill>
                    <a:srgbClr val="4d5040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E39-5A83-4807-BEA2-1B888DB0C7B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381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Title 1"/>
          <p:cNvGrpSpPr/>
          <p:nvPr/>
        </p:nvGrpSpPr>
        <p:grpSpPr>
          <a:xfrm>
            <a:off x="165240" y="189000"/>
            <a:ext cx="9515160" cy="1395360"/>
            <a:chOff x="165240" y="189000"/>
            <a:chExt cx="9515160" cy="1395360"/>
          </a:xfrm>
        </p:grpSpPr>
        <p:pic>
          <p:nvPicPr>
            <p:cNvPr id="630" name="Title 1" descr=""/>
            <p:cNvPicPr/>
            <p:nvPr/>
          </p:nvPicPr>
          <p:blipFill>
            <a:blip r:embed="rId1"/>
            <a:stretch/>
          </p:blipFill>
          <p:spPr>
            <a:xfrm>
              <a:off x="165240" y="189000"/>
              <a:ext cx="9515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PowerPoint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عروض التقديمية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A245-ADE0-4566-B900-2062A6D9A58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610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madaileh</cp:lastModifiedBy>
  <dcterms:modified xsi:type="dcterms:W3CDTF">2011-02-15T13:08:48Z</dcterms:modified>
  <cp:revision>100</cp:revision>
  <dc:subject/>
  <dc:title>Slide 1</dc:title>
</cp:coreProperties>
</file>