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14.gif" ContentType="image/gif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15.gif" ContentType="image/gif"/>
  <Override PartName="/ppt/media/image7.jpeg" ContentType="image/jpeg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396-03CB-4FDA-886A-61104A02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242-52BD-4698-98F8-1456FB7F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708A0-5B5A-4718-8BEF-F65BFC8F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0C865-EAF3-412D-B679-43712F4C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59495-A33D-457A-93C0-3EE9F2C0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C253E-405C-4E21-8E41-3F7D751E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BDBC8-B67E-4027-AECE-F66BCA64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EEE5C-0506-4475-B788-E5F97A89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1467C-46E3-445C-907C-12B4E4CB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C1168-7028-4D13-8E72-1A598A01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9BC00-F63E-4FFF-8550-5A663CA6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2778F-2D4C-4DF2-B63A-DB4462B5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C99-8298-4F96-A208-0032AE4A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016BB-B4CF-4858-AAA2-5E557E57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9AF07-429D-4C16-8EE9-8FACBA88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5DB9F-355E-4E9F-B264-01B5CAA7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5CF14-84AA-4A6B-A945-FDE128E5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5E10D-6906-4F8C-8D5B-82DE2D7E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CDD16-9FCB-44B1-AA1C-3D6B5918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1B1F8-0C1E-4644-BF4D-EAE42466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D90FA-BAB5-4417-A0F9-EF9DBC78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8EA03-E604-405F-A247-4E194756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4B948-9139-4B0B-8D27-4A7C20D8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813-A8D4-4A02-AF86-4F721074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8B447-D16C-4902-983B-34CE9162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F1E3-4BD9-4EE6-BC4E-02CFB233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1EFA-A670-4E55-92E8-76902E9F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15D6-4456-4BAC-A4EB-CBE256F4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3BD4-C120-474A-9C1F-5F0A8D67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3EE2-E364-4D03-B681-6D1DB9CF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DF98-41A5-4CDD-BFF3-B9D8FC33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616D-D018-4FCE-902A-F763EBB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A1D-36CE-436C-8DC1-A4AA69B5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B9CA-C60E-45D6-A0D1-1A21284C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D71D-47FB-4DFB-8A01-994F13E2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A442-6074-4C80-88AB-092D8C5E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DADA-0750-4738-B575-71AF2B9C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B501-5460-4121-A5DF-48A5FE64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B59C-9992-43F3-8F7E-97D950C5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387B-8C78-4CA7-97D3-5A7C60A4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D379-0B24-42DC-B693-1FDD338A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EBE6-B832-487C-BFB8-C6DAD800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CFD3-8589-4527-86B8-67EDCC00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EBF-53D0-4763-A4D5-1720488D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BA5C4-A9B2-40C7-88EB-C7F21020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77D0-F41F-4EBF-B768-EDCC9B6C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F1DB-9090-4DB9-A871-0C0D7981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E2D1-7004-4784-AF81-E46DE487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F3648-ADEB-4FF2-B3EA-2DA4E56D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7D85F-FE6E-4913-B930-96307AF4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43A06-363E-47F4-9770-F610B447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4DFE-D15B-41DE-92C1-AECB165F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3F098-0117-493B-AB6F-CADAD3E1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88AEB-ADF4-4B69-846A-0F4618FE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4D4-19A1-4FF9-9C8F-2CC0FB2F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D883-51A1-419E-AFDE-B99B82AD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D4895-07E1-42EC-A0E0-A953090E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A040-2C7D-4EAE-9A7B-2D2DE12F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12ABF-CEC5-4DAF-B961-ECDFEA18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C6F09-4A4B-4DB8-9404-0A52C9D8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4CE1A-4E49-4C68-ADA9-A6A4A6F1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F787F-61E0-49C9-A727-40D6E942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CA98-BF5D-4D18-A5F5-C52ED7C6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D15F6-651B-4192-BACA-E83A50CE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43832-EA42-45C3-988E-C6AA2873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A19-FECB-4EEE-BBA0-6249837E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6EF60-AD5F-479D-AE12-030BB4CC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7833D-A948-4FEC-9FB6-6182AB90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92C75-E2AA-4832-8874-38D084B2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718CE-673D-4601-897F-B30A432C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F3668-D27D-4391-AFDD-A82FA0F4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7F6F6-F49C-480A-BFB5-F891495E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43B4B-88FA-4C43-AA0A-3174E026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638BD-F71E-4F85-8033-2975DF69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8499C-835D-4BEA-B6B0-366D1F56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0C5B4-B517-4DDB-9CE7-E791145D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583-6324-4283-B658-E47CBC48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867C7-344D-4EEC-8DAF-115B4098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0A3B5-398A-469E-B435-FF18B487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E96AB-A019-45F9-8600-A642B109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96BB61-62F4-4B21-965E-AFF61CAE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8BE50-DC9A-4933-8C74-02E2B728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F9A755-96C5-47CA-8395-78FB8C78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5CEAE-8CF3-467B-8DAE-FFDAADBF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3B699-C4DB-4A47-9329-10A9DED8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B3C89-8376-4978-A3D8-82E30B7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523E0-3A87-4007-85BF-2BC59FBE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266-E8BB-4016-B21A-CE48F02D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9014E-2F75-4CAF-8D9E-5B6A60CC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01148-F012-4235-948C-E09A4400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2E220-5FB0-4EED-A69D-A4AC57C7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E282A-666A-4053-AC10-ACA8413A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21AF4-B5A9-4915-829D-05763652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AE29C-90DD-48CD-8125-7B43F09E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6CD47-E1BF-4589-A4ED-34704099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28F9E-A71D-4B5E-A33A-E164473A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D1449-6FE9-498E-9F44-554BDF89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A84F0-93D6-47CE-B7ED-BA6840CE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C63-287E-4CD4-B053-988D2E04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7AFD5-1926-4014-BFE2-676961DE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17D77-6C86-4DB7-976E-99FC7E8B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3C5B7-5AA1-451E-A3A4-A8270423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69368-B08D-47FC-B7B0-E43659DC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325E0-82FC-4B75-BCC4-1405AC5A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29210-20CD-4986-9FB3-0240D436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5D868-749E-4AC7-8C9B-7C2FD3DA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75E19-D8D3-44B8-8654-502CB853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5A1FE-9ED3-43CA-89AC-0F255B71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24E38-D934-49DA-9C20-A0DACCEA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3D4-3E43-4D7B-B407-6A291A9E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FF318-A49D-4907-9292-1962CC0A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48D2B-C265-4369-873A-BDFDCB36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79AD1-78F8-4B2D-8892-12D51B5F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D8991-6F36-473F-AE6F-F4AE0901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2B1C6-BF0B-41CD-A0DE-BBDBD6EB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FAA74-8A2E-4B76-8F5A-AE695753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6676D-679D-4CE3-B6CD-2ED208A8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9FBAB-3122-4022-BC52-491C2B9F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A92E3-00C6-40EC-97EE-3591F321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3CBD8-C7C4-47FD-8D22-69A17147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D166-EB53-4853-AFF2-A89E59578E7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7909-72A7-4B41-B474-80CC40C257A4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0D0A-4E3C-4F92-BF3A-0E91D227B4A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5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7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4AFC-5432-4EFB-AEBB-9377E93595E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2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4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6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271A-F0E8-4559-952A-DD7BB8CF59C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EEB0-46E4-44AE-A21A-721AB14B071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B7C4-2A46-4C3C-88F6-54020B9AC1E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1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5DCC-ABB9-46CE-8FCD-8E6F4B7BA155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7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2D8A-A5FC-4658-8865-BD15183092F4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2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0367-9B9F-4E88-9605-B9711C01185A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7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7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57080" y="2060280"/>
            <a:ext cx="791856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hi-IN" sz="8000" spc="-1" strike="noStrike">
                <a:solidFill>
                  <a:srgbClr val="feec94"/>
                </a:solidFill>
                <a:latin typeface="Arb Hadith"/>
                <a:cs typeface="Arb Hadith"/>
              </a:rPr>
              <a:t>تصحيح</a:t>
            </a:r>
            <a:r>
              <a:rPr b="0" lang="en-US" sz="8000" spc="-1" strike="noStrike">
                <a:solidFill>
                  <a:srgbClr val="feec94"/>
                </a:solidFill>
                <a:latin typeface="Arb Hadith"/>
                <a:ea typeface="Arb Hadith"/>
              </a:rPr>
              <a:t></a:t>
            </a:r>
            <a:r>
              <a:rPr b="0" lang="hi-IN" sz="8000" spc="-1" strike="noStrike">
                <a:solidFill>
                  <a:srgbClr val="feec94"/>
                </a:solidFill>
                <a:latin typeface="Arb Hadith"/>
                <a:cs typeface="Arb Hadith"/>
              </a:rPr>
              <a:t>التلاوة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Arb Hadith"/>
                <a:ea typeface="Arb Hadith"/>
              </a:rPr>
              <a:t></a:t>
            </a:r>
            <a:r>
              <a:rPr b="1" lang="hi-IN" sz="4800" spc="-1" strike="noStrike">
                <a:solidFill>
                  <a:srgbClr val="feec94"/>
                </a:solidFill>
                <a:latin typeface="Arb Hadith"/>
                <a:cs typeface="Arb Hadith"/>
              </a:rPr>
              <a:t>طرق</a:t>
            </a:r>
            <a:r>
              <a:rPr b="1" lang="en-US" sz="4800" spc="-1" strike="noStrike">
                <a:solidFill>
                  <a:srgbClr val="feec94"/>
                </a:solidFill>
                <a:latin typeface="Arb Hadith"/>
                <a:ea typeface="Arb Hadith"/>
              </a:rPr>
              <a:t></a:t>
            </a:r>
            <a:r>
              <a:rPr b="1" lang="hi-IN" sz="4800" spc="-1" strike="noStrike">
                <a:solidFill>
                  <a:srgbClr val="feec94"/>
                </a:solidFill>
                <a:latin typeface="Arb Hadith"/>
                <a:cs typeface="Arb Hadith"/>
              </a:rPr>
              <a:t>ومهارات</a:t>
            </a:r>
            <a:r>
              <a:rPr b="1" lang="en-US" sz="4800" spc="-1" strike="noStrike">
                <a:solidFill>
                  <a:srgbClr val="feec94"/>
                </a:solidFill>
                <a:latin typeface="Arb Hadith"/>
                <a:ea typeface="Arb Hadith"/>
              </a:rPr>
              <a:t>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3665520" y="476280"/>
            <a:ext cx="1843200" cy="11714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نشاط (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457200" y="1268280"/>
          <a:ext cx="8229600" cy="5186520"/>
        </p:xfrm>
        <a:graphic>
          <a:graphicData uri="http://schemas.openxmlformats.org/drawingml/2006/table">
            <a:tbl>
              <a:tblPr/>
              <a:tblGrid>
                <a:gridCol w="2602080"/>
                <a:gridCol w="4825800"/>
                <a:gridCol w="801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ffff00"/>
                          </a:solidFill>
                          <a:latin typeface="Times New Roman"/>
                          <a:cs typeface="AL-Mohanad"/>
                        </a:rPr>
                        <a:t>نوع اللحن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"/>
                        </a:rPr>
                        <a:t>الكلمة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"/>
                        </a:rPr>
                        <a:t>من يقرأ (أنعمتَ) بضم التاء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"/>
                        </a:rPr>
                        <a:t>من يفخم الراء في (مصر)عند الوقف عليها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"/>
                        </a:rPr>
                        <a:t>من يقف على كلمة (القدر)فيسقط حرف الراء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"/>
                        </a:rPr>
                        <a:t>من يقرأ بتفخيم الغنة في (إن كنتم 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"/>
                        </a:rPr>
                        <a:t>إبدال القاف من (المستقيم) بغين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"/>
          <p:cNvSpPr/>
          <p:nvPr/>
        </p:nvSpPr>
        <p:spPr>
          <a:xfrm>
            <a:off x="1239840" y="213372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جل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8920" y="3065400"/>
            <a:ext cx="11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خف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8920" y="414504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جل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258920" y="5013360"/>
            <a:ext cx="11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خف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39840" y="580248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جل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وقاية من اللحن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تلق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تكرار وكثرة التردا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سماع الشري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إتقان أحكام التجويد بالأخذ عن المقرئين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  المهرة الضابطين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Arial"/>
                <a:cs typeface="AL-Mateen"/>
              </a:rPr>
              <a:t>الجلسة الثاني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Arial"/>
                <a:cs typeface="AL-Battar"/>
              </a:rPr>
              <a:t>طرق تصحيح التلاو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من طرق تصحيح التلاوة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L-Mohanad"/>
              </a:rPr>
              <a:t>كتابة الكلمة مرتين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L-Mohanad"/>
              </a:rPr>
              <a:t>المقارنة بين الكلمة المقروءة وكلمة أخرى لرفع الخطأ عن الأولى .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L-Mohanad"/>
              </a:rPr>
              <a:t>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L-Mohanad"/>
              </a:rPr>
              <a:t>الإتيان بوزن الكلمة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AL-Battar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L-Battar"/>
              </a:rPr>
              <a:t>. كتابة الكلمة مرتين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ohanad"/>
              </a:rPr>
              <a:t>إذا كان سبب الخطأ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ohanad"/>
              </a:rPr>
              <a:t>إطالة الحركة بحرف من جنسها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ohanad"/>
              </a:rPr>
              <a:t>كون الكلمة مبنية للمجهو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77080" y="3141720"/>
            <a:ext cx="1224000" cy="106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إنَ لدين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643280" y="3357720"/>
            <a:ext cx="1729080" cy="215640"/>
          </a:xfrm>
          <a:prstGeom prst="leftArrow">
            <a:avLst>
              <a:gd name="adj1" fmla="val 50000"/>
              <a:gd name="adj2" fmla="val 20045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124000" y="3141720"/>
            <a:ext cx="22320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إنَـــا لدين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508720" y="5013360"/>
            <a:ext cx="3166920" cy="180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وكذلك زُين لفرعون سوء عمله وصُدََََََّ عن السبيل 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490920" y="5373720"/>
            <a:ext cx="1728720" cy="216000"/>
          </a:xfrm>
          <a:prstGeom prst="leftArrow">
            <a:avLst>
              <a:gd name="adj1" fmla="val 50000"/>
              <a:gd name="adj2" fmla="val 20008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79280" y="5084640"/>
            <a:ext cx="3167280" cy="180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وكذلك زَين لفرعون سوء عمله وصَدََََََّ عن السبيل 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AL-Battar"/>
              </a:rPr>
              <a:t>2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AL-Battar"/>
              </a:rPr>
              <a:t>.المقارنة بين الكلمة المقروءة وكلمة أخرى لرفع الخطأ عن الأولى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عندما يتحد الرسم ويختلف الشك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تكرر الكلمة الواحدة بإعراب مختلف في آية واحد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إذا كانت الكلمة منتهية بمد متصل منصوب منو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96000" y="1989000"/>
            <a:ext cx="2233440" cy="2043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ليتخذ بعضهم بعضا سُخريا"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619280" y="1989000"/>
            <a:ext cx="2233440" cy="2043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فاتخذتموهم سِخريا"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067280" y="2347920"/>
            <a:ext cx="1512720" cy="289080"/>
          </a:xfrm>
          <a:prstGeom prst="leftRightArrow">
            <a:avLst>
              <a:gd name="adj1" fmla="val 50000"/>
              <a:gd name="adj2" fmla="val 10417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5280" y="3857760"/>
            <a:ext cx="7921800" cy="106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فمنكم من   يبخلُ   ومن   يبخلْ   فإنما   يبخلُ   عن نفسه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796000" y="5530680"/>
            <a:ext cx="2233440" cy="2043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وأنزل من السماءِ ماءً "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619280" y="5530680"/>
            <a:ext cx="2233440" cy="1556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" وعلّم آدم الأسماءَ "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067280" y="5889600"/>
            <a:ext cx="1512720" cy="289080"/>
          </a:xfrm>
          <a:prstGeom prst="leftRightArrow">
            <a:avLst>
              <a:gd name="adj1" fmla="val 50000"/>
              <a:gd name="adj2" fmla="val 10417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780000" y="3860640"/>
            <a:ext cx="863280" cy="106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يبخل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437080" y="3860640"/>
            <a:ext cx="863640" cy="106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يبخل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79640" y="3860640"/>
            <a:ext cx="863640" cy="1068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يبخل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AL-Battar"/>
              </a:rPr>
              <a:t>3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L-Battar"/>
              </a:rPr>
              <a:t>. الإتيان بوزن الكلمة 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708360" y="1600200"/>
            <a:ext cx="49672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AL-Mohanad"/>
              </a:rPr>
              <a:t>وذلك للتمرين على نطق الكلمة الصعب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97360" y="2550960"/>
            <a:ext cx="4381560" cy="4168800"/>
            <a:chOff x="297360" y="2550960"/>
            <a:chExt cx="4381560" cy="4168800"/>
          </a:xfrm>
        </p:grpSpPr>
        <p:sp>
          <p:nvSpPr>
            <p:cNvPr id="706" name="_s92169"/>
            <p:cNvSpPr/>
            <p:nvPr/>
          </p:nvSpPr>
          <p:spPr>
            <a:xfrm>
              <a:off x="1330200" y="2550960"/>
              <a:ext cx="2314800" cy="2314080"/>
            </a:xfrm>
            <a:custGeom>
              <a:avLst/>
              <a:gdLst>
                <a:gd name="textAreaLeft" fmla="*/ 0 w 2314800"/>
                <a:gd name="textAreaRight" fmla="*/ 2315160 w 2314800"/>
                <a:gd name="textAreaTop" fmla="*/ 0 h 2314080"/>
                <a:gd name="textAreaBottom" fmla="*/ 231444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_s92175"/>
            <p:cNvSpPr/>
            <p:nvPr/>
          </p:nvSpPr>
          <p:spPr>
            <a:xfrm rot="4320000">
              <a:off x="2063880" y="3084120"/>
              <a:ext cx="2314080" cy="2314440"/>
            </a:xfrm>
            <a:custGeom>
              <a:avLst/>
              <a:gdLst>
                <a:gd name="textAreaLeft" fmla="*/ 0 w 2314080"/>
                <a:gd name="textAreaRight" fmla="*/ 2314440 w 2314080"/>
                <a:gd name="textAreaTop" fmla="*/ 0 h 2314440"/>
                <a:gd name="textAreaBottom" fmla="*/ 231444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_s92177"/>
            <p:cNvSpPr/>
            <p:nvPr/>
          </p:nvSpPr>
          <p:spPr>
            <a:xfrm rot="8640000">
              <a:off x="1782000" y="3946320"/>
              <a:ext cx="2314440" cy="231408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314080"/>
                <a:gd name="textAreaBottom" fmla="*/ 231444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_s92170"/>
            <p:cNvSpPr/>
            <p:nvPr/>
          </p:nvSpPr>
          <p:spPr>
            <a:xfrm rot="12960000">
              <a:off x="875880" y="3944520"/>
              <a:ext cx="2314440" cy="231408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314080"/>
                <a:gd name="textAreaBottom" fmla="*/ 231444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_s92172"/>
            <p:cNvSpPr/>
            <p:nvPr/>
          </p:nvSpPr>
          <p:spPr>
            <a:xfrm rot="17280000">
              <a:off x="598320" y="3081960"/>
              <a:ext cx="2314440" cy="2314800"/>
            </a:xfrm>
            <a:custGeom>
              <a:avLst/>
              <a:gdLst>
                <a:gd name="textAreaLeft" fmla="*/ 0 w 2314440"/>
                <a:gd name="textAreaRight" fmla="*/ 2314440 w 2314440"/>
                <a:gd name="textAreaTop" fmla="*/ 0 h 2314800"/>
                <a:gd name="textAreaBottom" fmla="*/ 2315160 h 23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_s92167"/>
            <p:cNvSpPr/>
            <p:nvPr/>
          </p:nvSpPr>
          <p:spPr>
            <a:xfrm>
              <a:off x="3081240" y="2649240"/>
              <a:ext cx="851040" cy="8506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ffffff"/>
                  </a:solidFill>
                  <a:latin typeface="Times New Roman"/>
                  <a:cs typeface="AL-Mohanad"/>
                </a:rPr>
                <a:t>بُرءاؤا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AL-Mohanad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_s92168"/>
            <p:cNvSpPr/>
            <p:nvPr/>
          </p:nvSpPr>
          <p:spPr>
            <a:xfrm>
              <a:off x="411120" y="4589280"/>
              <a:ext cx="851040" cy="850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ffffff"/>
                  </a:solidFill>
                  <a:latin typeface="Times New Roman"/>
                  <a:cs typeface="AL-Mohanad"/>
                </a:rPr>
                <a:t>عُقلاء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_s92171"/>
            <p:cNvSpPr/>
            <p:nvPr/>
          </p:nvSpPr>
          <p:spPr>
            <a:xfrm>
              <a:off x="1042920" y="2649240"/>
              <a:ext cx="851040" cy="850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ffffff"/>
                  </a:solidFill>
                  <a:latin typeface="Times New Roman"/>
                  <a:cs typeface="AL-Mohanad"/>
                </a:rPr>
                <a:t>شُعراء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_s92174"/>
            <p:cNvSpPr/>
            <p:nvPr/>
          </p:nvSpPr>
          <p:spPr>
            <a:xfrm>
              <a:off x="3713040" y="4589280"/>
              <a:ext cx="851040" cy="850680"/>
            </a:xfrm>
            <a:prstGeom prst="rect">
              <a:avLst/>
            </a:prstGeom>
            <a:solidFill>
              <a:srgbClr val="af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L-Mohanad"/>
                </a:rPr>
                <a:t>فُعلاء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_s92176"/>
            <p:cNvSpPr/>
            <p:nvPr/>
          </p:nvSpPr>
          <p:spPr>
            <a:xfrm>
              <a:off x="2062080" y="5789520"/>
              <a:ext cx="851040" cy="850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L-Mohanad"/>
                </a:rPr>
                <a:t>حُكماء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6" name="_s1033"/>
          <p:cNvSpPr/>
          <p:nvPr/>
        </p:nvSpPr>
        <p:spPr>
          <a:xfrm>
            <a:off x="7236000" y="3213000"/>
            <a:ext cx="850680" cy="8510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بُرءاؤ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  <a:cs typeface="Al-Hadith2"/>
              </a:rPr>
              <a:t>نشاط (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l-Hadith2"/>
              </a:rPr>
              <a:t>3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l-Hadith2"/>
              </a:rPr>
              <a:t> 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179280" y="765000"/>
          <a:ext cx="8713800" cy="6095880"/>
        </p:xfrm>
        <a:graphic>
          <a:graphicData uri="http://schemas.openxmlformats.org/drawingml/2006/table">
            <a:tbl>
              <a:tblPr/>
              <a:tblGrid>
                <a:gridCol w="2016360"/>
                <a:gridCol w="1728720"/>
                <a:gridCol w="1224000"/>
                <a:gridCol w="3311280"/>
                <a:gridCol w="4334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طريقة التصحي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سبب الوقوع في الخط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الآ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” وَإِن تُبْتُمْ فَلَكُمْ رُؤُوسُ أَمْوَالِكُمْ لاَ تَظْلِمُونَ وَلاَ تُظْلَمُونَ 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وَالَّذِينَ آمَنُوا وَاتَّبَعَتْهُمْ ذُرِّيَّتُهُم بِإِيمَانٍ أَلْحَقْنَا بِهِمْ ذُرِّيَّتَهُمْ“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“ جَعَلَهُ دَكَّاء 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 “مَّا هُنَّ أُمَّهَاتِهِمْ إِنْ أُمَّهَاتُهُمْ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 ” ادْعُ إِلِى سَبِيلِ رَبِّكَ “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"/>
          <p:cNvSpPr/>
          <p:nvPr/>
        </p:nvSpPr>
        <p:spPr>
          <a:xfrm>
            <a:off x="3922560" y="1814400"/>
            <a:ext cx="122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لاَ تَظْلِمُونَ وَلاَ تُظْلَمُون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268360" y="1700280"/>
            <a:ext cx="15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كلمة مبنية للمجهول والأخرى للمعلو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3760" y="1800360"/>
            <a:ext cx="18018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كتابة الكلمة مرت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924360" y="2852640"/>
            <a:ext cx="122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ذُرِّيَّتُهُ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ذُرِّيَّتَهُ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268360" y="2782800"/>
            <a:ext cx="15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تكرار الكلمة الواحدة بإعراب مختل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79360" y="2751120"/>
            <a:ext cx="1801800" cy="1618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مقارنة بين الكلمة المقروءة والأخرى في الإعرا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3760" y="3789360"/>
            <a:ext cx="1801800" cy="1008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مقارنة بكلمة انتهت بمد متصل منو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95200" y="4809960"/>
            <a:ext cx="1801800" cy="1618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مقارنة بين الكلمة المقروءة والأخرى في الإعرا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79360" y="5905440"/>
            <a:ext cx="18018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كتابة الكلمة مرت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68360" y="3862440"/>
            <a:ext cx="15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نتهاء الكلمة بمد منصوب غير منو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268360" y="4799160"/>
            <a:ext cx="15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تكرار الكلمة الواحدة بإعراب مختل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268360" y="5950080"/>
            <a:ext cx="15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زيادة حرف من جنس الكلم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922560" y="40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دكــــآء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22560" y="4911840"/>
            <a:ext cx="122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أُمهاتِهِ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أُمهاتُهُ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4360" y="61405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ادْع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  <a:cs typeface="Al-Hadith2"/>
              </a:rPr>
              <a:t>نشاط (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l-Hadith2"/>
              </a:rPr>
              <a:t>3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Al-Hadith2"/>
              </a:rPr>
              <a:t> 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179280" y="1268280"/>
          <a:ext cx="8713800" cy="5500800"/>
        </p:xfrm>
        <a:graphic>
          <a:graphicData uri="http://schemas.openxmlformats.org/drawingml/2006/table">
            <a:tbl>
              <a:tblPr/>
              <a:tblGrid>
                <a:gridCol w="2016360"/>
                <a:gridCol w="1728720"/>
                <a:gridCol w="1224000"/>
                <a:gridCol w="3311280"/>
                <a:gridCol w="4334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طريقة التصحي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سبب الوقوع في الخط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الآ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Arial"/>
                          <a:cs typeface="AL-Mohanad"/>
                        </a:rPr>
                        <a:t>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 “ مَا بِصَاحِبِهِم مِّن جِنَّةٍ 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” قُتِلَ الْخَرَّاصُونَ 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” فَشَرِّدْ بِهِم مَّنْ خَلْفَهُمْ 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” وَيُخْزِهِمْ 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 “ يُضَلُّ بِهِ الَّذِينَ كَفَرُواْ 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L-Mohanad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6" name=""/>
          <p:cNvSpPr/>
          <p:nvPr/>
        </p:nvSpPr>
        <p:spPr>
          <a:xfrm>
            <a:off x="3922560" y="249228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جِنَّة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924360" y="349416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قُتِل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851280" y="436572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مَّنْ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22560" y="5229360"/>
            <a:ext cx="122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وَيُخْزِهِمْ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922560" y="609300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يُضَلّ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68360" y="5950080"/>
            <a:ext cx="15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كلمة مبنية للمجهو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24000" y="2492280"/>
            <a:ext cx="173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تحاد الرسم واختلاف الش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124000" y="4221000"/>
            <a:ext cx="173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تحاد الرسم واختلاف الش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268360" y="3429000"/>
            <a:ext cx="15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كلمة مبنية للمجهو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68360" y="5084640"/>
            <a:ext cx="151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زيادة حرف من جنس الحرك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50920" y="2421000"/>
            <a:ext cx="1844640" cy="1434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مقارنة بين الكلمة المقروءة والأخر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50920" y="4221000"/>
            <a:ext cx="1844640" cy="1434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مقارنة بين الكلمة المقروءة والأخرى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50920" y="3357720"/>
            <a:ext cx="184464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كتابة الكلمة مرتين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79360" y="5950080"/>
            <a:ext cx="177156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كتابة الكلمة مرتين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50920" y="5084640"/>
            <a:ext cx="184464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كتابة الكلمة مرتين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2340000" y="2130480"/>
            <a:ext cx="48243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تصحيح التلاوة ( طرق ومهارات 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وقاية من الخطأ ( إعراب القرآن الكريم ، اللحن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طرق تصحيح التلاوة  (إحدى عشرة طريقة لتصحيح التلاوة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ahoma"/>
                <a:cs typeface="Al-Hadith2"/>
              </a:rPr>
              <a:t>الجلسة الأولى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ahoma"/>
                <a:cs typeface="AL-Battar"/>
              </a:rPr>
              <a:t>طرق تصحيح التلاوة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AL-Battar"/>
              </a:rPr>
              <a:t>(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AL-Battar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AL-Battar"/>
              </a:rPr>
              <a:t> 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2"/>
          <a:stretch/>
        </p:blipFill>
        <p:spPr>
          <a:xfrm>
            <a:off x="6588000" y="476280"/>
            <a:ext cx="2175120" cy="200808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457200" y="604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  <a:cs typeface="AL-Mateen"/>
              </a:rPr>
              <a:t>اليوم الثان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autoRev="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20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7" autoRev="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8" dur="20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  <a:cs typeface="AL-Mateen"/>
              </a:rPr>
              <a:t>طرق تصحيح التلاوة (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L-Matee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AL-Mateen"/>
              </a:rPr>
              <a:t> 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  <a:cs typeface="AL-Mohanad"/>
              </a:rPr>
              <a:t>تهجي الكلمة مع التشكي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  <a:cs typeface="AL-Mohanad"/>
              </a:rPr>
              <a:t>سبق الطلاب بالقراءة الخاصة والمركز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  <a:cs typeface="AL-Mohanad"/>
              </a:rPr>
              <a:t>التركيز في الرد على موضع الخطأ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  <a:cs typeface="AL-Mohanad"/>
              </a:rPr>
              <a:t>توضيح النطق بالكلمة وتبيين الحرو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Tahoma"/>
                <a:cs typeface="AL-Mohanad"/>
              </a:rPr>
              <a:t>المناقش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913200" y="212760"/>
            <a:ext cx="5051520" cy="984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  <a:cs typeface="AL-Mohanad"/>
              </a:rPr>
              <a:t>تهجي الكلمة مع التشكيل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AL-Mohanad"/>
              </a:rPr>
              <a:t>توالي حركة الضم ثم مجيء حركة الفت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AL-Mohanad"/>
              </a:rPr>
              <a:t>الكلمة الطويلة التي تتجاوز سبعة أحر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AL-Mohanad"/>
              </a:rPr>
              <a:t>إذا كان الخطأ بسبب جهل الطالب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AL-Mohanad"/>
              </a:rPr>
              <a:t>بالشدة وكيفية قراءتها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33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AL-Mohanad"/>
              </a:rPr>
              <a:t>إذا كان سبب الخطأ توالي حرفين متماثلين أو أكثر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971640" y="155736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إنّا لَنَنصُرُ رُسُلَنَ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971640" y="1557360"/>
            <a:ext cx="201600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إنّا لَنَن</a:t>
            </a:r>
            <a:r>
              <a:rPr b="1" lang="hi-IN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صُرُ رُسُ</a:t>
            </a: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لَنَ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95280" y="2708280"/>
            <a:ext cx="266400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فَسَيَكفِيكَهُمُ الل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25520" y="2781360"/>
            <a:ext cx="2590560" cy="57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فَ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سَ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يَك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فِي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كَ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هُ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مُ الل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637080" y="4510080"/>
            <a:ext cx="143964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فالمُقسِّمات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9280" y="4508640"/>
            <a:ext cx="1871640" cy="7189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124000" y="4581360"/>
            <a:ext cx="1368360" cy="719280"/>
          </a:xfrm>
          <a:prstGeom prst="leftArrow">
            <a:avLst>
              <a:gd name="adj1" fmla="val 50000"/>
              <a:gd name="adj2" fmla="val 4756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AL-Mohanad"/>
              </a:rPr>
              <a:t>فك التشدي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77840" y="4508640"/>
            <a:ext cx="1081080" cy="71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سِ</a:t>
            </a:r>
            <a:r>
              <a:rPr b="1" lang="hi-IN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مات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00000" y="4508640"/>
            <a:ext cx="1150920" cy="71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فالمُق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سْ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11280" y="5877000"/>
            <a:ext cx="1439640" cy="7189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أتَعِدانِنِ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69960" y="5864400"/>
            <a:ext cx="1440000" cy="71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imes New Roman"/>
                <a:cs typeface="AL-Mohanad"/>
              </a:rPr>
              <a:t>نِنِ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39640" y="5862600"/>
            <a:ext cx="1440000" cy="719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أتَعِ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3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9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9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L-Mohanad"/>
              </a:rPr>
              <a:t>كون الكلمة مفردة جديدة على القار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L-Mohanad"/>
              </a:rPr>
              <a:t>      لم تطرق سمعه من قبل 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L-Mohanad"/>
              </a:rPr>
              <a:t>إذا كان في وسط الكلمة همز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title"/>
          </p:nvPr>
        </p:nvSpPr>
        <p:spPr>
          <a:xfrm>
            <a:off x="2411280" y="244080"/>
            <a:ext cx="6562800" cy="1384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AL-Mohanad"/>
              </a:rPr>
              <a:t>سبق الطلاب بالقراءة الخاصة و المركزة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826920" y="2349360"/>
            <a:ext cx="2016360" cy="719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L-Mohanad"/>
              </a:rPr>
              <a:t>( لو تزيلوا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26920" y="4437000"/>
            <a:ext cx="2016360" cy="719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L-Mohanad"/>
              </a:rPr>
              <a:t>( أثاثاً ورءيا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AL-Mohanad"/>
              </a:rPr>
              <a:t>إذا جاء اسم منون وبعده كلمة مبدوءة بهمزة وص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AL-Mohanad"/>
              </a:rPr>
              <a:t>الأخطاء الشائعة على ألسن النا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title"/>
          </p:nvPr>
        </p:nvSpPr>
        <p:spPr>
          <a:xfrm>
            <a:off x="3276720" y="259920"/>
            <a:ext cx="5627520" cy="1384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AL-Mohanad"/>
              </a:rPr>
              <a:t>التركيز في الرد على موضع الخطأ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L-Mohana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2124000" y="270972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خبيثةٍ اجتثت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617840" y="5230800"/>
            <a:ext cx="324144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ولم يكن له كفُواً أحد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916360" y="2708280"/>
            <a:ext cx="576000" cy="649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40000" y="5229360"/>
            <a:ext cx="863640" cy="64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1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4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ahoma"/>
                <a:cs typeface="AL-Mohanad"/>
              </a:rPr>
              <a:t>في حالة اعتماد القارئ على السمع لا البصر وذلك في الحالات التالية: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  <a:ea typeface="AL-Mohana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AL-Mohanad"/>
              </a:rPr>
              <a:t>طلاب المرحلة الأو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AL-Mohanad"/>
              </a:rPr>
              <a:t>من وصل في دراسته للمراحل العليا وهو لا يحسن القراء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AL-Mohanad"/>
              </a:rPr>
              <a:t>من فقد بصره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L-Mohana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AL-Mohanad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title"/>
          </p:nvPr>
        </p:nvSpPr>
        <p:spPr>
          <a:xfrm>
            <a:off x="2690280" y="259920"/>
            <a:ext cx="6202440" cy="1384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AL-Mohanad"/>
              </a:rPr>
              <a:t>توضيح النطق بالكلمة وتبيين الحرو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971640" y="4870440"/>
            <a:ext cx="252072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ومن شر النفاذات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27640" y="4869000"/>
            <a:ext cx="2521080" cy="7189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ومن شر النفاثات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635280" y="4724280"/>
            <a:ext cx="2376720" cy="1079640"/>
          </a:xfrm>
          <a:prstGeom prst="leftArrow">
            <a:avLst>
              <a:gd name="adj1" fmla="val 50000"/>
              <a:gd name="adj2" fmla="val 5503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AL-Mohanad"/>
              </a:rPr>
              <a:t>قد يقرؤها بعض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301760" y="4869000"/>
            <a:ext cx="720720" cy="718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1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1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100"/>
                            </p:stCondLst>
                            <p:childTnLst>
                              <p:par>
                                <p:cTn id="506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497200" y="259920"/>
            <a:ext cx="3467160" cy="1384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  <a:cs typeface="AL-Mohanad"/>
              </a:rPr>
              <a:t>المناقش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L-Mohanad"/>
              </a:rPr>
              <a:t> مناقشة القارئ بعد خطئه في التلاوة  حتى يتبين له خطؤه،وذلك عند عدم مراعاة الأثر الإعرابي للكلم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L-Mate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3708360" y="3500280"/>
            <a:ext cx="4753080" cy="71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إن الله اشترى من المؤمنين أنف</a:t>
            </a:r>
            <a:r>
              <a:rPr b="0" lang="hi-IN" sz="28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سَ</a:t>
            </a: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هم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258920" y="3139920"/>
            <a:ext cx="172728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  <a:cs typeface="AL-Mohanad"/>
              </a:rPr>
              <a:t>قد تُقر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  <a:cs typeface="AL-Mohanad"/>
              </a:rPr>
              <a:t>بضم 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982800" y="1484280"/>
            <a:ext cx="5903640" cy="5184720"/>
            <a:chOff x="982800" y="1484280"/>
            <a:chExt cx="5903640" cy="5184720"/>
          </a:xfrm>
        </p:grpSpPr>
        <p:sp>
          <p:nvSpPr>
            <p:cNvPr id="795" name=""/>
            <p:cNvSpPr/>
            <p:nvPr/>
          </p:nvSpPr>
          <p:spPr>
            <a:xfrm>
              <a:off x="982800" y="1484280"/>
              <a:ext cx="5903640" cy="51847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1557000" y="1989000"/>
              <a:ext cx="4824000" cy="4247280"/>
              <a:chOff x="1557000" y="1989000"/>
              <a:chExt cx="4824000" cy="4247280"/>
            </a:xfrm>
          </p:grpSpPr>
          <p:sp>
            <p:nvSpPr>
              <p:cNvPr id="797" name=""/>
              <p:cNvSpPr/>
              <p:nvPr/>
            </p:nvSpPr>
            <p:spPr>
              <a:xfrm>
                <a:off x="1557000" y="1989000"/>
                <a:ext cx="4824000" cy="4247280"/>
              </a:xfrm>
              <a:prstGeom prst="ellipse">
                <a:avLst/>
              </a:prstGeom>
              <a:solidFill>
                <a:srgbClr val="ff2501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169720" y="2460600"/>
                <a:ext cx="3598560" cy="3302280"/>
              </a:xfrm>
              <a:prstGeom prst="ellipse">
                <a:avLst/>
              </a:prstGeom>
              <a:solidFill>
                <a:srgbClr val="aa8456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704680" y="3011760"/>
                <a:ext cx="2526480" cy="2279880"/>
              </a:xfrm>
              <a:prstGeom prst="ellipse">
                <a:avLst/>
              </a:prstGeom>
              <a:solidFill>
                <a:srgbClr val="eec85e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163680" y="3405240"/>
                <a:ext cx="1608480" cy="149256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24840" y="3796920"/>
                <a:ext cx="688320" cy="709200"/>
              </a:xfrm>
              <a:prstGeom prst="ellipse">
                <a:avLst/>
              </a:prstGeom>
              <a:solidFill>
                <a:srgbClr val="323c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2" name=""/>
          <p:cNvSpPr/>
          <p:nvPr/>
        </p:nvSpPr>
        <p:spPr>
          <a:xfrm>
            <a:off x="-36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093080" y="2436840"/>
            <a:ext cx="190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  <a:cs typeface="AL-Mohanad"/>
              </a:rPr>
              <a:t>كم سهما ستحتاج ليكون مجموع الإصابات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L-Mohanad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L-Mohanad"/>
              </a:rPr>
              <a:t> (يمكن إصابة نفس المنطقة أكثر من مر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7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3500"/>
                            </p:stCondLst>
                            <p:childTnLst>
                              <p:par>
                                <p:cTn id="5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نشاط (</a:t>
            </a: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4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3354480" y="2684520"/>
            <a:ext cx="2009520" cy="160812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3"/>
          <a:stretch/>
        </p:blipFill>
        <p:spPr>
          <a:xfrm>
            <a:off x="5299200" y="2684520"/>
            <a:ext cx="2009520" cy="160812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4"/>
          <a:stretch/>
        </p:blipFill>
        <p:spPr>
          <a:xfrm>
            <a:off x="1409760" y="2681280"/>
            <a:ext cx="20098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79280" y="217440"/>
          <a:ext cx="8713800" cy="6512040"/>
        </p:xfrm>
        <a:graphic>
          <a:graphicData uri="http://schemas.openxmlformats.org/drawingml/2006/table">
            <a:tbl>
              <a:tblPr/>
              <a:tblGrid>
                <a:gridCol w="1440000"/>
                <a:gridCol w="3168720"/>
                <a:gridCol w="606240"/>
                <a:gridCol w="3065400"/>
                <a:gridCol w="4334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AL-Mateen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AL-Mateen"/>
                        </a:rPr>
                        <a:t>الجوانب الفن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AL-Mateen"/>
                        </a:rPr>
                        <a:t>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AL-Mateen"/>
                        </a:rPr>
                        <a:t>الآ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AL-Mateen"/>
                        </a:rPr>
                        <a:t>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كون الكلمة مفردة جديدة على الطالب.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إِنَّا بُرَءاؤا مِنكُمْ وَمِمَّا تَعْبُدُونَ 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وجود همزة في وسط الكلمة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أَتَعِدَانِنِي أَنْ أُخْرَجَ 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طول الكلم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 {أَلَّا يَسْجُدُوا لِلَّهِ الَّذِي يُخْرِجُ الْخَبْءَ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الاكتفاء بالحركة دون الشدة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تُؤْتِي أُكُلَهَا كُلَّ حِينٍ بِإِذْنِ رَبِّهَا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كيفية النطق إذا التقى التنوين بهمزة الوص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وَإِذِ ابْتَلَى إِبْرَاهِيمَ رَبُّهُ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توالي حرفين من جنس واحد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فَزَيَّلْنَا بَيْنَهُمْ}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تتابع الحركات من جنس واحد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وَقُدُورٍ رَّاسِيَاتٍ اعْمَلُوا آلَ دَاوُودَ شُكْراً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تأخر الفاعل وتقدم المفعول به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فَسَيَكْفِيكَهُمُ اللّهُ</a:t>
                      </a: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Tahoma"/>
                          <a:cs typeface="AL-Mohanad"/>
                        </a:rPr>
                        <a:t>خطأ شائع على ألسن النا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AL-Mohana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( وَإِنَّ اللَّهَ لَهُوَ خَيْرُ الرَّازِقِينَ)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L-Mohanad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10199"/>
                    </a:solidFill>
                  </a:tcPr>
                </a:tc>
              </a:tr>
            </a:tbl>
          </a:graphicData>
        </a:graphic>
      </p:graphicFrame>
      <p:sp>
        <p:nvSpPr>
          <p:cNvPr id="810" name=""/>
          <p:cNvSpPr/>
          <p:nvPr/>
        </p:nvSpPr>
        <p:spPr>
          <a:xfrm>
            <a:off x="250920" y="871560"/>
            <a:ext cx="133992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فزيَّلنا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8080" y="1447920"/>
            <a:ext cx="13395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برءاؤا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8000" y="2039760"/>
            <a:ext cx="1582560" cy="383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فسيكفيكهم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50920" y="2671920"/>
            <a:ext cx="133992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ألاَّ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788000" y="87156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788000" y="151920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788000" y="260028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788000" y="202392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786200" y="3176640"/>
            <a:ext cx="5763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786200" y="3824280"/>
            <a:ext cx="5763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0920" y="3753000"/>
            <a:ext cx="133992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أتَعِدَانِنِي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50920" y="3176640"/>
            <a:ext cx="133992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راسياتٍ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788000" y="440064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788000" y="521496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88000" y="6093000"/>
            <a:ext cx="576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50920" y="6078600"/>
            <a:ext cx="133992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لهُو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08000" y="5264280"/>
            <a:ext cx="151272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إبراهيمَ ربُه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50920" y="4400640"/>
            <a:ext cx="133992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اُكُلَها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فائد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يقول عمر بن عتبة لمعلم ولده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(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ليكن أول إصلاحك لولدي إصلاحك لنفسك ، فإن عيونهم معقودة بك فالحسن عندهم ما صنعت ، والقبيح عندهم ما تركت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5657760" y="1844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4275000" y="2060640"/>
            <a:ext cx="657360" cy="3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Al-Hadith2"/>
              </a:rPr>
              <a:t>الجلسة الثاني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Garamond"/>
                <a:cs typeface="AL-Battar"/>
              </a:rPr>
              <a:t>طرق تصحيح التلاوة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  <a:ea typeface="AL-Battar"/>
              </a:rPr>
              <a:t>( 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  <a:ea typeface="AL-Battar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Garamond"/>
                <a:ea typeface="AL-Battar"/>
              </a:rPr>
              <a:t> 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 rot="21361800">
            <a:off x="2627280" y="3913200"/>
            <a:ext cx="2290680" cy="261144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3"/>
          <a:stretch/>
        </p:blipFill>
        <p:spPr>
          <a:xfrm rot="261000">
            <a:off x="4013280" y="4669920"/>
            <a:ext cx="16635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9efee"/>
                </a:solidFill>
                <a:latin typeface="Garamond"/>
                <a:cs typeface="AL-Mateen"/>
              </a:rPr>
              <a:t>تصحيح التلاوة ( </a:t>
            </a:r>
            <a:r>
              <a:rPr b="0" lang="en-US" sz="4400" spc="-1" strike="noStrike">
                <a:solidFill>
                  <a:srgbClr val="b9efee"/>
                </a:solidFill>
                <a:latin typeface="Garamond"/>
                <a:ea typeface="AL-Mateen"/>
              </a:rPr>
              <a:t>3</a:t>
            </a:r>
            <a:r>
              <a:rPr b="0" lang="en-US" sz="4400" spc="-1" strike="noStrike">
                <a:solidFill>
                  <a:srgbClr val="b9efee"/>
                </a:solidFill>
                <a:latin typeface="Garamond"/>
                <a:ea typeface="AL-Mateen"/>
              </a:rPr>
              <a:t> 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بيان صفة الحرف أو مخرجه الصحي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بيان القاعدة في القراء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بيان المراد باصطلاحات الضب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AL-Mohanad"/>
              </a:rPr>
              <a:t>وذلك في الحروف المتقاربة في الصفات أو المخارج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AL-Mohanad"/>
              </a:rPr>
              <a:t>           مثل:قلب التاء إلى طا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AL-Mohanad"/>
              </a:rPr>
              <a:t>اللهجة الدارجة عند القارئ،مثل: (قلب الثاء سين )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title"/>
          </p:nvPr>
        </p:nvSpPr>
        <p:spPr>
          <a:xfrm>
            <a:off x="179280" y="274320"/>
            <a:ext cx="634680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Garamond"/>
                <a:cs typeface="AL-Mohanad"/>
              </a:rPr>
              <a:t>بيان صفة الحرف أو مخرجه الصحيح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"/>
          <p:cNvSpPr/>
          <p:nvPr/>
        </p:nvSpPr>
        <p:spPr>
          <a:xfrm>
            <a:off x="4645080" y="3141720"/>
            <a:ext cx="136692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ترجي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205080" y="3141720"/>
            <a:ext cx="136692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طرجي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645080" y="5229360"/>
            <a:ext cx="201600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كذبت ثمود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556000" y="5229360"/>
            <a:ext cx="201600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( كزبت سمو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000"/>
                            </p:stCondLst>
                            <p:childTnLst>
                              <p:par>
                                <p:cTn id="678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9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7844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AL-Mohanad"/>
              </a:rPr>
              <a:t>بيان القاعدة في القراء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همزات الوصل متى تقرأ بالفتح أو بالكسر أو بالض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التفريق بين همزة الوصل وهمزة القط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التفريق بين لام الأمر ولام التعلي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التفريق بين الياء الأخيرة والألف المقصو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5113080" cy="1143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b9efee"/>
                </a:solidFill>
                <a:latin typeface="Garamond"/>
                <a:cs typeface="AL-Mohanad"/>
              </a:rPr>
              <a:t>بيان المراد باصطلاحات الضبط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وذلك عند الخطأ بسببها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  مثل الصفر المستطيل ، الصفر المستدير ، والحروف الصغي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b9efee"/>
                </a:solidFill>
                <a:latin typeface="Garamond"/>
                <a:cs typeface="AL-Mateen"/>
              </a:rPr>
              <a:t>نشاط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  <a:ea typeface="AL-Mateen"/>
              </a:rPr>
              <a:t>(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  <a:ea typeface="AL-Mateen"/>
              </a:rPr>
              <a:t>5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  <a:ea typeface="AL-Mateen"/>
              </a:rPr>
              <a:t> 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0" y="6362640"/>
            <a:ext cx="914400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457200" y="184320"/>
          <a:ext cx="8229600" cy="6057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3529080"/>
                <a:gridCol w="585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كيف تُقر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النو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الآ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جَنَّتَيْنِ ذَوَاتَى أُكُلٍ خَمْط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فَانكِحُواْ مَا طَابَ لَكُم مِّنَ النِّسَا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فَلْيُصَلُّواْ مَعَك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لِيُنفِقْ ذُو سَعَةٍ مِّن سَعَتِه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وَاتَّبِعْ مَا يُوحَى إِلَيْك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وَأَنكِحُوا الْأَيَامَى مِنكُم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مِن بَعْدِ وَصِيَّةٍ يُوصَى بِهَ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وَلِيَذَّكَّرَ أُوْلُواْ الأَلْبَاب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إِن كَادَتْ لَتُبْدِي بِهِ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هَـذَا بَلاَغٌ لِّلنَّاسِ وَلِيُنذَرُواْ بِه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AL-Mohanad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2771640" y="321300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ألف مقصور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697120" y="72864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يا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697120" y="220500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لام أم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01800" y="155736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همزة وص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771640" y="270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لام أم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9640" y="692280"/>
            <a:ext cx="184464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ياء ساكن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39640" y="2133720"/>
            <a:ext cx="184464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ساكن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39640" y="1486080"/>
            <a:ext cx="1844640" cy="764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تسقط في الوص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39640" y="3141720"/>
            <a:ext cx="177192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ألف مدي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9640" y="2637000"/>
            <a:ext cx="184464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مكسور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71640" y="58039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لام التعلي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768760" y="3716280"/>
            <a:ext cx="173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همزة قط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697120" y="479592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لام التعلي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773440" y="422100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ألف مقصور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771640" y="52992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يا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39640" y="3649680"/>
            <a:ext cx="1844640" cy="764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ثابتة وصلا وابتدا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39640" y="4724280"/>
            <a:ext cx="184464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مكسور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39640" y="4221000"/>
            <a:ext cx="184464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ألف مدي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9640" y="5732640"/>
            <a:ext cx="177192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مكسور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9640" y="5227560"/>
            <a:ext cx="1844640" cy="429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ياء ساكن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b9efee"/>
                </a:solidFill>
                <a:latin typeface="Garamond"/>
                <a:cs typeface="AL-Mateen"/>
              </a:rPr>
              <a:t>نشاط</a:t>
            </a: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  <a:ea typeface="AL-Mateen"/>
              </a:rPr>
              <a:t>(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  <a:ea typeface="AL-Mateen"/>
              </a:rPr>
              <a:t>6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  <a:ea typeface="AL-Mateen"/>
              </a:rPr>
              <a:t> 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7596360" y="4653000"/>
            <a:ext cx="12189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9efee"/>
                </a:solidFill>
                <a:latin typeface="Garamond"/>
              </a:rPr>
              <a:t>الآيات من </a:t>
            </a: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66</a:t>
            </a: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 إلى </a:t>
            </a: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70</a:t>
            </a: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 سورة الأحزاب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457200" y="1600200"/>
          <a:ext cx="8229240" cy="449532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أثره في القراء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مصطلح الضب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AL-Mohanad"/>
                        </a:rPr>
                        <a:t>الكلم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Quran 1"/>
                        </a:rPr>
                        <a:t>الرَّسُولَ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Quran 1"/>
                        </a:rPr>
                        <a:t> السَّبِيلَ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Quran 1"/>
                        </a:rPr>
                        <a:t>آذَوْ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Quran 1"/>
                        </a:rPr>
                        <a:t>قَالُو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Quran 1"/>
                        </a:rPr>
                        <a:t> النَّار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ffffff"/>
                          </a:solidFill>
                          <a:latin typeface="Garamond"/>
                          <a:cs typeface="Quran 1"/>
                        </a:rPr>
                        <a:t>الْعَذَاب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1" name=""/>
          <p:cNvSpPr/>
          <p:nvPr/>
        </p:nvSpPr>
        <p:spPr>
          <a:xfrm>
            <a:off x="3490920" y="2276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صفر المستط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39640" y="23335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الألف زائدة وصلا لا وفق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490920" y="29862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صفر المستط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39640" y="30430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الألف زائدة وصلا لا وفق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492360" y="357336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صفر المستدي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80880" y="363060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حرف زائد لا ينطق وصلا ولا وقف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132000" y="490392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سكون على هيئة رأس صا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2200" y="4916520"/>
            <a:ext cx="30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تثبت الألف ابتداء وتسقط وصل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506760" y="41958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الصفر المستدي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95280" y="425304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حرف زائد لا ينطق وصلا ولا وقف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546732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Times New Roman"/>
                <a:cs typeface="AL-Mohanad"/>
              </a:rPr>
              <a:t>سكون على هيئة رأس صا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50920" y="5479920"/>
            <a:ext cx="30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"/>
                <a:cs typeface="AL-Mohanad"/>
              </a:rPr>
              <a:t>تثبت الألف ابتداء وتسقط وصل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9efee"/>
                </a:solidFill>
                <a:latin typeface="Garamond"/>
                <a:cs typeface="AL-Mateen"/>
              </a:rPr>
              <a:t>قواعد وتنبيهات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ما رسم في المصحف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بالتاء المربوط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يوقف عليه بالهاء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وما رسم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بالتاء المفتوح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يوقف عليه بالتاء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كالرس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كل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امرأة أضيفت إلى زوجها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ترسم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بالتاء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أما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مالم تضف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فترسم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بالها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الحذر من إدغام اللام في النون إذا كانت اللام ساكن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الألف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تتبع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ما قبلها في التفخيم والترقيق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بخلاف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الغن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فهي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تتبع ما بعدها في التفخيم والترقي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هناك عدة مفردات في القرآن الكريم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مبدوءة بهمزة على السطر ثم ألف ثم حرف متحرك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فهذه تقرأ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ea typeface="AL-Mohanad"/>
              </a:rPr>
              <a:t> بهمزة ممدودة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L-Mohanad"/>
              </a:rPr>
              <a:t>بخلاف إذا كانت </a:t>
            </a:r>
            <a:r>
              <a:rPr b="0" lang="ar-SA" sz="3200" spc="-1" strike="noStrike">
                <a:solidFill>
                  <a:srgbClr val="ffff00"/>
                </a:solidFill>
                <a:latin typeface="Garamond"/>
                <a:cs typeface="AL-Mohanad"/>
              </a:rPr>
              <a:t>الهمزة على الألف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L-Mohanad"/>
              </a:rPr>
              <a:t> تقرأ </a:t>
            </a:r>
            <a:r>
              <a:rPr b="0" lang="ar-SA" sz="3200" spc="-1" strike="noStrike">
                <a:solidFill>
                  <a:srgbClr val="ff0000"/>
                </a:solidFill>
                <a:latin typeface="Garamond"/>
                <a:cs typeface="AL-Mohanad"/>
              </a:rPr>
              <a:t>بهمزة قطع مفتوح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5" name=""/>
          <p:cNvSpPr/>
          <p:nvPr/>
        </p:nvSpPr>
        <p:spPr>
          <a:xfrm>
            <a:off x="1332000" y="256536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403280" y="352908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332000" y="410688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332000" y="5084640"/>
            <a:ext cx="698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0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8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6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4" dur="500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2" dur="500"/>
                                        <p:tgtEl>
                                          <p:spTgt spid="8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جلسة الأولى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000" y="2425680"/>
            <a:ext cx="821844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Times New Roman"/>
                <a:cs typeface="AL-Battar"/>
              </a:rPr>
              <a:t>الوقاية من الخطأ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35640" y="4076640"/>
            <a:ext cx="2376360" cy="1657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إعرا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قرآن الكر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332000" y="4076640"/>
            <a:ext cx="2376360" cy="1657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لح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وسبل الوقاية من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0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AL-Mateen"/>
              </a:rPr>
              <a:t>إعراب القرآن الكري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773360"/>
            <a:ext cx="8497800" cy="201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هو إبانة حروفه ، وإجادة ترتيله ، وتحسين تلاوته ، وعدم اللحن في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على الوجه المتلقى تواتراً عن رسول الل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50920" y="4221000"/>
            <a:ext cx="8497800" cy="2016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أو هو إقامة حروف القرآن الكريم ، وبيان بعضها من بعض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من غير التباس حرف بحرف ، ومن غير وقوع في اللحن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حاجة قارئ القرآن إلى اللغة والنحو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نشاط (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3419640" y="3716280"/>
            <a:ext cx="2295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دراسة آيات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b76a03"/>
          </a:solidFill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450720" indent="-45072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{لَّـكِنِ الرَّاسِخُونَ فِي الْعِلْمِ مِنْهُمْ وَالْمُؤْمِنُونَ يُؤْمِنُونَ</a:t>
            </a:r>
            <a:br>
              <a:rPr sz="3600"/>
            </a:br>
            <a:br>
              <a:rPr sz="10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بِمَا أُنزِلَ إِلَيكَ وَمَا أُنزِلَ مِن قَبْلِكَ  وَالْمُقِيمِينَ  الصَّلاَةَ</a:t>
            </a:r>
            <a:br>
              <a:rPr sz="3600"/>
            </a:br>
            <a:br>
              <a:rPr sz="1000"/>
            </a:b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وَالْمُؤْتُونَ الزَّكَاةَ وَالْمُؤْمِنُونَ بِاللّهِ وَالْيَوْمِ الآخِرِ أُوْلَـئِكَ</a:t>
            </a:r>
            <a:br>
              <a:rPr sz="3600"/>
            </a:br>
            <a:br>
              <a:rPr sz="10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سَنُؤْتِيهِمْ أَجْراً عَظِيماً }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النساء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L-Mohanad"/>
              </a:rPr>
              <a:t>16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 algn="r" rtl="1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 أَفَمَن شَرَحَ اللَّهُ صَدْرَهُ لِلْإِسْلَامِ فَهُوَ عَلَى نُورٍ مِّن رَّبِّهِ </a:t>
            </a:r>
            <a:br>
              <a:rPr sz="3600"/>
            </a:br>
            <a:br>
              <a:rPr sz="12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فَوَيْلٌ لِّلْقَاسِيَةِ قُلُوبُهُم مِّن ذِكْرِ اللَّهِ  أُوْلَئِكَ فِي ضَلَالٍ مُبِينٍ{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2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62120" y="2089080"/>
            <a:ext cx="1655640" cy="1191240"/>
          </a:xfrm>
          <a:prstGeom prst="rect">
            <a:avLst/>
          </a:prstGeom>
          <a:solidFill>
            <a:srgbClr val="b76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وَالْمُقِيمِين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146400" y="4819680"/>
            <a:ext cx="4932360" cy="1191240"/>
          </a:xfrm>
          <a:prstGeom prst="rect">
            <a:avLst/>
          </a:prstGeom>
          <a:solidFill>
            <a:srgbClr val="b76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Times New Roman"/>
                <a:cs typeface="AL-Mohanad"/>
              </a:rPr>
              <a:t>فَوَيْلٌ لِّلْقَاسِيَةِ قُلُوبُهُم مِّن ذِكْرِ اللَّه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لحن يطلق على 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39640" y="4581360"/>
            <a:ext cx="2303640" cy="136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خط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132000" y="3355920"/>
            <a:ext cx="2303640" cy="1368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فط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724360" y="2205000"/>
            <a:ext cx="2303640" cy="1368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لغ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eec94"/>
                </a:solidFill>
                <a:latin typeface="Times New Roman"/>
                <a:cs typeface="AL-Mateen"/>
              </a:rPr>
              <a:t>أقسام اللح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  <a:cs typeface="AL-Mateen"/>
              </a:rPr>
              <a:t>اللحن الجلي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L-Battar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DecoType Thuluth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  <a:cs typeface="AL-Mateen"/>
              </a:rPr>
              <a:t>اللحن الخفي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DecoType Thuluth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92360" y="1773360"/>
            <a:ext cx="61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هو خطأ ظاهر يطرأ على اللفظ ، يخل بعرف القراءة ، سواء أخل بالمعنى أم لم ي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63640" y="4221000"/>
            <a:ext cx="58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Mohanad"/>
              </a:rPr>
              <a:t>هو خطأ غير ظاهر يطرأ على اللفظ فيخل بعرف القراءة ولا يخل بالمعنى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6:57:16Z</dcterms:created>
  <dc:creator>Customer</dc:creator>
  <dc:description/>
  <dc:language>en-US</dc:language>
  <cp:lastModifiedBy>WinXPro2</cp:lastModifiedBy>
  <dcterms:modified xsi:type="dcterms:W3CDTF">2007-01-08T07:24:33Z</dcterms:modified>
  <cp:revision>133</cp:revision>
  <dc:subject/>
  <dc:title>تصحيح التلاوة (طرق ومها</dc:title>
</cp:coreProperties>
</file>