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95E2F-F711-4761-9853-F15A8C48E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AB9AC-8CD4-45CF-B417-455F0FB31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BAAC5-F356-4AF4-8496-5F9874D10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F00A-168B-4519-99A7-AFD010E58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52576-047F-4CF4-A9E3-82A5D3A29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3E6E1-952D-4137-896E-9BB3E9905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4C2AD-9E5E-4480-BC80-2490E913C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CA868-FF10-4E6E-B7EC-60DBD01DD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3DCDF-6CD5-4576-B1A5-D97824E21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A5EA9-5B98-4A89-B4DD-A9BE74188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5D8BB-84AE-43FA-8A80-B8BF4AB6F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B319C-BDF2-4A50-938F-D0778C821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FBCD6-6376-4D34-BB66-5683FCA05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F2E90-40FF-4C1A-84C3-A78092B50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477BA-A7D8-4A36-A9FC-54B3F3C52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E2293-5731-4685-8180-122459A8C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C45A2-83D1-40EF-AD95-E042B1C63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6238F-DD9C-4292-866D-E51C76A17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2FEC1-B8A6-41F3-88A5-D7A6749F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94BFD-8CCC-4465-8A3D-AFD1EDF1C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3149-0817-48A8-8A72-4724F9D73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6916E-78F6-480E-B5EF-BB58D4688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BDD4-7E30-44D0-8967-A5D73A0F6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1C7A3-A2C6-426C-B9B5-5C35D8F6E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5882-A8B4-42F4-97B1-D8A6689EF67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D1AD-7FBA-40A0-B374-753D6A31521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962440"/>
            <a:ext cx="6400800" cy="822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Comic Sans MS"/>
              </a:rPr>
              <a:t>الاكتشاف المبكر لحالات التوحد</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استاذ : سليمان بن نيف النيف</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رئيس قسم التربية الخاصة</a:t>
            </a:r>
            <a:r>
              <a:rPr b="0" lang="ar-SA" sz="2000" spc="-1" strike="noStrike">
                <a:solidFill>
                  <a:srgbClr val="000000"/>
                </a:solidFill>
                <a:latin typeface="Comic Sans MS"/>
              </a:rPr>
              <a:t> </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دارة التربية والتعليم بمحافظة الرس</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تابع</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ى </a:t>
            </a:r>
            <a:r>
              <a:rPr b="0" lang="en-US" sz="2400" spc="-1" strike="noStrike">
                <a:solidFill>
                  <a:srgbClr val="000000"/>
                </a:solidFill>
                <a:latin typeface="Comic Sans MS"/>
              </a:rPr>
              <a:t>16</a:t>
            </a:r>
            <a:r>
              <a:rPr b="0" lang="en-US" sz="2400" spc="-1" strike="noStrike">
                <a:solidFill>
                  <a:srgbClr val="000000"/>
                </a:solidFill>
                <a:latin typeface="Comic Sans MS"/>
              </a:rPr>
              <a:t> شهرا :</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نطق كلمات مفردة </a:t>
            </a:r>
            <a:endParaRPr b="0" lang="en-US" sz="2400" spc="-1" strike="noStrike">
              <a:solidFill>
                <a:srgbClr val="000000"/>
              </a:solidFill>
              <a:latin typeface="Comic Sans MS"/>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ى </a:t>
            </a:r>
            <a:r>
              <a:rPr b="0" lang="en-US" sz="2400" spc="-1" strike="noStrike">
                <a:solidFill>
                  <a:srgbClr val="000000"/>
                </a:solidFill>
                <a:latin typeface="Comic Sans MS"/>
              </a:rPr>
              <a:t>24</a:t>
            </a:r>
            <a:r>
              <a:rPr b="0" lang="en-US" sz="2400" spc="-1" strike="noStrike">
                <a:solidFill>
                  <a:srgbClr val="000000"/>
                </a:solidFill>
                <a:latin typeface="Comic Sans MS"/>
              </a:rPr>
              <a:t> شهرا:</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القدرة على التحدث ولو بمقطع من كلمتين </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فقد أو ضياع أي لغة أو مهارات اجتماعية تم اكتسابها في أي مرحلة من مراحل العمر المبكر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أعراض المصاحبة لاضطراب التوحد</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ميز الأفراد ذوي اضطراب التوحد عن أقرانهم العاديين بخصائص معينة تؤثر على حياتهم وحياة من يتعامل معهم بشكل مستمر وتتضح هذه الخصائص من خلال النواحي الأساسية لحياة الفرد التي تسمى الاضطرابات الثلاثية وتتمثل هذه الاضطرابات فيما يلي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1</a:t>
            </a:r>
            <a:r>
              <a:rPr b="0" lang="ar-SA" sz="2400" spc="-1" strike="noStrike">
                <a:solidFill>
                  <a:srgbClr val="000000"/>
                </a:solidFill>
                <a:latin typeface="Comic Sans MS"/>
              </a:rPr>
              <a:t>- التفاعل الاجتماعي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حيث يجد هؤلاء الأشخاص صعوبة في بدء أو استمرار علاقة اجتماعبة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2</a:t>
            </a:r>
            <a:r>
              <a:rPr b="0" lang="ar-SA" sz="2400" spc="-1" strike="noStrike">
                <a:solidFill>
                  <a:srgbClr val="000000"/>
                </a:solidFill>
                <a:latin typeface="Comic Sans MS"/>
              </a:rPr>
              <a:t>- التواصل الاجتماعي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حيث يكون لديهم صعوبات في التواصل اللفظي وغير اللفظي ، واذا تكونت لديهم مهارات لغوية فإنها غالبا ماتكون جافة وحرفية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3</a:t>
            </a:r>
            <a:r>
              <a:rPr b="0" lang="ar-SA" sz="2400" spc="-1" strike="noStrike">
                <a:solidFill>
                  <a:srgbClr val="000000"/>
                </a:solidFill>
                <a:latin typeface="Comic Sans MS"/>
              </a:rPr>
              <a:t>- اللعب التخيلي : </a:t>
            </a:r>
            <a:endParaRPr b="0" lang="en-US" sz="2400" spc="-1" strike="noStrike">
              <a:solidFill>
                <a:srgbClr val="000000"/>
              </a:solidFill>
              <a:latin typeface="Comic Sans MS"/>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كون معظم نشاطاتهم أو العابهم نمطية ومكررة وغالبا يهتمون بتفاصيل جانبية للأشياء أكثر من فهمهم للصورة المتكاملة لشيء أو لعب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مظاهر التي يتم الاعتماد عليها في تقييم وتشخيص التوح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a:solidFill>
                  <a:srgbClr val="000000"/>
                </a:solidFill>
                <a:latin typeface="Comic Sans MS"/>
              </a:rPr>
              <a:t>- أداء حركات مكررة ونمطية بالأيدي أو بالأصابع أو الأشياء ، مثل لف الأصابع بطريقة معينة ، أو اللعب بنفس اللعبة بشكل مكرر ونمطي ليس فيه تجديد أو تخيل.</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r>
              <a:rPr b="0" lang="en-US" sz="1800" spc="-1" strike="noStrike">
                <a:solidFill>
                  <a:srgbClr val="000000"/>
                </a:solidFill>
                <a:latin typeface="Comic Sans MS"/>
              </a:rPr>
              <a:t>- الاهتمام بالأشياء المتحركة مثل : المراوح او عجلات السيارات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r>
              <a:rPr b="0" lang="en-US" sz="1800" spc="-1" strike="noStrike">
                <a:solidFill>
                  <a:srgbClr val="000000"/>
                </a:solidFill>
                <a:latin typeface="Comic Sans MS"/>
              </a:rPr>
              <a:t>- الاهتمام بتفاصيل الأشياء مثل : الحفر على الأبواب أو نقاط في صورة أو حبة على الوجه.</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r>
              <a:rPr b="0" lang="en-US" sz="1800" spc="-1" strike="noStrike">
                <a:solidFill>
                  <a:srgbClr val="000000"/>
                </a:solidFill>
                <a:latin typeface="Comic Sans MS"/>
              </a:rPr>
              <a:t>- الطرق أو الخربشة على الأبواب أو الأسطح بشكل متكرر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r>
              <a:rPr b="0" lang="en-US" sz="1800" spc="-1" strike="noStrike">
                <a:solidFill>
                  <a:srgbClr val="000000"/>
                </a:solidFill>
                <a:latin typeface="Comic Sans MS"/>
              </a:rPr>
              <a:t>- تحسس الأشياء أو شمها بشكل متكرر.</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r>
              <a:rPr b="0" lang="en-US" sz="1800" spc="-1" strike="noStrike">
                <a:solidFill>
                  <a:srgbClr val="000000"/>
                </a:solidFill>
                <a:latin typeface="Comic Sans MS"/>
              </a:rPr>
              <a:t>- تكرار حركات جسدية مثل اللف أو القفز أو الدوران او المشي على شكل زوايا او خطوط مستقيمة.</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r>
              <a:rPr b="0" lang="en-US" sz="1800" spc="-1" strike="noStrike">
                <a:solidFill>
                  <a:srgbClr val="000000"/>
                </a:solidFill>
                <a:latin typeface="Comic Sans MS"/>
              </a:rPr>
              <a:t>- إصدار صوت من خلال صك الأسنان بعضها ببعض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r>
              <a:rPr b="0" lang="en-US" sz="1800" spc="-1" strike="noStrike">
                <a:solidFill>
                  <a:srgbClr val="000000"/>
                </a:solidFill>
                <a:latin typeface="Comic Sans MS"/>
              </a:rPr>
              <a:t>- الصراخ أو اصدار أصوات معينة بشكل مكرر ونمطي .</a:t>
            </a:r>
            <a:endParaRPr b="0" lang="en-US" sz="1800" spc="-1" strike="noStrike">
              <a:solidFill>
                <a:srgbClr val="000000"/>
              </a:solidFill>
              <a:latin typeface="Comic Sans MS"/>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a:t>
            </a:r>
            <a:r>
              <a:rPr b="0" lang="en-US" sz="1800" spc="-1" strike="noStrike">
                <a:solidFill>
                  <a:srgbClr val="000000"/>
                </a:solidFill>
                <a:latin typeface="Comic Sans MS"/>
              </a:rPr>
              <a:t>- الاهتمام غير المبرر بأشياء معينة ، مثل لباس أو أكل أو لعبة معينة ، والاضطراب عند عدم وجودها او محاولة استبدالها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تابع</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0</a:t>
            </a:r>
            <a:r>
              <a:rPr b="0" lang="ar-SA" sz="1800" spc="-1" strike="noStrike">
                <a:solidFill>
                  <a:srgbClr val="000000"/>
                </a:solidFill>
                <a:latin typeface="Comic Sans MS"/>
              </a:rPr>
              <a:t>- ممارسة عادات محددة عند النوم مثل : الحرص على النوم في وقت ومكان معين وبالملابس نفسها .</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1</a:t>
            </a:r>
            <a:r>
              <a:rPr b="0" lang="ar-SA" sz="1800" spc="-1" strike="noStrike">
                <a:solidFill>
                  <a:srgbClr val="000000"/>
                </a:solidFill>
                <a:latin typeface="Comic Sans MS"/>
              </a:rPr>
              <a:t>- الغضب عند تغيير روتينه اليومي مثل الانتقال من مكان لآخر (من المنزل للسوق أو من غرفة لأخرى) او اعادة ترتيب سريره او اثاث المنزل.</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2</a:t>
            </a:r>
            <a:r>
              <a:rPr b="0" lang="ar-SA" sz="1800" spc="-1" strike="noStrike">
                <a:solidFill>
                  <a:srgbClr val="000000"/>
                </a:solidFill>
                <a:latin typeface="Comic Sans MS"/>
              </a:rPr>
              <a:t>- الاهتمام غير المبرر بأصوات محددة مثل : صوت تنقيط الماء أو صوت لعبة .</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3</a:t>
            </a:r>
            <a:r>
              <a:rPr b="0" lang="ar-SA" sz="1800" spc="-1" strike="noStrike">
                <a:solidFill>
                  <a:srgbClr val="000000"/>
                </a:solidFill>
                <a:latin typeface="Comic Sans MS"/>
              </a:rPr>
              <a:t>- جمع أشياء بدون هدف مثل : جمع العلب البلاستيكية أو المفاتيح وصفها في خطوط أو ترتيب معين.</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4</a:t>
            </a:r>
            <a:r>
              <a:rPr b="0" lang="ar-SA" sz="1800" spc="-1" strike="noStrike">
                <a:solidFill>
                  <a:srgbClr val="000000"/>
                </a:solidFill>
                <a:latin typeface="Comic Sans MS"/>
              </a:rPr>
              <a:t>- تكرار أسئلة بعينها وكلام سبق استماعه اليه مثل : نشرات الأخبار أو مقاطع من قرآن أو غيره.</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5</a:t>
            </a:r>
            <a:r>
              <a:rPr b="0" lang="ar-SA" sz="1800" spc="-1" strike="noStrike">
                <a:solidFill>
                  <a:srgbClr val="000000"/>
                </a:solidFill>
                <a:latin typeface="Comic Sans MS"/>
              </a:rPr>
              <a:t>- لدى البعض منهم قدرات عالية فيما يتعلق بالذاكرة البعدية ”البصرية“ (مثل رسم لوحات إرشادية بتفاصيلها أو صور).</a:t>
            </a:r>
            <a:endParaRPr b="0" lang="en-US" sz="1800" spc="-1" strike="noStrike">
              <a:solidFill>
                <a:srgbClr val="000000"/>
              </a:solidFill>
              <a:latin typeface="Comic Sans MS"/>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16</a:t>
            </a:r>
            <a:r>
              <a:rPr b="0" lang="ar-SA" sz="1800" spc="-1" strike="noStrike">
                <a:solidFill>
                  <a:srgbClr val="000000"/>
                </a:solidFill>
                <a:latin typeface="Comic Sans MS"/>
              </a:rPr>
              <a:t>- إيذاء الذات أو الآخرين.</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نواع التوحد</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3085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هناك خصائص ومظاهر سلوكية مشتركة يتصف بها ذوي اضطراب التوحد ، وفي المقابل فإنه لايمكن لنا من ناحية عملية أن نجد نفس الخصائص لدى كل هؤلاء الأطفال ، وحتى ان وجدنا نفس الخصائص فإنها في الأغلب تختلف في طريقة ظهورها أو الدرجة والمستوى الحالي لها.</a:t>
            </a:r>
            <a:endParaRPr b="0" lang="en-US" sz="2800" spc="-1" strike="noStrike">
              <a:solidFill>
                <a:srgbClr val="000000"/>
              </a:solidFill>
              <a:latin typeface="Comic Sans MS"/>
            </a:endParaRPr>
          </a:p>
          <a:p>
            <a:pPr marL="308520" indent="-3085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لمعرفة هذه الخصائص لدى الأطفال فقد تم تصنيف أنماط ظهورها بهدف فهم أكثر لحالة كل طفل وما يمكن أن يقدم له من خدمات وبرامج علاجية لذلك صنف التوحد كما يل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a:t>
            </a:r>
            <a:r>
              <a:rPr b="0" lang="en-US" sz="4400" spc="-1" strike="noStrike">
                <a:solidFill>
                  <a:srgbClr val="000000"/>
                </a:solidFill>
                <a:latin typeface="Comic Sans MS"/>
              </a:rPr>
              <a:t>- التوحد التقليدي</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هو مايظهر لدى الأطفال في أعمار مبكرة ويكون لديهم مشكلات في التفاعل الاجتماعي ، والتواصل ، واللعب التخيلي</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2</a:t>
            </a:r>
            <a:r>
              <a:rPr b="0" lang="ar-SA" sz="4400" spc="-1" strike="noStrike">
                <a:solidFill>
                  <a:srgbClr val="000000"/>
                </a:solidFill>
                <a:latin typeface="Comic Sans MS"/>
              </a:rPr>
              <a:t>- اضطراب مايسمى بطيف التوحد</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5972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يشتمل على مايلي : </a:t>
            </a:r>
            <a:endParaRPr b="0" lang="en-US" sz="2800" spc="-1" strike="noStrike">
              <a:solidFill>
                <a:srgbClr val="000000"/>
              </a:solidFill>
              <a:latin typeface="Comic Sans MS"/>
            </a:endParaRPr>
          </a:p>
          <a:p>
            <a:pPr marL="597240" indent="-597240" algn="r" rtl="1">
              <a:lnSpc>
                <a:spcPct val="90000"/>
              </a:lnSpc>
              <a:spcBef>
                <a:spcPts val="700"/>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عرض اسبيرجر :</a:t>
            </a:r>
            <a:endParaRPr b="0" lang="en-US" sz="2800" spc="-1" strike="noStrike">
              <a:solidFill>
                <a:srgbClr val="000000"/>
              </a:solidFill>
              <a:latin typeface="Comic Sans MS"/>
            </a:endParaRPr>
          </a:p>
          <a:p>
            <a:pPr marL="597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والذي يشتمل على ضعف نوعي في التفاعل الاجتماعي ، ولديه سلوكيات نمطية وتكرارية ، وفي المقابل لايوجد تأخر في اللغة أو التطوير المعرفي أو مهارات العناية الذاتية وتظهر المشكلات الاجتماعية عادة في سن المدرسة بشكل واضح حيث يكون هناك مشكلات في التفاعل واظهار الانفعالات مع الأقرا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ب- اضطراب النمو الشامل غير المحدد: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والذي يشتمل على العديد من مظاهر التوحد ، ولكن في الأغلب يكون من الدرجة البسيطة وليس الشديدة أو الشاملة لكل جوانب الاضطراب ، ولعل أهم مظاهر الاضطراب لدى هؤلاء الأطفال تكمن في الجوانب الاجتماعية في المهارات اللفظية وغير اللفظية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اضطراب الطفولة التحللي :</a:t>
            </a:r>
            <a:endParaRPr b="0" lang="en-US" sz="2800" spc="-1" strike="noStrike">
              <a:solidFill>
                <a:srgbClr val="000000"/>
              </a:solidFill>
              <a:latin typeface="Comic Sans MS"/>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عادة لايظهر الابعد سنتين من عمر الطفل ، بعدها يبدأ بفقدان المهارات الأساسية ، وتصبح لديه حركات غير عادية ، ويصاحبه مشكلة في اللغة الاستقبالية والتعبيرية ، وتظهر مشكلات في المهارات الاجتماعية والسلوك التكيفي ، وكذلك في القدرة على تطوير علاقات صداقة مع الأقران ، ومشكلات في التواصل من خلال فقدان أو ضعف في اللغة المنطوقة ، ولدى الطفل سلوكيات نمطية وتكرار للنشاطات ، ويصاحبه عادة اعاقة عقلية شديدة ، ولايوجد لدى الطفل مشاكل عصب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محاور ورشة العمل</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هدف العام من البرنامج: اكساب المتدرب أو المتدربة الكفايات المهنية لاكتشاف حالات التوحد</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أهداف التفصيلية : في نهاية الورشة يتوقع من المتدرب أو المتدربة الإجابة على الاسئلة التالية :</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مفهوم التوحد </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 العلامات المبكرة للتوحد</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هي أهم الأعراض لاضطراب التوحد</a:t>
            </a:r>
            <a:endParaRPr b="0" lang="en-US" sz="2800" spc="-1" strike="noStrike">
              <a:solidFill>
                <a:srgbClr val="000000"/>
              </a:solidFill>
              <a:latin typeface="Comic Sans MS"/>
            </a:endParaRPr>
          </a:p>
          <a:p>
            <a:pPr marL="343080" indent="-34308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هي أهم طرق علاج التوحد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عرض ريت:</a:t>
            </a:r>
            <a:endParaRPr b="0" lang="en-US" sz="2800" spc="-1" strike="noStrike">
              <a:solidFill>
                <a:srgbClr val="000000"/>
              </a:solidFill>
              <a:latin typeface="Comic Sans MS"/>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ويظهر لدى الاناث ، وأسبابه جينية عادة حيث ان النمو في البداية يكون طبيعيا في الجوانب الحركية ومحيط الرأس وبعد ذلك بطيء في نمو الرأس بين (</a:t>
            </a:r>
            <a:r>
              <a:rPr b="0" lang="ar-SA" sz="2800" spc="-1" strike="noStrike">
                <a:solidFill>
                  <a:srgbClr val="000000"/>
                </a:solidFill>
                <a:latin typeface="Comic Sans MS"/>
              </a:rPr>
              <a:t>5</a:t>
            </a:r>
            <a:r>
              <a:rPr b="0" lang="ar-SA" sz="2800" spc="-1" strike="noStrike">
                <a:solidFill>
                  <a:srgbClr val="000000"/>
                </a:solidFill>
                <a:latin typeface="Comic Sans MS"/>
              </a:rPr>
              <a:t>-</a:t>
            </a:r>
            <a:r>
              <a:rPr b="0" lang="ar-SA" sz="2800" spc="-1" strike="noStrike">
                <a:solidFill>
                  <a:srgbClr val="000000"/>
                </a:solidFill>
                <a:latin typeface="Comic Sans MS"/>
              </a:rPr>
              <a:t>48</a:t>
            </a:r>
            <a:r>
              <a:rPr b="0" lang="ar-SA" sz="2800" spc="-1" strike="noStrike">
                <a:solidFill>
                  <a:srgbClr val="000000"/>
                </a:solidFill>
                <a:latin typeface="Comic Sans MS"/>
              </a:rPr>
              <a:t> شهرا) ويظهر قصور في استخدام اليدين بطريقة صحيحة وعدم القدرة على المشي بطريقة مناسبة ، وصعوبات في الجانب اللغوي سواء الاستيعابي أو التعبيري ، وكذلك يصاحبه عادة مشكلات عصبية ، وإعاقة عقلية شديدة ، وقصور في جانب العلاقات الاجتماعية . وتدهور في الحالة مع تقدم العمر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هم البرامج المستخدمة مع الأطفال التوحديين </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ظهرت العديد من البرامج المستخدمة لتعليم ذوي اضطراب التوحد وتعديل سلوكهم وقد اظهرت أغلب هذه البرامج نتائج ايجابية ولكن بنسب مختلفة وذلك للتباين بين صفات هؤلاء التلاميذ ، ومن هذه البرامج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برنامج تيتش </a:t>
            </a:r>
            <a:r>
              <a:rPr b="0" lang="en-GB" sz="4400" spc="-1" strike="noStrike">
                <a:solidFill>
                  <a:srgbClr val="000000"/>
                </a:solidFill>
                <a:latin typeface="Comic Sans MS"/>
              </a:rPr>
              <a:t>TEACCH</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هو برنامج العلاج والتعليم للأطفال ذوي اضطراب التوحد وحالات إعاقة التواصل المشابهة ، ويقوم على وضع خطة لترتيب وتنظيم بيئة الطفل الذي يعاني من اضطراب التوحد ( وذلك لأنه كلما كانت البيئة واضحة من حوله فإن ذلك يساعده على فهمها بشكل أفضل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يعنى برنامج بيتش بالبيئة كلا من ( المدرسة-المنزل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طريقة لوفاس </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تسمى كذلك بالعلاج السلوكي أو علاج التحليل السلوكي وتعتبر واحدة من طرق العلاج السلوكي ،</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عتمد على الاستجابة الشرطية بشكل مكثف حيث يجب الاتقل مدة العلاج السلوكي عن </a:t>
            </a:r>
            <a:r>
              <a:rPr b="0" lang="ar-SA" sz="2400" spc="-1" strike="noStrike">
                <a:solidFill>
                  <a:srgbClr val="000000"/>
                </a:solidFill>
                <a:latin typeface="Comic Sans MS"/>
              </a:rPr>
              <a:t>40</a:t>
            </a:r>
            <a:r>
              <a:rPr b="0" lang="ar-SA" sz="2400" spc="-1" strike="noStrike">
                <a:solidFill>
                  <a:srgbClr val="000000"/>
                </a:solidFill>
                <a:latin typeface="Comic Sans MS"/>
              </a:rPr>
              <a:t> ساعة في الأسبوع.</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استجابة الشرطية في علم النفس مكافأة الطفل على كل سلوك مرغوب او على عدم ارتكابه سلوك غير مرغوب وعقابه _كقول قف، أو عدم اعطائه شيئا يحبه_ على كل سلوك غير مرغوب.</a:t>
            </a:r>
            <a:endParaRPr b="0" lang="en-US" sz="2400" spc="-1" strike="noStrike">
              <a:solidFill>
                <a:srgbClr val="000000"/>
              </a:solidFill>
              <a:latin typeface="Comic Sans MS"/>
            </a:endParaRPr>
          </a:p>
          <a:p>
            <a:pPr marL="343080" indent="-3430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عتبر هذه الطريقة مكلفة جدا لارتفاع تكاليف العلاج خاصة مع العدد الكبير من الساعات المخصصة للعلاج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نظام بيكس</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هو برنامج تحليل سلوك تطبيقي معدل مصمم للتدريب المبكر على التواصل الرمزي غير المنطوق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لم يصمم لتعلم النطق</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يمنح فرصة التواصل بواسطة الصور للأطفال ذوي اضطراب التوحد داخل سياق اجتماعي يكون فيه الطفل مشاركا ومبادرا في عملية التواصل نفسه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طرق علاج التوحد </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لايوجد طريقة واحدة بذاتها تعالج التوحد ، بل مجموعة من العوامل حسب مانتج عن الابحاث الطبية وتجارب الأهالي . ومن أهم طرق العلاج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علاج السلوكي</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مميزات البرنامج الناجح :</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التدخل المبكر </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تدريب الوالدين لمتابعة وممارسة العلاج</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اخصائيين ذو تدريب عالي</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قلة نسبة الأطفال المصابين لأخصائي العلاج</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a:solidFill>
                  <a:srgbClr val="000000"/>
                </a:solidFill>
                <a:latin typeface="Comic Sans MS"/>
              </a:rPr>
              <a:t>- مكثف</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en-US" sz="2800" spc="-1" strike="noStrike">
                <a:solidFill>
                  <a:srgbClr val="000000"/>
                </a:solidFill>
                <a:latin typeface="Comic Sans MS"/>
              </a:rPr>
              <a:t>- تعميم طريقة العلاج في مواطن مختلف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أدوية</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أدوية لاتشفي التوحد ولكن:</a:t>
            </a:r>
            <a:endParaRPr b="0" lang="en-US" sz="3200" spc="-1" strike="noStrike">
              <a:solidFill>
                <a:srgbClr val="000000"/>
              </a:solidFill>
              <a:latin typeface="Comic Sans MS"/>
            </a:endParaRPr>
          </a:p>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قلل من السلوكيات الغير مرغوب فيها مثل : فرط الحركة ، ايذاء النفس ، الخ ...</a:t>
            </a:r>
            <a:endParaRPr b="0" lang="en-US" sz="3200" spc="-1" strike="noStrike">
              <a:solidFill>
                <a:srgbClr val="000000"/>
              </a:solidFill>
              <a:latin typeface="Comic Sans MS"/>
            </a:endParaRPr>
          </a:p>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ساعد في جاهزية الطفل للتدخل العلاجي السلوكي والتعليمي .</a:t>
            </a:r>
            <a:endParaRPr b="0" lang="en-US" sz="3200" spc="-1" strike="noStrike">
              <a:solidFill>
                <a:srgbClr val="000000"/>
              </a:solidFill>
              <a:latin typeface="Comic Sans MS"/>
            </a:endParaRPr>
          </a:p>
          <a:p>
            <a:pPr marL="329040" indent="-3290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عالج الأمراض المصاحبة مثل : الصرع ، الوسواس القهري ، اضطرابات النوم. الخ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حمية الغذائية</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تباع الحمية الغذائية الخالية من الكازيين والجلوتين</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تنظيف غذاء الطفل بتقليل تناول الوجبات السريعة</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زالة السكر من الغذاء</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زالة الأطعمة المسببة للحساسية</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تدخل العلاجي المناسب بالحمية </a:t>
            </a:r>
            <a:r>
              <a:rPr b="1" lang="ar-SA" sz="2400" spc="-1" strike="noStrike">
                <a:solidFill>
                  <a:srgbClr val="000000"/>
                </a:solidFill>
                <a:latin typeface="Comic Sans MS"/>
              </a:rPr>
              <a:t>الغذائية</a:t>
            </a:r>
            <a:r>
              <a:rPr b="0" lang="ar-SA" sz="2400" spc="-1" strike="noStrike">
                <a:solidFill>
                  <a:srgbClr val="000000"/>
                </a:solidFill>
                <a:latin typeface="Comic Sans MS"/>
              </a:rPr>
              <a:t> لأطفال التوحد</a:t>
            </a:r>
            <a:br>
              <a:rPr sz="2400"/>
            </a:br>
            <a:r>
              <a:rPr b="0" lang="ar-SA" sz="2400" spc="-1" strike="noStrike">
                <a:solidFill>
                  <a:srgbClr val="000000"/>
                </a:solidFill>
                <a:latin typeface="Comic Sans MS"/>
              </a:rPr>
              <a:t>• أثبت العلماء بأن هناك علاقة بين التوحد والغذاء</a:t>
            </a:r>
            <a:br>
              <a:rPr sz="2400"/>
            </a:br>
            <a:r>
              <a:rPr b="0" lang="ar-SA" sz="2400" spc="-1" strike="noStrike">
                <a:solidFill>
                  <a:srgbClr val="000000"/>
                </a:solidFill>
                <a:latin typeface="Comic Sans MS"/>
              </a:rPr>
              <a:t>• و أن الغذاء يقلل من التصرفات التوحدية</a:t>
            </a:r>
            <a:br>
              <a:rPr sz="2400"/>
            </a:br>
            <a:r>
              <a:rPr b="0" lang="ar-SA" sz="2400" spc="-1" strike="noStrike">
                <a:solidFill>
                  <a:srgbClr val="000000"/>
                </a:solidFill>
                <a:latin typeface="Comic Sans MS"/>
              </a:rPr>
              <a:t>• و أن الغذاء له علاقة بما يحدث للإنسان من تقلبات في المزاج</a:t>
            </a:r>
            <a:br>
              <a:rPr sz="2400"/>
            </a:br>
            <a:r>
              <a:rPr b="0" lang="ar-SA" sz="2400" spc="-1" strike="noStrike">
                <a:solidFill>
                  <a:srgbClr val="000000"/>
                </a:solidFill>
                <a:latin typeface="Comic Sans MS"/>
              </a:rPr>
              <a:t>• و أن العلاج بالغذاء هو آمن و لا ضرر فيه</a:t>
            </a:r>
            <a:br>
              <a:rPr sz="2400"/>
            </a:br>
            <a:r>
              <a:rPr b="0" lang="ar-SA" sz="2400" spc="-1" strike="noStrike">
                <a:solidFill>
                  <a:srgbClr val="000000"/>
                </a:solidFill>
                <a:latin typeface="Comic Sans MS"/>
              </a:rPr>
              <a:t>• و أن العلاج بالغذاء ربما يأخذ وقت أطول ونتائجه فعالة على المدى البعيد</a:t>
            </a:r>
            <a:br>
              <a:rPr sz="2400"/>
            </a:br>
            <a:r>
              <a:rPr b="0" lang="ar-SA" sz="2400" spc="-1" strike="noStrike">
                <a:solidFill>
                  <a:srgbClr val="000000"/>
                </a:solidFill>
                <a:latin typeface="Comic Sans MS"/>
              </a:rPr>
              <a:t>ويعتبر الكازيين والغلوتين من أهم البروتينات التي يجب إزالتها من جسم المصاب التوحدي ، والكازيين هو البروتين الأساسي في الحليب ، أما الجلوتين فهو بروتين يوجد في الحنطة والشعير والشوفان والجاودار.</a:t>
            </a:r>
            <a:br>
              <a:rPr sz="2400"/>
            </a:br>
            <a:r>
              <a:rPr b="0" lang="ar-SA"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ولا: فئات التربية الخاصة المعتمدة دوليا</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توحد ( اضيف عام </a:t>
            </a:r>
            <a:r>
              <a:rPr b="0" lang="en-US" sz="2800" spc="-1" strike="noStrike">
                <a:solidFill>
                  <a:srgbClr val="000000"/>
                </a:solidFill>
                <a:latin typeface="Comic Sans MS"/>
              </a:rPr>
              <a:t>1990</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إعاقة الحسية المزدوجة      * الإعاقة الصحية</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صمم                           * الاضطرابات الانفعالية الشديدة</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ضعف السمع                    * صعوبات التعلم</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اعاقة العقلية                   * اضطرابات التواصل</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إعاقات المتعددة               * الإصابة الدماغية</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إعاقة البدنية                   * الإعاقة البصرية (بما في ذلك                 </a:t>
            </a:r>
            <a:endParaRPr b="0" lang="en-US" sz="2800" spc="-1" strike="noStrike">
              <a:solidFill>
                <a:srgbClr val="000000"/>
              </a:solidFill>
              <a:latin typeface="Comic Sans MS"/>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كف البصر)</a:t>
            </a:r>
            <a:endParaRPr b="0" lang="en-US" sz="2800" spc="-1" strike="noStrike">
              <a:solidFill>
                <a:srgbClr val="000000"/>
              </a:solidFill>
              <a:latin typeface="Comic Sans MS"/>
            </a:endParaRPr>
          </a:p>
          <a:p>
            <a:pPr marL="3016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هم اداوت القياس والتشخيص لاضطراب التوحد</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لمقياس الأول: الجمعية الأمريكية للطب النفسي (دليل التشخيص)</a:t>
            </a:r>
            <a:r>
              <a:rPr b="0" lang="en-GB" sz="1400" spc="-1" strike="noStrike">
                <a:solidFill>
                  <a:srgbClr val="000000"/>
                </a:solidFill>
                <a:latin typeface="Comic Sans MS"/>
              </a:rPr>
              <a:t>DSM-IV</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ضطراب التوحد :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يشترط  هذا الدليل توفر ستة أعراض أو اكثر من </a:t>
            </a:r>
            <a:r>
              <a:rPr b="0" lang="ar-SA" sz="1400" spc="-1" strike="noStrike">
                <a:solidFill>
                  <a:srgbClr val="000000"/>
                </a:solidFill>
                <a:latin typeface="Comic Sans MS"/>
              </a:rPr>
              <a:t>1،2،3</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ثنين على الأقل من المجموعة (</a:t>
            </a:r>
            <a:r>
              <a:rPr b="0" lang="ar-SA" sz="1400" spc="-1" strike="noStrike">
                <a:solidFill>
                  <a:srgbClr val="000000"/>
                </a:solidFill>
                <a:latin typeface="Comic Sans MS"/>
              </a:rPr>
              <a:t>1</a:t>
            </a:r>
            <a:r>
              <a:rPr b="0" lang="ar-SA" sz="1400" spc="-1" strike="noStrike">
                <a:solidFill>
                  <a:srgbClr val="000000"/>
                </a:solidFill>
                <a:latin typeface="Comic Sans MS"/>
              </a:rPr>
              <a:t>) وعرض واحد على الأقل من المجموعة (</a:t>
            </a:r>
            <a:r>
              <a:rPr b="0" lang="ar-SA" sz="1400" spc="-1" strike="noStrike">
                <a:solidFill>
                  <a:srgbClr val="000000"/>
                </a:solidFill>
                <a:latin typeface="Comic Sans MS"/>
              </a:rPr>
              <a:t>2</a:t>
            </a:r>
            <a:r>
              <a:rPr b="0" lang="ar-SA" sz="1400" spc="-1" strike="noStrike">
                <a:solidFill>
                  <a:srgbClr val="000000"/>
                </a:solidFill>
                <a:latin typeface="Comic Sans MS"/>
              </a:rPr>
              <a:t>) ،(</a:t>
            </a:r>
            <a:r>
              <a:rPr b="0" lang="ar-SA" sz="1400" spc="-1" strike="noStrike">
                <a:solidFill>
                  <a:srgbClr val="000000"/>
                </a:solidFill>
                <a:latin typeface="Comic Sans MS"/>
              </a:rPr>
              <a:t>3</a:t>
            </a:r>
            <a:r>
              <a:rPr b="0" lang="ar-SA" sz="1400" spc="-1" strike="noStrike">
                <a:solidFill>
                  <a:srgbClr val="000000"/>
                </a:solidFill>
                <a:latin typeface="Comic Sans MS"/>
              </a:rPr>
              <a:t>)</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قصور نوعي في التفاعل الاجتماعي  ويتأثر أو يظهر في اثنين على الأقل مما يلي:</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يتميز بخلل (( قصور )) في القدرة على الاتصال غير اللفظي مثل النظر في عيون الآخرين تعبيرات الوجه ، حركات الجسم ، ايماءاته أثناء التفاعل مع الآخرين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ب-الإخفاق في تكوين علاقات سليمة مع الآخرين((بما يتناسب مع المستوى العمري للطفل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ج-نقص الاهتمام لمشاركة الآخرين انجازاتهم ، اهتماماتهم ، هواياتهم مثل :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   (عدم إظهار الاهتمام واجتذاب الاهتمام للآخرين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د-نقص التفاعل أو التبادل الاجتماعي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قصور نوعي في التواصل يتأثر أو يظهر في واحدة على مما يلي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أ-تأخر أو انعدام تكوين اللغة المنطوقة، غير ملحقة بمحاولة لاستخدام الحركات الجسمية أو الايماءات كوسائل بديلة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ب-في الأفراد الذين لديهم لغة كافية يتضح قصور في القدرة على بدء محادثة أو الاستمرار فيها مع الآخرين.</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ج-استخدام التكرار والنمطية في استعمال اللغة أو استخدام لغة غير مفهومة ( مبهمة ).</a:t>
            </a:r>
            <a:endParaRPr b="0" lang="en-US" sz="1400" spc="-1" strike="noStrike">
              <a:solidFill>
                <a:srgbClr val="000000"/>
              </a:solidFill>
              <a:latin typeface="Comic Sans MS"/>
            </a:endParaRPr>
          </a:p>
          <a:p>
            <a:pPr marL="329040" indent="-329040" algn="r" rtl="1">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د-نقص الخيال وغياب القدرة على اللعب التقليدي والمحاكاة بما يتناسب مع مستواه العمري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تابع</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محدودية الأنشطة والاهتمامات والنمطية والرتابة والتكرار متأثرا بواحدة على الأقل مما يلي أ-مدى ضيق من الاهتمامات النمطية المحدودة وتكرارات لنماذج غريبة من الاهتمامات الغير عادية من ناحية الكم والتركيز عليها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وضوح عدم المرونة فيما يتعلق بالروتين الغير وظيفي أو طقوسه الخاصة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حركات جسدية متكررة ونمطية مثل :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رفرفة اليدين أو الأصابع والتصفيق أو التأرجح بالجسم)</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الانشغال باجزاء من الأشياء أو الألعاب مع اللعب بها لمدة طويلة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قصور او تاخر يظهر قبل سن ثلاث سنوات في واحدة على الأقل مما يلي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تفاعل الاجتماعي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لغة المستخدمة في التواصل الاجتماعي </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لعب التخيلي أو الرمزي</a:t>
            </a:r>
            <a:endParaRPr b="0" lang="en-US" sz="2000" spc="-1" strike="noStrike">
              <a:solidFill>
                <a:srgbClr val="000000"/>
              </a:solidFill>
              <a:latin typeface="Comic Sans MS"/>
            </a:endParaRPr>
          </a:p>
          <a:p>
            <a:pPr marL="542160" indent="-54216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اضطراب أو تشوش غير محسوب في عرض ريت</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لمقياس الثاني : مقياس تقدير التوحد الطفولي </a:t>
            </a:r>
            <a:r>
              <a:rPr b="0" lang="en-GB" sz="2000" spc="-1" strike="noStrike">
                <a:solidFill>
                  <a:srgbClr val="000000"/>
                </a:solidFill>
                <a:latin typeface="Comic Sans MS"/>
              </a:rPr>
              <a:t>             </a:t>
            </a:r>
            <a:r>
              <a:rPr b="0" lang="en-GB" sz="2000" spc="-1" strike="noStrike">
                <a:solidFill>
                  <a:srgbClr val="000000"/>
                </a:solidFill>
                <a:latin typeface="Comic Sans MS"/>
              </a:rPr>
              <a:t>CARS</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عتبر أكثر الاختبارات استخداما وانتشارا في تشخيص التوحد وتحديد شدته وقد وضعه العاملون في برنامج علاج وتربية الأطفال التوحديين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يتم تقويم حالة الطفل في الجوانب السلوكية التالية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 التفاعل مع الاخرين                                 - استجابة حاسة الذوق والشم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 مقدرته على التقليد                                 - الخوف والتوتر العصبي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 استجابته العاطفية                                  - التواصل اللغوي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ستخدامه لجسده                                    - التواصل غير اللغوي</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ستخدامه للأشياء                                    - مستوى نشاطه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تكيفه مع الغير                                       - ثبات استجابته الإدراكية </a:t>
            </a:r>
            <a:endParaRPr b="0" lang="en-US" sz="2000" spc="-1" strike="noStrike">
              <a:solidFill>
                <a:srgbClr val="000000"/>
              </a:solidFill>
              <a:latin typeface="Comic Sans MS"/>
            </a:endParaRPr>
          </a:p>
          <a:p>
            <a:pPr marL="343080" indent="-34308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استجابته البصرية                                    - الانطباع العام عن الطفل</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مقياس الثالث : مقياس جيليام للتوحد </a:t>
            </a:r>
            <a:r>
              <a:rPr b="0" lang="en-GB" sz="2800" spc="-1" strike="noStrike">
                <a:solidFill>
                  <a:srgbClr val="000000"/>
                </a:solidFill>
                <a:latin typeface="Comic Sans MS"/>
              </a:rPr>
              <a:t>GARS</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صمم المقياس للاستخدام من قبل الأهل والمعلمين والمختصين على حد سواء وقد صمم لتحديد حالات التوحد لدى الأشخاص الذي تتراوح اعمارهم بين </a:t>
            </a:r>
            <a:r>
              <a:rPr b="0" lang="ar-SA" sz="2800" spc="-1" strike="noStrike">
                <a:solidFill>
                  <a:srgbClr val="000000"/>
                </a:solidFill>
                <a:latin typeface="Comic Sans MS"/>
              </a:rPr>
              <a:t>3</a:t>
            </a:r>
            <a:r>
              <a:rPr b="0" lang="ar-SA" sz="2800" spc="-1" strike="noStrike">
                <a:solidFill>
                  <a:srgbClr val="000000"/>
                </a:solidFill>
                <a:latin typeface="Comic Sans MS"/>
              </a:rPr>
              <a:t>-</a:t>
            </a:r>
            <a:r>
              <a:rPr b="0" lang="ar-SA" sz="2800" spc="-1" strike="noStrike">
                <a:solidFill>
                  <a:srgbClr val="000000"/>
                </a:solidFill>
                <a:latin typeface="Comic Sans MS"/>
              </a:rPr>
              <a:t>23</a:t>
            </a:r>
            <a:r>
              <a:rPr b="0" lang="ar-SA" sz="2800" spc="-1" strike="noStrike">
                <a:solidFill>
                  <a:srgbClr val="000000"/>
                </a:solidFill>
                <a:latin typeface="Comic Sans MS"/>
              </a:rPr>
              <a:t> سنة .</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تصنف بنود الاختبار الى ثلاث اختبارات فرعية يقيس كل منها إحدى الجوانب التالية :</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تواصل والتفاعل الاجتماعي </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سلوك النمطي المتكرر</a:t>
            </a:r>
            <a:endParaRPr b="0" lang="en-US" sz="2800" spc="-1" strike="noStrike">
              <a:solidFill>
                <a:srgbClr val="000000"/>
              </a:solidFill>
              <a:latin typeface="Comic Sans MS"/>
            </a:endParaRPr>
          </a:p>
          <a:p>
            <a:pPr marL="315360" indent="-31536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لاضطرابات التطوري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المراجع</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شامي،وفاء(</a:t>
            </a:r>
            <a:r>
              <a:rPr b="0" lang="ar-SA" sz="3200" spc="-1" strike="noStrike">
                <a:solidFill>
                  <a:srgbClr val="000000"/>
                </a:solidFill>
                <a:latin typeface="Comic Sans MS"/>
              </a:rPr>
              <a:t>2004</a:t>
            </a:r>
            <a:r>
              <a:rPr b="0" lang="ar-SA" sz="3200" spc="-1" strike="noStrike">
                <a:solidFill>
                  <a:srgbClr val="000000"/>
                </a:solidFill>
                <a:latin typeface="Comic Sans MS"/>
              </a:rPr>
              <a:t>م) خفايا التوحد (أشكاله وأسبابه وتشخيصه). الرياض.</a:t>
            </a:r>
            <a:endParaRPr b="0" lang="en-US" sz="3200" spc="-1" strike="noStrike">
              <a:solidFill>
                <a:srgbClr val="000000"/>
              </a:solidFill>
              <a:latin typeface="Comic Sans MS"/>
            </a:endParaRPr>
          </a:p>
          <a:p>
            <a:pPr marL="335880" indent="-335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عثمان ، ابراهيم. (</a:t>
            </a:r>
            <a:r>
              <a:rPr b="0" lang="ar-SA" sz="3200" spc="-1" strike="noStrike">
                <a:solidFill>
                  <a:srgbClr val="000000"/>
                </a:solidFill>
                <a:latin typeface="Comic Sans MS"/>
              </a:rPr>
              <a:t>2003</a:t>
            </a:r>
            <a:r>
              <a:rPr b="0" lang="ar-SA" sz="3200" spc="-1" strike="noStrike">
                <a:solidFill>
                  <a:srgbClr val="000000"/>
                </a:solidFill>
                <a:latin typeface="Comic Sans MS"/>
              </a:rPr>
              <a:t>). البرامج التربوية التي تقدمها وزارة التربية والتعليم للاطفال ذوي اضطراب التوحد . وزارة التربية والتعليم ، الرياض .</a:t>
            </a:r>
            <a:endParaRPr b="0" lang="en-US" sz="3200" spc="-1" strike="noStrike">
              <a:solidFill>
                <a:srgbClr val="000000"/>
              </a:solidFill>
              <a:latin typeface="Comic Sans MS"/>
            </a:endParaRPr>
          </a:p>
          <a:p>
            <a:pPr marL="335880" indent="-335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حقيبة تدريبية للدكتور ابراهيم العثمان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ثانيا: القياس والتشخيص في التربية الخاص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ماأهداف القياس والتشخيص في التربية الخاصة؟ </a:t>
            </a:r>
            <a:endParaRPr b="0" lang="en-US" sz="2400" spc="-1" strike="noStrike">
              <a:solidFill>
                <a:srgbClr val="000000"/>
              </a:solidFill>
              <a:latin typeface="Comic Sans MS"/>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من أهمها:</a:t>
            </a:r>
            <a:endParaRPr b="0" lang="en-US" sz="24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0" lang="en-US" sz="2000" spc="-1" strike="noStrike">
                <a:solidFill>
                  <a:srgbClr val="000000"/>
                </a:solidFill>
                <a:latin typeface="Comic Sans MS"/>
              </a:rPr>
              <a:t>- تحديد أهلية الطفل لخدمات التربية الخاصة</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r>
              <a:rPr b="0" lang="en-US" sz="2000" spc="-1" strike="noStrike">
                <a:solidFill>
                  <a:srgbClr val="000000"/>
                </a:solidFill>
                <a:latin typeface="Comic Sans MS"/>
              </a:rPr>
              <a:t>- تحديد نوع ودرجة الإعاقة أو الموهبة</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r>
              <a:rPr b="0" lang="en-US" sz="2000" spc="-1" strike="noStrike">
                <a:solidFill>
                  <a:srgbClr val="000000"/>
                </a:solidFill>
                <a:latin typeface="Comic Sans MS"/>
              </a:rPr>
              <a:t>- تحديد المستوى الحالي لأداء الطفل واحتياجاته</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r>
              <a:rPr b="0" lang="en-US" sz="2000" spc="-1" strike="noStrike">
                <a:solidFill>
                  <a:srgbClr val="000000"/>
                </a:solidFill>
                <a:latin typeface="Comic Sans MS"/>
              </a:rPr>
              <a:t>- تحديد المكان والأسلوب المناسب لتقديم الخدمة للطفل ذي الاحتياجات الخاصة</a:t>
            </a:r>
            <a:endParaRPr b="0" lang="en-US" sz="2000" spc="-1" strike="noStrike">
              <a:solidFill>
                <a:srgbClr val="000000"/>
              </a:solidFill>
              <a:latin typeface="Comic Sans MS"/>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خطوات القياس والتشخيص في التربية الخاصة</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استقبال ودراسة الحالة</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قياس</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تشخيص</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تصنيف</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مشاركة في اعداد البرنامج الفردي</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فترة الملاحظة</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mic Sans MS"/>
              </a:rPr>
              <a:t>المتابع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ثالثا : تعريف التوحد</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إعاقة نمائية تطورية تظهر دائما في الثلاث سنوات الأولى من العمر ، نتيجة اضطرابات عصبية تؤثر على وظائف المخ ، ويتداخل ذلك مع النمو الطبيعي فيؤثر في الأنشطة العقلية في مناطق التفكير ، التفاعل الاجتماعي ، التواصل اللفظي وغير اللفظي ، واللعب الابداعي والتخيل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مدى انتشار التوح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أكثر من </a:t>
            </a:r>
            <a:r>
              <a:rPr b="0" lang="en-US" sz="2000" spc="-1" strike="noStrike">
                <a:solidFill>
                  <a:srgbClr val="000000"/>
                </a:solidFill>
                <a:latin typeface="Comic Sans MS"/>
              </a:rPr>
              <a:t>1.5</a:t>
            </a:r>
            <a:r>
              <a:rPr b="0" lang="en-US" sz="2000" spc="-1" strike="noStrike">
                <a:solidFill>
                  <a:srgbClr val="000000"/>
                </a:solidFill>
                <a:latin typeface="Comic Sans MS"/>
              </a:rPr>
              <a:t> مليون أمريكي مصابون باضطراب التوحد (مئة الف سعودي)</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يظهر لدى الذكور أكثر من الإناث وتصل النسبة الى (</a:t>
            </a:r>
            <a:r>
              <a:rPr b="0" lang="en-US" sz="2000" spc="-1" strike="noStrike">
                <a:solidFill>
                  <a:srgbClr val="000000"/>
                </a:solidFill>
                <a:latin typeface="Comic Sans MS"/>
              </a:rPr>
              <a:t>4</a:t>
            </a:r>
            <a:r>
              <a:rPr b="0" lang="en-US" sz="2000" spc="-1" strike="noStrike">
                <a:solidFill>
                  <a:srgbClr val="000000"/>
                </a:solidFill>
                <a:latin typeface="Comic Sans MS"/>
              </a:rPr>
              <a:t>-</a:t>
            </a:r>
            <a:r>
              <a:rPr b="0" lang="en-US" sz="2000" spc="-1" strike="noStrike">
                <a:solidFill>
                  <a:srgbClr val="000000"/>
                </a:solidFill>
                <a:latin typeface="Comic Sans MS"/>
              </a:rPr>
              <a:t>1</a:t>
            </a:r>
            <a:r>
              <a:rPr b="0" lang="en-US" sz="2000" spc="-1" strike="noStrike">
                <a:solidFill>
                  <a:srgbClr val="000000"/>
                </a:solidFill>
                <a:latin typeface="Comic Sans MS"/>
              </a:rPr>
              <a:t>) وهو نادر الحدوث بين أفراد العائلة نفسها .</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يحدث في مختلف الطبقات الاجتماعية والمستويات الثقافية والعرقية .</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Comic Sans MS"/>
              </a:rPr>
              <a:t>يعتقد أن الموجود أكثر مما هو مشخ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أسباب التوحد</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Comic Sans MS"/>
              </a:rPr>
              <a:t>أشارت البحوث والدراسات الحديثة الى مسؤولية الجينات عن هذا الاضطراب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Comic Sans MS"/>
              </a:rPr>
              <a:t>بعض العلامات المبكرة للتوحد</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a:t>
            </a:r>
            <a:r>
              <a:rPr b="0" lang="en-US" sz="2400" spc="-1" strike="noStrike">
                <a:solidFill>
                  <a:srgbClr val="000000"/>
                </a:solidFill>
                <a:latin typeface="Comic Sans MS"/>
              </a:rPr>
              <a:t> أشهر:</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اهتمام غير الطبيعي بالأجسام أو الأنوار المتحركة مقارنة بالاستماع بالنظر للوجه</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ضحك الاجتماعي</a:t>
            </a:r>
            <a:endParaRPr b="0" lang="en-US" sz="2400" spc="-1" strike="noStrike">
              <a:solidFill>
                <a:srgbClr val="000000"/>
              </a:solidFill>
              <a:latin typeface="Comic Sans MS"/>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12</a:t>
            </a:r>
            <a:r>
              <a:rPr b="0" lang="en-US" sz="2400" spc="-1" strike="noStrike">
                <a:solidFill>
                  <a:srgbClr val="000000"/>
                </a:solidFill>
                <a:latin typeface="Comic Sans MS"/>
              </a:rPr>
              <a:t> شهر:</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التحديق أو التركيز خارجا ،الذي يؤدي الى صعوبة في كسب الانتباه </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رفع اليدين عند الرغبة في النهوض بل البكاء أوالهيجان</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القدرة على الثرثرة والهديل بتودد وحب</a:t>
            </a:r>
            <a:endParaRPr b="0" lang="en-US" sz="2400" spc="-1" strike="noStrike">
              <a:solidFill>
                <a:srgbClr val="000000"/>
              </a:solidFill>
              <a:latin typeface="Comic Sans MS"/>
            </a:endParaRPr>
          </a:p>
          <a:p>
            <a:pPr marL="318960" indent="-31896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Comic Sans MS"/>
              </a:rPr>
              <a:t>عدم القدرة على التأشير أو الايماء</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4T20:00:58Z</dcterms:created>
  <dc:creator>user</dc:creator>
  <dc:description/>
  <dc:language>en-US</dc:language>
  <cp:lastModifiedBy>user</cp:lastModifiedBy>
  <dcterms:modified xsi:type="dcterms:W3CDTF">2007-12-07T10:53:44Z</dcterms:modified>
  <cp:revision>10</cp:revision>
  <dc:subject/>
  <dc:title>الاكتشاف المبكر لحالات التوحد</dc:title>
</cp:coreProperties>
</file>