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54E-FF61-4B5C-A207-7A95845D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9C7D-3ECC-45CD-B021-29E5925E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F05-515A-46A0-BFA5-744AC3F3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599-017B-48DE-9C87-CA3D96BC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4EE1-8FC4-4C8F-815B-0E4E9159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36C4-8CC8-4D0F-9F1A-506DFC9A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3984-0C52-4506-9C1E-2A62584C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5744-0CAF-4998-9F96-BA25FFB9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7538-1B68-429E-B39F-AFFF72DC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E32B-148E-49FC-889D-8D8D3D62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80B0-0264-41CA-8AE1-AC3CEAF3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56D-6947-48E3-9F1F-20371953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A3D6-197A-4AF2-96F3-E7176A90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5F5D-E1C8-4111-B329-92840E5C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0F7C-5EEF-4956-8985-35B03EF9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10FF-4C9E-43D3-86AE-17D00A79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A6F2-E3B9-4544-9BC8-C5A2697A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C2A-4B15-493C-9CA3-B5E9243B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0FF-20E9-4562-B54E-2A80361A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FCA3-A697-451A-968B-01466564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4C7-4E6E-4706-B9E5-CD6EDC30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5E0-B80A-475D-8681-F5985EA4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E02-7E95-4A9C-BE5D-25B972FD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6EF-7FF3-4A21-BA4A-6B7C7F67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A442-78E5-412D-B4C8-5690A94CA72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09BA-0AC5-4EFF-99A5-55E96602ABF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INTRODUCTION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 CYTOLOG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INU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ynecological cytology: abnormal cyt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iratory tract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rinary tract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strointestinal tract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ytology of fluids and body effu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e Needle Aspiration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 Exa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s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OURSE CONTENTS(PRACTICAL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ion to cytology laborato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ing and classifying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ation of fixatives and preserv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ation and fixation of specim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ation, Fixation, and Staining(1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ation, Fixation, and Staining(2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rmal gynecological cytology(slid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INU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normal non-neoplastic gynecological cytology(slid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normal neoplastic gynecological cytology (slid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iratory tract cytology(slid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ytology of urinary tract, GIT, and body effusions(slid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INU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 Exa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FINI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ientific study of cells obtained from tissues or body secretions to identify disea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YP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sampling techniques, cytology is classified into the follow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foliative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rasive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piration Cytolog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XFOLIATIVE CYTOLO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spontaneous shedding of cells derived from the lining of an organ into a cav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ents of the sample are derived from several 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s: vaginal smear, sputum, urine, CSF, and body effu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terial is collected spontaneously or by a syringe or a cotton swa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BRASIVE CYTOLO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lls are obtained directly from the surface of the target of intere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ples are taken by scraping, brushing, or was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s: cervical scraper, endoscopy, and gastric lav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ples can be obtained from superficial or deep les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SPIRATION CYTOLO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ples are obtained from solid tissues that are not connected to a hollow visc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needle with or without a syringe is us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, safe, rapid, cost effective, and require no special clinical ski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rtually every organ in the body is accessible to this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ASIC PRINCIPLES OF CYTOLOGIC DIAGNOSI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ytologic diagnosis must be based on the entire clinical evidence available, rather than on changes in individual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maintain satisfactory results, the uniformity of the technical methods employed is importa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very important to acquire a thorough knowledge of normal cells originating from a given source before attempting diagnosi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INU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erstanding structural and functional cell changes in health and disea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best quality control is generated by careful follow-up of patients and constant referral to tissue evid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OURSE CONTENTS(THEORY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ion to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ing and classifying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xation and preservation in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hods of preparation in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ins and staining in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ynecological cytology: methods of coll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ynecological cytology: normal and functional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7:36:46Z</dcterms:created>
  <dc:creator>user</dc:creator>
  <dc:description/>
  <dc:language>en-US</dc:language>
  <cp:lastModifiedBy>user</cp:lastModifiedBy>
  <dcterms:modified xsi:type="dcterms:W3CDTF">2008-12-19T20:07:03Z</dcterms:modified>
  <cp:revision>56</cp:revision>
  <dc:subject/>
  <dc:title>INTRODUCTION</dc:title>
</cp:coreProperties>
</file>