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BCB-C3AC-4730-BEC9-92C8A41D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78C-10E2-4786-BF35-AD1D25C1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860-06BA-40E8-8AE6-4E2C971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7A8-C608-4281-9080-92E88DF5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2096-6DB6-4801-AFC5-68F0808E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E870-5E57-4949-9F81-18ACF772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8491-2F96-4828-9EAD-10027C39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F4C-F88C-4C73-BCBD-AA283951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2BC8-2989-498F-94F9-AB9B21FE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DE73-CC3C-467E-B6B6-3E1400AE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1885-F87A-4324-BBDB-532C42F3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146-FC2F-4F1B-A72F-6B60A3E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0643-F992-4A91-9C6F-48FC2F10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27AC-F87A-4774-90DB-4CCB3C05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3B9E-E707-4E44-9FE5-67B32B01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530-8F81-432B-A59F-5F5F761B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8AAC-EE6E-4299-AF59-4EFD6C30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CBB-8365-461C-91FF-AFB032D1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1AC-7E6E-439A-82D6-7FFFD4E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140-5AD4-4D4A-86EF-9771220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80F-1667-4A0A-A755-F336EF97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4FA-7A7B-4979-BA70-257280E4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3E1-FD67-4ADC-AFFF-90073B8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0F6-CB99-4E46-810E-AB482F2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179-117D-4C69-B1E5-0BF79648180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F17-B0B3-4838-903A-C5FA4EAF0BF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6AF3-AA23-4481-8A48-75613D17E3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95280"/>
            <a:ext cx="83059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alog recordings are repeatedly duplicated, small errors that were originally unnoticed begin to propa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gital recordings can be reproduced exactly without any deteri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und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waveforms must be converted to a sequence of discrete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 sampl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he process in which the amplitude of a wave is measured at regular intervals, and stored as discrete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516640"/>
            <a:ext cx="83059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t measurements must be taken to ensure high quality (e.g., 44,100 readings per second for a C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results in massive amounts of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chniques are used to compress the data and reduce file sizes (e.g., MP3, WAV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62000" y="3429000"/>
            <a:ext cx="4743720" cy="19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7B3-24A9-41F4-BFE6-5EA9016DF4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stored using a variety of formats and compression techn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representation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partition an image into a grid of picture elements,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and then convert each pixel into a 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886200"/>
            <a:ext cx="4343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sol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sharpness or clarity of an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that are divided into smaller pixels will yield higher resolution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is stored using 96 pixels per square inch, and the right image is stored using 48 pixels per square i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appears sharp, but has twice the stor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541520"/>
            <a:ext cx="3743280" cy="1811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5812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008-CD72-45A4-B264-048510F880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creating a bitmap of a color image, more than one bit is required to represent each pix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common system is to translate each pixel into a 24 bit code, known as it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GB valu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8 bits to represent the intensity of each red/green/blue compon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49568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on image formats implement various compression techniques to reduce stora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F (Graphics Interchange For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l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meaning no information is lost in the compre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recise pictures, such as line draw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PEG (Joint Photographic Experts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so the compression is not fully reversible (but more efficie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hoto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86080" y="2557440"/>
            <a:ext cx="628632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4C4-0CD3-49E6-8572-F00D1FFF71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inguishing 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es a computer know what type of value is stored in a particular piece of memor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rt answer: it doesn'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program stores data in memory, it must store additional information as to what type of data the bit pattern repres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us, the same bit pattern might represent different values in different contex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17988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1B3-CE93-45C0-B759-608A287E84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alog vs. Digit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ways data can be stored electronicall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represent data in a way that is analogous to real lif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als can vary continuously across an infinite range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n old-fashioned radi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a d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utilize only a finite set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 modern radio with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 tradeoff between analog and digital is variability vs. reproduc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allows for a (potentially) infinite number of unique signals, but they are harder to re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that is highly variable but does not need to be reproduced exa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signals limit the number of representable signals, but they are easily remembered and reproduc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when reproducibility is param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62360" cy="11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482-E7A5-4CDB-95E0-F087753CA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save and manipulate data as discrete (digital)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effective systems use two distinct binary states for data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essence, all data is stored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nary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binary number system, all values are represented using only the two binary digits 0 and 1, which are call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ng binary to decim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047760" cy="156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62320" y="5181480"/>
            <a:ext cx="3886200" cy="13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039-1550-48C6-ADB9-C050DF61E0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cimal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 Binary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gorithm for converting from decimal (D) to binary (B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257800" cy="322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0199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406-C398-4066-AFDF-E5196F520D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nte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integer value must be saved on a computer, its binary equivalent can be encoded as a bit pattern and stored digital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ually, a fixed size (e.g., 32 bits) is used for each integer so that the computer knows where one integer ends and another begi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bit in each pattern acts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ign b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0=positive, 1=negativ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gative numbers are represented i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wo’s complement not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"largest" bit pattern corresponds to the smallest absolute value (-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29240" cy="30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D7C-75D8-4CC1-87CC-AE2CFCD51D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Real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al number can be uniquely identified by the two components of its scientific notation (fractional part and the exponen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3.45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234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000042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us, any real number can be stored as a pair of integ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l numbers stored in this format are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ating point numb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since the decimal point moves (floats) to normalize the f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ndard formats exist for storing real numbers, using either 32 or 64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038480"/>
            <a:ext cx="2514600" cy="1910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ost programming languages represent integers and reals differ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JavaScript simplifies things by using IEEE double-precision floating point for all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9000" y="3836880"/>
            <a:ext cx="5505480" cy="28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DCC-9D13-4AEE-9906-1EA0988DB6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Charac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racters have no natural correspondence to binary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tists devised an arbitrary system for representing characters as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CII (American Standard Code for Information Interchang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ps each character to a specific 8-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all digits are contiguous, as are lower- and upper-case let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0' &lt; '1' &lt; … &lt; '9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icode is a 16-bit extension to ASCII that supports other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86200" y="1405080"/>
            <a:ext cx="4876920" cy="44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99B-6403-4052-9156-A38DCBC8D6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Tex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can be represented as sequences of ASCII codes, one for each character 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114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fic programs may store additional information along with the ASCII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rogramming languages will often store the number of characters along with the ASCII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s will insert special character symbols to denote formatting (analogous to HTML tags in a Web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2960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68E-2180-4713-833E-BABFD57024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are capable of representing much more than numbers and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data requires additional techniques and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sou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unds are inherently analog signals with a specific amplitudes and frequ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sound waves reach your ear, they ca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eardrum to vibrate, and your brai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s the vibration as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telephones translate a waveform in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ectrical signals, which are then sent ov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wir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ed back to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honographs interpret waveforms stored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grooves of a disk (similar to audio cassett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signals cannot be reproduced exactly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his is not usually a problem since t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uman ear is unlikely to notice sm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nsist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59680" y="3352680"/>
            <a:ext cx="227484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9FA-AEB7-4A8D-90A7-4E5C5BDEEE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7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