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E31-3ABC-4D0F-BA4B-B01D0949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408-020B-473D-BEB2-BCAC3F34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021-AB27-4C05-98D2-DD060653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E64-BF61-4744-9543-A0514152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62CF-EA4C-40D6-825E-AE304E12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219A-BDA8-4995-8277-FC37CBD5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3095-2697-45EE-9A65-ED855F73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E394-A7F8-45B8-B17A-314962A9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C8DC-069A-4E23-80AE-FCE438E6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2B3A-FF24-43BD-98DA-2C28E9E7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3C05-90A3-48CB-95CA-AD50CE84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D3DC-F3D1-4BE1-A644-D8991FDA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D4C3-4C52-4B67-B657-9DD3B901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24E9-5DDF-4FBE-AF86-CB1D6BCC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6EC0-BE47-4DF4-BD57-9AF86012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B0A7-DD16-4FF2-A41A-9A2E94CE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383C-D92B-49D2-B963-98F9137E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2FD-6C8B-417C-9A6A-692B805C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15F-0DA0-4F45-B113-D847F7D2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6B8-EFF6-407F-BA42-27298A03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631-0EF7-45CA-B06E-B27FB11B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7A3F-15B3-4AC8-BCCC-73BCA173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FD8-3555-445A-B93A-83EB3036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3AD-AA23-45D9-A113-9F93549B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063A-39F3-49C2-9D59-122B39B0E5C2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B4C0-7918-4641-9546-C72ED15C06EE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4419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 Science as a Discip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1D7D-0F74-4EF5-BEDC-B6D644396CA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s and Data Structur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that involves developing, analyzing, and implementing algorithms for solving probl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cryption is the process of encoding a message so that it is decipherable only by its intended recipi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esar cipher: shift each letter three down in the alphab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ET TU BRUT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HW WX EUXW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esar cipher is an example of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private-key encryp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lies on the sender and the recipient sharing a secret k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modern encryption algorithms rely on private key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Digital Encryption Standard (DES) utilizes 56-bit key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09680" y="4648320"/>
            <a:ext cx="480060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A3B-4B86-455D-AF07-9C97769AAF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ublic-Key Encryp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vate-key encryption assumes that the sender and the recipient have agreed upon some key ahead of time (which introduces other security risk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itfield Diffie and Martin Hellman propose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ublic-key encry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ign each party a pair of associated keys, one is public and the other is priv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ssage encoded with a public key requires the corresponding private key for decoding, and vice ver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 all secure communications on the Internet use public key encryp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s for double encryption to also verify the identity of the sende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encode messages with your own private key and the recipient’s public key, and decode the message in rever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6553080" cy="193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018-18B0-46D3-B675-C84FF5F471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chitectu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concerned with methods of organizing hardware components into efficient, reliable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rallel proce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ltiple processors can sometimes be utilized to share the computational loa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re are costs associated with coordinating the processors and dividing the work, so  not well suited for all tas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ing when parallel processing can be used effectively is a common task for computer archit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Core 2 Duo processor integrates the circuitry for 2 process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execute two different instructions simultaneously, potentially double execution sp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high-end Web Servers utilize multiple process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rvice multiple requests simultaneously by distributing the load among the process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572000"/>
            <a:ext cx="4876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ep Blue, IBM's chess playing computer, contained 32 general purpose processors and 512 special-purpose chess proc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cessors worked in parallel to evaluate chess moves (could generate and evaluate 200 million chess moves per seco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997, Deep Blue became the first computer to beat a world champion in a chess tourn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7800" y="4334040"/>
            <a:ext cx="3505320" cy="19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557-37C3-4FA2-8971-7AF0BF9291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perating Systems and Networ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concerned with mechanisms to control the hardware and software components of computer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perating system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diate between hardware and softw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ime-sharing -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ed for multiple users to work on the same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user is allocated a portion of the processor, and the processor rotates among tasks so rapidly that it appears to be executing tasks simultaneous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ltitasking – a single user can run multiple programs simultaneous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application is allocated a portion of the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809880"/>
            <a:ext cx="83059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network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llow computers to communicate and shar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de area network (WAN) – connec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s over long distances (e.g.,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cal area network (LAN) – connec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s over short distances (e.g., 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 or buil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thernet is a family of technologies for building 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plest form uses broadcasting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88120" y="4191120"/>
            <a:ext cx="1941480" cy="24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DCE-29FD-40B2-AEF5-5398E99D73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oftware Engineer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concerned with creating effective software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rge projects can encompass millions of lines of c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ams of programmers work together to make an integrated wh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ordination and testing are key to successful proj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50292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demand continues to grow, placing pressure on programmers to produce at faster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early, there is a limit to personal produ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mply adding more programmers does not solve the problem: increasing numbers means increased complexity, and coordination becomes an even bigger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recent years, the adoption of the object-oriented programming methodology has made it easier to reus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714920" cy="23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E44-A4FE-41B2-955A-33ABFEAB23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tificial Intelligen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that attempts to make computers exhibit human-like characteristics (e.g., the ability to reason and thin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50, Turing predicted intelligent computers by 2000 (still not even clos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progress has been made in many A.I. real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bots in manufactu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pert systems – programs that encapsulate expert knowledge in a specific domain (e.g., for medical diagnosi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ural computing – design of architectures that mimic the bra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6248160" cy="242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A1A-8292-4A13-B273-089B4A9E48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oinformatic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29200" y="1727280"/>
            <a:ext cx="3753000" cy="33782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that bridges the gap between biology and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cuses on using computers and computer science techniques to solve biological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s are integrated with various scientific t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microscopes connected to computers and digital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are used to model biological sys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pharmaceutical companies model drug interactions to save time and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s are used to store and process large amounts of biological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Human Genome Project stores and provides tools for studying D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44A-BAAB-4793-B5D0-65ABB34E62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Ethics of Comput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technology becomes more prevalent in society, computing professionals must ensure that hardware and software are used safely, fairly, and effective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562720" cy="43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4A4-C3CE-488E-9C3D-C754EF9D95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 “Science”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people argue that computer science is not a science in the same sense that biology and chemistry 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disciplinary nature of computer science has made it hard to classif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science is the study of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more than just machiner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nvolves all aspects of problem solving, inclu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sign and analysis of algorith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ormalization of algorithms as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velopment of computational devices for execu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heoretical study of the power and limitations of compu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ther this constitutes a "science" is a matter of interpre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rtainly, computer science represents a rigorous approach to understanding complex phenomena and problem solv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D8B-9AFF-4FDB-8D45-D1CCE35BC3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cientific Metho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developed by the scientific community for exami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servations and events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cientific metho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4956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activities carried out by computer scientists follow the scientific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designing and implementing a large database system requires hypothesizing about its behavior under various conditioning, experimenting to test those hypotheses, analyzing the results, and possibly redesig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debugging a complex program requires forming hypotheses about where an error might be occurring, experimenting to test those hypotheses, analyzing the results, and fixing the bu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148440" cy="176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C06-3651-4EBF-94B8-7E326B9333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tificial Scien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2952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stinction between computer science and natural sciences like biology, chemistry, and physics is the type of systems being stud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tural sciences study naturally occurring phenomena and attempt to extract underlying laws of n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science study human-made constructs: programs, computers, and computational m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rbert Simon coined the phrase "artificial science" to distinguish computer science from the natural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Europe, computer science is commonly called "Informatic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hasizes the role of information processing as opposed to machin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rm "Algorithmics" has also been prop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hasizes the role of algorithms and problem sol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related fields study computation from different persp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mputer engineer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cuses on the design and construction of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formation systems manageme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cuses on business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587-17EC-45E4-9AD3-7937DD8E65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 Science Them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computation encompasses many different types of activities, computer science research is often difficult to classif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ree recurring themes define the discip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348160" cy="38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184-8BCF-4917-B3E0-319F0506CA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ard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hysical components of a computer and its supporting de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modern computers implement the von Neumann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 + memory + input/out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going research seeks to improve hardware design and organiz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ircuit design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reate smaller, faster, more energy-efficient chi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icrochip manufactur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eek to miniaturize and streamline produ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ystems architec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research methods to increas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hroughpu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the amount of work done in a given time perio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parallel processing – splitting the computation across multiple CP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networking – connecting computers to share information and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2E0-3B40-4F49-B816-7637B5A059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oft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rograms that execute on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 basic software categor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ystems softwar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grams that directly control the execution of hardware components (e.g., operating system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evelopment softwar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grams that are used as tools in the development of other programs (e.g.  Microsoft.NET, Java SDK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pplications softwar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ll other programs, which perform a wide variety of tasks (e.g., web browsers, word processors, gam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careers in computer science are related to the design, development, testing, and maintenance of softw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anguage design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velop and extend programming languages for easier and more efficient sol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gramm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ign and code algorithms for execution on a comput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ystems analys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alyze program designs and manage develop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DC4-0FFD-42DA-96F2-45C0F2EF14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or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oretical computer scientists strive to understand the capabilities of algorithms and computers (deeply rooted in math and formal logi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uring machin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abstract computational machine invented by computer pioneer Alan Tur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ists of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otentially infinite tape on which characters can be writt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rocessing unit that can read and write on the tape, move in either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rection, and distinguish between a finite number of st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gnificance of the Turing mach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programmable (example below is programmed to distinguish between an even or odd number of a's on the tap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ably as powerful as any modern computer, but simpler so provides a manageable tool for studying computa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572000"/>
            <a:ext cx="205740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Turing used this simpler model to prove there are problems that cannot be solved by any comput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57440" y="4267080"/>
            <a:ext cx="451476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258-F91E-4D3D-8CAC-CB3D9917E7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ubfields of Computer Scien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562360" y="1295280"/>
            <a:ext cx="3276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science can be divided into subfield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subfield takes a unique approach to compu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 the common themes of computer science (hardware, software, and theory) influence every subfie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628880" cy="5105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2120" y="63244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Denning, Peter. “Computer Science: The Discipline.” In Encyclopedia of Computer Science, 4</a:t>
            </a:r>
            <a:r>
              <a:rPr b="0" i="1" lang="en-US" sz="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 ed., 2000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8CC-7AF9-4FDD-900F-A180C5AA2C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8:3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