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769-2BB4-4ED2-8F31-9BDDD854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3CC-2505-4DB0-B04D-396FEE7C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4C1-F1F6-485F-941C-C6B3572F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74D-376A-417E-9173-33E0C7C6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D25-BBCD-48EE-96AA-6D64B628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F31E-326F-4679-BB58-D23E06D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CAE4-672F-437F-82FD-FB51A58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70CE-4C8D-4D6A-97C2-466E74D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750B-509D-4C5B-96EF-6DF832C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76EF-3855-4011-96F6-0D41EAA3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D97-C339-471A-8FF0-7B2B339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CD7-5739-47BE-8532-4AA26C5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5353-9339-4017-B58F-751877E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A8D0-F7C2-4CA3-A39F-56B63BF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4314-0ED8-44E9-8DC8-68D29BAD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7077-4CEC-4A28-A944-3D81A073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212-A8AF-4B1F-AD81-FBF4D500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C84-5D8B-41EA-ADC9-3F0F50F8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8F7-1A9C-496A-A249-0E7A93E7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E73-E021-4DC9-881C-7E632E34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6E3-ECC1-4657-B1CB-7E18F4AB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219-F12F-421B-87D4-523F12E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32D-6508-432E-A89B-4AADC00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B13-9630-4CB2-B92F-520B514F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5E15-2BE4-4585-84FC-EBBDF7932E5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675-4927-44BF-9C84-62C5199B21D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E589-4035-49DC-9CEC-240374B9F7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400440" y="1599840"/>
            <a:ext cx="2590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utton's ONCLICK attribute specifies the code for converting the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lsius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es for In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86728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495680"/>
            <a:ext cx="3162240" cy="20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E0C-8301-4641-B314-77BA831029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an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47920"/>
            <a:ext cx="32767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same text box can be used for both input an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modify the conversion page to allow for entering a temperature in either box, then convert to the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write a simple page in which the user can enter a number, then double it by clicking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4924440" cy="21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492444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D54-DCFA-4D71-B74D-FD6A867E4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text area is similar to a text box but it can contain any number of text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area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textarea name="TEXTAREA_NAME" rows=NUM_ROWS cols=NUM_COLS wrap="virtua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INITIAL_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textare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AME attribute gives the element a name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OWS attribute specifies the height (number of text line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LS attribute specifies the width (number of character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RAP attribute ensures that the text will wrap from one line to the n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 of running off the edge of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like a text box, opening and closing tags are used to define a tex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text appearing between the tags will be the initial text in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wise, the contents of a text area are accessed/assigned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C34-D567-4F77-BCE7-73F1D9F7E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48520" y="1676160"/>
            <a:ext cx="2666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first and last names into text bo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ng greeting is constructed using the names and assigned to the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via 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4572000"/>
            <a:ext cx="3353040" cy="20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EE9-63F6-4A01-B209-E720FE15D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st as you can use user-initiated events to change the contents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areas and text boxes, you can also dynamically modify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mg id="faceImg" src="happy.gif" alt="Happy Face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uses the image stored in the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appear in the p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hange the image by reassigning its SRC attrib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the way that text boxes/areas have their VALUE attribute reassig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faceImg').src = "sad.gif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d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891-51F0-4B61-BCDD-3669CB5F5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7315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086600" y="1447560"/>
            <a:ext cx="1828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 the image is set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button is clicked, images is assigned a new SRC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543720" cy="35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581280" cy="22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F57-EB66-4F64-824F-A8E9BC6279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ifying butt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provide a mechanism for simplifying complex buttons such as th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 from Chapter 5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minimize the amount of detail that has to be conside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an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out worrying about how it wo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reduce the length and complexity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ingl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places the underlying complex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371600"/>
            <a:ext cx="8305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butt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eetbox.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of ONCLICK attribute makes the button complex and difficult to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must be careful with nested quotes ("…" vs. '…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886040"/>
            <a:ext cx="5191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144-738D-40A4-97C5-00547085AC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user-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 to JavaScript's predefined functions, the user can define new functions in the HEAD section and call them with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will explore user-defined functions fully in Chapter 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now, the following simple form suffices for simplifying butt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019920" cy="141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47242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begins with the wor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llowed by its name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name should be descriptive of the task being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s beginning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ments that describe the function's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ignored by the interpreter, but make code more user-re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tatements to be executed when the function is called are placed between the curly br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3E2-9D84-4607-8844-A78721EE2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reeting revisite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3240" y="1371240"/>
            <a:ext cx="2971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de from the button is moved to the user-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the button is greatly simpl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5346720" cy="54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62720" y="2787480"/>
            <a:ext cx="3352680" cy="201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43600" y="51055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GENERAL RULE: if more than one statement is to be associated with a button, define a separat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663-C450-4E5F-89BC-E4BE68FDDD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vent-driven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popular feature of the Web is its interactive n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click on buttons to make windows app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enter credit card information in a form and submit i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s that respond to user actions such as mouse clicks or form entri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ode can be combined with HTML elements such as buttons, text fields, and text areas to produce event-drive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56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 hand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HTML element that can be programmed to respond to a user’s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event handler is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can be associated with JavaScript code that will execute when the button is clic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5504040"/>
            <a:ext cx="2590560" cy="66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1B9-DF45-4DCA-9AD3-2514AF2F7D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uttons and For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716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button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BUTTON_LABEL" onclick="JAVASCRIPT_CODE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he text label that appears on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CLICK attribute specifies the action to take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JavaScript statement(s) can be assigned to the ONCLICK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(and frequently is) a call to a JavaScript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9625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Click for Free Money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click="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alert('Yeah, right.');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e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displays a message in a new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'Yeah, right.' is displayed at the click of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can be denoted using either double("…") or single ('…')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single quotes must be used to avoid confusion with the ONCLICK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9F7-E93C-4165-B9D1-578387E10F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 Numb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task of generating random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ier, we did this by embedding JavaScript code in SCRIPT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page was loaded in the browser, the code was executed and the random number was written into the HTML text using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WBACK: the user had to reload for each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ERNATIVE: place a button in the page with associated code for generating and displaying the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user clicks the button, the code for generating and displaying the number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193-5F40-4D15-8497-DF5EA12A1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utton is clicked, two JavaScript statements are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number in the range 1..100 is randomly sel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number is displayed in an alert wind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6858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uckyFor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075120"/>
            <a:ext cx="563868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316224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B81-70C9-439A-8E9F-CC7CFB4C16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button provides a simple mechanism for user interaction in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the button, the user initiates some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ext bo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event-handler that can display text (a word or phras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an alert window, the text box appears as a box embedded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written to the box by JavaScript code (i.e., the box displays outpu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286160"/>
            <a:ext cx="38102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reimplement the lucky number page using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ext box containing the random number is embedded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n't require the user to close the alert window after each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960" y="3522600"/>
            <a:ext cx="4000320" cy="29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28B-602E-4BE6-9DE9-F972FA7AB1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box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text" id="BOX_NAME" size="NUM_CHARS" value="INITIAL_TEXT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 attribute gives the element an identifier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attribute specifies the size of the box (number of characters that 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ext that initially appears in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display text in a text box, a JavaScript assignment is used to assign to its value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assignment, must specif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bsolute 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general form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BOX_NAME').value = VALUE_TO_BE_DISPLAY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BF0-4200-438C-954F-652187AAE8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400800" y="129528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utton is clicked, the function c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Number()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unction generates the random number and assigns it to the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each button click yields a new number in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 for Displaying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638680" cy="380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4684680"/>
            <a:ext cx="2705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78A-029A-48D3-B850-B4445BC834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boxes can also be used for receiving user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can enter text directly into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text can then be accessed by JavaScript code via the absolute name of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ElementById('BOX_NAME').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value retrieved from a text box is always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s a number, say 93, then the absolute name will access "93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you must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convert the string to its numer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e can revisit our temperature convers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enters the Fahrenheit temperature in a tex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the click of a button, the input is accessed and converted to Cels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text box is used to display the converte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756-5EA3-4D48-8A9D-4116CF00CF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