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0CE-E3B4-41E5-B238-B5C52640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2FF-3361-4D91-A643-81F0401D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45F-52FA-477D-9A3F-0B626BBB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4EF-EA84-4C96-AB70-76A09017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9B05-DA45-4417-ACAA-B502753C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C1F2-92B1-4228-B35D-F6770B0D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FA54-204A-4B33-BCBD-BECB3B22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F97-43A0-41F6-AF5B-8B19C1F3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8B1E-727D-424C-91AE-B3954CA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A0DC-49F1-4CF7-B152-ED64F217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8D4-2F68-4140-BCCC-2070F08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A90-D4BC-4E1C-A9D8-3B42A1B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E8C6-B288-4E28-A807-372C35FB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74FF-3DBF-4BA5-9961-37D0A66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B915-07E0-42C8-AAFD-0DF3374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28D-5DB8-4B33-89C6-83F69F78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BD4-7E5E-4D39-B6DF-183DC31C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53F-8451-42FE-9E04-7CE5F4A5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6BD-62D5-435F-9195-CF794EB4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0EB-541B-4DC5-8415-56D73A0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A39-D254-4BF8-945F-BFF7ED8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344-86BC-4AA8-B761-02C5012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690-F532-409D-8C8C-E957911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C0B-E46F-4533-B94D-B40A90A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05C3-2C49-4EE6-A7F3-18A81615C28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A31-0CA6-4442-9FDE-4677E6DE808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s and Programming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C5D2-E4E8-4D38-8044-46FDFD9018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ING: a common problem in computer science involves storing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aining large amounts of data, and then searching the data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ula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storage and retrieval are key to many industry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algorithms are necessary to storing and retrieving data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nsider searching a large payroll database for a particular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computer selected entries at random, there is no assurance that the particular record will be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if the record is found, it is likely to take a large amount of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ystematic approach assures that a given record will be found, and that it will be found more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commonly used algorithms for searching a list of i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– general purpose, but relatively s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– restricted use, but fa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706-BC22-4B9D-953C-95B7EE508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quential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lgorithm that involves examining each list item in sequential order until the desired item is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quential search for finding an item in a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item - if that item is the one you are seeking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it is not the item you are seeking, then go on to the next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reach the end of the list and have not found the item, then it was not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 guarantees that you will find the item if it is in the li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not very practical for very large databas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orst cas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ou may have to look at every entry in the li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9A4-1792-470B-A436-CEE843783D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volves continually cutting the desired search list in half until the item is fou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lgorithm is only applicable if the list is order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numbers in increasing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words in alphabetic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inary search for finding an item in an ordered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potential range in which the item could occur is the entir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items remain in the potential range and the desired item has not been found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at the middle entry in the potential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the item you are looking for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greater than the desired item, then reduce the potential range to those entries lef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less than the desired item, then reduce the potential range to those entries righ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repeatedly cutting the potential range in half, binary search can hone in on the value very quick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F5D-437F-4A66-BB61-DE7E2E7A2D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753240" cy="29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21932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you have a sorted list of state names, and want to fin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by examining the middle entry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aft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befor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lef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sired entry i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7EA-C88E-46F7-B1C4-31B05BDC1D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the item you are looking for is in the last spot in the list (or not in the list at al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result, you will have to inspect and compare every entry in the 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ist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is an O(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you will have to keep halving the list until it gets down to a single en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ch time you inspect/compare an entry, you rule out roughly half the remaining e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ogarithm of the list siz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is an O(log 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724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e searching a phone book of the United States (300 million peo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requires at most 300 million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requires at mos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00,000,000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9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F93-44A4-484A-868C-D7BFFEFC2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wton’s Algorithm for finding the square root of 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 initial approximation of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 approximation isn’t close enough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00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e the approximation using the formula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wApproximation = (oldApproximation + N/oldApproximation)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finding the square root of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57800" y="2695680"/>
            <a:ext cx="2666880" cy="180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4495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ton's Algorithm does converge on the square root because each successive approximation is closer than the previous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since the square root might be a non-terminating fraction it is difficult to define the exact number of steps for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the difference between the given approximation and the actual square root is roughly cut in half by each successive 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monstrates O(log N)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20A-ACE8-4B70-97D7-CBE6BDF29F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s all about designing and cod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nded executor is the computer or a program executing on that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re written in programming languages which are more constrained and exact than human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evel of precision necessary to write programs can be frustrating to begin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much easier than it was 50 years ag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y computers (ENIAC) needed to be wired to perform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the advent of the von Neumann architecture, computers could be programmed instead of rew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could be coded as instructions, loaded into the memory of the computer, and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BC2-176D-4FF5-BF6D-CE9AC2228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ing languages were known a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machine langu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machine langu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nsists of instructions that correspond directly to the hardware operations of a particular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e., instructions deal directly with the computer’s physical components including main memory, registers, memory cells in C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low level of abstra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written in bin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ming in machine language is tedious and error pron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e is nearly impossible to understand and debu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rpt from a machine language progra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39C-AD1B-40CF-A986-6CBEABF87E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gh-Level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50’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embly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volved from machine langu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ssembly language substitutes words for binary co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 easier to remember and use words, but still a low level of abstraction (instructions correspond to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late 1950'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igh-level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ere int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allow the programmer to write code closer to the way humans think (as opposed to mimicking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uch more natural way to solve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programs are machine independ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wo high level languages that perform the same task (in JavaScript and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4121280"/>
            <a:ext cx="6934320" cy="25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753-6255-4159-92A3-79FCCB31D6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a high-level language, the programmer is able to reason at a high-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programs must still be translated into machine language that the     computer hardware can understand/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standard approaches to program transl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-world analogy: translating a speech from one language to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provide a real-time trans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rpreter hears a phrase, translates, and immediately speaks the trans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the translation is immedi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if you want to hear the speech again, must interpret all over ag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lat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translates the entire speech off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ranslator takes a copy of the speech, returns when the entire speech is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once translated, it can be read over and over very quick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must wait for the entire speech to be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F76-824A-4995-B04E-29C2910C6D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entral concept underlying all computation is that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is a step-by-step sequence of instructions for carrying out some ta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can be viewed as the process of designing and implementing algorithms that a computer can carry 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grammer’s job is to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n algorithm for accomplishing a given objective, t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late the individual steps of the algorithm into a programming language that the compute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724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programming in Java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have written programs that instruct the browser to carry out a particular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the proper instructions, the browser is able to understand and produce the desir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0EF-E5CE-48A5-95D8-8E3620140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peech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pre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809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lator (compil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515960"/>
            <a:ext cx="6096240" cy="183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4175280"/>
            <a:ext cx="53341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CA8-08BC-483A-8094-5938D626EA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program translation, the interpretation approach relies on a program 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and execute high-level statem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preter reads one high-level statement at a time, immediately translating and executing the statement before processing the next 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is an interpreted langu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8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159-274A-460E-BBDE-A96A1EBA5C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mpilation approach relies on a program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the entire high-level language program into its equivalent machine-language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machine-language program can be executed directly on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languages used for the development of commercial software employ the compilation technique (C,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7010280" cy="26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FD5-E563-4BCD-8FB9-D10662ABE7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 and 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eoffs between interpretation and compi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results almost immediat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cularly useful for dynamic, interactive features of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executes more slowly (slight delay between the execution of statem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machine-language program that can run directly on the underlying hard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runs very fast after 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compile the entire program before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in large software applications when speed is of the utmost impor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954-5FFF-4B3F-94AF-C546C4453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in the Real Wor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791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 of algorithms is not limited to the domain of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cipes for baking cook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irections to your ho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many unfamiliar tasks in life that we could not complete without the aid of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for an algorithm to be effective, it must be stated in a manner that its intended executo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recipe written for a master chef will look different than a recipe written for a college stud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you have already experienced, computers are more demanding with regard to algorithm specifics than any human could b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26360" y="1371600"/>
            <a:ext cx="245556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5AA-24CD-42D3-9E75-840576347A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signing &amp; Analyzing Algorithm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teps to solving problems (George Poly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ise a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rry out your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s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004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finding the oldest person in a room full of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ing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 condition – room full 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al – identify the oldes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erson will give their real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wo people are born on the same day, they a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re is more than one oldest person, finding any one of them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will consider 2 different designs for solving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0DC-FBDC-49D9-9B6C-E912ED35E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1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first person to state his or her name and birthday, then write this information down on a piece of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successive person in lin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person for his or her name and birth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ated birthday is earlier than the birthday on the paper, cross out old information and write down the name and birthday of this per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ach the end of the line, the name and birthday of the oldest person will be written on the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3998880"/>
            <a:ext cx="533412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AAD-75C9-460F-ADB0-0E3F827182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2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re is more than one person in the line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the people pair up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etc) – if there is an odd number of people, the last person will be without a part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each pair of people to compare their birth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est that the younger of the two leave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re is only one person left in line, that person is the old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3456000"/>
            <a:ext cx="480060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C8D-3568-416E-8136-A75BE6EE76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ing which algorithm is "better" is not always clear c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depends upon what features are most important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want to be sure it works, choose the clearer algorith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are about the time or effort required, need to analyz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1 involves asking each person’s birthday and then comparing it to the birthday written o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time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will als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2 allows you to perform multiple comparisons simultaneous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ime needed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rounds it takes to shrink the line down to one pers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turns out to be the logarithm (base 2) of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increases by the cost of one more compari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53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676840"/>
            <a:ext cx="7086600" cy="97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he words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re similar – do not be confused b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 step-by-step sequence of instructions for carrying out a task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the exponent to which a base is raised to produce a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.g., 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10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= 1024, so log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1024)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590-821E-4AD5-B171-0CE882CF1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problem size is large, performance differenc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drama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assume it takes 5 seconds to compare birth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1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00 = 5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200 = 1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400 = 2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,000,000 = 5,000,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2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35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5 secon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,000,0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1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2205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C3B-4843-4BCB-8AFC-ED22AB0AD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g-Oh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represent an algorithm’s performance in relation to the size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, computer scientists use what i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g-O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N) algorithm requires time proportional to the size of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N) algorithm, doubling the problem size doubles the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log N) algorithm requires time proportional to the logarithm of the problem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log N) algorithm, doubling the problem size adds a constant amount of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our previous analys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1 is classified as O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2 is O(log 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284-E1E3-46A4-8C71-878EA322B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