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B6D-2983-4B6E-8D9C-D13F4EB6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107-FD30-47F4-81B9-19AB3825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C53-0CA8-4CF7-9EAD-D7B131B3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C81-B131-4ED9-8C6B-D7D35291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13A3-0894-486B-A1F4-05DEC1A3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86FA-8351-47E3-909A-C5E9CA37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883B-CD40-4B13-81A0-FA7F3A9E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1D04-AB1D-4A6A-8176-8C708E33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A7BF-F137-48E8-B527-CFABEB1E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C1DF-E748-494B-889E-511D18CB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B38E-A5DD-4A53-8526-AEE12499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B15-A9E8-457A-B834-4FAE873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1724-2B52-4856-A8B6-9DDBDADA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22C3-000C-4145-B5E6-F0638C4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282B-74C5-4E28-8D07-F518719B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5B65-7D1D-4667-95FD-D7E1F10F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748C-0151-4ABA-BA80-D4F1A519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645-D0BA-4EB4-B432-3B5EBAB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10C-0942-421B-899C-A552A5A0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173-16AB-4A0F-8FD5-296701B0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647-099C-499C-951F-FFE0D249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463-62B5-48A0-A347-2A7C299A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477-A314-4B91-9B14-D2942C85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A5D-9D43-4962-9CDF-A46BE37F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EE98-6A7E-4937-A241-8EF0A6657C5B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443F-FF2D-4A6B-9585-F954E126E34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44197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straction and User-Defined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D0C1-A65D-4BCF-917B-C9629A275A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claring Local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have seen that variables are useful for storing intermediate steps in a complex compu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in a user-defined function, the programmer is free to create new variables and use them in specifying the function’s compu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by default, new variables used in a function are glob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but what if the same variable name is already used elsewhe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495680"/>
            <a:ext cx="54864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IncomeTax(income, item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income &gt;= 0, itemized &gt;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sults: displays flat tax (13%) due after de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var deduction, taxableIncome,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eduction = Math.max(itemized, 41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axableIncome = Math.max(income - deduction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otalTax = 0.13*taxable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owe $" + totalT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9718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name conflicts, the programmer shoul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emporary variables to b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riable declaration is a statement that lists all local variables to be used in a function (usually the first statement in a fun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   </a:t>
            </a:r>
            <a:r>
              <a:rPr b="0" lang="en-US" sz="1600" spc="-1" strike="noStrike">
                <a:solidFill>
                  <a:srgbClr val="666699"/>
                </a:solidFill>
                <a:latin typeface="Courier New"/>
              </a:rPr>
              <a:t>var LOCAL_1, LOCAL_2, . . ., LOCAL_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4572000"/>
            <a:ext cx="22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since these variables are declared as local, they will not affect (or be affected by) any variables with the same names elsewhere in th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A52-C941-4FD0-A6ED-A9D132F5C3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 with Retur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ing results us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cument.wri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e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OK for some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full generality, we need to be able to return an output value, which can then be used in other comput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number = Math.sqrt(9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amountOwed = IncomeTax(38000, 65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4343400"/>
            <a:ext cx="510552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IncomeTax(income, item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income &gt;= 0, itemized &gt;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turns: flat tax (13%) due after de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var deduction, taxableIncome,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eduction = Math.max(itemized, 41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axableIncome = Math.max(income - deduction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otalTax = 0.13*taxable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return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9718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return statement can be added to a function to specify its output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return statement is reached, the variable or expression is evaluated and its value is returned as the function's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  </a:t>
            </a:r>
            <a:r>
              <a:rPr b="0" lang="en-US" sz="1600" spc="-1" strike="noStrike">
                <a:solidFill>
                  <a:srgbClr val="666699"/>
                </a:solidFill>
                <a:latin typeface="Courier New"/>
              </a:rPr>
              <a:t>return OUTPUT_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4443480"/>
            <a:ext cx="2743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since this function returns the value, it can be used in other computations, e.g., calculate amount owed in 4 pay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payme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ncomeTax(38000, 6500)/4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09F-E7BE-4D2D-83C5-D68ED77A5D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57440" y="1143000"/>
            <a:ext cx="3505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Newconvert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182880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same computation must be done repeatedly, a function can greatly simplify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7640" indent="-2656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hrToCelsiu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called twice to convert two different temper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593960" cy="62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29200" y="3394080"/>
            <a:ext cx="3933720" cy="23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7EB-31DA-4B63-8447-5FE3F8626A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igning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s do not add any computational power to the langu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definition simply encapsulates other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ill, the capacity to define and use functions is key to solving complex problems, as well as to developing reusable c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apsulating repetitive tasks can shorten and simplify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provide units of computational abstraction – user can ignore detai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are self-contained, so can easily be reused in different applic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038480"/>
            <a:ext cx="830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is it worthwhile to define a func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particular computation is complex—meaning that it requires extra variables and/or multiple lines to 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have to perform a particular computation repeatedly within a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defining a function, you must ident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ation to be performed using those inp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utp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FED-08B9-4493-B1C3-106391B46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ign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the task of designing an online Magic 8-bal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Mattell, Inc.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be able to ask a yes/no type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eive an answer (presumably, at rando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648320" cy="332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57800" y="2819520"/>
            <a:ext cx="335268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ld u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xt area for entering the question (which could be several lines lo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xt box for displaying the answer (which should be sh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for initiating the action – which involves calling a function to process the question, select an answer, and display it in th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BA8-EF04-4E4C-9EE8-55A35DD1AE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andom.j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-purpose functions can be grouped together in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ibrary is a text file that contains one or more function defin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the functions are defined in the library, that library can be loaded into pages as nee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library contains useful functions for generating random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load a library of functions in a page, use a special pair of SCRIPT t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ype="text/javascript" src="URL_OR_LOCAL_FILENAM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29604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853-7236-49CA-A600-54E153908D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Using random.j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page below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library is accessed via the We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download the file and store it on your own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simply specify the file name in the SRC attribute (the default is that the file is in the same folder as the Web page that includes i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4876920" cy="401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4167360" cy="1620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38680" y="5029200"/>
            <a:ext cx="320040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note: th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RandomOneOf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function from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random.js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would similarly be useful for the Magic 8-ball  page (in selecting possible answers at rand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D14-B34D-4E11-A72F-04639CE73E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rrors to Avoi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beginning programmers attempt to load a JavaScript code library, errors of two types commonly occur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SCRIPT tags are malformed or the name/address of the library is incorrect, the library will fail to lo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ill not cause an error in itself, but any subsequent attempt to call a function from the library will produ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Error: Object Expected”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using Internet Explorer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Error: XXX is not a function”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using Firefox), where XXX is the entered n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you use the SRC attribute in a pair of SCRIPT tags to load a code library, you cannot place additional JavaScript code between the ta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nk of the SRC attribute as causing the contents of the library to be inserted between the tags, overwriting any other code that was erroneously placed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 type="text/javascript" src="FILENAM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ANYTHING PLACED IN HERE WILL BE IGN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want additional JavaScript code or another library, you must use another pair of SCRIPT ta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79E-B62E-4681-846D-3F31F13586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bstrac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the process of ignoring minutiae and focusing on the big pi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modern life, we are constantly confronted with complex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don't necessarily know how it works, but we know how to use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does a TV work?  a car?  a computer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9718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survive in the face of complexity by abstracting away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use a TV/car/computer, it's not important to understand the inner work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ignore unimportant details and focus on those features relevant to using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V has power switch, volume control, channel changer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5720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functions (lik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provide computational abs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encapsulates some computation &amp; hides the details from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only needs to know how to call the function, not how it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pter 7 introduced simple user-defin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ld encapsulate the statements associated with a button, call the function a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E16-ABB8-45A5-A06F-8116590D80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Function Form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write general-purpose functions, we can extend definitions to includ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) parameters, 2) local variables, and 3) return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e variables that correspond to the function’s inputs (if an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ameters appear in the parentheses, separated by comm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cal variabl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temporary variables that are limited to that function on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require some temporary storage in performing calculations, then declare local variables using the keywor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separated by comm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ocal variable exists only while the function executes, so no potential conflicts with other func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 state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statement that specifies an output 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ists of the keywor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ollowed by a variable or expre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076480"/>
            <a:ext cx="5419800" cy="173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C7C-659F-48CC-AE8D-455000786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 with Inpu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of the predefined function we have considered expect at least on 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kes a number as input, and returns its square root as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(9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kes two numbers as inputs, and returns the maximum as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max(7, 3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nglish, the wor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ramet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ers to some aspect of a system that can be varied in order to control its behavi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a parameter is a variable (declared inside the function's parentheses) whose value is automatically initialized to the corresponding input value when the function is call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meters allow the same function to perform different (but related) tasks when called with different input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5052960"/>
            <a:ext cx="4372200" cy="1009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5105520" y="4748040"/>
            <a:ext cx="358128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the call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ChangeImage("happy.gif")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will assign the inpu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"happy.gif"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to the parameter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mgSource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, resulting in the image being assigned to that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the call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ChangeImage("sad.gif")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will assign the inpu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"sad.gif"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to the parameter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mgSource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, resulting in the image being assigned to that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FF2-376D-44A8-8F59-44E9E61E90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wpic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952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newpics.html, each button performs a similar task - changing the imag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743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ng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ngeIm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suffices for each (using different inpu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6562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614920" y="3014640"/>
            <a:ext cx="3300480" cy="20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14C-DCDF-4594-A1EF-04D15508FF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wmac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1523880"/>
            <a:ext cx="1828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we could redefine oldmac.html from Chapter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has 2 inputs: the animal and sound for that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467000"/>
            <a:ext cx="601956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5880" y="3352680"/>
            <a:ext cx="2919600" cy="1776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0" y="533412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function can be used to display any verse, given the animal and 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C27-5946-4885-97B4-CE8495882C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ultiple Inpu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function has more than one input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meters in the function definition are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values in the function call are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es are matched to parameters by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put value in the function call is assigned to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arameter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put value in the function call is assigned to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arameter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962520"/>
            <a:ext cx="8153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809880"/>
            <a:ext cx="6567480" cy="25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OldMacVerse(animal, s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animal and sound are st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sults: displays corresponding Old MacDonald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OldMacVerse("cow", "moo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OldMacVerse("moo", "cow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743200" y="4114440"/>
            <a:ext cx="67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05320" y="4038120"/>
            <a:ext cx="67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43200" y="4038480"/>
            <a:ext cx="906480" cy="1828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4038480"/>
            <a:ext cx="906480" cy="1828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9B9-309B-4E33-A189-3CDD43EB4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rameters and Local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ameters play an important role in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facilitate the creation of generalized computatio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.e., the function defines a formula, but certain values within the formula can differ each time the function is call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ically, a parameter i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cal variable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ing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exists only inside its particular 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function is called, memory cells are allocated for the parameters and each input from the call is assigned to its corresponding parame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 parameter has been assigned a value, you can refer to that parameter within the function just as you would any other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function terminates, the parameters “go away,” and their associated memory cells are fre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9528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default, variables other than parameters are consider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global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ing they exist and can be accessed by JavaScript code anywhere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it is possible to use the same name to refer to a local variable and a glob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the function, the local variable is acce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tside that function, the global variable is acce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87D-8E8D-4ABF-B9C6-D120572F3F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cal vs. Global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72200" y="1371600"/>
            <a:ext cx="2666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names animal and sound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d for parameters in the function definit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(local variab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d for variables in the BO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(global variab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think of these as completely separate variables, identifiable via a subscrip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n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used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n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used in the BO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551484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548-482A-47EE-B80E-D8216A9696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6:16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