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CD9-DB8F-4AC9-8A04-C1A1264E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F10-F916-41A9-95DB-45FD8DD3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B47-A951-45BB-88C7-49116286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5E4-D94A-421B-86F1-0B10A766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7EA9-1142-45B6-BFC6-900B744D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3C7F-3AFB-49AF-9BF3-CBA2BA2F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8620-C95D-4DC7-80D1-B0ADDF87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F243-FA07-427A-918F-DD0497D4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17AB-6285-453A-8614-1EBB4FDE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D065-0865-4C0E-B918-6F7FA6F3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7B02-E9BF-47E2-80D5-1D7A16B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11D-A215-41C9-81B7-2F59E67F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A9D9-0154-41A0-8DCF-237B123C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45CC-59AF-4D93-A7BF-D9238C8C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E338-9126-491A-9469-04642C24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EA8C-F8A5-47CE-9241-FF2C362F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38E8-4CC9-46DF-A92E-30CEE105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6CF-6F5B-4FEB-B6C6-C662361E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193-3F7C-4550-9EB1-534F1B46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0E2-A249-46CC-AE93-7DA120EF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FD2-FED8-45E4-956F-74502B5C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6C8-CE6D-441B-B5C4-7F41018E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4AB-2CC1-4442-A825-73BBCD53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0E0-59CB-4404-B1B6-DD50D87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EE7B-B4EF-40C0-8974-6C9B911F9E03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5249-957D-4BE8-8AB0-A3306740E63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35B3-C73C-4D4E-B125-BBA939C71BA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ascading If-else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sted if-else structures are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scading if-else statem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because control cascades down the bran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opmost level is evaluated firs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corresponding statements are executed and control moves to the next statement following the cascading 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fails, then control cascades down to the next if t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general, control cascades down the statement from one test to another until one succeeds or the end of the statement is reach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nested if-else struc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47920" y="4281480"/>
            <a:ext cx="662940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196-46D1-4E29-95D6-C48FFA476B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 Cleaner No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it is necessary to handle a large number of alternatives, nested if-else statements can become cumbersome and unwiel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ltiple levels of indentation and curly braces cause the code to look cluttered make it harder to read/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         nested if statements       vs.   a more readable else-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334120" cy="37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EDA-9E6D-4ADE-A68D-FEDD863850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e Roll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a Web page that simulates the roll of a single di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use an image to display the d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use a button to initiate the die ro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the button, a random die roll is selected and the corresponding image is display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6095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55A-251D-4AC9-844F-D47FD1E99C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2880" y="12949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e Roll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22093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used to select the random ro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ending on the roll value, the correct image is display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re than two possibilities, a cascading if-else is nee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084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781-1C41-42C9-973C-24C02905D5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izing Co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each case in the cascading if-else follows the same 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828800"/>
            <a:ext cx="7925040" cy="30488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15628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entire cascading if-else structure could be replaced by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613480"/>
            <a:ext cx="8077320" cy="6048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"http://dave-reed.com/book/Images/die" +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+ "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8C1-2283-43E9-AF55-6B0ED03996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software applications, if statements are often used to count occurrences of conditional or user-initiated ev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unt the number of times dice rolls come up dou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unt the number of times the user guesses a number correc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that is used to record occurrences of an ev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un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, the counter is set to zer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specified action occurs, the counter is increment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fter a given time period, the value stored in the counter will tell you the number of times the desired event took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74674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D7C-AE5D-4CB9-9D5B-7DA00351DD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gical Connectiv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times, simple comparisons between two values may not be adequate to express the conditions under which code should exec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provides operators for expressing multipart te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A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&amp;&amp;): represents the conjunction of two th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TEST1 &amp;&amp; TEST2) is true if both TEST1 and TEST2 are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1 == 4 &amp;&amp; roll2 == 4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double fours are rol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||): represents the disjunction of two th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TEST1 || TEST2) is true if either TEST1 or TEST2 are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1 == 4 || roll2 == 4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at least one four is rol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NO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!): represents neg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!TEST1) is true only if TEST1 is fa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!(roll1 == 4 || roll2 == 4)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neither roll is a fou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406-034E-401A-847C-DF1776B98E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all of the code you have written has be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nconditionally execu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carried out statements in the same set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trast, many programming tasks require code that reacts differently under varying circumstances or condi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udent's course grade depends upon his/her ave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n ESP test requires recognizing when a subject guessed righ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outcome of a game depends upon die rolls or player mo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execu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a program’s ability to execute a statement or sequence of statements only if some condition holds tr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9E2-E689-4F92-9E3E-CF2184C1D2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JavaScript, the simplest form of conditional statement i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f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e action is taken if some condition is true, but a different action is taken if the condition is not true (called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lse 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else case is op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the if statemen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388620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22A-5187-477C-8CA4-C93D018409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races in 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eople prefer braces on separate lines formatted like th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if (BOOLEAN_TES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STATEMENTS_EXECUTED_IF_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STATEMENTS_EXECUTED_IF_FA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ither style is acceptable, but be consisten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erly aligning the code (with if-else lining up and statements indented) is central in producing code that is easy to read and modif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ically, you can omit the braces if there is only one statem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IS STRONGLY DISCOURAGED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lead to tricky errors if the code is ever modifi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A32-A704-442A-967B-9F47782241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oolean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st that controls an if statement can be an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oolean express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i.e., an expression that evaluates to eith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olean tests are formed using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cause they test the relationships between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495680"/>
            <a:ext cx="8153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oolean test in an if statement determines the code that will be exec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is true, then the code inside the subsequent curly braces will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is false, then the code inside the curly braces following the else will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if the test is false and there is no else case, the program moves on to the statement directly after the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857680"/>
            <a:ext cx="2209680" cy="9558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NOT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== is for comparis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= is for ass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2409840" cy="160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39F-0657-4794-B8CD-0099FF8D7B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f Statement Examp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63868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since its purpose is to control the execution of other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1343160"/>
            <a:ext cx="6781680" cy="41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B05-ABD2-4555-BF90-DEDF3EA46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 within a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4771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38680" y="3220920"/>
            <a:ext cx="33051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B0A-7C45-4208-80D7-D06F59FBDF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Text Fiel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at values entered via text boxes/areas are always returned as str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81080"/>
            <a:ext cx="4724280" cy="11890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document.getElementById('age').value &gt;= 18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are old enough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Sorry. You are too young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2149560"/>
            <a:ext cx="3124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say that a 2-year old can vote, but a 102-year old can't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564080"/>
            <a:ext cx="5257800" cy="13716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ge = parseFloat(document.getElementById('age').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age &gt;= 18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are old enough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Sorry. You are too young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732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behave as exp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you wish to treat a value obtained from a text box or text area as a number, you must use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to conver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33E-03B0-49A8-9C91-7886E029D4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sted 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tasks often require code that responds to more than one cond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nesting one if statement inside of an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determining wind-ch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-chill is only defined for temperatures less than or equal to 50 degr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itial if test is to determine if it is a valid temperature to calculate wind-ch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ested if statement only executes if the outer test i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3962520"/>
            <a:ext cx="6553080" cy="25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1CE-DD99-4E1B-A2FB-F430A24B2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8:0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