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C87-C457-4D0E-9183-522C073B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CBF-8108-43FA-9C35-BA905F83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324-0F2E-4741-B4BD-64B77147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4E7-85BC-4B4B-A83F-E4F848A6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AA6B-B779-423A-9978-07018DCB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CAFB-CDB4-4DA0-859B-67637B58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0B0F-9640-49CC-9E71-71639AB7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5C9B-A864-4B77-B61D-DB5A5511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D894-F1E6-472A-8634-8C2284BA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B582-0116-48C6-AD94-9B6132AB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2552-8FEC-4F68-B224-EDB6550B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B7C-7DDC-40E5-A50A-68475728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1EA9-E3BC-48D3-8008-485C00A5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2EDA-39FF-4FE6-9910-4932A735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B11A-AC7D-4A9A-8397-C8BB1754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D1DC-12B1-46C7-9D77-EA3AAA91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7C45-64E9-4412-B00E-D51560E9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A6B-90AC-4E40-BE31-20887D44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910-5D3F-4962-A0D9-E721BD86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379-9FB3-4183-AE65-283ABEA0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A11-EFA0-47F3-86B2-8C1883EB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FF6-8F04-4419-B12C-1E4AC5E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A1F-3D44-4222-94D2-C77B9ED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5D1-A95F-4AE3-9EEB-5550C9DC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3A40-F2D9-41D9-90F0-1737553D1D7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3DF2-AF20-4B7D-947F-BF9FA767BC4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Computer -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AB36-BF4B-4534-AD5E-1BC99EC05C0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in Memory Data Transf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 program is executed, the control unit processes the program instructions and identifies which data values are needed to carry out the specified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320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quired values are then fetched from main memory along the main memory bus, loaded into registers, and used in ALU ope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6483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must be copied from main memory into registers BEFORE it can be operat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practice, the data transfer takes much longer than a single datapath cycle (due mainly to the distance that must be cove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dern CPUs compensate by fetching multiple instructions at once – ideally, the CPU will predict which instructions will be needed next and prefetch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20976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145-F97F-43AB-AECB-16351BF95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ransf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uppose you had a file containing 1,000 numbers and wanted to compute the sum of those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, need to load the data from the file into main memory — for example, at memory locations 500 through 149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e control unit would carry out the following steps to add the numbers and store the resulting sum back in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92468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4D6-95DC-42D3-A380-50FC7BC43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w/ Memory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datapath simulator to integrate main memo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displayed as a series of boxes, labeled with addresses 0-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ain Memory Bus is added to transfer data to and from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es have switches that open and close when the user clicks on th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743200"/>
            <a:ext cx="29718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selecting the radio button labeled R/W in the Main Memory partition, the user can select a memor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address 0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Main Memory Bus and C Bus, they can be opened/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buses are configured to allow data to flow from main memory to the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ther components of the datapath are configured as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5229360" cy="38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BC0-467D-41D1-A840-D9E11A6E4F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3880"/>
            <a:ext cx="2514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suppose we wanted to add the contents of address 0 and address 1, and store the result in addre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copy the data from address 0 into a register, say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e A Bus, B Bus, and ALU settings are irrelevant since the C Bus is dis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867280" cy="43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B5D-D4A8-48C5-81C1-54789913EE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similarly copy the data from address 1 into a register, say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when the simulator executes, there is a noticeable (and intentional) delay as data moves on the Main Memory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E64-8C06-44D9-9E2F-55A8415B9C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contents of R0 and R1 are added and the result is sent directly to addr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ome CPUs, this would require 2 steps: send the result to a register, then copy the register to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65B-09EC-4A96-A935-D96188F2A3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ored-Program Comput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st component of the CPU is a fully functioning, automatic 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in the simulations, tasks were defined by selecting registers and ALU operations via knobs, switches, and bu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ea behind a stored-program computer is that tasks can be represented as instructions stored in main memory along with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ntrol unit must fetch, decode, and execute those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each type of CPU has its own machine language for representing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define an instruction for our simulator by specifying the knob and switch settings for the data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real world CPUs contain an extremely large number of physical components, a more compact representation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represented as binary strings, where the bits correspond to hardwar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4114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45D-04E7-440C-BF22-9BB4735BD8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Machine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st two instructions – select ALU operation and registers to operate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xt 3 instructions – control flow of data between main memory and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t instruction – mark the end of instruction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96120" cy="41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79A-9C3A-4CBD-AFC8-80CE016B0F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trol Uni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ntrol unit fetches each machine language instruction from memory, interprets its meaning, carries out the specified CPU cycle, and then moves on to the nex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instructions and data are both stored in memory, the control unit must recognize where a sequence of instructions begins and 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our simulator, we will assume that programs start at address 0 and end with a HALT instr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real computers, the operating system must keep track of program lo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739116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5E3-B028-4E57-A177-33F870827C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chine language program for adding two numbers 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execu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 counter is initialized: PC =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at memory location 0 is fetched, PC is incremented to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5 into 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is fetched at location 1, PC is incremented to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6 into R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memory location 2 is fetched, PC is incremented to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dd contents of R0 and R1, store result in R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3 is fetched, PC is incremented to 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py contents of R2 into memory location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4 is fetched, PC is incremented to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alt instruction </a:t>
            </a:r>
            <a:r>
              <a:rPr b="0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program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87656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34C-510C-4E36-98A2-317C63D1B6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 and Datapa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acts as the brain of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btains data and instructions from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arries out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tores results back to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604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1911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gram instructions that are executed by the CPU are in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chine langu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at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can write programs in a high-level language, but those high-level instructions must be translated into machine language before exec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programs that exhibit complex behavior are specified to the CPU as sequences of simple machine-language comm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can execute these instructions at such a high speed that complex programmatic behavior is achie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EE1-4B1C-454A-856F-B0E204AFE3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lete Computer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simulator to integrate a control unit, conta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Counter (PC) for keeping track of the nex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 Register (IR): for storing fetched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630520"/>
            <a:ext cx="2971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enter a sequence of instructions directly into memory, starting at address 0 and ending with a Hal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data to be acted upon is stored in additional memory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execute, the program instructions are executed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53337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086-4B57-4705-B280-B7CADF7180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imulato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program consists of 5 instructions, stored in addresses 0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values are stored in addresses 5 &amp;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fore execution, the PC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172-1069-46F2-AA85-54639A0416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execution begins, the instruction at address 0 is fetched and deco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5 to R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4FC-9497-4CE5-93CA-C52B4852F2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1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6 to R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9588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E6B-0265-47E6-86B2-7E4155AF2A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2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add R0 and R1 and store the sum in R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67D-ED27-4649-9CD8-20A13791AE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3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he value in R2 is copied to address 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01992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A00-7843-4CF9-802F-6F6D16564E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4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Ha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on ha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44D-0752-48F0-9197-BA20C6D232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Role of I/O Devic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input/output devices enable the user to interact with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devices – keyboards, mice, scann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put devices – display screens, speakers, print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able computers (1950s) and personal computers (1970s) were designed to execute one program at a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ed program instructions and data directly into main memory via in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instructed the CPU to fetch program instructions and execute them in sequenti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viewed results by sending the contents of the memory to an output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49568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allow for multitasking (multiple programs can be active simultaneous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nd data associated with each program must be loaded into separate portions of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control switches from one program to another, the CPU must save the state of the current program and locate the portion of memory for the new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partitioning and control switches are managed by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CC0-342D-468B-9814-6473059DA5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vs. Assembly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n machine languages is difficult and tedi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code is nearly impossible to understand and debu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embly languages were developed in the early 1950s to simplify program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mbly languages allow for words to substitute for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so, allow for variable names instead of numerical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50860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894-F594-405A-B22F-0A6F88ED95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embly Langu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tored-program computer simulator allows the user to enter instructions in assembly langu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ven toggle the view from assembly language to machine language using the "View As:" pull-down menu to the left of each memory lo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7520" cy="39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2F4-122B-46CB-89E7-0868AECCF6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comprised of several subunits, each playing a specific role in processor functio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rithmetic Logic Unit (AL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that performs the actual operations on data (addition, subtraction, bit manipul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memory locations built into the CPU (to provide fast acces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ransfer of data between registers and main memory occurs across a collection of wires call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ntrol Unit (C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in charge of fetching data and instructions from main memory, as well as controlling the flow of data between registers and the 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35304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762-F1AD-42D1-BBC0-E92261E607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Datapath Cyc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h that data follows within the CPU, traveling along buses from registers to the ALU and then back to registers,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PU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ingle rotation around the CPU datapath is referred to a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PU datapath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812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earlier that we defined CPU speed as measuring the number of instructions that a CPU can carry out per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speed = the number of CPU cycles per sec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2.5GHz CPU can perform 2.5 billion cycles per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s cannot be compared solely on the basis of their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PUs have different instruction sets, one CPU may be able to complete more complex tasks in a sing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, a slower CPU with a richer instruction set may complete some tasks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5400" y="1295280"/>
            <a:ext cx="23050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4FC-310B-4029-9D06-6D5339734E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mpanying the text is a datapath simulat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nob &amp; Switch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ed by Grant Braught at Dickinson Colle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the user to enter data directly into the register boxes and configure the CPU hardware by clicking on knobs and swi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873520"/>
            <a:ext cx="43434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s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s will be ac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s R0 and R1 are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U Oper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operation will be performed on the specified regist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addition operation (A+B)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 the result will be written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 R2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4066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825-338F-424D-AA4D-70B043C88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user clicks on the Execute button, a CPU datapath cycle is executed with the given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data values are retrieved from the specified registers (R0 and R1) and passed along the A and B buses, resp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583-2CF7-448F-85CD-AC697FC788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the data values from the A and B buses are operated on by the ALU, with the result passed along the C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AB4-ABA1-42EE-B013-994367C6A1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data on the C bus is written to the specified register (R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result of the datapath cycle is that the contents of two registers are added and the result is stored in a differ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298-B0DC-446C-BB19-CE16BE1AFB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and Main 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datapath describes the way in which a computer manipulates data stored in regis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does not explain how data gets into registers in the first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, how the results of ALU operations are accessed outside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th of these tasks involve connections between the CPU and ma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active programs and data are stored in the main memory of a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comprised of a large number of memory locations, with each location accessible via an 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s connects main memory to the CPU, enabling the computer to copy data and instructions to registers, and then copy the results of computations back to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81320" y="4267080"/>
            <a:ext cx="4286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C9A-1C6B-4D27-B68E-8495B5F957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2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