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F0F-0DE5-44E8-A19A-121C534B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6E9-91B2-4C6D-A12F-DD6FA914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5CD-7922-4944-A222-B5AB6DCA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B04-BCDE-4842-BA24-DB922497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E456-4005-474D-8740-A9556F00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FE2A-4FF2-4095-B7D9-DDFC498B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0D89-8768-4820-BA7B-3ACDB70B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A4C9-2C6E-4757-A107-FE263AAB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A6F6-2858-4B65-AC57-82D68330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597C-C773-4DD6-B736-C4D99ABA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C3A5-3B96-49F3-9491-A0D585AB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3F3-0928-453C-A4C7-BAB4456B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018B-EA84-452B-871A-3B9E2BB0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B80A-0F13-465A-83DA-C42CBED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C278-5606-4F69-AF84-24815E18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AF92-C5CF-4277-BCE0-567745BE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E232-D401-4D2E-9FB2-96942E46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969-08F5-4A67-8BFA-8BAAB26B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C13-8289-4417-8ADB-E2C0541A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749-B4B8-4BF4-A8DE-3755ED62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796-B9FF-40B7-B8C9-836119F7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B68-2DBF-442D-B6F3-4688339E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354-5513-4EB7-8CDD-96E23358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11C-67A1-426A-B81D-4E4674B6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A59A-1495-441E-B4A1-9FE1BC1B3552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B826-80FF-4A80-B802-F2200E012BCA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Ar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D93B-612B-4085-9A20-BF40DA55E16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s of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applications involve reading and manipulating sequences of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suppose we wanted to calculate the average of some number of grad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ould enter the numbers in one big string, separated by spaces, th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 the split function to separate out the individual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n, traverse the resulting array and calculate the sum and average of the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even if the input string contains numerical digits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turns each array item as a string (similar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text box/area acces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write a function to traverse the array and convert each item to a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40080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023-2FD8-4A28-9405-E540D0857C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5000" y="11426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verage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15000" y="182844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averages an arbitrary number of grades (entered as a string in a text bo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85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arseArra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defined in the library fi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.j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83696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3532320"/>
            <a:ext cx="3800520" cy="164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B0C-4CD3-4B76-B3E1-C851CA1D20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Grad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can be generalized to enter different types of grades for a cour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verage for each type of grade could be calculated (as befor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those averages could be combined for a weighted course average &amp; letter gr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24200" y="2590920"/>
            <a:ext cx="54673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E6A-5D18-427D-B87E-15E606825A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Dice Sta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our web page for simulating repeated dice rolls and recording the number of times that a specific total was ob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stical analysis predicts that, given a large number of dice rolls, the distribution of totals will closely mirror the percentages listed be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959200" y="2743200"/>
            <a:ext cx="32893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240-3E87-4D06-92C0-C21B12DD0C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pproach 1: Separate 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obtain a valid distribution of dice totals, we would need to simulate a large number of rolls and simultaneously count the occurrences of every to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be accomplished by defining 11 counters, each corresponding to a particular tot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is would b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tremel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edio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276720"/>
            <a:ext cx="3352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separate assignment statements for all 11 cou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a cascading if-else statement with 11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easily generalized – what if we wanted to use 8-sided di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4038480" cy="37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694-811A-4432-A814-6B961C1E95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pproach 2: Array of 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stead of representing each counter as a separate variable, we can define the counters as items in an arr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11 counters can be stored in an array and initialized via a single assignment stat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individual counter can be accessed and updated via its corresponding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e first possible total is 2, its count is stored in index 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ext possible total, 3, has its count stored in index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 an arbitrar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its count is stored in index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l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ing code is shorter, simpler, and easier to general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6782040" cy="17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EAC-3BBF-40B3-BCBA-E133684101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ce Stats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 for maintaining statistics on repeated dice rolls can be integrated into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 of rolls to be simulated is entered by the user into a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is defined to call the code for repeatedly simulating the roll and maintaining stats, with the text box contents as inpu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s of rolls for each total are then displayed in a (scrollable)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14920" y="1676520"/>
            <a:ext cx="4048200" cy="37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465-25C9-4DD1-9DDF-0FA14D767C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s as Objec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rlier, we introduced the concept of software objects: programming structures that encompass both data (properties) and operations (method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a string object has properties (e.g.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and methods (e.g.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that enable the programmer to easily store and manipulate tex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ke strings, JavaScrip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rray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re objects that encapsulate multiple values and their associated properties and meth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ike strings (which store only text characters), the items in an array can be of any data ty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rray consists of a sequence of items, enclosed in square brackets and separated by com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ssigning values to array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tem can appear in an array more than o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ray items can be specified as express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rays can be emp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5334120"/>
            <a:ext cx="472428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B2E-9766-402D-8216-392A26E9F0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cessing Items in an Arra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n array stores a series of values, its associated memory cell can be envisioned as divided into components, each containing an individual va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items are assigned sequential indices, allowing programmers to identify an item by its corresponding inde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access is accomplished by specifying the name of the array object, followed by the index of the desired item in bracke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irst item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0]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he second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1]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…, the last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length-1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n index is specified beyond the scope of an array, the access yield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defi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672680" cy="7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524-B6A9-4C62-8C40-5242283241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 Access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now can understand how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OneO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ork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put to the function is a nonempty array of arbitrary i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andom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is called to pick a random index from the array (between 0 and the last index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st.length-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acket notation is used to access the item at that index, which is then returned by the fu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3440160"/>
            <a:ext cx="5562360" cy="23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FCB-1B04-4550-A733-0961927A55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igning Items in an Arra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items can be assigned values just like any vari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ose the arra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been assigned to store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ssignment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0] = 10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ould store the value 1000 as the first item in the array, overwriting the value that was previously t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5720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index in an assignment statement is beyond the array’s current length, the array will automatically expand to accommodate the new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ssignment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8] = "oops"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ould store "oops" at index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181840" cy="42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95280" y="3462480"/>
            <a:ext cx="6858000" cy="64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295280" y="5562720"/>
            <a:ext cx="6782040" cy="68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EEA-79DD-44D6-8DF8-7D1FB8B8E9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rom Strings to Array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our Web pages have handled each input from the user as a singl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pproach is limiting since many programming tasks involve separately processing an arbitrary number of words or numbers entered by the u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819520"/>
            <a:ext cx="3962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e Pig Latin p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might want to generalize the page so that it translates entire phrases instead of just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is, the user would enter an arbitrary  sequence of words and each word would be trans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task would be very difficult using our current set of programming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334040" cy="18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395-9B6B-40B1-BE5F-96F5CFD02C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</a:t>
            </a:r>
            <a:r>
              <a:rPr b="0" lang="en-US" sz="3200" spc="-1" strike="noStrike">
                <a:solidFill>
                  <a:srgbClr val="ff0000"/>
                </a:solidFill>
                <a:latin typeface="Courier New"/>
              </a:rPr>
              <a:t>split</a:t>
            </a: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 Metho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strings provide a method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for easily accessing the components of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nly input required by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is a character (or sequence of characters) that serves as a delimiter for breaking apart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separates the string into component substrings at each occurrence of the delimiter, and returns an array consisting of those substr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user = "Grace Murray Hopper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arr1 = user.split(" 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    // ASSIGNS arr1 to be the arr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["Grace", "Murray", "Hopper"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962520"/>
            <a:ext cx="838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was the case with strings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[ … ]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used to specify groups of charac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52480" y="4419720"/>
            <a:ext cx="5181840" cy="216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F40-AED7-4E56-BFB6-828EF7E7C2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76760" y="4641840"/>
            <a:ext cx="4238640" cy="153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Generating Acrony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e interesting application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is in deriving acrony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cronym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terms made from the first letters of words in a phrase) are especially popular in the computing fie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M – Random Access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UI – Graphical User Interf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 – World Wide We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3200400"/>
            <a:ext cx="365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takes a phrase, such as "What you see is what you get", splits it into an array of individual words, then extracts the first letters to construct the acron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3206880"/>
            <a:ext cx="4419720" cy="20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560-A190-4B30-A1AC-C68AEF3539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ronym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can be integrated into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s a phrase in a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is defined to call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with the text box contents as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 returned by the function call is displayed in another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782040" cy="294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F2D-1521-4EF2-89E3-8FF1A6B24E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0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