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0F2-20E4-4465-8E86-A742ECC2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6A7-F96E-414F-98E5-59440668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51B-4F80-4081-9D5F-80844C23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BF3-9A6E-4FBE-887F-18ADA22B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30A2-A74E-4ABC-A605-11EB3BAC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A3F9-F929-41B2-AE80-1EC0AD1A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12FD-3A0C-4C64-9EE6-705565DD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524F-3A48-4AA6-8A5F-B16DCDB1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AF3D-CE36-49AE-928E-19C82026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2107-FBD2-4621-87B1-EC504BC9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597F-DBE0-409F-96E9-C85DF92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6AA-DCA1-4E8A-B0E8-CA5778ED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A865-09B8-4042-A7C0-E218849B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AE6E-3069-48CE-92B1-E0E12A45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BB30-BF15-462A-9A7E-ED8F3B03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5C7D-6F7C-4D30-A511-882BCBCD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8AF4-26DA-4359-ACA1-750E5C88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4C7-F6D7-44F8-8F8F-F06FB8E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814-02AE-4D50-BFF3-530DA1AA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563-E08C-4EF7-BA90-08A55B27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651-8C80-4170-BF75-BBBE757E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D55-EB84-43C5-A5E2-6625010A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DF6-7EC8-4C8B-9323-67FDC957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2DE-7BC7-4616-8C24-F98A477E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6004-DAF7-4E79-8C01-EFE0A1ACE4AD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F560-0081-4A1F-9223-71B1E18D253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s and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C839-FBD6-48BB-9BF4-4BABFA99526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recently, the Internet has popularized the use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stant messa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ables users to type text messages and view responses immediately in the same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ffect, they can conduct personal conversations on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3 million users sent instant messages during February 200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ose, 24% claimed to use IM more frequently than ema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3589200"/>
            <a:ext cx="417816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EBF-A0CD-4B89-922E-549E2CF4CF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other popular function of the Web is to facilitat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lectronic commer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es have recognized the Web’s potential as an advertising medium, and as a tool for reaching new custom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business sites are information-based (providing background on the company or product description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business sites are transaction-based (allowing customers to purchase products or services directl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 shopping has numerous advantages for the consu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make purchases from your home at any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easy to comparison sh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nline retailers, such as Amazon.com, allow consumers to research products as well as purchase th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9BB-7817-4BC0-A573-3CA21217A2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al online sales in 2006: $108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f the most successful sites are online offshoots of traditional retai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nes &amp; Noble, Sears, Circui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nies that are strictly Internet ventures have added risks due to their lack of other revenue streams for startup a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of these companies fail early on, however, some are very success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azon.com: $10.7 billion in sales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90920" y="4164120"/>
            <a:ext cx="3733560" cy="246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A69-03C6-4990-B4E8-0D777D940E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has provided a new advertising channel for businesses and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-commerce sites charge fees for hosting advertising banners on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anner a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lickable images that promote a particular company’s product or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who click on a banner ad are typically directed to the company’s Web site, where they can make purchases or review product-relate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’s structure allows for a direct connection between ads and related purchasing interfa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, the Internet is extensively used for communication and information exchanges within and among busi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-to-business (B2B) transactions allow companies to manage inventory more dynamical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improve efficiency by linking various data channels (e.g., sales &amp; market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es may form partnerships based on sharing resources an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18A-F7F9-4E12-B813-F8EAA96A0E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tential Dan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junction with the benefits we have mentioned, the widespread adoption of technology also introduces the potential for abuses and undesirabl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tential dangers to individuals, businesses, and society at large inclu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over-reliance on complex, perhaps poorly-understood,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overlo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cy and security vio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4D8-749C-45CB-9924-1D7B1F8F4C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liance on Complex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society becomes dependent on complex, computer-based products and services, the effects of errors or system failures become far-reach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-system bugs can produce dir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ween 1985 and 1987, six cancer patients received massive radiation overdoses due to equipment malfunction, resulting in four deaths (the malfunction was traced to a single coding erro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0, AT&amp;T’s long-distance telephone network was down for nine hours due to a misplaced statement in the electronic switching software (60,000 customers were without service, resulting in $60 million of lost reven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1, 28 soldiers were killed by a Scud missile because a software error caused the Patriot missile to miss its targ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9, NASA’s Mars Climate Orbiter went off course and was destroyed in the Martian atmosphere (the problem was due to software inconsistencies which used different measurement conversions, e.g., English vs. Metri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errors, various software design and testing methodologies are u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as the size and complexity of the software grows, design and testing become exponentially more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ows 2000 – 35 million lines of code, 63,000 known bu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C9B-F12E-4D8B-B0F6-F8A98EED01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mpressive range of information available online can be viewed as a strength, but it is also one of the greatest weak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ten, data is not well organiz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ding a single piece of specific information can be very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of April 2005, Google claimed to have cataloged more than 8 billio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engines are helpful in narrowing down Internet searches, but users must be careful in selecting search crite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oogle search for “JavaScript” produced 425 million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ore refined search for “JavaScript prompt function” produced 924,000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en after a user locates a Web page related to the desired topic, judging reliability is not always eas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is neither monitored or cens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hors may provide incomplete, uninformed, or biased answ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6BB-4C29-4E50-A681-DF55FFB724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st Internet/Web content lacks editorial review, it is up to the user to evaluate its cred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riteria for evaluating credibility includ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54380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F67-F770-4C5B-9885-0685785477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using credit cards or shopping online, consumers sacrifice privacy for the sake of conven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maintain records of consumer purch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te details can be inferred from shopp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often sell customer profiles to marketing fir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users can limit exploitation by interacting only with reputable online businesses with privacy poli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ch policies will explain what information is collected by the business and how that information is to be used (and shar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2411280"/>
            <a:ext cx="384804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ABA-3CD1-4A6F-849C-CC45BDB0EB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 also raises privacy concer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message is received it is commonly stored in a file on the recipient’s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a danger that unauthorized users might get access to that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w laws apply directly to electronic priva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s overwhelmingly favor employers over employees in privacy su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ess explicitly stated, it is generally accepted that employers may access any content on company-owned mach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cy is closely linked with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ail messages travel through numerous routers, and each router represents a security risk, because someone could gain access to a router and eavesdrop on a relayed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online transactions, credit card numbers or other personal information can be intercepted and subsequently result in identity th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methods are commonly used to secure information transmissions, but online fraud is still a continuing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15F-560F-4D29-A18C-84B8003FF3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storian Larry Gormley ranked technological developments according to their impact on modern lif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 you agree with his lis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315200" cy="32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586728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Gormley, Larry. “The Greatest Inventions in the Past 1000 Years.” eHistory.com, 2003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5D2-F0EB-47BF-8F4D-2568ACF602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specially troubling aspect of recent technological developments is that the benefits associated with computers are not shared by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ns with minority ancestry, lower incomes, and less education are far less likely to be on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933960" cy="356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6248520"/>
            <a:ext cx="693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Pew Internet and American Life Project: Latest Trends. Pew Research Center, Decem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475-B3A1-4AC7-B5D5-DA412107D1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ing the digital div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uring the Clinton administration, public schools received government funding for computer technology and Internet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2003, nearly all public schools were connected to the Internet, as compared to 35% in 19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public libraries and community centers provide Internet-enabled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zations such as CompuMentor supply Internet access and technical assistance to minority groups and low income individu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 is still a problem for Americans, but there is no doubt that conditions have improv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gital divide also exists on a global sc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, Western Europe, and certain Asian countries have much greater Internet connectivity than other parts of the wor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ck of Internet access places less developed nations at a significant disadvantage, and compounds other economic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nited Nations, World Economic Forum, and other organizations are working to address the global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06A-D618-472A-9A68-44C10AF4DB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than any other invention, computer technology is still evolving, which means that it continues to impact society in new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electronic computers made significant contributions in the 1940’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OSSUS – used for code breaking in World War I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IAC – performed calculations and simulations that led to the development of nuclear technology and Cold War sci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rrently, we live in an "information economy", with computers central to business and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ology has become so pervasive in daily life, it is difficult to imagine life withou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monetary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sh is frequently being replaced with credit or debit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ized banking networks enable the immediate electronic transfer of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M machines allow people to access their money around the clock from any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this has discouraged traditional theft, but has inspired new forms of illegal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01924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3F4-8DFE-4515-91D3-240521A482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life also depends on thousands of less obvious, hidden compute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mbedded processors ar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chips that are built into appliances and machinery to control thei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account for more than 90% of all computer process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U.S. home contains 50 to 100 embedded processors (2001 est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ovens, television remote controls, cordless phones, automatic thermostats,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obiles employ embedded processors to control a wide variety of compon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6629400" cy="2452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95280" y="647712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Webb,Warren.“Embedded Technology Transforms the Automobile.” EDN Magazine, 1999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298-0D38-47DA-86FC-44A4A3296E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ety has also been affected by the availability of personal computers and easy-to-use softwa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can enable people to accomplish tasks previously reserved for highly trained professionals, e.g.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d processing and desktop publish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ideo edit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 preparation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441936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69A-96BD-45E6-BC08-5001B304C6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utilize the Internet/Web as an information 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line resources are quickly replacing (or complementing) traditional sources of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sites can be updated 24 hours a day allowing publishers to report stories as soon as they brea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integrated with other types of med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mmediacy of online delivery system is especially appea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order to compete, many newspapers and magazines have expanded their offerings to include online ver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ww.nytimes.com, www.washingtonpost.com, www.tim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597-EB3C-4D6C-BBFE-8F8435A489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itional media have approached the Internet in a variety of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provide limited services online for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com, weather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s provide full services with a f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ncyclopedia Britannica sells access over th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media organizations have utilized the Web to present stories and opinions that might not otherwise reach a mainstream aud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66228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36622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779-E8BF-465D-83BC-218855A0C8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ity of Web pages are unique resources created by individuals and private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find Web content on virtually any top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help navigate the vast sea of information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utomatically catalog Web pages and allow users to search for data by topic or keyw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282564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432-72F7-4404-9CD5-DDD9CBD40B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were originally drawn to the Internet by the availability of electronic mail and news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6, 91% of all Internet users communicated via em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71 billion email messages were sent and received each 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0% of those emails wer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12408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ervice Providers (ISPs) manage email accounts with othe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OL, msn, Microsoft Hotmail, Yahoo! 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s such as Microsoft Outlook provide an intuitive user interface for sending and receiving e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14800" y="2773440"/>
            <a:ext cx="4648320" cy="32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797-2001-4FF9-9444-F979D5A78E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