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FF53-2658-4307-A944-D6A406A67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6B14-A976-4EAE-B802-1FA924ADA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5C08-3034-43A3-AEA1-E4A9588C7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746A-4A87-4E67-8375-3A201059F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1888C-18BE-4436-A04F-E95F6DD70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CD65B-9BC9-4EC9-ABB5-9468972CC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E1A29-B0F2-4AC2-908C-78711B654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6A1BC-84F9-4033-8A0F-030CBE34F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FA5A1-B6B4-4CAF-8D01-5AA6B66C8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35FB0-747D-4294-8B88-5942BBCF8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36031-60E6-45F0-8B2F-C3F97E12B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ADC9-1D26-4CCE-AD81-6E0A99536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FA909-F42F-4CB5-B068-B7570538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037D3-BE2F-4961-9054-ECF46F4A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2929D-B4F1-40B1-8318-9339C4F04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7C861-FDC8-4C7B-A13F-C0CC4020B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30F19-1173-4A94-AFC7-1791C9808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C39E-2839-4013-BADA-26B107F2E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68B9-8F08-4603-B4CD-325AFCF05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210B-20CF-4E64-8633-1D6F7EDCB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5476-1CAB-4247-B97E-F1F178D14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2D7C-0131-4953-8A85-EDB3ED2E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D664-3F17-4A2A-A61F-72565DF1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AC23-B208-49A4-91B1-F4E55AD97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4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400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C7942-D6B6-49D6-8108-C7037AEAFC79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066680"/>
            <a:ext cx="8381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8077320" y="152280"/>
            <a:ext cx="610920" cy="83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563868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w Cen MT Condensed Extra Bold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8D85E-1E6E-4491-BC7A-8F3FD5310904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3886200"/>
            <a:ext cx="2870280" cy="119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98880" y="3886200"/>
            <a:ext cx="2870280" cy="11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69160" y="3886200"/>
            <a:ext cx="2869920" cy="119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264360" y="609480"/>
            <a:ext cx="2435040" cy="30481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00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5943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9900"/>
                </a:solidFill>
                <a:latin typeface="Tw Cen MT Condensed Extra Bold"/>
              </a:rPr>
              <a:t>A Balanced Introduction to Computer Science, 2/E</a:t>
            </a:r>
            <a:br>
              <a:rPr sz="3800"/>
            </a:br>
            <a:br>
              <a:rPr sz="1500"/>
            </a:br>
            <a:r>
              <a:rPr b="0" lang="en-US" sz="2400" spc="-1" strike="noStrike">
                <a:solidFill>
                  <a:srgbClr val="ff9900"/>
                </a:solidFill>
                <a:latin typeface="Tw Cen MT Condensed Extra Bold"/>
              </a:rPr>
              <a:t>David Reed, Creighton University</a:t>
            </a:r>
            <a:br>
              <a:rPr sz="3400"/>
            </a:br>
            <a:br>
              <a:rPr sz="12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©2008 Pearson Prentice Hall</a:t>
            </a:r>
            <a:br>
              <a:rPr sz="21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ISBN 978-0-13-601722-6</a:t>
            </a:r>
            <a:endParaRPr b="0" lang="en-US" sz="21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295280" y="4419720"/>
            <a:ext cx="6477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itional Repeti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56209-13B0-4F0D-BAB9-9A987750623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409720" y="1371600"/>
            <a:ext cx="3429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Lucida Console"/>
              </a:rPr>
              <a:t>Counter-Driven Loops Page</a:t>
            </a:r>
            <a:endParaRPr b="0" lang="en-US" sz="2800" spc="-1" strike="noStrike">
              <a:solidFill>
                <a:srgbClr val="ff0000"/>
              </a:solidFill>
              <a:latin typeface="Lucida Console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44400" y="380880"/>
            <a:ext cx="4537080" cy="6248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334120" y="2743200"/>
            <a:ext cx="3657600" cy="196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C925-0CD1-4D46-911E-A04AEF184C5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nfinite Loop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browser will repeatedly execute statements in the body of a while loo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s long as the loop test succeeds (evaluates to tru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is possible that the test will always succeed and the loop will run forev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loop that runs forever is known as an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infinite loop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(or a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black hole loop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 guard against infinite loops, make sure that some part of the loop test changes inside the loop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the above example,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pCoun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s not updated in the loop so there is no chance of terminating once the loop star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 infinite loop may freeze up the brows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metimes, clicking the Stop button will suffice to interrupt the brows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ther times, you may need to restart the brows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676520" y="2438280"/>
            <a:ext cx="3581280" cy="898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7F18-4A4C-424D-939B-FC874B98934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Variables and Repetition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ny variable can be employed to control the number of loop repetitions and the variable can be updated in various way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ample: countdow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990720" y="2889360"/>
            <a:ext cx="7619760" cy="221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492E-C2F8-42F4-B95B-13679C09C01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324480" y="1142640"/>
            <a:ext cx="2819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ountdown Pag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5489280" cy="6172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138720" y="2362320"/>
            <a:ext cx="2853000" cy="234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0A87-1672-49A8-B3E7-2DEFD949876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Lucida Console"/>
              </a:rPr>
              <a:t>Example: Hailstone Sequences</a:t>
            </a:r>
            <a:endParaRPr b="0" lang="en-US" sz="28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0773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n interesting unsolved problem in mathematics: hailstone sequen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art with any positive integ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the number is odd, then multiply the number by three and add one; otherwise, divide it by tw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eat as many times as desir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8116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r example:  5, 16, 8, 4, 2, 1, 4, 2, 1, 4, 2, 1, …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3962520"/>
            <a:ext cx="82296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t is conjectured that, no matter what positive integer you start with, you will always end up in the 4-2-1 lo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s has been verified for all starting number up to 1,200,000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t, it still has not been proven to hold for ALL starting numb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e can define a JavaScript function for experimenting with this probl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hailston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function will generate the sequence given a starting numb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8928-D1BD-48D9-8A34-84584100286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onditional Repetition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n if statement is known as a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ontrol statemen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is used to control the execution of other JavaScript stateme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vides for conditional execu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s useful for solving problems that involve choi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either do this or don't, based on some condition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(if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either do this or do that, based on some condition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(if-else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3733920"/>
            <a:ext cx="838188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losely related to the concept of conditional execution is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onditional repet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ny problems involve repeating some task over and over until a specific condition is 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rolling dice until a 7 is obtai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repeatedly prompting the user for a valid in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JavaScript,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while loop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provide for conditional repet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B3E2-1870-4E86-B9BB-37F16404604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While Loop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3962520"/>
            <a:ext cx="84582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en the browser encounters a while loop, it first evaluates the boolean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the test succeeds, then the statements inside the loop are executed in order,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just like an if stat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nce all the statements have been executed, program control returns to the beginning of the lo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loop test is evaluated again, and if it succeeds, the loop body statements are executed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ag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s process repeats until the boolean test fai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while loop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resembles an if statement in that its behavior is dependent on a boolean condition.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owever, the statements inside a while loop’s curly braces (a.k.a. the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loop body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) are executed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repeatedly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s long as the condition remains tru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eneral form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600200" y="2895480"/>
            <a:ext cx="4191120" cy="7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FC54-7817-4A2A-A69B-6BE18DF1055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While Loop Exampl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ample: roll two dice repeatedly until doubles are obtain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4800600"/>
            <a:ext cx="1752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ample outpu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19720" y="4267080"/>
            <a:ext cx="4190760" cy="1981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Verdana"/>
              </a:rPr>
              <a:t>note: even though while loops and if statements look similar, they are very different control stat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320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an </a:t>
            </a:r>
            <a:r>
              <a:rPr b="0" i="1" lang="en-US" sz="1400" spc="-1" strike="noStrike">
                <a:solidFill>
                  <a:srgbClr val="ff0000"/>
                </a:solidFill>
                <a:latin typeface="Verdana"/>
              </a:rPr>
              <a:t>if statement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 may execute its code 1 time or not at 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320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a </a:t>
            </a:r>
            <a:r>
              <a:rPr b="0" i="1" lang="en-US" sz="1400" spc="-1" strike="noStrike">
                <a:solidFill>
                  <a:srgbClr val="ff0000"/>
                </a:solidFill>
                <a:latin typeface="Verdana"/>
              </a:rPr>
              <a:t>while loop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 may execute its code an arbitrary number of times (including not at a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7391520" cy="20192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286000" y="4267080"/>
            <a:ext cx="1547640" cy="212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E841-3916-405F-88E0-070F3C04DF0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248520" y="1295280"/>
            <a:ext cx="259056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While Loop Pag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5440320" cy="6172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095880" y="2743200"/>
            <a:ext cx="2853000" cy="255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3D58-573E-4CC2-9FBD-26D30D61EF7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voiding redundancy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1295280"/>
            <a:ext cx="8229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te the redundancy in the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ust perform the initial dice roll before the loop beg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n, have to repeatedly re-roll inside the lo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an avoid this by eith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"priming the loop" with default values that allow the loop to exec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fining a Boolean "flag" to determine when the loop should 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523880" y="3352680"/>
            <a:ext cx="5562720" cy="3230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AC89-1DB7-44F6-BEDF-7E0F212E3E1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Loop Test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te: the loop test defines the condition under which the loop continu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s is often backwards from the way we think about loop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read input until you get a positive number (i.e., until input &gt; 0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Courier New"/>
              </a:rPr>
              <a:t>while (input &lt;= 0) { . . . 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keep rolling dice until you get doubles (i.e., until roll1 == roll2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Courier New"/>
              </a:rPr>
              <a:t>while (roll1 != roll2) { . . . 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keep rolling dice until you get double fours (i.e., until roll1 == 4 &amp;&amp; roll2 = 4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Courier New"/>
              </a:rPr>
              <a:t>while (roll1 != 4 || roll2 != 4) { . . . 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"/>
          <p:cNvSpPr/>
          <p:nvPr/>
        </p:nvSpPr>
        <p:spPr>
          <a:xfrm>
            <a:off x="2514600" y="5334120"/>
            <a:ext cx="5257800" cy="769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Morgan's Law: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!(X &amp;&amp; Y) == (!X || !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!(X || Y) == (!X &amp;&amp; !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F858-1179-4C89-84D0-1A368C713DA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ounter-Driven Loop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nce a while loop is controlled by a condition, it is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usuall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impossible to predict the number of repetitions that will occu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how many dice rolls will it take to get doubles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 while loop can also be used to repeat a task some fixed number of tim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mplemented by using a while loop whose test is based on a count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eneral form of counter-driven while loop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counter is initially set to 0 before the loop begins, and is incremented at the end of the loop bod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ounter keeps track of how many times the statements in the loop body have execut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the number of repetitions reaches the desired number, the loop test fails and the loop terminat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752480" y="3429000"/>
            <a:ext cx="4953240" cy="124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812A-A2FF-44A7-9D5D-6289DB8107E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ounter-Driven Loop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1461960"/>
            <a:ext cx="830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ampl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838080" y="2162160"/>
            <a:ext cx="7696440" cy="3705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CBD7-3975-4946-99E7-99C4DEE3D11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davir2</cp:lastModifiedBy>
  <dcterms:modified xsi:type="dcterms:W3CDTF">2007-09-12T22:09:06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