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FB2-C505-40A0-88EC-CC8D53D5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BBE-49B5-4805-97A6-A99AF12B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252-6FE2-4ED6-9A59-ECB6706E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62C-60B8-48B7-9E9C-2FB8603F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7781-6A66-4CE1-9A79-F1609449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97EF-DF27-4581-8653-C2862D9E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41DC-A126-4C4C-AFD8-95E1E572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24C1-FC5B-4D89-B5D5-EA3204C7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779D-86F6-466D-85AE-617F252E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22D9-CB91-4723-89ED-D1F57497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E330-6FD7-4EAC-AC45-A6663D16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7E1-405A-4DE6-BEC0-77C0FD39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B35D-E941-414E-A7D9-95862622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3856-19A0-4CD7-B4CA-CDDCA4F7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BD7B-3010-4400-B8BE-AA9A6A06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0F17-2AAE-4E9C-B913-8F8E1118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6094-2E1C-4E9D-9ECC-0A0937D6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914-9C83-4A3D-AA35-3B1462C4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60FD-E2CA-40DB-9BA6-E3CFAF34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E618-F240-475A-A7FA-3DA8BD37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F33-EA28-4609-82BB-8CDD5E2E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A4CA-2C3C-417F-8EC0-9B4BA5A5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53C8-FFEE-4C3C-B800-B54D4891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8AC-B035-4AE2-93E5-4E4AD1AD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66FE-8EA8-449A-9CE7-3D986FDE5003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CC06-1A1E-49D4-B73E-FA21D3353C6B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s and Socie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F12E-5C7A-4708-9B5B-36CB9F016E9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6960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unic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recently, the Internet has popularized the use of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stant messag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ables users to type text messages and view responses immediately in the same wind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effect, they can conduct personal conversations onl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3 million users sent instant messages during February 200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those, 24% claimed to use IM more frequently than emai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14600" y="3589200"/>
            <a:ext cx="4178160" cy="29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9D7-39A1-4086-B536-BA39E47232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other popular function of the Web is to facilitat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lectronic commer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-commer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es have recognized the Web’s potential as an advertising medium, and as a tool for reaching new custom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business sites are information-based (providing background on the company or product description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business sites are transaction-based (allowing customers to purchase products or services directl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ine shopping has numerous advantages for the consum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 can make purchases from your home at any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is easy to comparison sh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online retailers, such as Amazon.com, allow consumers to research products as well as purchase th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520-ED19-40BB-BD36-A5AF543FF2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44792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tal online sales in 2006: $108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of the most successful sites are online offshoots of traditional retail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rnes &amp; Noble, Sears, Circuit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anies that are strictly Internet ventures have added risks due to their lack of other revenue streams for startup and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y of these companies fail early on, however, some are very successfu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azon.com: $10.7 billion in sales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90920" y="4164120"/>
            <a:ext cx="3733560" cy="246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14C-D886-428E-BAE6-F061B72A4E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Web has provided a new advertising channel for businesses and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-commerce sites charge fees for hosting advertising banners on web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anner ad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re clickable images that promote a particular company’s product or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s who click on a banner ad are typically directed to the company’s Web site, where they can make purchases or review product-related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eb’s structure allows for a direct connection between ads and related purchasing interfa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addition, the Internet is extensively used for communication and information exchanges within and among busin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iness-to-business (B2B) transactions allow companies to manage inventory more dynamical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improve efficiency by linking various data channels (e.g., sales &amp; market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inesses may form partnerships based on sharing resources and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A86-06B3-49C9-8CB0-D5B288B90F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tential Dang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conjunction with the benefits we have mentioned, the widespread adoption of technology also introduces the potential for abuses and undesirable consequ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tential dangers to individuals, businesses, and society at large inclu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over-reliance on complex, perhaps poorly-understood, sys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overlo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vacy and security viol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gital Divi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698-D5A2-4D23-9350-67BF845BCC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liance on Complex Syste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society becomes dependent on complex, computer-based products and services, the effects of errors or system failures become far-reach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-system bugs can produce dire consequ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tween 1985 and 1987, six cancer patients received massive radiation overdoses due to equipment malfunction, resulting in four deaths (the malfunction was traced to a single coding erro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0, AT&amp;T’s long-distance telephone network was down for nine hours due to a misplaced statement in the electronic switching software (60,000 customers were without service, resulting in $60 million of lost revenu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1, 28 soldiers were killed by a Scud missile because a software error caused the Patriot missile to miss its targ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9, NASA’s Mars Climate Orbiter went off course and was destroyed in the Martian atmosphere (the problem was due to software inconsistencies which used different measurement conversions, e.g., English vs. Metric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void errors, various software design and testing methodologies are u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as the size and complexity of the software grows, design and testing become exponentially more diffic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ndows 2000 – 35 million lines of code, 63,000 known bu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90E-A1E4-4303-B990-119A3F01DB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ormation Overloa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mpressive range of information available online can be viewed as a strength, but it is also one of the greatest weakn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ten, data is not well organiz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ding a single piece of specific information can be very diffic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of April 2005, Google claimed to have cataloged more than 8 billion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engines are helpful in narrowing down Internet searches, but users must be careful in selecting search criter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Google search for “JavaScript” produced 425 million ma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ore refined search for “JavaScript prompt function” produced 924,000 ma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en after a user locates a Web page related to the desired topic, judging reliability is not always eas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eb is neither monitored or censo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hors may provide incomplete, uninformed, or biased answ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9C21-FDA7-42EE-A887-0E85FF70DD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ormation Overloa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most Internet/Web content lacks editorial review, it is up to the user to evaluate its credi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 criteria for evaluating credibility includ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543800" cy="311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8DD-961D-4239-AF73-DDBBA978A9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ivacy and Securit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using credit cards or shopping online, consumers sacrifice privacy for the sake of conven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nies maintain records of consumer purcha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vate details can be inferred from shopp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nies often sell customer profiles to marketing fir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users can limit exploitation by interacting only with reputable online businesses with privacy poli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ch policies will explain what information is collected by the business and how that information is to be used (and shar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2411280"/>
            <a:ext cx="384804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E3F-6E73-4E19-B08A-3EE5BBDD13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ivacy and Securit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 also raises privacy concer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message is received it is commonly stored in a file on the recipient’s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re is a danger that unauthorized users might get access to that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w laws apply directly to electronic privac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rts overwhelmingly favor employers over employees in privacy su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ess explicitly stated, it is generally accepted that employers may access any content on company-owned mach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vacy is closely linked with secur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ail messages travel through numerous routers, and each router represents a security risk, because someone could gain access to a router and eavesdrop on a relayed mess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 online transactions, credit card numbers or other personal information can be intercepted and subsequently result in identity thef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cryption methods are commonly used to secure information transmissions, but online fraud is still a continuing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49BA-2BAF-41BD-A9D7-B659CB2D58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sitive Impact of Technolog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storian Larry Gormley ranked technological developments according to their impact on modern lif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 you agree with his list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315200" cy="326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43000" y="5867280"/>
            <a:ext cx="731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Gormley, Larry. “The Greatest Inventions in the Past 1000 Years.” eHistory.com, 2003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AEF-8036-4B3B-8EE2-27F08E0084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Digital Divid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especially troubling aspect of recent technological developments is that the benefits associated with computers are not shared by 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ericans with minority ancestry, lower incomes, and less education are far less likely to be on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6933960" cy="356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19320" y="6248520"/>
            <a:ext cx="693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Pew Internet and American Life Project: Latest Trends. Pew Research Center, December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8F4-05B1-49A2-8942-0635890BCD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Digital Divid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ressing the digital divi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uring the Clinton administration, public schools received government funding for computer technology and Internet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2003, nearly all public schools were connected to the Internet, as compared to 35% in 199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public libraries and community centers provide Internet-enabled comput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ganizations such as CompuMentor supply Internet access and technical assistance to minority groups and low income individua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gital divide is still a problem for Americans, but there is no doubt that conditions have improv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gital divide also exists on a global sca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erica, Western Europe, and certain Asian countries have much greater Internet connectivity than other parts of the wor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ck of Internet access places less developed nations at a significant disadvantage, and compounds other economic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nited Nations, World Economic Forum, and other organizations are working to address the global digital divi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E84-D710-4EBF-A897-AB13438891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sitive Impact of Technolog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than any other invention, computer technology is still evolving, which means that it continues to impact society in new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irst electronic computers made significant contributions in the 1940’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OSSUS – used for code breaking in World War I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IAC – performed calculations and simulations that led to the development of nuclear technology and Cold War sci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rrently, we live in an "information economy", with computers central to business and innov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657600"/>
            <a:ext cx="5638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chnology has become so pervasive in daily life, it is difficult to imagine life withou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.g., monetary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sh is frequently being replaced with credit or debit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ized banking networks enable the immediate electronic transfer of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M machines allow people to access their money around the clock from any 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this has discouraged traditional theft, but has inspired new forms of illegal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01924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BC7E-28C8-4FE7-87C0-C41526FDE6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s in Everyday Tas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life also depends on thousands of less obvious, hidden computer appl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mbedded processors ar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 chips that are built into appliances and machinery to control their work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y account for more than 90% of all computer process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verage U.S. home contains 50 to 100 embedded processors (2001 est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ovens, television remote controls, cordless phones, automatic thermostats, 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obiles employ embedded processors to control a wide variety of compon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95280" y="4038480"/>
            <a:ext cx="6629400" cy="2452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95280" y="6477120"/>
            <a:ext cx="662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Webb,Warren.“Embedded Technology Transforms the Automobile.” EDN Magazine, 1999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28E2-A50D-48C8-9B0A-F8D1C5895E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s in Everyday Tas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ciety has also been affected by the availability of personal computers and easy-to-use softwar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ftware can enable people to accomplish tasks previously reserved for highly trained professionals, e.g.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ord processing and desktop publishing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ideo editing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 preparation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4419360" cy="33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4514-0E29-4AC6-9BE6-6E52D8F0D3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users utilize the Internet/Web as an information sour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line resources are quickly replacing (or complementing) traditional sources of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b sites can be updated 24 hours a day allowing publishers to report stories as soon as they brea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t can be integrated with other types of med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mmediacy of online delivery system is especially appea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order to compete, many newspapers and magazines have expanded their offerings to include online ver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ww.nytimes.com, www.washingtonpost.com, www.tim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089-7354-419A-B5E1-6EDB195765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ditional media have approached the Internet in a variety of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provide limited services online for fr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nn.com, weather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s provide full services with a f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Encyclopedia Britannica sells access over the We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dependent media organizations have utilized the Web to present stories and opinions that might not otherwise reach a mainstream aud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366228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366228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77D0-87B2-4FB5-918F-1443E669CE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majority of Web pages are unique resources created by individuals and private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can find Web content on virtually any top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help navigate the vast sea of information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earch engin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utomatically catalog Web pages and allow users to search for data by topic or keyw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5120" y="282564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70B-D255-44F1-BE20-23F810FA37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unic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users were originally drawn to the Internet by the availability of electronic mail and news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2006, 91% of all Internet users communicated via em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71 billion email messages were sent and received each d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0% of those emails wer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124080"/>
            <a:ext cx="3733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net Service Providers (ISPs) manage email accounts with other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OL, msn, Microsoft Hotmail, Yahoo! 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s such as Microsoft Outlook provide an intuitive user interface for sending and receiving email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114800" y="2773440"/>
            <a:ext cx="4648320" cy="32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FEA-A590-43EC-8D1E-2AB2A92410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0:5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