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249B-A6E7-4BBE-8B06-717D7860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9E1-47C1-44D8-B7E5-29F24E2F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622-2CA3-4B6A-B72C-CD6AB1BE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00CC-F3D8-4AA1-8CE7-3AB7A3D4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0682-D260-4012-8689-2351132C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8495-B159-4998-A17E-157BF04C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E7A8-0250-4849-8661-E2C2FD56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658D-5CEC-4382-90A5-7064FE44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F6D9-E4FE-4EC7-BF6B-3557F233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959A-8EFF-4973-8983-3C900642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BAEC-6DC0-4DF8-AF31-041ECCD1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81CF-FDAF-445F-936E-8669ADC4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1FE8-E7BC-453C-B7DE-62E2AC49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98D1-46E4-454C-9FEE-1D7C2D96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E595-E813-48DD-974C-437D303C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AAEA-03FF-433B-ACD0-CDA9BF56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225B-F42E-47CF-8C19-C537A30B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CFBE-411F-4B85-8427-4B6E903B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23F2-C3D1-428B-A054-67C54231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C2CB-49DD-47E8-9343-515E09AF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5A3-B9B2-4CE3-89AC-7D301A6B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B6F4-9AD4-4484-875B-0509C6EE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4869-D45B-4B14-99EA-27549368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EEBA-C2B2-4CBD-AA81-B912078A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74AA-6DEF-46B6-90EF-9FA6386B016A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85B1-55FE-42F7-863B-9FA100A2455D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al Repet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FDD0-DBE2-4C5E-A7FD-D17A6F4C9A7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09720" y="1371600"/>
            <a:ext cx="3429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Counter-Driven Loops Page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4400" y="380880"/>
            <a:ext cx="453708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34120" y="2743200"/>
            <a:ext cx="365760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1917-E5CA-4F48-8A9A-9A359CE4FD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finite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browser will repeatedly execute statements in the body of a while lo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long as the loop test succeeds (evaluates to tru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possible that the test will always succeed and the loop will run fore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loop that runs forever is known as a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finite loo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or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lack hole loo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guard against infinite loops, make sure that some part of the loop test changes inside the loop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above example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pCou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not updated in the loop so there is no chance of terminating once the loop st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infinite loop may freeze up the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times, clicking the Stop button will suffice to interrupt the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imes, you may need to restart the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3581280" cy="89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C63-4775-4801-B580-6559AD7FF4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ariables and Repeti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y variable can be employed to control the number of loop repetitions and the variable can be updated in various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countd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90720" y="2889360"/>
            <a:ext cx="761976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CBDE-68AB-42E8-8B4C-95D9BAD0A7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324480" y="1142640"/>
            <a:ext cx="2819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down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548928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138720" y="2362320"/>
            <a:ext cx="2853000" cy="234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C2B-9229-474A-A6A3-8000144FF3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Example: Hailstone Sequence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interesting unsolved problem in mathematics: hailstone sequ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 with any positive integ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number is odd, then multiply the number by three and add one; otherwise, divide it by tw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eat as many times as des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xample:  5, 16, 8, 4, 2, 1, 4, 2, 1, 4, 2, 1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39625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is conjectured that, no matter what positive integer you start with, you will always end up in the 4-2-1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has been verified for all starting number up to 1,200,00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, it still has not been proven to hold for ALL starting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an define a JavaScript function for experimenting with this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hailston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will generate the sequence given a starting numb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10E-9BE3-4EA7-81A0-6A9C1B27F8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nditional Repeti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if statement is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trol stat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used to control the execution of other JavaScript stat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vides for conditional execu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useful for solving problems that involve cho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ither do this or don't, based on some condi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if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ither do this or do that, based on some condi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if-els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733920"/>
            <a:ext cx="83818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osely related to the concept of conditional execution i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ditional repet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ny problems involve repeating some task over and over until a specific condition is 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olling dice until a 7 is obta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epeatedly prompting the user for a valid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JavaScript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while loop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ovide for conditional re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DBCE-5482-4574-B1C6-6FC09B8FB3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ile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9625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the browser encounters a while loop, it first evaluates the boolean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st succeeds, then the statements inside the loop are executed in order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just like an if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ce all the statements have been executed, program control returns to the beginning of the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loop test is evaluated again, and if it succeeds, the loop body statements are execut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g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process repeats until the boolean test f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hile loop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sembles an if statement in that its behavior is dependent on a boolean condition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the statements inside a while loop’s curly braces (a.k.a.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op bod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are execut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peatedl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s long as the condition remains tr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l form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4191120" cy="7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0F2-0987-4FC4-8FF7-8BAC22386D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ile Loop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roll two dice repeatedly until doubles are obtain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800600"/>
            <a:ext cx="1752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mple out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4267080"/>
            <a:ext cx="4190760" cy="198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note: even though while loops and if statements look similar, they are very different control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an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if statement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may execute its code 1 time or not at 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while loop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may execute its code an arbitrary number of times (including not at a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391520" cy="2019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86000" y="4267080"/>
            <a:ext cx="1547640" cy="21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882-5D55-4299-BFBF-A3B391F749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48520" y="1295280"/>
            <a:ext cx="259056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ile Loop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544032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95880" y="2743200"/>
            <a:ext cx="2853000" cy="25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328-654F-4238-AF4A-C255184682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voiding redundanc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 the redundancy in th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perform the initial dice roll before the loop beg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have to repeatedly re-roll inside the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 avoid this by eith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priming the loop" with default values that allow the loop to exec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fining a Boolean "flag" to determine when the loop should 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3352680"/>
            <a:ext cx="5562720" cy="323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BA6B-0D4E-45A9-A3CB-BD0F178511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oop Tes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the loop test defines the condition under which the loop contin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is often backwards from the way we think about loo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ead input until you get a positive number (i.e., until input &gt; 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urier New"/>
              </a:rPr>
              <a:t>while (input &lt;= 0) { . . .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keep rolling dice until you get doubles (i.e., until roll1 == roll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urier New"/>
              </a:rPr>
              <a:t>while (roll1 != roll2) { . . .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keep rolling dice until you get double fours (i.e., until roll1 == 4 &amp;&amp; roll2 = 4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urier New"/>
              </a:rPr>
              <a:t>while (roll1 != 4 || roll2 != 4) { . . .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5334120"/>
            <a:ext cx="5257800" cy="76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Morgan's Law: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!(X &amp;&amp; Y) == (!X || !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!(X || Y) == (!X &amp;&amp; !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633F-84DC-47DC-8162-BB9991E2E4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er-Driven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a while loop is controlled by a condition, it i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usuall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mpossible to predict the number of repetitions that will occu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how many dice rolls will it take to get double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while loop can also be used to repeat a task some fixed number of tim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plemented by using a while loop whose test is based on a coun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l form of counter-driven while loop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unter is initially set to 0 before the loop begins, and is incremented at the end of the loop bod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unter keeps track of how many times the statements in the loop body have execut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the number of repetitions reaches the desired number, the loop test fails and the loop termin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52480" y="3429000"/>
            <a:ext cx="4953240" cy="124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0F44-1A5F-4DB5-8ECF-1D1FC08C0E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er-Driven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46196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2162160"/>
            <a:ext cx="7696440" cy="37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F220-64FB-40D2-A583-242807F424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9:06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