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B01B-6FC7-447A-BC7F-925DD55DE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9E59-0E54-4B48-85F9-845CF2A0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7B67-FEC9-40E9-8FED-3F09115CB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29F0-67A0-4752-B6B6-7AD6953B9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12BA-2E0D-403C-8BC6-CF4AEA87C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292D2-1E9B-491D-903E-E0AC00D7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1045-4E5C-426E-ACFC-826C1F2E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7277-B965-4E49-B0E1-E60C0325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ABC5-7705-463A-A330-F430B16B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7883-1185-4253-B9F9-85CD1B35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F644-E01F-46CB-9E91-5722049D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4193-C509-4FF9-AFC1-C8A68CD4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C308-F05B-41B7-A6F8-1EDDCBB9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B8BE-A6A1-45E4-A375-982EB5AC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1473-55AB-4312-B1AF-992D4A79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34B7C-676C-467B-B5AA-43389A981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6EF61-84FD-42A3-BE34-DB377E350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BB23-284A-45CE-9178-43E3FC681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8A61-E178-4E88-B712-31D2B846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9C7E-CB15-4B39-8EB0-373A44A8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4C51-F823-4A2B-8F91-7A70B1AE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2442-ABF8-4FB6-AC81-558B5E8B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70CE-C2B0-4C35-9198-863F0EC9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C525-CC0D-4133-BE6C-0049DBA8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0795-AC48-46EF-BB14-1AEEF252FBDC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EB70-5122-4B1A-B11B-750A5F1A850B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avaScript Stri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BF0B2-EE80-40C3-B6D4-8471422EB11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General Search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re are times when you want to search for a type of character, rather than a specific valu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converting a word into Pig Lat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a word contains no vowels or begins with a vowel, the characters “way” are appended to the end of the w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nth </a:t>
            </a:r>
            <a:r>
              <a:rPr b="0" lang="en-US" sz="1400" spc="-1" strike="noStrike">
                <a:solidFill>
                  <a:srgbClr val="0099ff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 nthway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apple </a:t>
            </a:r>
            <a:r>
              <a:rPr b="0" lang="en-US" sz="1400" spc="-1" strike="noStrike">
                <a:solidFill>
                  <a:srgbClr val="0099ff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 applew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a word begins with a consonant, its initial sequence of consonants is shifted to the end of the word followed by “ay”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banana </a:t>
            </a:r>
            <a:r>
              <a:rPr b="0" lang="en-US" sz="1400" spc="-1" strike="noStrike">
                <a:solidFill>
                  <a:srgbClr val="0099ff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 ananabay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cherry </a:t>
            </a:r>
            <a:r>
              <a:rPr b="0" lang="en-US" sz="1400" spc="-1" strike="noStrike">
                <a:solidFill>
                  <a:srgbClr val="0099ff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 errych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4952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order to distinguish between these two cases, must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arch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or the first vow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n, use 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string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method to break the string into parts and the + operator to put the pieces back together (with "ay"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cherry </a:t>
            </a:r>
            <a:r>
              <a:rPr b="0" lang="en-US" sz="1400" spc="-1" strike="noStrike">
                <a:solidFill>
                  <a:srgbClr val="0099ff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 erry + ch + ay = errych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6692-4AF9-4BF4-BDFF-5E56E46A0F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General Search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ther than having to search for vowels individually, an entire class of characters can be specified using /[ . . . ]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7162920" cy="401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4075-F0E3-42EC-82FF-EAF3952A53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trings and Repeti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me tasks involve repeatedly performing the same oper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accomplish such tasks, we can combine while loops with string methods such a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arc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 while loop used to access and process each character in a st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haracters that comprise the string are concatenated one-by-one onto another string, resulting in an exact cop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219320" y="3429000"/>
            <a:ext cx="6933960" cy="3035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4221-2CBE-4394-AB4E-B78E330F46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trings as Objec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 far, your interactive Web pages have manipulated strings in simple way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mp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or a text box/area to input a word or phra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ore that text in a (string) varia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corporate the text in a message, possibly using + to concaten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rings are different from numbers and Booleans in that they are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obje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oftwar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objec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a unit of code that encapsulates both data and operations that can be performed on that da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tring is a software object that models words and phras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data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equence of characters, enclosed in quot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operations include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ke upper case, make lower case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termine the number of characters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ccess a particular character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arch for a particular character, 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3BA0-6E62-4C57-99C1-5650645BBB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Object-Oriented Programming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bjects are fundamental in the dominant approach to developing software systems: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object-oriented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programming (OOP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OP encourages programmers to design programs around software objec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programmer identifies the real-world objects involved in a system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e.g., for a banking program: bank account, customer, teller, …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n designs and builds software objects to model these real-world objec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OP is effective for managing large systems, since individual objects can be assigned to different teams and developed independently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OP also supports code reuse, since the same or similar objects can be combined in different ways to solve different kinds of proble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43434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 doorbell but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s physical components/properties: color, shape, label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s functionality: when you press the button, the bell r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 HTML button is a software object that models a real-world but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s physical components/properties: color, shape, label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s functionality: when you click on the button, JavaScript code is execu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D0E1-9494-42EE-A839-A6531C8DB6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roperties and Method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ing object-oriented terminology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haracteristics of an object are calle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ropertie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a string object has a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property that identifies the number of characters in the st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operations that can be performed on the string are calle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metho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oLowerCas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method makes a copy of the string with all upper-case letters converted to lower-ca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3505320"/>
            <a:ext cx="8229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perties and methods are not new conce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property is 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pecial kind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of a variable (it stores a val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method is 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pecial kind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of function (it performs some ac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at is special is that they are associated with (or "belong to") an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each string object will have its own variable to stores it l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access an object property, specify: object name, a period, property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str1 = "foo";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str2 = "Hi there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len1 = str1.length; 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len2 = str2.length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0CB3-F6AF-4D94-A978-84959891F9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roperties and Method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milarly, to call a method: object name, period, method cal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-1454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.toLowerCase(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alls 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oLowerCas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method on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582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which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return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 lowercase copy of the string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-1454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.toUpperCase(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alls 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oUpperCas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method on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582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which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return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 uppercase copy of the string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: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LowerCas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UpperCas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ethods do not change the string object they are called on (only an assignment can do that!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-1454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stead, they return modified copies of the st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7086600" cy="238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17C4-4411-47C6-A6CD-9C8F6AE010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tring Manipulation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361120" cy="548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638680" y="1905120"/>
            <a:ext cx="3276720" cy="220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9FF6-0E0E-413F-A7D3-9C0B704E5D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mmon String Method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ful methods exist that allow programmers to access and manipulate individual components of a st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onents are identifiable vi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indice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or numbers that correspond to the order in which individual characters occur in a st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dices are assigned in ascending order from left to right, so that the first character in the string is at index 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A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ethod provides access to a single character within the st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takes an index as an input and returns the character at that particular inde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word = "foo"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ch = word.charAt(0);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ASSIGNS ch = "f"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44956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bstring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ethod provides access to an entire sequence of characters within the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takes two numbers as inputs, representing the starting (inclusive) and ending (exclusive) indices of the substring, and returns the subst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word = "foo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sub = word.substring(1, 3);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ASSIGNS sub = "o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BD15-265D-4927-8F3A-FA0E4D09EC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tring Access/Concaten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: the concatenation operator (+) can join strings togeth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suming the variabl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ord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stores a string value, what affect would the following assignment have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Lucida Console"/>
              </a:rPr>
              <a:t>word = word.charAt(0) + word.substring(1, word.length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35053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following function takes a string as input and uses string method calls to create (and return) a capitalized version of that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43000" y="4255920"/>
            <a:ext cx="6705720" cy="222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2871-0C4E-4E9E-9A8B-946CDBD0F9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earching String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arch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ethod traverses a string in order to locate a given character or subst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takes a character or string as input and returns the index at which the character or string first occurs (or -1 if not foun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str = "banana"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num1 = str.search("n");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ASSIGNS num1 = 2 since the charac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  "n" first occurs at index 2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num2 = str.search("ana");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ASSIGNS num2 = 1 since the st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  "ana" first occurs at index 1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num3 = str.search("z");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ASSIGNS num3 = -1 since the charac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  "z" does not occur anywhe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1055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imple application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determine whether a string is a single word or a phr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string contains no spaces, the call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.search(" "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will return -1, indicating that the string value consists of a single w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.search(" "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returns a nonnegative value, then the presence of spaces signifies a phrase containing multiple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5CC6-CCCD-4B5A-BC69-2CC69D7F1D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09:45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