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7A3C6-FFA3-4E17-9B30-DEE7F4297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8574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3400C-E572-4B04-B7E8-EDCD88B11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74091-997D-4D80-81FD-200E6B010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D4F53-F080-4956-9F78-73B5721F0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61213-3A3C-495F-834C-4C2CA1A0E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EB4E8-2B99-4BA1-87BA-16ACFDA92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53B30-4379-4FEC-A61E-BF8DA87E5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5D1CF-E5F2-44B5-B177-A77024BB2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8DD10-9F40-47B2-93F0-26F6095BE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6840" y="30456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43C82-DFBC-4F37-B6B5-2F78B06BB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AD5F4-D93C-4178-8C95-DA8198917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BD249-1553-4550-8251-F0086B174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837AE-A13D-404C-B8B4-E3AA8B74C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80728-4AF1-4378-8A10-ECDB2E7FE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8574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9B220-8AC0-4431-BD98-650A6F349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8A1C2-A8F4-4F4A-AECB-9CDB55534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FF0F9-0076-49F3-910C-22E50C5D6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B9ECA-9A3F-4BA5-BFCF-9DD8712FF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A3CCA-EEE1-4537-8AE1-D51FAE0E6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949D3-D3A2-4488-B63B-3C3EDAE3D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6840" y="30456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C2908-524C-4935-BCF5-255ADCC60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D1BAB-BB1E-4F98-B582-DECF3323E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A8751-24DA-434E-B018-83C831E73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8D275-7157-4FDB-9E1B-FD1557FE6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Click to edit the title text format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spcBef>
                <a:spcPts val="451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343080" indent="-343080">
              <a:spcBef>
                <a:spcPts val="451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343080" indent="-343080">
              <a:spcBef>
                <a:spcPts val="451"/>
              </a:spcBef>
              <a:buClr>
                <a:srgbClr val="ff0000"/>
              </a:buClr>
              <a:buSzPct val="8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2607A-4AC8-472C-A438-62F233030904}" type="slidenum">
              <a:rPr b="0" lang="en-US" sz="1400" spc="-1" strike="noStrike">
                <a:solidFill>
                  <a:srgbClr val="ff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066680"/>
            <a:ext cx="83818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" descr=""/>
          <p:cNvPicPr/>
          <p:nvPr/>
        </p:nvPicPr>
        <p:blipFill>
          <a:blip r:embed="rId2"/>
          <a:stretch/>
        </p:blipFill>
        <p:spPr>
          <a:xfrm>
            <a:off x="8077320" y="152280"/>
            <a:ext cx="610920" cy="838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563868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Tw Cen MT Condensed Extra Bold"/>
              </a:rPr>
              <a:t>Click to edit the title text format</a:t>
            </a:r>
            <a:endParaRPr b="0" lang="en-US" sz="4000" spc="-1" strike="noStrike">
              <a:solidFill>
                <a:srgbClr val="ff9900"/>
              </a:solidFill>
              <a:latin typeface="Tw Cen MT Condensed Extra Bol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3A664-A650-41C0-A586-16E135CF47CE}" type="slidenum">
              <a:rPr b="0" lang="en-US" sz="1400" spc="-1" strike="noStrike">
                <a:solidFill>
                  <a:srgbClr val="ff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8600" y="3886200"/>
            <a:ext cx="2870280" cy="1191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098880" y="3886200"/>
            <a:ext cx="2870280" cy="119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969160" y="3886200"/>
            <a:ext cx="2869920" cy="119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6264360" y="609480"/>
            <a:ext cx="2435040" cy="304812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00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349"/>
              </a:spcBef>
              <a:buClr>
                <a:srgbClr val="ff0000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594360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9900"/>
                </a:solidFill>
                <a:latin typeface="Tw Cen MT Condensed Extra Bold"/>
              </a:rPr>
              <a:t>A Balanced Introduction to Computer Science, 2/E</a:t>
            </a:r>
            <a:br>
              <a:rPr sz="3800"/>
            </a:br>
            <a:br>
              <a:rPr sz="1500"/>
            </a:br>
            <a:r>
              <a:rPr b="0" lang="en-US" sz="2400" spc="-1" strike="noStrike">
                <a:solidFill>
                  <a:srgbClr val="ff9900"/>
                </a:solidFill>
                <a:latin typeface="Tw Cen MT Condensed Extra Bold"/>
              </a:rPr>
              <a:t>David Reed, Creighton University</a:t>
            </a:r>
            <a:br>
              <a:rPr sz="3400"/>
            </a:br>
            <a:br>
              <a:rPr sz="1200"/>
            </a:br>
            <a:r>
              <a:rPr b="0" lang="en-US" sz="2100" spc="-1" strike="noStrike">
                <a:solidFill>
                  <a:srgbClr val="ff9900"/>
                </a:solidFill>
                <a:latin typeface="Tw Cen MT Condensed Extra Bold"/>
              </a:rPr>
              <a:t>©2008 Pearson Prentice Hall</a:t>
            </a:r>
            <a:br>
              <a:rPr sz="2100"/>
            </a:br>
            <a:r>
              <a:rPr b="0" lang="en-US" sz="2100" spc="-1" strike="noStrike">
                <a:solidFill>
                  <a:srgbClr val="ff9900"/>
                </a:solidFill>
                <a:latin typeface="Tw Cen MT Condensed Extra Bold"/>
              </a:rPr>
              <a:t>ISBN 978-0-13-601722-6</a:t>
            </a:r>
            <a:endParaRPr b="0" lang="en-US" sz="2100" spc="-1" strike="noStrike">
              <a:solidFill>
                <a:srgbClr val="ff9900"/>
              </a:solidFill>
              <a:latin typeface="Tw Cen MT Condensed Extra Bol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295280" y="4419720"/>
            <a:ext cx="64771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apter 17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JavaScript Array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A81C5-8EF3-4850-965C-C1C27364C642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Arrays of Number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38188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ome applications involve reading and manipulating sequences of number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.g., suppose we wanted to calculate the average of some number of grad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e could enter the numbers in one big string, separated by spaces, the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00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use the split function to separate out the individual number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00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n, traverse the resulting array and calculate the sum and average of the number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ote: even if the input string contains numerical digits,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plit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returns each array item as a string (similar to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ompt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and text box/area access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e can write a function to traverse the array and convert each item to a numb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523880" y="3886200"/>
            <a:ext cx="6400800" cy="2540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83AA0-7E79-4268-A7FF-ABFAD9D2FEC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715000" y="11426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Average Page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715000" y="1828440"/>
            <a:ext cx="31240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is page averages an arbitrary number of grades (entered as a string in a text box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407880" indent="-28548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note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ParseArray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is defined in the library file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array.j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457200" y="533520"/>
            <a:ext cx="4836960" cy="6095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5181480" y="3532320"/>
            <a:ext cx="3800520" cy="1649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62739-A929-49F2-8784-ED6EF9B83A0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Example: Grade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is page can be generalized to enter different types of grades for a cours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average for each type of grade could be calculated (as before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n, those averages could be combined for a weighted course average &amp; letter grad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924200" y="2590920"/>
            <a:ext cx="5467320" cy="365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623FD-EE58-4CDF-A933-B821ADCB9F9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Example: Dice Stat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153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recall our web page for simulating repeated dice rolls and recording the number of times that a specific total was obtained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tatistical analysis predicts that, given a large number of dice rolls, the distribution of totals will closely mirror the percentages listed below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2959200" y="2743200"/>
            <a:ext cx="3289320" cy="365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18EB9-D07E-4EFE-AF1C-DB9699D236D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39152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Approach 1: Separate Counter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o obtain a valid distribution of dice totals, we would need to simulate a large number of rolls and simultaneously count the occurrences of every tota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s can be accomplished by defining 11 counters, each corresponding to a particular tota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owever, this would be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extremely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tediou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"/>
          <p:cNvSpPr/>
          <p:nvPr/>
        </p:nvSpPr>
        <p:spPr>
          <a:xfrm>
            <a:off x="5257800" y="3276720"/>
            <a:ext cx="335268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40176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equires separate assignment statements for all 11 count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0176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0176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equires a cascading if-else statement with 11 ca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0176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0176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not easily generalized – what if we wanted to use 8-sided dic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990720" y="2819520"/>
            <a:ext cx="4038480" cy="3763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67883-EACC-4C77-A56A-AC03C3D7911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39152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Approach 2: Array of Counter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stead of representing each counter as a separate variable, we can define the counters as items in an array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ll 11 counters can be stored in an array and initialized via a single assignment statemen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ny individual counter can be accessed and updated via its corresponding index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00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ince the first possible total is 2, its count is stored in index 0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00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next possible total, 3, has its count stored in index 1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00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00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or an arbitrary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roll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, its count is stored in index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roll-2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resulting code is shorter, simpler, and easier to generaliz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295280" y="4343400"/>
            <a:ext cx="6782040" cy="1722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32FE5-1DF4-4E9D-9FE3-3820B523C6A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Dice Stats Page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1911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de for maintaining statistics on repeated dice rolls can be integrated into a Web pag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number of rolls to be simulated is entered by the user into a text box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 button is defined to call the code for repeatedly simulating the roll and maintaining stats, with the text box contents as input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numbers of rolls for each total are then displayed in a (scrollable) text area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714920" y="1676520"/>
            <a:ext cx="4048200" cy="3736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74A23-0541-49B0-A5E8-9C7C3D35496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Arrays as Object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3818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arlier, we introduced the concept of software objects: programming structures that encompass both data (properties) and operations (methods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300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.g., a string object has properties (e.g.,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) and methods (e.g.,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harAt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) that enable the programmer to easily store and manipulate tex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ke strings, JavaScript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arrays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are objects that encapsulate multiple values and their associated properties and method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nlike strings (which store only text characters), the items in an array can be of any data typ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n array consists of a sequence of items, enclosed in square brackets and separated by comma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hen assigning values to arrays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n item can appear in an array more than onc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rray items can be specified as expressio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rrays can be empt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600200" y="5334120"/>
            <a:ext cx="4724280" cy="1152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C5A42-F5A8-4325-8F3D-D78C3621F89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Accessing Items in an Array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523520"/>
            <a:ext cx="84582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ince an array stores a series of values, its associated memory cell can be envisioned as divided into components, each containing an individual valu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rray items are assigned sequential indices, allowing programmers to identify an item by its corresponding index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rray access is accomplished by specifying the name of the array object, followed by the index of the desired item in brackets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first item is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misc[0],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the second is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misc[1],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…, the last is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misc[length-1]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f an index is specified beyond the scope of an array, the access yields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undefine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838080" y="2514600"/>
            <a:ext cx="7672680" cy="731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21FD5-5CDA-4AFE-B252-C69E232EAF0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Array Access Example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we now can understand how the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andomOneOf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function from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andom.js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works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input to the function is a nonempty array of arbitrary item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andomInt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function is called to pick a random index from the array (between 0 and the last index,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list.length-1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bracket notation is used to access the item at that index, which is then returned by the func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"/>
          <p:cNvSpPr/>
          <p:nvPr/>
        </p:nvSpPr>
        <p:spPr>
          <a:xfrm>
            <a:off x="457200" y="3505320"/>
            <a:ext cx="845820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905120" y="3440160"/>
            <a:ext cx="5562360" cy="235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B9581-E0EF-42ED-852B-E23655AF697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Assigning Items in an Array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rray items can be assigned values just like any variabl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60960" indent="-25416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uppose the array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misc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as been assigned to store the followin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052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052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052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60960" indent="-25416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assignment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misc[0] = 1000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would store the value 1000 as the first item in the array, overwriting the value that was previously ther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" y="45720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f the index in an assignment statement is beyond the array’s current length, the array will automatically expand to accommodate the new i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assignment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misc[8] = "oops"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would store "oops" at index 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295280" y="2133720"/>
            <a:ext cx="5181840" cy="4222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1295280" y="3462480"/>
            <a:ext cx="6858000" cy="6490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1295280" y="5562720"/>
            <a:ext cx="6782040" cy="688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84827-D4AD-4EF1-91C4-E3AE027A350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From Strings to Array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3818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o far, our Web pages have handled each input from the user as a single strin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s approach is limiting since many programming tasks involve separately processing an arbitrary number of words or numbers entered by the us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"/>
          <p:cNvSpPr/>
          <p:nvPr/>
        </p:nvSpPr>
        <p:spPr>
          <a:xfrm>
            <a:off x="457200" y="2819520"/>
            <a:ext cx="396252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ecall the Pig Latin p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e might want to generalize the page so that it translates entire phrases instead of just wor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at is, the user would enter an arbitrary  sequence of words and each word would be transla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s task would be very difficult using our current set of programming t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4495680" y="2819520"/>
            <a:ext cx="4334040" cy="1879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C3A3D-BF7D-425D-97AF-3174CDFAE74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String </a:t>
            </a:r>
            <a:r>
              <a:rPr b="0" lang="en-US" sz="3200" spc="-1" strike="noStrike">
                <a:solidFill>
                  <a:srgbClr val="ff0000"/>
                </a:solidFill>
                <a:latin typeface="Courier New"/>
              </a:rPr>
              <a:t>split</a:t>
            </a: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 Method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JavaScript strings provide a method,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plit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, for easily accessing the components of a strin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only input required by the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plit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method is a character (or sequence of characters) that serves as a delimiter for breaking apart the strin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plit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method separates the string into component substrings at each occurrence of the delimiter, and returns an array consisting of those substring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ff"/>
                </a:solidFill>
                <a:latin typeface="Lucida Console"/>
              </a:rPr>
              <a:t>user = "Grace Murray Hopper"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ff"/>
                </a:solidFill>
                <a:latin typeface="Lucida Console"/>
              </a:rPr>
              <a:t>arr1 = user.split(" ");</a:t>
            </a:r>
            <a:r>
              <a:rPr b="0" lang="en-US" sz="1400" spc="-1" strike="noStrike">
                <a:solidFill>
                  <a:srgbClr val="0099ff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99ff"/>
                </a:solidFill>
                <a:latin typeface="Lucida Console"/>
              </a:rPr>
              <a:t>    // ASSIGNS arr1 to be the arra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ff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99ff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99ff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99ff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99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0099ff"/>
                </a:solidFill>
                <a:latin typeface="Lucida Console"/>
              </a:rPr>
              <a:t>//   ["Grace", "Murray", "Hopper"]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" y="3962520"/>
            <a:ext cx="83818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s was the case with strings,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[ … ]/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can be used to specify groups of charact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752480" y="4419720"/>
            <a:ext cx="5181840" cy="2166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B2EB4-CBBB-4547-95E1-690F276C626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4676760" y="4641840"/>
            <a:ext cx="4238640" cy="153972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Example: Generating Acronym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one interesting application of the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plit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method is in deriving acronym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acronyms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(terms made from the first letters of words in a phrase) are especially popular in the computing fiel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AM – Random Access Memor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GUI – Graphical User Interfac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WW – World Wide Web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"/>
          <p:cNvSpPr/>
          <p:nvPr/>
        </p:nvSpPr>
        <p:spPr>
          <a:xfrm>
            <a:off x="5105520" y="3200400"/>
            <a:ext cx="36576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Acronym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function takes a phrase, such as "What you see is what you get", splits it into an array of individual words, then extracts the first letters to construct the acrony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457200" y="3206880"/>
            <a:ext cx="4419720" cy="2003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C66AC-95FD-4B81-B354-ADE7EA4E00C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Acronym Page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cronym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function can be integrated into a Web pag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53760" indent="-25128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user enters a phrase in a text area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53760" indent="-25128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 button is defined to call the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Acronym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function with the text box contents as inpu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53760" indent="-25128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result returned by the function call is displayed in another text box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295280" y="2895480"/>
            <a:ext cx="6782040" cy="2941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A96E3-68A8-43D5-B768-5527407C5DD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davir2</cp:lastModifiedBy>
  <dcterms:modified xsi:type="dcterms:W3CDTF">2007-09-12T22:10:31Z</dcterms:modified>
  <cp:revision>3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