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18B-8F8F-4C1F-9A78-E0D6CEB8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5CC-E5AD-4DD0-A5A6-C938C51A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4FF-994D-4B50-9F6A-479026A7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241-62C9-4028-AEE8-E82D14AD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7E27-E454-4DDD-9388-76F42A3E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6728-81BC-4EEB-8916-13F007DD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D7B3-950F-470D-8C90-00E733D6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6853-E66F-4D8F-9258-A039C9C1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C9B0-6EC2-40FD-9B13-2DC44296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54A1-24D0-4E65-8267-C1291F43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61B9-A469-4955-AF53-65FBF2C9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E73-B7FB-4FD5-9495-7DD145E7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F8AC-A13E-41C0-878A-B7FB00BA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87C8-5C3D-486B-8E0E-7461EEC0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B7D0-D9CE-4F28-B7FB-CF7B55B1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2D45-7E0A-4459-9ABF-CD1D0275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F4A8-375B-4637-9C0C-361E83E2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5C5-A7F2-4B45-990D-FCB42474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47B-2097-42BB-B885-81793126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4FD-786A-4AC9-B039-C0A40ABC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4CD-88A8-4F58-84CB-82078D6B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3A0B-46D3-4195-A121-1BB42E55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CEF-0CE8-48DC-84F7-10CBBBC2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259-2518-4F35-BB03-68BD7328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D014-CFED-45D1-8832-EED153978166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E424-09C4-457B-AAD9-1CFAD0E5FBEC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al Repet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CECB-10CA-4528-9AD8-7F48CACE902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09720" y="137160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Counter-Driven Loops Page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4400" y="380880"/>
            <a:ext cx="453708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4120" y="2743200"/>
            <a:ext cx="365760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3A6-8557-4DEF-8A05-20C729730C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inite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browser will repeatedly execute statements in the body of a while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long as the loop test succeeds (evaluates to tru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possible that the test will always succeed and the loop will run fore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loop that runs forever is known as a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finite loo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or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lack hole loo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guard against infinite loops, make sure that some part of the loop test changes inside the loop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above example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Cou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not updated in the loop so there is no chance of terminating once the loop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nfinite loop may freeze up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times, clicking the Stop button will suffice to interrupt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imes, you may need to restart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3581280" cy="8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8FC-A933-4640-80D0-4447FA7928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ariables and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y variable can be employed to control the number of loop repetitions and the variable can be updated in various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count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2889360"/>
            <a:ext cx="761976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E9D-37B8-4575-B8ED-6CEE0195E2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24480" y="1142640"/>
            <a:ext cx="2819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dow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4892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38720" y="2362320"/>
            <a:ext cx="2853000" cy="234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3F8-6BD1-4269-8A10-32DE5CA63B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Example: Hailstone Sequence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nteresting unsolved problem in mathematics: hailstone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with any positive integ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number is odd, then multiply the number by three and add one; otherwise, divide it by tw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eat as many times as des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:  5, 16, 8, 4, 2, 1, 4, 2, 1, 4, 2, 1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9625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is conjectured that, no matter what positive integer you start with, you will always end up in the 4-2-1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has been verified for all starting number up to 1,200,0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it still has not been proven to hold for ALL starting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define a JavaScript function for experimenting with this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hailsto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will generate the sequence given a starting numb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FB6-E1F7-4956-AF1E-225433B9F3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ditional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f statement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 stat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used to control the execution of other JavaScript stat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ides for conditional exec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useful for solving problems that involve cho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ither do this or don't, based on some condi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if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ither do this or do that, based on some condi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if-els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733920"/>
            <a:ext cx="8381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osely related to the concept of conditional execution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ditional repet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y problems involve repeating some task over and over until a specific condition is 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olling dice until a 7 is obta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peatedly prompting the user for a valid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JavaScript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hile loop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vide for conditional re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B10-C36E-4A16-A6A4-CC24A3A2E2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browser encounters a while loop, it first evaluates the boolea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succeeds, then the statements inside the loop are executed in order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just like an if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all the statements have been executed, program control returns to the beginning of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oop test is evaluated again, and if it succeeds, the loop body statements are execut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process repeats until the boolean test f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hile loo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sembles an if statement in that its behavior is dependent on a boolean condition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e statements inside a while loop’s curly braces (a.k.a.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op bod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are execut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peatedl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s long as the condition remains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419112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BCD-5F40-4B63-8E52-2B233FFC0E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roll two dice repeatedly until doubles are ob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80060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mple out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4267080"/>
            <a:ext cx="4190760" cy="198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note: even though while loops and if statements look similar, they are very different control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n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if statement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may execute its code 1 time or not at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while loop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may execute its code an arbitrary number of times (including not at 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391520" cy="2019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0" y="4267080"/>
            <a:ext cx="1547640" cy="21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A6F-2794-4E78-957B-9E3CAECBE2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48520" y="1295280"/>
            <a:ext cx="259056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544032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5880" y="2743200"/>
            <a:ext cx="2853000" cy="25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5E1-3855-40D6-A867-84AD133435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voiding redundanc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e redundancy in th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perform the initial dice roll before the loop beg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have to repeatedly re-roll inside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avoid this by eit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priming the loop" with default values that allow the loop to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fining a Boolean "flag" to determine when the loop should 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5562720" cy="32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3FE-5010-4F78-B89A-4CD7900F31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op Tes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loop test defines the condition under which the loop contin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 often backwards from the way we think about loo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ad input until you get a positive number (i.e., until input &gt; 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input &lt;= 0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keep rolling dice until you get doubles (i.e., until roll1 == roll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roll1 != roll2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keep rolling dice until you get double fours (i.e., until roll1 == 4 &amp;&amp; roll2 = 4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roll1 != 4 || roll2 != 4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334120"/>
            <a:ext cx="5257800" cy="76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Morgan's Law: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!(X &amp;&amp; Y) == (!X || !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!(X || Y) == (!X &amp;&amp; !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425-3E5D-4D04-9E13-02D20544B4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-Driven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 while loop is controlled by a condition, it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usuall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mpossible to predict the number of repetitions that will occ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how many dice rolls will it take to get double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while loop can also be used to repeat a task some fixed number of tim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lemented by using a while loop whose test is based on a coun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 of counter-driven while loop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unter is initially set to 0 before the loop begins, and is incremented at the end of the loop bod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unter keeps track of how many times the statements in the loop body have execu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the number of repetitions reaches the desired number, the loop test fails and the loop termin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3429000"/>
            <a:ext cx="4953240" cy="124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801-92CA-4A46-B784-E2496BCA83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-Driven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46196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2162160"/>
            <a:ext cx="7696440" cy="37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666-FEA9-4CA3-BA15-6F8A9C7AB6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0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