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6285-1FD8-4234-B909-6693FE63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36C2-D78C-45E8-A6DD-B0ABCF96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8C1E-2B84-42BD-8AD9-D5D563F4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D8E3-6251-49C4-A956-505CDECB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B8DC-F85A-49AF-9A02-13FE0B30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CA76-594F-4B99-805F-841C9FBB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3A5C-0669-42AA-943D-5A38D9E8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7C0E-BA3F-4FC0-8BC3-EC9A935B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C61E-8AFA-45AD-997A-EDB10978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2DCC-9401-4D6B-A068-11E5E808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00C7-92D3-4C46-ABB2-2543EA02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EFCC-8523-488A-BB83-B93960C3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CC8B-C299-462D-A2BA-129CE991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1783-6D22-4046-ACA9-FE008D7F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99B5-B528-4CCA-952B-5FC119FC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1B13-2121-4F56-A8F4-FC86B1C3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E686-B0FF-444F-B9FF-C9BE7F34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FD97-A90E-4271-A6CE-0A4BE812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02B5-DFF8-4B8E-B106-E255EE3A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84D6-5F4D-40A6-824E-AB221D09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5B6A-6D5A-460D-AC01-1E95B511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B17E-2B83-4722-90F0-A896535F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1200-C181-4CD8-AED4-4F21F010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65C5-4908-4A45-B16E-07596E6A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03FE-0846-4652-BF84-FDEDDD6B5C3D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A5B4-2620-4818-8C4D-DB5968C9B90A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44193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ide the Computer - th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n Neumann Archite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D456-F8EF-4563-8DDE-A0690DB3686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ain Memory Data Transfe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a program is executed, the control unit processes the program instructions and identifies which data values are needed to carry out the specified ta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0320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quired values are then fetched from main memory along the main memory bus, loaded into registers, and used in ALU ope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46483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data must be copied from main memory into registers BEFORE it can be operated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practice, the data transfer takes much longer than a single datapath cycle (due mainly to the distance that must be cover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dern CPUs compensate by fetching multiple instructions at once – ideally, the CPU will predict which instructions will be needed next and prefetch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19520" y="2743200"/>
            <a:ext cx="3209760" cy="171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C6F5-F40B-4603-9D78-988B2F897B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 Transfer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suppose you had a file containing 1,000 numbers and wanted to compute the sum of those numb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rst, need to load the data from the file into main memory — for example, at memory locations 500 through 149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the control unit would carry out the following steps to add the numbers and store the resulting sum back in main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7924680" cy="15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DE9B-8EEB-4921-9A60-D862BAB31B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w/ Memory Simulato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can extend the datapath simulator to integrate main memor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in memory is displayed as a series of boxes, labeled with addresses 0-3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ain Memory Bus is added to transfer data to and from main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ses have switches that open and close when the user clicks on th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2743200"/>
            <a:ext cx="297180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selecting the radio button labeled R/W in the Main Memory partition, the user can select a memory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address 0 is se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on the Main Memory Bus and C Bus, they can be opened/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the buses are configured to allow data to flow from main memory to the 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ther components of the datapath are configured as bef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2630520"/>
            <a:ext cx="5229360" cy="38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44E2-BA4C-4B84-99E7-30C4459A81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1523880"/>
            <a:ext cx="2514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example, suppose we wanted to add the contents of address 0 and address 1, and store the result in address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1st step, copy the data from address 0 into a register, say R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 the A Bus, B Bus, and ALU settings are irrelevant since the C Bus is disconn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5867280" cy="43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036D-D061-4B6F-B80E-D23DA1A757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5" name=""/>
          <p:cNvSpPr/>
          <p:nvPr/>
        </p:nvSpPr>
        <p:spPr>
          <a:xfrm>
            <a:off x="6400800" y="1752480"/>
            <a:ext cx="2438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2nd step, similarly copy the data from address 1 into a register, say 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 when the simulator executes, there is a noticeable (and intentional) delay as data moves on the Main Memory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438200"/>
            <a:ext cx="60199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5515-7C98-4444-8EFC-0402D7604C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1752480"/>
            <a:ext cx="2438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3rd step, the contents of R0 and R1 are added and the result is sent directly to addres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some CPUs, this would require 2 steps: send the result to a register, then copy the register to main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495440"/>
            <a:ext cx="60199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D935-92D8-488D-AC97-087BF4A81F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ored-Program Compute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last component of the CPU is a fully functioning, automatic control uni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call that in the simulations, tasks were defined by selecting registers and ALU operations via knobs, switches, and bu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dea behind a stored-program computer is that tasks can be represented as instructions stored in main memory along with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ntrol unit must fetch, decode, and execute those instru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276720"/>
            <a:ext cx="8229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each type of CPU has its own machine language for representing 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example, we could define an instruction for our simulator by specifying the knob and switch settings for the data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ce real world CPUs contain an extremely large number of physical components, a more compact representation i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chine language instructions are represented as binary strings, where the bits correspond to hardware set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411480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D0D9-5678-4134-8C87-01F8974A68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Machine Langu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5410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st two instructions – select ALU operation and registers to operate 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xt 3 instructions – control flow of data between main memory and datapa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st instruction – mark the end of instruction sequ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496120" cy="41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88F7-6C90-4640-A431-13CE2B50B0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ntrol Uni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ontrol unit fetches each machine language instruction from memory, interprets its meaning, carries out the specified CPU cycle, and then moves on to the next instr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ce instructions and data are both stored in memory, the control unit must recognize where a sequence of instructions begins and e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our simulator, we will assume that programs start at address 0 and end with a HALT instru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real computers, the operating system must keep track of program lo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7391160" cy="212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3045-0E7D-4D1A-B756-E9BB1589E9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gram Execu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achine language program for adding two numbers in mem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 execu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gram counter is initialized: PC = 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at memory location 0 is fetched, PC is incremented to 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oad contents of memory location 5 into R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xt instruction is fetched at location 1, PC is incremented to 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oad contents of memory location 6 into R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xt instruction at memory location 2 is fetched, PC is incremented to 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add contents of R0 and R1, store result in R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xt instruction at location 3 is fetched, PC is incremented to 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copy contents of R2 into memory location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xt instruction at location 4 is fetched, PC is incremented to 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halt instruction </a:t>
            </a:r>
            <a:r>
              <a:rPr b="0" i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program e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4876560" cy="190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B21C-24EC-48B2-97CE-CF49393FAD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Subunits and Datapath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 the von Neumann archite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entral Processing Unit (CPU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put/Output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PU acts as the brain of the compu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obtains data and instructions from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carries out instru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stores results back to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257800" y="1604880"/>
            <a:ext cx="2168640" cy="1062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4191120"/>
            <a:ext cx="8077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rogram instructions that are executed by the CPU are in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machine langua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that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s can write programs in a high-level language, but those high-level instructions must be translated into machine language before exec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ven programs that exhibit complex behavior are specified to the CPU as sequences of simple machine-language comm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can execute these instructions at such a high speed that complex programmatic behavior is achie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5C0B-CB09-4334-9B66-DE08C08FAA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lete Computer Simulato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can extend the simulator to integrate a control unit, contain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Counter (PC) for keeping track of the next stat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uction Register (IR): for storing fetched instru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2630520"/>
            <a:ext cx="2971800" cy="30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can enter a sequence of instructions directly into memory, starting at address 0 and ending with a Halt 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y data to be acted upon is stored in additional memory 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user clicks execute, the program instructions are executed in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5333760" cy="399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5AD4-22C6-4A5B-9936-958FFD437D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uter Simulator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1752480"/>
            <a:ext cx="2286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the program consists of 5 instructions, stored in addresses 0 –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values are stored in addresses 5 &amp;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fore execution, the PC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6019920" cy="45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47D5-8F82-4BE2-ADBB-5D0FB36ED1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1752480"/>
            <a:ext cx="2286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execution begins, the instruction at address 0 is fetched and deco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to copy data from address 5 to R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datapath cycl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6019920" cy="45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5176-342E-4ABC-8CBB-C9589004B9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17524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the instruction at address 1 is fetched and deco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to copy data from address 6 to R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datapath cycl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6095880" cy="45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9827-E6AD-4242-B540-EFACCE907B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17524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the instruction at address 2 is fetched and deco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to add R0 and R1 and store the sum in R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datapath cycl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594360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0DA8-0BFD-4561-A7B1-26EFA77365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17524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the instruction at address 3 is fetched and deco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the value in R2 is copied to address 7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datapath cycl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6019920" cy="450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C982-54A9-4A7D-9F27-715EA5CF7F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17524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the instruction at address 4 is fetched and deco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Hal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ecution ha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594360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AE71-E0B3-4437-9AA7-F8AB37B7D5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he Role of I/O Devic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input/output devices enable the user to interact with the compu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put devices – keyboards, mice, scanners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utput devices – display screens, speakers, printers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irst programmable computers (1950s) and personal computers (1970s) were designed to execute one program at a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entered program instructions and data directly into main memory via input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instructed the CPU to fetch program instructions and execute them in sequential or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viewed results by sending the contents of the memory to an output de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495680"/>
            <a:ext cx="8305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st modern computers allow for multitasking (multiple programs can be active simultaneous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uctions and data associated with each program must be loaded into separate portions of main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control switches from one program to another, the CPU must save the state of the current program and locate the portion of memory for the new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ory partitioning and control switches are managed by the opera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CC49-6259-4A63-AA47-4FA1543BD4C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620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achine vs. Assembly Langu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ming in machine languages is difficult and tediou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chine code is nearly impossible to understand and debu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sembly languages were developed in the early 1950s to simplify programm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sembly languages allow for words to substitute for bit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so, allow for variable names instead of numerical addres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133720" y="3195720"/>
            <a:ext cx="5086080" cy="34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C317-ECB0-4027-BC30-F01DBECCEB2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ssembly Language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stored-program computer simulator allows the user to enter instructions in assembly languag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even toggle the view from assembly language to machine language using the "View As:" pull-down menu to the left of each memory lo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267520" cy="394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E13-05B0-4E16-9816-3A53A7E96AA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Subuni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PU is comprised of several subunits, each playing a specific role in processor function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rithmetic Logic Unit (ALU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circuitry that performs the actual operations on data (addition, subtraction, bit manipulation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gist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memory locations built into the CPU (to provide fast acces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ransfer of data between registers and main memory occurs across a collection of wires called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ontrol Unit (CU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circuitry in charge of fetching data and instructions from main memory, as well as controlling the flow of data between registers and the AL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666880" y="3886200"/>
            <a:ext cx="3353040" cy="260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7A62-B324-4BCC-B274-ACF5301A45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Datapath Cycl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638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h that data follows within the CPU, traveling along buses from registers to the ALU and then back to registers, is known as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PU datapa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ingle rotation around the CPU datapath is referred to as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PU datapath cyc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3581280"/>
            <a:ext cx="82296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 earlier that we defined CPU speed as measuring the number of instructions that a CPU can carry out per sec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PU speed = the number of CPU cycles per seco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 2.5GHz CPU can perform 2.5 billion cycles per 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PUs cannot be compared solely on the basis of their sp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ce CPUs have different instruction sets, one CPU may be able to complete more complex tasks in a single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, a slower CPU with a richer instruction set may complete some tasks f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05400" y="1295280"/>
            <a:ext cx="2305080" cy="179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8E4-7F20-4909-9E58-76CECFBAFF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Simulato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companying the text is a datapath simulat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.k.a.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Knob &amp; Switch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veloped by Grant Braught at Dickinson Colle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ows the user to enter data directly into the register boxes and configure the CPU hardware by clicking on knobs and switch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2873520"/>
            <a:ext cx="4343400" cy="31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on the knobs labe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 Bus Addres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 Bus Addres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 user can select which registers will be acc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registers R0 and R1 are se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on the knob labe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LU Opera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 user can select which operation will be performed on the specified regist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the addition operation (A+B) is se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on the knob labe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 Bus Addres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 user can select which register the result will be written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register R2 is se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34066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0E7-BC35-4226-9338-68E63C638A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62720" y="144792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the user clicks on the Execute button, a CPU datapath cycle is executed with the given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can be observed as it moves around the datapa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1st step, data values are retrieved from the specified registers (R0 and R1) and passed along the A and B buses, respective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4905360" cy="54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518-CB3C-4D9C-A29B-3A1983A51A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62720" y="144792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can be observed as it moves around the datapa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2nd step, the data values from the A and B buses are operated on by the ALU, with the result passed along the C b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4905360" cy="54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641A-81AF-48B3-85ED-068F6CFB3D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562720" y="144792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can be observed as it moves around the datapa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3rd step, the data on the C bus is written to the specified register (R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end result of the datapath cycle is that the contents of two registers are added and the result is stored in a different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4905360" cy="54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B343-E103-4739-90A7-DDAFE7A6C1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and Main Memor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PU datapath describes the way in which a computer manipulates data stored in regis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, it does not explain how data gets into registers in the first pl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r, how the results of ALU operations are accessed outside the CP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oth of these tasks involve connections between the CPU and main mem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active programs and data are stored in the main memory of a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in memory is comprised of a large number of memory locations, with each location accessible via an 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us connects main memory to the CPU, enabling the computer to copy data and instructions to registers, and then copy the results of computations back to main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181320" y="4267080"/>
            <a:ext cx="428616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4E5E-2EB5-48B4-8BE8-389D369EFF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9:26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