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E28-792B-4A58-BC8D-F87141AD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ADA9-171E-494E-B0D2-7C7664BC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5A04-CFD7-4314-8A48-312E25CD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E9E-7737-4FC3-A940-5CC2DBCC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19F6-2652-48C5-ABF1-BB2977AD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220E-4183-4B5B-ACA4-8DCA8705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4C0F-C649-422C-AAC6-D3CE9487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820C-3C8A-44CE-A95E-7878283D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035D-55E0-4F53-97A1-E8B3BB98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05D9-FF72-4E02-AE5F-227B3656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78F1-3D5E-4939-BEC5-0748F6B4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FF74-B4E2-493F-ACF4-4ABF9C20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3880-CF17-4300-A21B-0E21B61E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F731-B91B-48F1-B3A9-8693684E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D302-D4F6-478D-944D-9F6E9B96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7842-0D12-4773-8638-F3E1219D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3A52-D0EA-470C-80EB-5CB22017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882-3E29-492B-B861-A5A3E838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E2E-7CCB-4115-8E54-0B1F99B0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A5E-B0C6-4540-AC4C-15EAC9B1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C4C-5A30-4B0A-BFFB-87EE4411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146-DF50-4C90-B0C4-17E9E404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598-2187-4AF7-B9B2-F1490E72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C54-87A3-4C80-9D21-AE4C7A94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7924-02C7-40CD-980B-D9B677F7EE8B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7D3D-DDAD-4F43-9E79-B04D05D3E8BC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s and Socie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364A-CE0C-47D9-90B0-ADED4F33778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6960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unic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recently, the Internet has popularized the use of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nstant messag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ables users to type text messages and view responses immediately in the same wind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effect, they can conduct personal conversations onl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3 million users sent instant messages during February 200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those, 24% claimed to use IM more frequently than emai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14600" y="3589200"/>
            <a:ext cx="4178160" cy="29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09B7-B47F-4D5C-84FC-8582A83EEB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other popular function of the Web is to facilitat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lectronic commer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-commer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es have recognized the Web’s potential as an advertising medium, and as a tool for reaching new custom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business sites are information-based (providing background on the company or product description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business sites are transaction-based (allowing customers to purchase products or services directl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ine shopping has numerous advantages for the consum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 can make purchases from your home at any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is easy to comparison sh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online retailers, such as Amazon.com, allow consumers to research products as well as purchase th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A11C-F420-4DD3-ABEF-8099BEADEC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44792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tal online sales in 2006: $108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of the most successful sites are online offshoots of traditional retail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rnes &amp; Noble, Sears, Circuit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anies that are strictly Internet ventures have added risks due to their lack of other revenue streams for startup and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y of these companies fail early on, however, some are very successfu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azon.com: $10.7 billion in sales in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90920" y="4164120"/>
            <a:ext cx="3733560" cy="246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D0C-15A4-4FEB-8CEA-C1756C4A9C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Web has provided a new advertising channel for businesses and organiz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-commerce sites charge fees for hosting advertising banners on web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anner ad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re clickable images that promote a particular company’s product or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s who click on a banner ad are typically directed to the company’s Web site, where they can make purchases or review product-related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eb’s structure allows for a direct connection between ads and related purchasing interfa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addition, the Internet is extensively used for communication and information exchanges within and among busin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iness-to-business (B2B) transactions allow companies to manage inventory more dynamical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improve efficiency by linking various data channels (e.g., sales &amp; market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inesses may form partnerships based on sharing resources and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522F-D601-46E9-9E0E-8D993FA9E8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tential Dang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conjunction with the benefits we have mentioned, the widespread adoption of technology also introduces the potential for abuses and undesirable consequ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tential dangers to individuals, businesses, and society at large inclu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over-reliance on complex, perhaps poorly-understood, syst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overlo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vacy and security viol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gital Divi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413-8BDE-44BB-8B75-F5A3C7B172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liance on Complex Syste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society becomes dependent on complex, computer-based products and services, the effects of errors or system failures become far-reach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-system bugs can produce dire consequ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tween 1985 and 1987, six cancer patients received massive radiation overdoses due to equipment malfunction, resulting in four deaths (the malfunction was traced to a single coding erro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0, AT&amp;T’s long-distance telephone network was down for nine hours due to a misplaced statement in the electronic switching software (60,000 customers were without service, resulting in $60 million of lost revenu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1, 28 soldiers were killed by a Scud missile because a software error caused the Patriot missile to miss its targ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9, NASA’s Mars Climate Orbiter went off course and was destroyed in the Martian atmosphere (the problem was due to software inconsistencies which used different measurement conversions, e.g., English vs. Metric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void errors, various software design and testing methodologies are u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as the size and complexity of the software grows, design and testing become exponentially more diffic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ndows 2000 – 35 million lines of code, 63,000 known bu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E2A-46E0-49EB-9E03-8BEA0BD7BC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ormation Overloa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mpressive range of information available online can be viewed as a strength, but it is also one of the greatest weakn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ten, data is not well organiz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ding a single piece of specific information can be very diffic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of April 2005, Google claimed to have cataloged more than 8 billion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engines are helpful in narrowing down Internet searches, but users must be careful in selecting search criter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Google search for “JavaScript” produced 425 million ma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ore refined search for “JavaScript prompt function” produced 924,000 ma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en after a user locates a Web page related to the desired topic, judging reliability is not always eas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eb is neither monitored or censo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hors may provide incomplete, uninformed, or biased answ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DF4-9B6E-4019-A1DB-3206FEDB15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ormation Overloa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most Internet/Web content lacks editorial review, it is up to the user to evaluate its credi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on criteria for evaluating credibility includ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543800" cy="311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B30-43C5-439A-ACDB-8A27ACF3AC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ivacy and Securit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using credit cards or shopping online, consumers sacrifice privacy for the sake of conven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nies maintain records of consumer purcha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vate details can be inferred from shopp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nies often sell customer profiles to marketing fir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 users can limit exploitation by interacting only with reputable online businesses with privacy poli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ch policies will explain what information is collected by the business and how that information is to be used (and share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2411280"/>
            <a:ext cx="384804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8770-2549-4F95-88ED-3DA42922D0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ivacy and Securit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ail also raises privacy concer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message is received it is commonly stored in a file on the recipient’s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re is a danger that unauthorized users might get access to that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w laws apply directly to electronic privac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rts overwhelmingly favor employers over employees in privacy su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ess explicitly stated, it is generally accepted that employers may access any content on company-owned mach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vacy is closely linked with secur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ail messages travel through numerous routers, and each router represents a security risk, because someone could gain access to a router and eavesdrop on a relayed mess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th online transactions, credit card numbers or other personal information can be intercepted and subsequently result in identity thef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cryption methods are commonly used to secure information transmissions, but online fraud is still a continuing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340-7B30-464C-A670-4377179378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sitive Impact of Technolog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storian Larry Gormley ranked technological developments according to their impact on modern lif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 you agree with his list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315200" cy="326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43000" y="5867280"/>
            <a:ext cx="731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Gormley, Larry. “The Greatest Inventions in the Past 1000 Years.” eHistory.com, 2003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37D9-3EF5-4697-82F3-D97CB1DAA6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Digital Divid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especially troubling aspect of recent technological developments is that the benefits associated with computers are not shared by 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ericans with minority ancestry, lower incomes, and less education are far less likely to be on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6933960" cy="356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19320" y="6248520"/>
            <a:ext cx="6933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Pew Internet and American Life Project: Latest Trends. Pew Research Center, December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C4A-6E03-4D71-94BB-D7C939FF40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Digital Divid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ressing the digital divi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uring the Clinton administration, public schools received government funding for computer technology and Internet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2003, nearly all public schools were connected to the Internet, as compared to 35% in 199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public libraries and community centers provide Internet-enabled comput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ganizations such as CompuMentor supply Internet access and technical assistance to minority groups and low income individua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gital divide is still a problem for Americans, but there is no doubt that conditions have improv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gital divide also exists on a global sca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erica, Western Europe, and certain Asian countries have much greater Internet connectivity than other parts of the wor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ck of Internet access places less developed nations at a significant disadvantage, and compounds other economic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nited Nations, World Economic Forum, and other organizations are working to address the global digital divi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1D6-9FB2-4BFC-9243-33BAEC81A8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sitive Impact of Technolog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than any other invention, computer technology is still evolving, which means that it continues to impact society in new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irst electronic computers made significant contributions in the 1940’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OSSUS – used for code breaking in World War I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IAC – performed calculations and simulations that led to the development of nuclear technology and Cold War sci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rrently, we live in an "information economy", with computers central to business and innov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657600"/>
            <a:ext cx="5638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chnology has become so pervasive in daily life, it is difficult to imagine life withou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.g., monetary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sh is frequently being replaced with credit or debit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ized banking networks enable the immediate electronic transfer of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M machines allow people to access their money around the clock from any 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this has discouraged traditional theft, but has inspired new forms of illegal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01924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D5A-B96F-43CE-9EA4-F6E969CABC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s in Everyday Tas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life also depends on thousands of less obvious, hidden computer applic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mbedded processors ar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 chips that are built into appliances and machinery to control their work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y account for more than 90% of all computer process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verage U.S. home contains 50 to 100 embedded processors (2001 est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ovens, television remote controls, cordless phones, automatic thermostats, 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obiles employ embedded processors to control a wide variety of compon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95280" y="4038480"/>
            <a:ext cx="6629400" cy="2452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95280" y="6477120"/>
            <a:ext cx="662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Webb,Warren.“Embedded Technology Transforms the Automobile.” EDN Magazine, 1999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4DD8-9508-485F-A216-1966DD51C6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s in Everyday Tas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ciety has also been affected by the availability of personal computers and easy-to-use softwar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ftware can enable people to accomplish tasks previously reserved for highly trained professionals, e.g.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ord processing and desktop publishing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ideo editing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 preparation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4419360" cy="33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B9C2-CBDF-44FC-9EC7-5F85C6D2FC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users utilize the Internet/Web as an information sour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line resources are quickly replacing (or complementing) traditional sources of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b sites can be updated 24 hours a day allowing publishers to report stories as soon as they brea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t can be integrated with other types of med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mmediacy of online delivery system is especially appea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order to compete, many newspapers and magazines have expanded their offerings to include online ver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ww.nytimes.com, www.washingtonpost.com, www.tim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E7E5-F470-492F-85BD-3D03F12922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ditional media have approached the Internet in a variety of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provide limited services online for fr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nn.com, weather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s provide full services with a f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Encyclopedia Britannica sells access over the We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dependent media organizations have utilized the Web to present stories and opinions that might not otherwise reach a mainstream aud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366228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3662280" cy="30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7EA-9547-4A1D-B974-3BDF7C37C1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majority of Web pages are unique resources created by individuals and private organiz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can find Web content on virtually any top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help navigate the vast sea of information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earch engin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utomatically catalog Web pages and allow users to search for data by topic or keyw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5120" y="282564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2688-E4B6-4F22-9D0E-4DACCBAC79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unic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users were originally drawn to the Internet by the availability of electronic mail and news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2006, 91% of all Internet users communicated via em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71 billion email messages were sent and received each d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0% of those emails wer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124080"/>
            <a:ext cx="3733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net Service Providers (ISPs) manage email accounts with other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OL, msn, Microsoft Hotmail, Yahoo! 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s such as Microsoft Outlook provide an intuitive user interface for sending and receiving email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114800" y="2773440"/>
            <a:ext cx="4648320" cy="32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98C6-BC5F-41B6-B59C-B051451137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0:5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