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ACB-A460-4925-BE03-F12E3699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5DD-042A-4070-9B4E-4000910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AC5-BC06-4CD3-B3AC-9281D00A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E1E9-4D1A-4010-9B2E-0CEED99A7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410-1238-44A2-8FE9-63077D8A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0E0C-BBCB-4792-8BCE-958FCAD9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8BE-820A-4288-8C53-C62B246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C20E-8FCB-407B-88B9-66CA28A7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A390-6C51-4AFC-932E-2868A919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185-3FE6-47E8-B726-F9BBE3C6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818-7670-4217-ADE1-3C425FD9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EC7-0B0C-4D46-B6EB-338BC1BF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C60-D00C-46CE-BCD6-8D40CF7589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ثالث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مربع نص 3"/>
          <p:cNvSpPr/>
          <p:nvPr/>
        </p:nvSpPr>
        <p:spPr>
          <a:xfrm>
            <a:off x="0" y="0"/>
            <a:ext cx="9144000" cy="81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c00000"/>
                </a:solidFill>
                <a:latin typeface="Calibri"/>
              </a:rPr>
              <a:t>باب الخيا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خيار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اسم مصدر اختار أي طلب خير الأمرين من الإمضاء والفسخ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و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ثمانية أقسام)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أول: (خيار المجلس)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بكسر اللام موضع الجلوس وهو هنا مكان التبايع (يثبت) خيار المجلس (في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لحديث ابن عمر يرفعه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 إذا تبايع الرجلان فكل واحد منهما بالخيار مالم يتفرقا وكانا جميعا أو يُخيِّر أحدهما الآخر فتبايعا على ذلك فقد وجب البيع)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كالبيع (الصلح بمعناه) و (الإجارة) و(الصرف والسلم) لتناول البيع لهما (دون سائر العقو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(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كل من المتبايعين الخيار مالم يتفرقا عرفا بأبدانهم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إن نفي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: الخيار بأن تبايعا على أن لا خيار بينهما لزم بمجرد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أو أسقطاه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الخيار بعد العقد (سقط)، لأن الخيار حق للعاقد فسقط بإسقا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وإن أسقطه أحدهما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ي : أحد المتبايعين أو قال لصاحبه : اختر،سقط خياره و (بقي خيار الآخ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1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4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00000"/>
                </a:solidFill>
                <a:latin typeface="Calibri"/>
              </a:rPr>
              <a:t>القسم 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خيار الشرط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بـ(ـأن يشترطاه) أ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يشترط المتعاقدان الخيار (في) صلب (العقد) أو بعده في مدة خيار المجلس أو الشرط (مدة معلومة ولو طويل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عليه السلام ((المسلمون على شروطهم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ثبت) خيار الشرط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 البيع والصلح) والقسمة والهبة وبما معنا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الإجارة في الذمة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يجوز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لمن له الخيار الفسخ ولو مع غيب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صاحبه (الآخر و) مع (سخط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الملك) في البيع (مدة الخيارين) أي : خيار الشرط وخيار المجلس (للمشتر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قوله     :((من باع عبدا وله مال فماله للبائع إلا أن يشترطه المبتاع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(له) أي للمشتري(نماؤه) أي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نماء البيع (المنفصل) كالثمرة (وكسبه) في مدة الخيارين ولو فسخاه بع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يحرم ولا يصح تصرف أحدهما في المبيع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في (عوضه المعين فيها) (بغير إذن الآخر) (بغير تجربة المبي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صورة 5" descr="429PX-~1.PNG"/>
          <p:cNvPicPr/>
          <p:nvPr/>
        </p:nvPicPr>
        <p:blipFill>
          <a:blip r:embed="rId1"/>
          <a:stretch/>
        </p:blipFill>
        <p:spPr>
          <a:xfrm>
            <a:off x="7929720" y="4000680"/>
            <a:ext cx="4330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9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مربع نص 3"/>
          <p:cNvSpPr/>
          <p:nvPr/>
        </p:nvSpPr>
        <p:spPr>
          <a:xfrm>
            <a:off x="0" y="71424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من مات منهما) أي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من البائع أو المشتري بشرط الخيار(بطل خياره) فلا يورث إن لم يكن طالب به قبل مو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لث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ن أقسام الخيار : خيار الغبن (إذا غبن في المبيع غبنا يخرج عن العادة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له ثلاثة صور:إحداه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تلقي الركبان لقوله  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(لا تلقَّوا الجلب فمن تلقَّاه فاشترى منه فإذا أتى السوق فهو بالخيا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نية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شار إليها بقوله (بزيادة الناجش) الذي لا يريد الشر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ثالث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ذكرها بقوله (والمسترسل) وهو من جهل القيمة ولا يحسن يماك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غبن ثبت له الخيار ولا أرش مع إمساك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غبن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محرم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ه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3786120" y="285768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385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2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4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6" dur="385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385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385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مربع نص 3"/>
          <p:cNvSpPr/>
          <p:nvPr/>
        </p:nvSpPr>
        <p:spPr>
          <a:xfrm>
            <a:off x="0" y="0"/>
            <a:ext cx="9144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رابع: (خيار التدليس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كتسويد شعر الجارية وتجعيد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إذا تبين له التدليس ثبت له الخيار وكذا تصرية اللبن في ضرع بهيمة الأنعام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لحديث أبي هريرة يرفعه ((لا تصرُّوا الإبل والغنم ، فمن ابتاعها فهو بخير النَّظرين بعد أن يحلبها ، إن شاء أمسك وإن شاء ردَّها وصاعا من تمر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خيار التدليس على التراخ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خامس: (خيار العيب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بمعناه، وهو أي: العيب(ما ينقص من قيمة المبيع)عادة فما عده التجار في عرفهم منقصا، 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فإذا علم المشتري العيب بعد) العق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أمسكه بأرشه إن شا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أرش :(قسط ما بين قيمة الصحة والعيب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أو رده وأخذ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وخيار عيب متراخ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ه لدفع ضرر متحقق فلم يبطل التأخير (ما لم يوجد دليل الرضى) كتصرف فيه بإجارة أو إعارة أو نحوهما عالماً بعيبه واستعماله لغير تجربة ، (ولا يفتقر )الفسخ للعيب (إلى حكم ولا رضى ولا حضور صاحبه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0" y="0"/>
            <a:ext cx="9144000" cy="77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دس: </a:t>
            </a:r>
            <a:r>
              <a:rPr b="0" lang="ar-SA" sz="2400" spc="-1" strike="noStrike">
                <a:solidFill>
                  <a:srgbClr val="c00000"/>
                </a:solidFill>
                <a:latin typeface="Calibri"/>
              </a:rPr>
              <a:t>(خيار البيع بتخبير الثمن متى بان)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لثمن (أقل أو أكثر) مما أخبره ب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يثبت في أنواعه الأربع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تولية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رأس الما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شرك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عضه بقسطه من الثم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رابح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 بيع بثمنه وربح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 (المواضع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هي:بيعه برأس ماله وخسران معلو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ابد في جميعها) أي: الصور الأربع من معرفة المشتري والبائع (رأس الما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أن ذلك شرط لصحة البيع فإن فات لم يص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سابع:( خيار يثبت لاختلاف المتبايعين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في الجملة (فإذا اختلفا في قدر الثمن تحالفا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فيحلف بائع أولا ما بعته بكذا وإنما بعته بكذا ثم يحلف المشتري ما اشتريته بكذا وإنما اشتريته بكذا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الكل من المتبايعين بعد التحالف (الفسخ إذا لم يرض أحدهما بقول الآخ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إن اختلفا في عين المبيع تحالفا وبطل أي : فسخ البي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مربع نص 4"/>
          <p:cNvSpPr/>
          <p:nvPr/>
        </p:nvSpPr>
        <p:spPr>
          <a:xfrm>
            <a:off x="0" y="5904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قسم الثامن:(ويثبت الخيار للخلف في الصفة)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إذا باعه شيئا موصوف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لتغير ما تقدمت رؤيته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8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6:30Z</dcterms:created>
  <dc:creator>Vista</dc:creator>
  <dc:description/>
  <dc:language>en-US</dc:language>
  <cp:lastModifiedBy>Vista</cp:lastModifiedBy>
  <dcterms:modified xsi:type="dcterms:W3CDTF">2012-11-19T16:01:39Z</dcterms:modified>
  <cp:revision>3</cp:revision>
  <dc:subject/>
  <dc:title>المحاضرة الثالثة</dc:title>
</cp:coreProperties>
</file>