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4395-DA98-4ED5-A4C6-10040489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804D-83B0-4E16-A500-92217838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3342-6E0E-4CD6-B812-C788EBA05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3B7-62DC-4C17-B9B0-3B180766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12EE-8F98-4204-B9D8-EDF98046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0327-81F3-41F7-9ADD-44D2F7AE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E14-4BD1-4B5F-94D6-779E95AE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8DD-0620-4711-BF05-2C540467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8375-1990-46EE-B2F2-016E9FC2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3E9-AF9E-4C88-B91D-5C9F38E1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12E-6914-48C7-9666-5AD17AC1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258-80E0-40B7-8E8F-A1DEA8A5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53D3-53B7-4097-BB2E-3A4BA0EBD53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عنوان 3"/>
          <p:cNvGrpSpPr/>
          <p:nvPr/>
        </p:nvGrpSpPr>
        <p:grpSpPr>
          <a:xfrm>
            <a:off x="396720" y="658800"/>
            <a:ext cx="8423280" cy="5870520"/>
            <a:chOff x="396720" y="658800"/>
            <a:chExt cx="8423280" cy="5870520"/>
          </a:xfrm>
        </p:grpSpPr>
        <p:pic>
          <p:nvPicPr>
            <p:cNvPr id="42" name="عنوان 3" descr=""/>
            <p:cNvPicPr/>
            <p:nvPr/>
          </p:nvPicPr>
          <p:blipFill>
            <a:blip r:embed="rId1"/>
            <a:stretch/>
          </p:blipFill>
          <p:spPr>
            <a:xfrm>
              <a:off x="396720" y="658800"/>
              <a:ext cx="8423280" cy="587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692280"/>
              <a:ext cx="8305920" cy="57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9600" spc="-1" strike="noStrike">
                  <a:solidFill>
                    <a:srgbClr val="ffffff"/>
                  </a:solidFill>
                  <a:latin typeface="Calibri"/>
                </a:rPr>
                <a:t>المحاضرة الثانية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314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مربع نص 3"/>
          <p:cNvSpPr/>
          <p:nvPr/>
        </p:nvSpPr>
        <p:spPr>
          <a:xfrm>
            <a:off x="0" y="0"/>
            <a:ext cx="9144000" cy="85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74003a"/>
                </a:solidFill>
                <a:latin typeface="Andalus"/>
                <a:cs typeface="Andalus"/>
              </a:rPr>
              <a:t>البيوع المنهي عن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ا يصح البيع ولا الشراء (ممن تلزمه الجمعة بعد ندائها الثا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لقوله تعالى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 (يَـٰٓأَيُّهَا ٱلَّذِينَ ءَامَنُوٓا۟ إِذَا نُودِىَ لِلصَّلَوٰةِ مِن يَوْمِ ٱلْجُمُعَةِ فَٱسْعَوْا۟ إِلَىٰ ذِكْرِ ٱللَّهِ وَذَرُوا۟ ٱلْبَيْعَ ۚ ذَ‌ٰلِكُمْ خَيْرٌۭ لَّكُمْ إِن كُنتُمْ تَعْلَمُونَ ) </a:t>
            </a:r>
            <a:r>
              <a:rPr b="0" lang="ar-SA" sz="1600" spc="-1" strike="noStrike">
                <a:solidFill>
                  <a:srgbClr val="74003a"/>
                </a:solidFill>
                <a:latin typeface="Calibri"/>
              </a:rPr>
              <a:t>سورة الجمعة الآية </a:t>
            </a:r>
            <a:r>
              <a:rPr b="0" lang="ar-SA" sz="1600" spc="-1" strike="noStrike">
                <a:solidFill>
                  <a:srgbClr val="74003a"/>
                </a:solidFill>
                <a:latin typeface="Calibri"/>
              </a:rPr>
              <a:t>9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النهي يقتضي الفساد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مناداة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المساومة لأنهما وسيلة للبيع المحرم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قت مكتوب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2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يصح بيع عصير ونحوه (ممن يتخذه خمرا) لقوله تعالى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 (وَلَا تَعَاوَنُوا۟ عَلَى ٱلْإِثْمِ وَٱلْعُدْوَ‌ٰنِ ۚ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3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ولا يصح بيع (سلاح في فتنة بين المسلمين) لأن الرسول     نهى عن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4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لا بيع (عبد مسلم لكافر) إذا لم يعتق عليه وهو الرحم المحر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5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يحرم بيع المسلم على أخيه) المسلم كأن يقول لمن اشترى سلعة بعشرة أنا أعطيك هي بتسعة لقوله    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:(لا يبيع بعضكم على بيع بع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6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ويحرم أيضا (شراؤه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(أي المسلم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على شرائه </a:t>
            </a:r>
            <a:r>
              <a:rPr b="0" lang="ar-SA" sz="1600" spc="-1" strike="noStrike">
                <a:solidFill>
                  <a:srgbClr val="000000"/>
                </a:solidFill>
                <a:latin typeface="Calibri"/>
              </a:rPr>
              <a:t>(أخيه المسلم)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)كأن يقول لمن باع سلعة بتسعة عندي فيها بعشرة(ويبطل العقد فيهما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صورة 4" descr="429PX-~1.PNG"/>
          <p:cNvPicPr/>
          <p:nvPr/>
        </p:nvPicPr>
        <p:blipFill>
          <a:blip r:embed="rId1"/>
          <a:stretch/>
        </p:blipFill>
        <p:spPr>
          <a:xfrm>
            <a:off x="6000840" y="4643280"/>
            <a:ext cx="360360" cy="357480"/>
          </a:xfrm>
          <a:prstGeom prst="rect">
            <a:avLst/>
          </a:prstGeom>
          <a:ln w="0">
            <a:noFill/>
          </a:ln>
        </p:spPr>
      </p:pic>
      <p:pic>
        <p:nvPicPr>
          <p:cNvPr id="47" name="صورة 5" descr="429PX-~1.PNG"/>
          <p:cNvPicPr/>
          <p:nvPr/>
        </p:nvPicPr>
        <p:blipFill>
          <a:blip r:embed="rId2"/>
          <a:stretch/>
        </p:blipFill>
        <p:spPr>
          <a:xfrm>
            <a:off x="1928880" y="3357720"/>
            <a:ext cx="36036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مربع نص 3"/>
          <p:cNvSpPr/>
          <p:nvPr/>
        </p:nvSpPr>
        <p:spPr>
          <a:xfrm>
            <a:off x="428760" y="214200"/>
            <a:ext cx="8286480" cy="85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74003a"/>
                </a:solidFill>
                <a:latin typeface="Calibri"/>
              </a:rPr>
              <a:t>باب الشرط في البي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الشرط هنا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: إلزام أحد المتعاقدين الآخر بسبب العقد ما له فيه منفعة ومحل المعتبر منها صلب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وهي ضربا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1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منها صحيح) وهو ما وافق مقتضى العقد وهو ثلاثة أنوا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434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-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أحدهما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شرط مقتضى البيع كالتقابض وحلول الثمن فلا يؤثر فيه لأنه بيان وتأكيد لمقتضى العق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ب-</a:t>
            </a:r>
            <a:r>
              <a:rPr b="0" lang="ar-SA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ثاني: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شرط ما كان من مصلحة العقد (كالرهن المعين) أو الضامن المعين ،أو كـ(ـتأجيل ثمن) أو بعضه إلى مدة معلومة، أو كشرط صفة في المبي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جـ- </a:t>
            </a:r>
            <a:r>
              <a:rPr b="0" lang="ar-SA" sz="2800" spc="-1" strike="noStrike">
                <a:solidFill>
                  <a:srgbClr val="74003a"/>
                </a:solidFill>
                <a:latin typeface="Calibri"/>
              </a:rPr>
              <a:t>الثالث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النفع :شرط بائع نفعا معلوما في مبيع (نحو أن يشترط البائع سكنى الدار) أو (شرط المشتري على البائع) كـ(حمل الحطب المبيع إلى  مكان معلوم) أو (تكسيره أو خياطة الثوب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مربع نص 3"/>
          <p:cNvSpPr/>
          <p:nvPr/>
        </p:nvSpPr>
        <p:spPr>
          <a:xfrm>
            <a:off x="571680" y="357120"/>
            <a:ext cx="8143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والضرب الثاني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ومنها فاسد) وهو ما ينافي مقتضى العقد وهو ثلاثة أنواع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434"/>
                </a:solidFill>
                <a:latin typeface="Calibri"/>
              </a:rPr>
              <a:t>P</a:t>
            </a: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أحدهما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(يبطل العقد) من أصله (كاشتراط أحدهما على الآخر عقدا آخر كسلف)(وقرض وبيع وإجارة وصر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ب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ثاني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 ما يصح معه البيع (وإن شرط أن لا خسارة عليه أو متى نفق المبيع إلا رده)،أو شرط أن (لا يبيع) المبيع (ولا يهبه ولا يعتقه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(بطل الشرط وحده) لقوله     (من اشترط شرطا ليس في كتاب الله فهو باطل وإن كان مائة شرط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7434"/>
                </a:solidFill>
                <a:latin typeface="Calibri"/>
              </a:rPr>
              <a:t>جـ-</a:t>
            </a:r>
            <a:r>
              <a:rPr b="0" lang="ar-SA" sz="2800" spc="-1" strike="noStrike">
                <a:solidFill>
                  <a:srgbClr val="c00000"/>
                </a:solidFill>
                <a:latin typeface="Calibri"/>
              </a:rPr>
              <a:t>الثالث 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</a:rPr>
              <a:t>ما لا ينعقد معه بيع نحو (بعتك إن جئتني بكذا) أو إن (رضي زيد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صورة 4" descr="429PX-~1.PNG"/>
          <p:cNvPicPr/>
          <p:nvPr/>
        </p:nvPicPr>
        <p:blipFill>
          <a:blip r:embed="rId1"/>
          <a:stretch/>
        </p:blipFill>
        <p:spPr>
          <a:xfrm>
            <a:off x="5286240" y="3357720"/>
            <a:ext cx="4334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9:33:27Z</dcterms:created>
  <dc:creator>Vista</dc:creator>
  <dc:description/>
  <dc:language>en-US</dc:language>
  <cp:lastModifiedBy>Vista</cp:lastModifiedBy>
  <dcterms:modified xsi:type="dcterms:W3CDTF">2012-11-19T16:02:37Z</dcterms:modified>
  <cp:revision>3</cp:revision>
  <dc:subject/>
  <dc:title>المحاضرة الثانية</dc:title>
</cp:coreProperties>
</file>