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33.png" ContentType="image/png"/>
  <Override PartName="/ppt/media/image31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64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30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80.png" ContentType="image/png"/>
  <Override PartName="/ppt/media/image15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BA4-8D95-43A2-ADAF-AD611668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497-943B-4903-82A8-B4E8B678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5EE3-71A0-4E10-A4B2-7576FD07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EA9-0D44-41ED-B93E-F6EC01FA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7EA6-569E-4966-AD06-BB8F0459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064-89D3-49E8-8548-12683139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46F-D198-4D04-833D-AFC5E142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947-B489-41CF-90A7-5DE92378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D0A-182D-40B8-B0A2-71BE61B2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B28-25B1-46BC-A1A9-0A308663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963D-5357-47A3-AE7A-29F5BBBF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BEC-04C1-4D6F-BB44-F39DEE74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535D-7F08-4B2D-917D-D62CC8654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6.png"/><Relationship Id="rId6" Type="http://schemas.openxmlformats.org/officeDocument/2006/relationships/image" Target="../media/image52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image" Target="../media/image72.png"/><Relationship Id="rId9" Type="http://schemas.openxmlformats.org/officeDocument/2006/relationships/image" Target="../media/image73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image" Target="../media/image78.png"/><Relationship Id="rId10" Type="http://schemas.openxmlformats.org/officeDocument/2006/relationships/image" Target="../media/image78.png"/><Relationship Id="rId11" Type="http://schemas.openxmlformats.org/officeDocument/2006/relationships/image" Target="../media/image78.png"/><Relationship Id="rId12" Type="http://schemas.openxmlformats.org/officeDocument/2006/relationships/image" Target="../media/image79.png"/><Relationship Id="rId13" Type="http://schemas.openxmlformats.org/officeDocument/2006/relationships/image" Target="../media/image80.png"/><Relationship Id="rId14" Type="http://schemas.openxmlformats.org/officeDocument/2006/relationships/image" Target="../media/image81.pn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0.png"/><Relationship Id="rId8" Type="http://schemas.openxmlformats.org/officeDocument/2006/relationships/image" Target="../media/image16.png"/><Relationship Id="rId9" Type="http://schemas.openxmlformats.org/officeDocument/2006/relationships/image" Target="../media/image10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26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23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42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37.png"/><Relationship Id="rId9" Type="http://schemas.openxmlformats.org/officeDocument/2006/relationships/image" Target="../media/image46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 rot="19090800">
            <a:off x="3648240" y="1606320"/>
            <a:ext cx="4535280" cy="4186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4960" y="260280"/>
            <a:ext cx="328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ملكة العربية السعود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جامعة الدما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كلية التربية بالجبي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حليل عد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64960" y="258840"/>
            <a:ext cx="1714680" cy="100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189080" y="2349360"/>
            <a:ext cx="3887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نظيم المصفوف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وطريقة جاكوب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0" y="5924520"/>
            <a:ext cx="34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ص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ى ص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5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1682640" y="115560"/>
            <a:ext cx="1145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0000"/>
                </a:solidFill>
                <a:latin typeface="Arial"/>
              </a:rPr>
              <a:t>مثال (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5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ar-SA" sz="2600" spc="-1" strike="noStrike">
                <a:solidFill>
                  <a:srgbClr val="cc0000"/>
                </a:solidFill>
                <a:latin typeface="Arial"/>
              </a:rPr>
              <a:t>) : أوجدي حل جملة المعادلات الخطية التالية بطريقة جاكوبي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003640" y="851040"/>
            <a:ext cx="2305080" cy="274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4788000" y="1341360"/>
            <a:ext cx="2663640" cy="339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4932360" y="1851120"/>
            <a:ext cx="2232000" cy="338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719880" y="2435040"/>
            <a:ext cx="479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Arial"/>
              </a:rPr>
              <a:t>حيث التقريب الأولي :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3780000" y="2409840"/>
            <a:ext cx="927000" cy="731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1619280" y="2492280"/>
            <a:ext cx="1366920" cy="466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-1282680" y="3083400"/>
            <a:ext cx="10611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0000"/>
                </a:solidFill>
                <a:latin typeface="Arial"/>
              </a:rPr>
              <a:t>الحل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نعيد كتابة المعادلات بحيث تصبح مصفوفة الأمثال مصفوفة مهيمن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ي نجعل عناصر القطر الرئيسي أكبر ما يمكن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0"/>
          <a:stretch/>
        </p:blipFill>
        <p:spPr>
          <a:xfrm>
            <a:off x="4427640" y="4508640"/>
            <a:ext cx="259236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572000" y="404640"/>
            <a:ext cx="2548080" cy="311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4643280" y="981000"/>
            <a:ext cx="2449800" cy="371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4284720" y="1628640"/>
            <a:ext cx="2824200" cy="65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4211640" y="2492280"/>
            <a:ext cx="2736720" cy="584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4211640" y="3290760"/>
            <a:ext cx="2600280" cy="5698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28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0"/>
          <a:stretch/>
        </p:blipFill>
        <p:spPr>
          <a:xfrm>
            <a:off x="1836720" y="4005360"/>
            <a:ext cx="1655640" cy="1454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44560" y="4524120"/>
            <a:ext cx="98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= </a:t>
            </a:r>
            <a:r>
              <a:rPr b="1" i="1" lang="en-GB" sz="2600" spc="-1" strike="noStrike">
                <a:solidFill>
                  <a:srgbClr val="000000"/>
                </a:solidFill>
                <a:latin typeface="Calibri"/>
                <a:ea typeface="Calibri"/>
              </a:rPr>
              <a:t>α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80480" y="4524120"/>
            <a:ext cx="341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1"/>
          <a:stretch/>
        </p:blipFill>
        <p:spPr>
          <a:xfrm>
            <a:off x="4932360" y="4076640"/>
            <a:ext cx="719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-44280" y="259920"/>
            <a:ext cx="92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نلاحظ ان نظيم مصفوفة التكرار 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صغر من الواحد أي أن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5651640" y="914400"/>
            <a:ext cx="2016000" cy="968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501440" y="1139400"/>
            <a:ext cx="133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3998880" y="836640"/>
            <a:ext cx="501840" cy="122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93800" y="1139400"/>
            <a:ext cx="57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2771640" y="1127160"/>
            <a:ext cx="801720" cy="501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2124000" y="2205000"/>
            <a:ext cx="5184720" cy="601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2050920" y="3068640"/>
            <a:ext cx="5185080" cy="5000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2124000" y="3790800"/>
            <a:ext cx="5040360" cy="492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1"/>
          <a:stretch/>
        </p:blipFill>
        <p:spPr>
          <a:xfrm>
            <a:off x="4067280" y="4479840"/>
            <a:ext cx="1296720" cy="771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535720" y="4668840"/>
            <a:ext cx="92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Arial"/>
              </a:rPr>
              <a:t>ومن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692360" y="333360"/>
            <a:ext cx="5798880" cy="552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1619280" y="1198440"/>
            <a:ext cx="5905440" cy="513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1619280" y="2060640"/>
            <a:ext cx="5802120" cy="509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5651640" y="2924280"/>
            <a:ext cx="1373040" cy="9396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900000" y="4365720"/>
            <a:ext cx="62866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1258920" y="476280"/>
            <a:ext cx="6346800" cy="5014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1258920" y="1268280"/>
            <a:ext cx="6418080" cy="507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5867280" y="1989000"/>
            <a:ext cx="1271880" cy="750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137560" y="2923920"/>
            <a:ext cx="2602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98-2.9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.08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59280" y="3444480"/>
            <a:ext cx="28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8-1.036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.0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61080" y="4092120"/>
            <a:ext cx="28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8-1.036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.0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46560" y="4884480"/>
            <a:ext cx="419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إذن حل المعادلات هو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8"/>
          <a:stretch/>
        </p:blipFill>
        <p:spPr>
          <a:xfrm>
            <a:off x="900000" y="4653000"/>
            <a:ext cx="1866960" cy="10144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9"/>
          <a:stretch/>
        </p:blipFill>
        <p:spPr>
          <a:xfrm>
            <a:off x="4627440" y="4149720"/>
            <a:ext cx="449280" cy="3967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0"/>
          <a:stretch/>
        </p:blipFill>
        <p:spPr>
          <a:xfrm>
            <a:off x="4986360" y="2960640"/>
            <a:ext cx="449280" cy="3970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1"/>
          <a:stretch/>
        </p:blipFill>
        <p:spPr>
          <a:xfrm>
            <a:off x="4572000" y="3500280"/>
            <a:ext cx="449280" cy="3970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775240" y="2923920"/>
            <a:ext cx="221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.09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       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14880" y="3499920"/>
            <a:ext cx="221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.09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       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7080" y="4149360"/>
            <a:ext cx="221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.09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       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2"/>
          <a:stretch/>
        </p:blipFill>
        <p:spPr>
          <a:xfrm>
            <a:off x="2987640" y="2997360"/>
            <a:ext cx="1008000" cy="3902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3"/>
          <a:stretch/>
        </p:blipFill>
        <p:spPr>
          <a:xfrm>
            <a:off x="2627280" y="3573360"/>
            <a:ext cx="949320" cy="3668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4"/>
          <a:stretch/>
        </p:blipFill>
        <p:spPr>
          <a:xfrm>
            <a:off x="2700360" y="4221000"/>
            <a:ext cx="10080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1480" y="548280"/>
            <a:ext cx="7104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عمل الطالبات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غدير راشد ماجد القحطان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ديل محمد عبدالله القحطان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ريم حزام القطان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((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محولات من قسم الحاسب الآلي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1615320" y="189000"/>
            <a:ext cx="10995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نظيم المصفوفة 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نظيم المصفوفة(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 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 )هو قيمه حقيقية ويرمز لل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بالرمز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ويحقق الشروط التال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 و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 إذا و إذا فقط كانت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 |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 =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λ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حيث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عدد حقيقي ويكو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=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||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+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+B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حيث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=|    |n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.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B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79640" y="4189320"/>
            <a:ext cx="431640" cy="401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048200" y="1197000"/>
            <a:ext cx="7398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-1696680" y="395280"/>
            <a:ext cx="11164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ومن النظم المعروفة بالنسبة للمصفوفات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|  )    |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)  =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||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قيمة العظمى لمجموع القيم المطلقة لعناصر الأعمد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| )     | 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) =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|∞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قيمة العظمى لمجموع القيم المطلقة لعناصر الصفو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        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||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نظيم الإقليد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740640" y="1341360"/>
            <a:ext cx="495360" cy="647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156360" y="1461960"/>
            <a:ext cx="431640" cy="454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4067280" y="1565280"/>
            <a:ext cx="865080" cy="372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4067280" y="3027240"/>
            <a:ext cx="898560" cy="330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5940360" y="2924280"/>
            <a:ext cx="432000" cy="453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32720" y="2708280"/>
            <a:ext cx="495000" cy="64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5508720" y="4124160"/>
            <a:ext cx="14572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44464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96120" y="333360"/>
            <a:ext cx="86810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ثال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) : احسبي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₁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|| 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∞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|| , ₂||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||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للمصفوف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     الح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(18,11,8)=18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= (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|              |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|       |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₁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(11,8,18)=18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|              |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|        | 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300720" y="1749600"/>
            <a:ext cx="1069920" cy="671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2916360" y="3068640"/>
            <a:ext cx="633240" cy="79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270160" y="3294000"/>
            <a:ext cx="501480" cy="351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3132000" y="3932280"/>
            <a:ext cx="57168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2411280" y="4137120"/>
            <a:ext cx="428760" cy="299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273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5867280" y="4797360"/>
            <a:ext cx="1225800" cy="763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1"/>
          <a:stretch/>
        </p:blipFill>
        <p:spPr>
          <a:xfrm>
            <a:off x="3635280" y="3335400"/>
            <a:ext cx="1152720" cy="309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2"/>
          <a:stretch/>
        </p:blipFill>
        <p:spPr>
          <a:xfrm>
            <a:off x="3708360" y="4056120"/>
            <a:ext cx="115272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44464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73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132000" y="115920"/>
            <a:ext cx="4897440" cy="500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2124000" y="115920"/>
            <a:ext cx="706680" cy="514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08000" y="11484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9960" y="11484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4.8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93600" y="733680"/>
            <a:ext cx="961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Calibri"/>
              </a:rPr>
              <a:t>من اجل المصفوفات الخاصة التي تمثل متجهات, فإذا كان المتجه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5867280" y="1268280"/>
            <a:ext cx="522360" cy="919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027400" y="14086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974520" y="2133000"/>
            <a:ext cx="105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إن نظيم المتج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رمز له بالرمز 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|| ومن النظم المعروف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2411280" y="2708280"/>
            <a:ext cx="4627800" cy="433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68160" y="2693160"/>
            <a:ext cx="6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|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7880" y="3212280"/>
            <a:ext cx="41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جموع القيمة المطل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" y="3701160"/>
            <a:ext cx="13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)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∞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1476360" y="3860640"/>
            <a:ext cx="628560" cy="393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864800" y="3701160"/>
            <a:ext cx="60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,…,|     | , |    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|    (|                =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2844720" y="3860640"/>
            <a:ext cx="432000" cy="32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3852720" y="3860640"/>
            <a:ext cx="503280" cy="37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>
            <a:off x="5292720" y="3860640"/>
            <a:ext cx="431640" cy="389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3"/>
          <a:stretch/>
        </p:blipFill>
        <p:spPr>
          <a:xfrm>
            <a:off x="5940360" y="3789360"/>
            <a:ext cx="1584360" cy="357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55760" y="4277520"/>
            <a:ext cx="645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سمى نظيم القيم المطلقة العظم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03400" y="276372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-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5400" y="3772080"/>
            <a:ext cx="228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-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9560" y="4868280"/>
            <a:ext cx="30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=           =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2378160" y="4792680"/>
            <a:ext cx="609480" cy="652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3564000" y="4836960"/>
            <a:ext cx="2160360" cy="536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743040" y="499572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-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87080" y="515700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ظيم الأقليد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8040" y="202680"/>
            <a:ext cx="770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مثال (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) : احسبي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|| ,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∞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|| ,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|| للمتجه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001880" y="115920"/>
            <a:ext cx="545760" cy="1224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93320" y="332640"/>
            <a:ext cx="9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80680" y="764640"/>
            <a:ext cx="115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Arial"/>
              </a:rPr>
              <a:t>الحل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43400" y="1426680"/>
            <a:ext cx="1265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2865600" y="1338120"/>
            <a:ext cx="668160" cy="722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61480" y="1426680"/>
            <a:ext cx="39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  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 + |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5360" y="2349000"/>
            <a:ext cx="3862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)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(2,3,0,4) =4 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4859280" y="2471760"/>
            <a:ext cx="344520" cy="309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011920" y="2363400"/>
            <a:ext cx="566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|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5452920" y="2544840"/>
            <a:ext cx="1351080" cy="30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4400" y="2349000"/>
            <a:ext cx="88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∞ =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1080" y="2997000"/>
            <a:ext cx="101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1878120" y="2924280"/>
            <a:ext cx="606240" cy="64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2843280" y="2955960"/>
            <a:ext cx="2619360" cy="544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477160" y="3068280"/>
            <a:ext cx="43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64720" y="3068280"/>
            <a:ext cx="43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5724360" y="2997360"/>
            <a:ext cx="576360" cy="502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293520" y="3068280"/>
            <a:ext cx="43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64600" y="3011040"/>
            <a:ext cx="110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.38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1483560" y="3695760"/>
            <a:ext cx="11332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جدنا أنه لحل المعادل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(x)=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نبحث عن دالة تكرار محققة للعلاق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=g(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ثم نطبق علاقة التكرا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3203640" y="4653000"/>
            <a:ext cx="444600" cy="277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556800" y="4581000"/>
            <a:ext cx="869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3"/>
          <a:stretch/>
        </p:blipFill>
        <p:spPr>
          <a:xfrm>
            <a:off x="4257720" y="4729320"/>
            <a:ext cx="745920" cy="284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37040" y="4595400"/>
            <a:ext cx="200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 = 0,1,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1703160" y="94320"/>
            <a:ext cx="115437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لكن في حال جملة معادلات خطي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X = B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فإننا نبحث عن مصفوفة تكرا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بحيث تكون جملة المعادلات الخطية مكافئة لجملة جديدة من الشكل :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X=  α X + 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تكون علاقة التكرار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80520" y="1844280"/>
            <a:ext cx="941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121280" y="4365720"/>
            <a:ext cx="450720" cy="323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250240" y="1860120"/>
            <a:ext cx="759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5940360" y="1916280"/>
            <a:ext cx="863640" cy="366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306680" y="2420640"/>
            <a:ext cx="446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Arial"/>
              </a:rPr>
              <a:t>حيث نبدأ من قيمة اختياري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4716360" y="2475000"/>
            <a:ext cx="432000" cy="306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868960" y="1616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56960" y="2435040"/>
            <a:ext cx="206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ثم نحسب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81960" y="2435040"/>
            <a:ext cx="81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2771640" y="2492280"/>
            <a:ext cx="432000" cy="306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>
            <a:off x="1908000" y="2492280"/>
            <a:ext cx="432000" cy="328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35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80320" y="2923920"/>
            <a:ext cx="1886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Arial"/>
              </a:rPr>
              <a:t>ثم نحسب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97960" y="2923920"/>
            <a:ext cx="81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4716360" y="3029040"/>
            <a:ext cx="432000" cy="328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005440" y="2939760"/>
            <a:ext cx="759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5653080" y="3068640"/>
            <a:ext cx="431640" cy="328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1369800" y="3357720"/>
            <a:ext cx="10699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هكذا ... نحصل على التقريب ذي الرتب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ن التقريب ذي الرتب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بالأعتماد على العلاقة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79040" y="4308120"/>
            <a:ext cx="81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30960" y="4235040"/>
            <a:ext cx="759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2"/>
          <a:stretch/>
        </p:blipFill>
        <p:spPr>
          <a:xfrm>
            <a:off x="5221440" y="4292640"/>
            <a:ext cx="863280" cy="366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999400" y="4235040"/>
            <a:ext cx="295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 =0,1,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...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3"/>
          <a:stretch/>
        </p:blipFill>
        <p:spPr>
          <a:xfrm>
            <a:off x="4716360" y="1916280"/>
            <a:ext cx="451080" cy="323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160" y="4848120"/>
            <a:ext cx="7698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Arial"/>
              </a:rPr>
              <a:t>فإذا كانت المتتالية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 متقاربة فلها 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4"/>
          <a:stretch/>
        </p:blipFill>
        <p:spPr>
          <a:xfrm>
            <a:off x="1731960" y="4869000"/>
            <a:ext cx="334476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98720" y="115560"/>
            <a:ext cx="137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ي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5168880" y="165240"/>
            <a:ext cx="1419120" cy="311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672640" y="633600"/>
            <a:ext cx="6156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هذه النهاية هي حل للجملة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= αX +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بالتالي هذه النهاية حل للجمل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X=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ذلك لأن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5148360" y="1636560"/>
            <a:ext cx="1800000" cy="301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825440" y="1571400"/>
            <a:ext cx="46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708360" y="1592280"/>
            <a:ext cx="1224000" cy="295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206160" y="1483920"/>
            <a:ext cx="67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2949480" y="1628640"/>
            <a:ext cx="398520" cy="287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765080" y="1483920"/>
            <a:ext cx="1355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β)= α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539640" y="1484280"/>
            <a:ext cx="1374840" cy="3747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-75960" y="1483920"/>
            <a:ext cx="758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595800" y="2145960"/>
            <a:ext cx="1051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منه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 = αX + 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     من الطرائق غير المباشرة لحل جملة المعادلات الخطية ندرس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     طريقة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جاكوبي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وطريقة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غاوس-سيدل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41400" y="130680"/>
            <a:ext cx="8200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*طريقة جاكوبي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ثال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) : المصفوفة التالية هي مصفوفة مهيمن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5940360" y="1082520"/>
            <a:ext cx="1295640" cy="690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017800" y="1845720"/>
            <a:ext cx="66852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لأن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1            |-7| = 7 &gt; 2 + 1 =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2     |25| = 25 &gt; 15 + 3 = 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3          |10|= 10 &gt; 2 + 4 =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نتوقف عن الحل إذا تحقق الشرط التالي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6948360" y="4365720"/>
            <a:ext cx="576360" cy="247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660360" y="416376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5651640" y="4281480"/>
            <a:ext cx="1152360" cy="371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293440" y="414936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3080" y="4163760"/>
            <a:ext cx="182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= 1,2,…,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21:02:04Z</dcterms:created>
  <dc:creator>mohammed alqahtani</dc:creator>
  <dc:description/>
  <dc:language>en-US</dc:language>
  <cp:lastModifiedBy>mohammed alqahtani</cp:lastModifiedBy>
  <dcterms:modified xsi:type="dcterms:W3CDTF">2011-05-17T23:00:09Z</dcterms:modified>
  <cp:revision>6</cp:revision>
  <dc:subject/>
  <dc:title>الشريحة 1</dc:title>
</cp:coreProperties>
</file>