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1C9-55AE-4DC0-9977-FF2141A8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8CF-7176-42B8-A94F-BF074E0D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91D-E552-4F45-859F-9685ECFB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E4D-F99B-4A03-8283-709189B7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84E-45FC-485F-94E2-960BB81A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792-9DC3-41AE-A55E-8D3EF68C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C9E-49DA-4D27-AB42-BD651539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A90-89B9-4D99-9844-3586F75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E96-A4EE-4CAF-9481-5088420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7CF-688C-409A-ABD4-650EF11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E86-6074-4F5A-B017-45BD430B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317-7AF2-4BB4-9700-769D8801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38A-1F0B-46CB-9696-BE2B93D98C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963800"/>
                <a:gridCol w="1693800"/>
                <a:gridCol w="1828800"/>
              </a:tblGrid>
              <a:tr h="15627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952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داف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راع القي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تباين الأهمية النسبية لدوافع الانجاز والانتما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ظروف البيئية ومنها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ظروف البيئية التي تراعي الإمكانات العقلية لهؤ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نخفاض واضح في تقدير الذ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فتقار الشعور الايجابي بالمقدرة أو الكفاءة الذاتية الأكاد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مفهوم ذات متد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تجاهات سلبية نحو المدرسة و العمل المدرسي عادات سلبية غير منتجة مع قابلية للتشتت وعدم التركي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صعوبات في العلاقات الاجتماعية وتكوين الصداق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امتون المنسحبون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لشاكون للمجهو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عدوانيون المشكل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عرف بأنة الفشل في استخدام الطاقات والقدرات العقلية للفرد في الوصول إلى المستوى التحصيلي أو الأكاديمي الملائم لمستوى ذكائة وقدرات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 ذوو صعوبات التعلم وذوو التفريط التحصيل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500200"/>
                <a:gridCol w="1928880"/>
                <a:gridCol w="2786040"/>
                <a:gridCol w="192888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7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ميل أو نزعة واضحة وقوية لدى الطفل لتجاهل المتحدث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أو الإعراض عن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حساسية زائدة أو غير عادية للضوضاء 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الشكوى المستمرة منها أو الابتعاد عن مصادرها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صعوبة تحديد اتجاه المتحدث عندما ينادى علية أحد الأشخاص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خلل أو تشوي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نسيان الاتجاهات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وعي بالصوت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ميز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ذاكرة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تابع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مزج أو الدمج أو التوليف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قصد باضطرابات التجهيز السمعي صعوبة تفسير المخ للمعلومات التي ترد إلية عن طريق حاسة السمع وتجهيزها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معالجتها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التجهيز البصر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السمعي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71280"/>
          <a:ext cx="9144000" cy="7772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280296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5068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قصور انتباهيته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ندفاعيتهم في .الفعل ورد الفع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إفراط  في النشاط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إمداد الخلايا المخية المتعلقة بالتركيز بالجلوكوز الذي يؤمن الطاقة الضرورية للعمل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في تتابع الانتقال العصبي للمعلومات والمثيرات وردود الأفعا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أنماط غير عادية لموجات النشاط الكهربي للمخ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ختلافات في التركيب البنائي لخلايا المخ .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ضطراب أو صعوبات الانتبا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لإفراط في النشاط مع الاندفاع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جمع بين  قصور الانتباه والإفراط في النشا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ضطراب أو قصور ذو أساس عقلي , يعبر عن نفسه من خلال ضعف الانتباه من حيث سعته ومداه, مصحوباً باندفاعية وزيادة حدة وتواتر الأنشطة غير الهادفة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أو صعوبات الانتباه مع فرط النشاط  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4:45:53Z</dcterms:created>
  <dc:creator>Home User</dc:creator>
  <dc:description/>
  <dc:language>en-US</dc:language>
  <cp:lastModifiedBy>B&amp;M . Q</cp:lastModifiedBy>
  <dcterms:modified xsi:type="dcterms:W3CDTF">2012-12-18T09:46:13Z</dcterms:modified>
  <cp:revision>43</cp:revision>
  <dc:subject/>
  <dc:title>الشريحة 1</dc:title>
</cp:coreProperties>
</file>