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59-91A2-43E7-8BEA-D5AB41A5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A3A-8305-450A-8322-300B2C8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76B-92A7-42CD-9A22-8338978D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D4B-DF07-4CF8-BA63-4807542F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2F39-5110-4F73-B6E4-21F05A0E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3CBF-65BD-47B9-9202-E9238F8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EBD2-7F49-415E-97D1-135FD05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768C-6421-4E0F-8FDB-9B0A58F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F401-11B0-490F-8EB5-B7F3C44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3FBD-CB58-4FFE-9FA8-B9B10DC3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7B4D-F9A1-4F3B-B6CA-01304EA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834-7779-4408-8865-685D24A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D177-D723-48B8-8C07-9FC47D1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C66F-910A-4731-9D69-4BCE1EA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54C-1D0F-484B-84FD-C3C1337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B64-9FA3-44FC-8F96-FE249C67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F20-E920-4781-A930-E9DBFF11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1A6-A8E3-4738-8F46-4C2CB4C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65C-B125-4CA0-83B7-D731DCE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8BE-FCA5-424B-B866-A63D92B6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7ED-BA05-4AD0-B8AD-973E013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880-7405-4877-A151-E61F335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87E-6208-4E1F-96AF-767F923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3E2-0A63-4384-9744-199ABB5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3E1-29A1-4670-A2E3-8124190AC35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2B7-623D-46D0-8C27-1512E80EA2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152280" y="0"/>
            <a:ext cx="7696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سم الله الرحمن الرحيم 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038240"/>
            <a:ext cx="7143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ndalus"/>
              </a:rPr>
              <a:t>مدرسة ذكور اسكندر الثانوية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203800"/>
            <a:ext cx="450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igned by : </a:t>
            </a:r>
            <a:endParaRPr b="0" lang="en-US" sz="96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79640" y="5707080"/>
            <a:ext cx="5791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halil Abu Rizik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752480"/>
            <a:ext cx="78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DilleniaUPC"/>
              </a:rPr>
              <a:t>Iskandar Secondary School for Boys.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019920"/>
            <a:ext cx="2362320" cy="609480"/>
          </a:xfrm>
          <a:prstGeom prst="cloudCallout">
            <a:avLst>
              <a:gd name="adj1" fmla="val -46574"/>
              <a:gd name="adj2" fmla="val 7994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ss F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4078440"/>
            <a:ext cx="8305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ative and  Superlative </a:t>
            </a: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قارنة والتفضيل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2708280"/>
            <a:ext cx="7704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glish for Palestine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th, 11th and 12th Grades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b7"/>
                </a:solidFill>
                <a:latin typeface="Arial Black"/>
              </a:rPr>
              <a:t>الصفات الشاذة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[ب] الصفات الشاذة ( لا تأخ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ولا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2205000"/>
          <a:ext cx="8820000" cy="42912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666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tte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فضل من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est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فض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d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سيء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wo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بعيد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arth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( مع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 ( مع غير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ch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y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خارج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outset / out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داخ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inmost / inn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على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upp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[ج] صفات ذات مقطعين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wo Syllable Adjectives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 :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ة المنتهية بـ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 حيث تقلب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إلى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ونضيف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2133720"/>
          <a:ext cx="9143640" cy="1641240"/>
        </p:xfrm>
        <a:graphic>
          <a:graphicData uri="http://schemas.openxmlformats.org/drawingml/2006/table">
            <a:tbl>
              <a:tblPr/>
              <a:tblGrid>
                <a:gridCol w="3047400"/>
                <a:gridCol w="3048840"/>
                <a:gridCol w="304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ودود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riendl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ضحك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ضحاك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ضحاكا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unn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ات الأخرى حيث نحضر كلمة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عند المقارنة بين شيئين أو شخصين  و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 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4941720"/>
          <a:ext cx="8748720" cy="7606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ريص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صا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careful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صاً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هذب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تهذيباً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تهذيباُ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polit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صفات ذات ثلاث مقاطع أو أكثر ( نفس القاعدة رقم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حيث نضي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و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عند المقارنة بين أكثر من شيئين أو شخصي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Syllable Adjectiv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في المثال التا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2492280"/>
          <a:ext cx="9143640" cy="2376000"/>
        </p:xfrm>
        <a:graphic>
          <a:graphicData uri="http://schemas.openxmlformats.org/drawingml/2006/table">
            <a:tbl>
              <a:tblPr/>
              <a:tblGrid>
                <a:gridCol w="3047400"/>
                <a:gridCol w="3048480"/>
                <a:gridCol w="3047760"/>
              </a:tblGrid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ميل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متع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متاع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متاعاً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intere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</a:rPr>
              <a:t>أمثلة توضيحي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م المقارنة بين الصفات بوجود طرفين ( شيئين  أو شخصين ) بينهما كلم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بعد صفة المقارنة كما ي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فضة أرخص من الذه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ver is cheaper than g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الذهب أغلى من الفضة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ld is more expensive than silv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042920" y="5805360"/>
            <a:ext cx="1225440" cy="648000"/>
          </a:xfrm>
          <a:prstGeom prst="leftArrow">
            <a:avLst>
              <a:gd name="adj1" fmla="val 50000"/>
              <a:gd name="adj2" fmla="val 4727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b7"/>
                </a:solidFill>
                <a:latin typeface="Arial Black"/>
              </a:rPr>
              <a:t>التفضيل بإستخدام صيغة التفضيل في الصف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م التفضيل بإستخدام صيغة التفضيل في الصفة حسب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أ)  ذات المقطع الواحد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كة أقدس مدينة في العال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kah is the holiest city in the wor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ب) ذات المقطعين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اتم أكرم شخص عرفته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tim is the most generous person I have kn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1187280" y="5805360"/>
            <a:ext cx="1008360" cy="503280"/>
          </a:xfrm>
          <a:prstGeom prst="leftArrow">
            <a:avLst>
              <a:gd name="adj1" fmla="val 50000"/>
              <a:gd name="adj2" fmla="val 50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1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ذكر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أ* نستدل على المقارنة بين طرفين ( شيئين  أو شخصين ) بينهما 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صفة المقار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لم تكن موجودة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فإننا نميز جمل المقارنة عن التفضيل عن طريق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 إسم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a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att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ami .(fa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ضمير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r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friends . (stron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عند تشابه الإسمين ( الأول والإسم الذي بعد الصفة إذا كان هذا الإسم معرفا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جاءت كلمتي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, the 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صفة مكان الإسم تعتبر مقارنة 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acket is cheaper than the one in the shop (che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بدأت الجملة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تبر مقارنة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easier for me to start with this exercise ( eas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0" y="5445000"/>
            <a:ext cx="1476360" cy="692280"/>
          </a:xfrm>
          <a:prstGeom prst="leftArrow">
            <a:avLst>
              <a:gd name="adj1" fmla="val 50000"/>
              <a:gd name="adj2" fmla="val 5331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ذكر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2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تدل على أن الجملة تفضي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إذا سبق الإسم الذي يتبع الصفة حرف ج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, of the , of 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lever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his friends. (clever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قبل الصفة التي أضيف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إذا وجدت أحد هذه الكلم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known , I have heard , I have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ثال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la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beauti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rl I have known ( beautif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 تشابه الإسمين الأول والإسم الذي بعد الصفة إذا كان الإسم غير معرفاً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عتبر تفضيل  مثا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 was the most polite girl we met ( poli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ما يتبع الصف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-infinitiv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والتي تعني ( فعل مجرد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تكون تفضيل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earl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( earl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50920" y="6165720"/>
            <a:ext cx="1081080" cy="692280"/>
          </a:xfrm>
          <a:prstGeom prst="leftArrow">
            <a:avLst>
              <a:gd name="adj1" fmla="val 50000"/>
              <a:gd name="adj2" fmla="val 390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ختبر نفس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5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95640" y="6149880"/>
            <a:ext cx="4476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 is -----------------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arth looks --------------------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otel is ------------------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er is ------------------------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tuation became ------------------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’s --------------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ly in Palestine is ---------------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--------------- to arrive at the stadium . ( lat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--- the one you saw yesterday . (expensive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cket is much ------------------ 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8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"/>
                            </p:stCondLst>
                            <p:childTnLst>
                              <p:par>
                                <p:cTn id="8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7500"/>
                            </p:stCondLst>
                            <p:childTnLst>
                              <p:par>
                                <p:cTn id="9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8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8500"/>
                            </p:stCondLst>
                            <p:childTnLst>
                              <p:par>
                                <p:cTn id="9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8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8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8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24000" y="5950080"/>
            <a:ext cx="44769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ocket is muc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ster th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 look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beautiful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tuation beca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s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in Palestin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tal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er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te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comfor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expensiv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one you saw yesterday . (expensiv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rett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interes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at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. ( late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79640" y="47628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Good bye .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pic>
        <p:nvPicPr>
          <p:cNvPr id="185" name="Picture 3" descr="constr30"/>
          <p:cNvPicPr/>
          <p:nvPr/>
        </p:nvPicPr>
        <p:blipFill>
          <a:blip r:embed="rId1"/>
          <a:stretch/>
        </p:blipFill>
        <p:spPr>
          <a:xfrm>
            <a:off x="6564240" y="2316240"/>
            <a:ext cx="1970280" cy="18334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468360" y="544500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With my best wis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khalil Abu Rizi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492280"/>
            <a:ext cx="88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s:  English For Pales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For all levels by Ahmad Mamdou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 more information, please contact me at:    aburizik.k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0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5400"/>
            </a:br>
            <a:r>
              <a:rPr b="1" lang="ar-SA" sz="5400" spc="-1" strike="noStrike">
                <a:solidFill>
                  <a:srgbClr val="ffffb7"/>
                </a:solidFill>
                <a:latin typeface="Arial Black"/>
              </a:rPr>
              <a:t>المقارنة والتفضيل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8600" y="3998520"/>
            <a:ext cx="622764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عناه ، تركيبته (شروطه) ، أمثلة عليه ، تذَكر ،  دلائله ، الصفات الشاذة ، أمثلة توضيحية ،  إختبر نفسك ، إجابات نموذجية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165720"/>
            <a:ext cx="1655640" cy="692280"/>
          </a:xfrm>
          <a:prstGeom prst="leftArrow">
            <a:avLst>
              <a:gd name="adj1" fmla="val 50000"/>
              <a:gd name="adj2" fmla="val 597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 Black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9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0439 C 0.03644 0.00439 0.06744 0.04568 0.06744 0.09628 C 0.06744 0.12958 0.05444 0.15888 0.03544 0.17619 L 0.03444 0.17619 C 0.02744 0.18285 0.02344 0.1935 0.02344 0.20549 C 0.02344 0.21614 0.02744 0.22547 0.03244 0.23213 C 0.04044 0.24278 0.04544 0.25876 0.04544 0.27474 C 0.04544 0.30937 0.02444 0.33734 -0.00156 0.33734 C -0.02756 0.33734 -0.04856 0.30937 -0.04856 0.27474 C -0.04856 0.25876 -0.04356 0.24278 -0.03556 0.23213 C -0.03056 0.22547 -0.02756 0.21614 -0.02756 0.20549 C -0.02756 0.1935 -0.03156 0.18285 -0.03756 0.17619 L -0.03856 0.17619 C -0.05856 0.15888 -0.07156 0.12958 -0.07156 0.09628 C -0.07156 0.04568 -0.04056 0.00439 -0.00156 0.00439 Z">
                                      <p:cBhvr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معنى المقارنة والتفضيل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ارنة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مقارنة بي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فضيل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l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مقارنة بين أكثر م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584000" cy="692280"/>
          </a:xfrm>
          <a:prstGeom prst="leftArrow">
            <a:avLst>
              <a:gd name="adj1" fmla="val 50000"/>
              <a:gd name="adj2" fmla="val 5720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1 0.028 0.08257 0.062 0.08257 C 0.097 0.08257 0.125 0.04661 0.125 0 C 0.125 -0.04661 0.153 -0.08257 0.188 -0.08257 C 0.222 -0.08257 0.25 -0.04661 0.25 0 E">
                                      <p:cBhvr>
                                        <p:cTn id="1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مقارنة 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طرفين ( شيئين أو شخصين )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تفضيل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أكثر من  طرفين أو أكثر  شيئين أو أكثر  شخصين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سم الصفات في اللغة الإنجليزية إلى نوعين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قصيرة تتكون من مقطع واحد وتخرج عند اللفظ دفعة واحدة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, low , high , 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طويلة تتكون من أكثر من مقطع وتخرج عند اللفظ على دفعات 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, beautiful , comfortabl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تتكون كل صفة من الصفات المذكورة أعلاه  من ثلاث حالات ه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الة العادية للصفة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مقارن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تفضي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7760" y="1557360"/>
            <a:ext cx="8435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ما يلي تفصيل الثلاث حالات لكل نوع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[أ] الصفات ذات المقطع الواحد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e Syllable Adjec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سبق الحرف الأخير من الصفة حرف متحرك من الأ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i o u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ضاعف الحرف الأخير عند المقارنة والتفضيل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2400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4581360"/>
          <a:ext cx="8209080" cy="16700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صف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مقارن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تفضي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بير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بر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بر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igg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ار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hot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إنتهت الصفة ب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حول هذا الحرف إلى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 وهكذا في حالة التفضيل فإننا نحول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إلى 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unnie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مضح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vi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ثقي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370520"/>
            <a:ext cx="82454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إذا إنتهت الصفة بحر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نضي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فقط كما في الأمثلة ال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آ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t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  فيما بع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متأ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الأكب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rgest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أكبر م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r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كبي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صفات الأخرى ( وهي كثيرة في اللغة الإنجليزية )  ما عليك إلا إضافة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 و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ك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4653000"/>
          <a:ext cx="8675280" cy="1641600"/>
        </p:xfrm>
        <a:graphic>
          <a:graphicData uri="http://schemas.openxmlformats.org/drawingml/2006/table">
            <a:tbl>
              <a:tblPr/>
              <a:tblGrid>
                <a:gridCol w="2890800"/>
                <a:gridCol w="2893320"/>
                <a:gridCol w="289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ص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قص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قص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صغ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صغر من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صغر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mall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17:34Z</dcterms:created>
  <dc:creator>bigboss</dc:creator>
  <dc:description/>
  <dc:language>en-US</dc:language>
  <cp:lastModifiedBy>Wael</cp:lastModifiedBy>
  <dcterms:modified xsi:type="dcterms:W3CDTF">2011-04-28T18:34:53Z</dcterms:modified>
  <cp:revision>23</cp:revision>
  <dc:subject/>
  <dc:title>الشريحة 1</dc:title>
</cp:coreProperties>
</file>